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931-E3E3-4DB5-A4EF-2B0831E1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AE7-A9BB-487A-8788-AC2A47C2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DB3-A4C3-4500-BC66-0C7AC6C1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C33-7612-45F9-8B99-C8C9905F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40A-A356-416D-BD74-04E69F8F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790-1F73-4FB6-9B63-087768D4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5F6-35F5-4A15-81C7-3669A6BE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FC0-BC0E-4E27-BB7C-E23F551F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5B7-9190-4C2D-8054-EB3AD892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46A-F107-4994-881C-6D0AED2C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93F-2301-443F-8849-DEA40DD6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DB1-313A-4DD0-B5E1-3B7AE3CF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94F6-82FD-4812-A981-B09230E32A6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5C1B-35FE-42CC-9138-A1648F1B58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* total dut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duty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ily compensates for flying time, but also compensates for “undesirable”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03C-5367-4611-A4FF-DDBA6DB17E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67195-6BF6-431A-8E03-7664B5BFB2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uty perio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interspersed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s of re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at begins and ends at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rew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998-11E1-4F71-9FA7-F538E462B8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7978F-A67E-42EB-B4CF-08AAA3AC4D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duty starts/last duty ends at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e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rest between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layove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number of days away from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in-24 r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BE3-D828-416A-AE13-DBD12B5093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61B56-0F0F-4A4B-8DE7-285BC8BC0E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* total time away from base (TAF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pairing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4A8-A870-4AE7-B06A-7C16BEFA29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E6E8B-FAC2-4C82-8BA5-6F9657B5B5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rest between pai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monthly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time on du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total number of days o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key differenc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 function focuses on crew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edules individuals rather than complete cr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0B1-A6E1-48F0-AADE-8476302686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0AAC8-AC55-4532-A995-476537FE3D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Schedul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371600"/>
            <a:ext cx="6172200" cy="441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w Schedul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8880" y="1251000"/>
            <a:ext cx="8166240" cy="466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2760" y="1219320"/>
            <a:ext cx="8178480" cy="482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54160" y="1130400"/>
            <a:ext cx="863568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68A-0009-462A-88FD-F4633A511F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23CC6-1C5A-46E1-A7DA-12482F9B5F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 minimum cost set of pairings such that every flight is included in exactly one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BC1-C9FD-41CA-BE30-BAE5F5F089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37FFE-7598-4C2D-803E-0645C2F4C4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flights operating four or more times per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sen pairings will be repeated each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day pairings will be flown by multiple crew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cannot be repeated in a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04D-9CBD-455A-9866-D66ECA8A21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D689F-AEAB-477F-9DA7-D33855F68D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32040" y="35560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775040" y="40892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28600" y="4648320"/>
            <a:ext cx="7883640" cy="419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78836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87E-79C7-4FF8-A464-64FCD0E57C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075E9-9EAB-4A3B-A594-049654140E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632040" y="190512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775040" y="2438280"/>
            <a:ext cx="3302280" cy="40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24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0080" y="303516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67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89920" y="30351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920" y="2436840"/>
            <a:ext cx="992160" cy="3826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0320" y="249408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1905120"/>
            <a:ext cx="992160" cy="3823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8640" y="196200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7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0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2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84C-839F-46CA-A0A5-9732422F4F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CFCAF-9F47-43F9-87C3-65703AD86E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tial 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Optimization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Price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A6A-C730-436A-A256-6F2846CE20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F02AA-E10F-45B2-8ED8-B26CF7046E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scheduled in a week-long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on a particular flight leg can vary by day of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C74-D158-4574-BF7E-0D96FAE3CD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5A5EB-B393-4F2E-9319-A095A0B636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in “broken pairing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that are scheduled at most three times/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“weekly”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D6F-33DE-47C5-91C8-32F9C8D669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B468A-A2E4-4F87-9DEA-A540CB0337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an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flights in pairings that cross the end of the mon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te as well as flight number, location, time, day-of-we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pairings connecting two different flight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DFB-8163-47F7-A298-C4CFB28543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8E893-6972-4C68-94CE-A52948CFF3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812880" y="3048120"/>
            <a:ext cx="1854000" cy="106668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124080"/>
            <a:ext cx="198144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3124080"/>
            <a:ext cx="205740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5812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6576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452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3884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67C-D662-487B-8B8D-63FD3A1733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09997-2656-4677-8A16-55D103F4C7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ignment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ed at the individu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rest, vacation time, medical leave,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 is not on cost but crew needs/ prefer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092-F463-44BA-A612-83C8B7D379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6A467-59B5-4C7A-88E7-9C0A91F667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idline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s are constructed into gener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edules are posted and crew members bid for specif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senior crew members given greater p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ly used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4CF-2874-49AD-9A1D-86BD6C1DEB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C02F2-D746-43AA-93E2-65F7A36D4A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Roste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sonalized pairings are constru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crew vacation requests, training needs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priority given to more senior crew me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 outside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B05-FBB7-4673-AFA4-7BB599A1D2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26F2A-A4CB-410F-ABE0-DB6615B6A7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vs.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milar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cing flights to form pairing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quencing pairings to form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partitioning formulations (possibly with side constrain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f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crews vs. single crew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 fun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 horiz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5C9-0AE1-4714-8E3D-A8579B33B7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54B43-3D6C-43EF-8968-98EB2806D3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ckpit vs. Cabi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s stay together; cabin crews do n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akeup is fixed; cabin needs can vary by dem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bin crew members have a wider range of aircraft they can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embers receive higher sal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15E-64FA-483C-9B77-A029335A4D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DBE04-761C-438E-B628-98C383D22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omestic vs. Internation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estic U.S. networks of large carriers are predominantly hub-and-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many connection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estic networks are usually 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tional networks are typically point-to-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of a need to us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adhea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 networks are typically 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069-51A0-466C-8ACE-D51190F6F0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D8DEB-CC92-4719-BE0B-3DCE5CB1E6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rew Scheduling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largest operating expense (after fu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success s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x problems with many remaining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ase study for techniques to solve large 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98E-449F-47B7-892D-4EB2339D6A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74CC5-E961-456A-A8C9-7BED25D15C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overy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disruption, adjust the crew schedule so that it becomes fea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our objecti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original schedule as quickly as possi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passenger disruptio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cos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ed time horizon -- need fast heu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7AA-B418-40E5-9022-BE1DC76F34D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83412-8921-4934-8D22-94F6105CE8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cus: Daily Domestic Cockpit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approach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on with aircraft routing, FA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EC9-94D8-4DE4-A8CC-54ACB3EA29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2D15C-8F16-4713-8984-224B1ED66C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set of flights (corresponding to 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vidual fleet type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leet fami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choose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cost set of pairings such that e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is covered exactly once (i.e. every flight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ed in exactly one pai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2DC-5C71-41AB-919A-D98F7793EF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83C0D-1942-4DF2-9F76-E3739A01CC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feasible pairings for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daily flights assigned to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f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defined to be 1 if flight f is included in pairing p, else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the cost of pairing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a binary decision variable – value 1 indicates that pairing p is chosen, else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A2E-9FE2-4629-A674-E383DBC61C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FFD66-CC9E-4299-8150-2A4FAA3214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2B7-DAFD-4309-A3EB-FEE270A503E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A3ECE-C5EE-4BF2-8C04-FA012F2B64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s this an easy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ear objective 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complex feasibility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write/intui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all number of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ge number of integer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995-96C1-4DDB-9730-85799283B8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6C9DA-8CFD-4710-BFCA-F7758D7B7B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do we solve it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branch-and-bound to solve the 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column generation to solve the individual LP relax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mbines the tw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F48-79C8-477B-BE9A-0FD915649B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DC67E-D86B-4BA7-BA03-0F089F6250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generation solv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ne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grams with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stricted mas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 subset of the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to optim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put the duals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icing probl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look for negative reduced cost colum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1FB-6644-42D6-BB29-2A7A249FAA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13102-E263-4D5E-A685-EAC1A89FD1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Crew 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enough columns to ensure a feasible solution (may need to use artificial variabl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Restricted Master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one or more negative reduced cost columns for each crew base; add to Restricted Master problem and re-sol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no new columns are found, LP is opti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70D-F105-43D0-9C8D-BCAE470BB3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A7A8B-3C33-499C-B0B7-6585496A2A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airing Reduced C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cost of pairing p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819520"/>
            <a:ext cx="7238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95280" y="3060720"/>
                <a:ext cx="72201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3DB-4C88-47F2-8565-9BF819A4D67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87785-E5AD-41AA-9146-03698481A4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51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30A-E8B8-447A-8749-4BE431BE81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59100-3CC4-4E55-9740-A45CA4E421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E82-4DC9-4E8F-B4D3-41383691B97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57B6F-8920-4789-AC10-636BCDD265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as a Shortest Path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airing can be seen as a path, where nodes represent flights and arcs represent valid conn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tart/end at a given crew b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daily problem,  paths cannot repeat a fl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atisfy duty and pairing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costs can be computed via labels corresponding to pairing reduc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97E-3948-471A-BE27-6C492CD007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6057D-DB3F-4448-A47F-A9CB184575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s represent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cs represent (potentially) feasible conn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copies of the network in order to construct multi-day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/sink nodes at the crew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BEA-2BDB-4321-AE82-97F88A4B101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ACEEA-1475-4B49-9AFB-F900597B42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429000"/>
            <a:ext cx="1143000" cy="1143000"/>
          </a:xfrm>
          <a:prstGeom prst="ellipse">
            <a:avLst/>
          </a:prstGeom>
          <a:solidFill>
            <a:srgbClr val="00cc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47920" y="2819520"/>
            <a:ext cx="1371600" cy="76176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4419720"/>
            <a:ext cx="1219320" cy="68580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486400"/>
            <a:ext cx="3200400" cy="3049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651640" cy="5194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792600" y="1905120"/>
            <a:ext cx="2760480" cy="711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92600" y="2819520"/>
            <a:ext cx="2684520" cy="90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809880" y="3962520"/>
            <a:ext cx="2760840" cy="125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D5D-5DBD-460B-AA9B-C050C85E540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05964-5337-4463-BCF2-9C9648630B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Day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388620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4419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5909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276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24382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9A6-ACF2-49A1-AABA-25964E9925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9365B-69D6-4A40-9D94-404BFF3520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sibil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# of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fly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idle (connection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idle (connections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otal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077-3A76-4A34-9EE8-5A0F84A38C63}" type="slidenum">
              <a:t>4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1B14A-C03C-49F6-BE51-E6495B84A8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have to trac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ying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elapsed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duty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iring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completed duties’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# completed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pairing reduced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also conta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i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’s label 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33D-7173-4C0E-B000-FE175397D8B3}" type="slidenum">
              <a:t>4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055E9-3D5E-4750-882B-F115B37827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(in topological order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label at that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66240" indent="-203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nnection arc out of that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cess the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a label is created, check existing labels for domin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node ends at the crew base and reduced cost is negative, a potential column’s been f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16C-7A53-48F3-954E-66088A79F4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164E5-9FFB-4E6F-A9CE-049206060B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2336760" y="2133720"/>
            <a:ext cx="137160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light repea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133720"/>
            <a:ext cx="914400" cy="13716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Giv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Ar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11560" y="762120"/>
            <a:ext cx="1396800" cy="142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708360" y="2108160"/>
            <a:ext cx="2563920" cy="139716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477040" y="1301760"/>
            <a:ext cx="134640" cy="838080"/>
            <a:chOff x="5477040" y="1301760"/>
            <a:chExt cx="134640" cy="838080"/>
          </a:xfrm>
        </p:grpSpPr>
        <p:sp>
          <p:nvSpPr>
            <p:cNvPr id="249" name=""/>
            <p:cNvSpPr/>
            <p:nvPr/>
          </p:nvSpPr>
          <p:spPr>
            <a:xfrm>
              <a:off x="5514840" y="1433520"/>
              <a:ext cx="5724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7040" y="130176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86"/>
                  </a:moveTo>
                  <a:lnTo>
                    <a:pt x="42" y="0"/>
                  </a:lnTo>
                  <a:lnTo>
                    <a:pt x="0" y="86"/>
                  </a:lnTo>
                  <a:lnTo>
                    <a:pt x="85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857840" y="768240"/>
            <a:ext cx="137304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9840" y="91296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15040" y="1682640"/>
            <a:ext cx="534960" cy="2304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06560" y="17035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280200" y="2657520"/>
            <a:ext cx="1143000" cy="135000"/>
            <a:chOff x="6280200" y="2657520"/>
            <a:chExt cx="1143000" cy="135000"/>
          </a:xfrm>
        </p:grpSpPr>
        <p:sp>
          <p:nvSpPr>
            <p:cNvPr id="256" name=""/>
            <p:cNvSpPr/>
            <p:nvPr/>
          </p:nvSpPr>
          <p:spPr>
            <a:xfrm>
              <a:off x="6280200" y="2695680"/>
              <a:ext cx="101124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88200" y="26575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5"/>
                  </a:moveTo>
                  <a:lnTo>
                    <a:pt x="85" y="42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423200" y="2114640"/>
            <a:ext cx="1373040" cy="137304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37840" y="254160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9600" y="2816280"/>
            <a:ext cx="75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ing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85120" y="2571840"/>
            <a:ext cx="534960" cy="23004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6760" y="259236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416720" y="762120"/>
            <a:ext cx="139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442280" y="3456000"/>
            <a:ext cx="1396800" cy="142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895480" y="3733920"/>
            <a:ext cx="4572000" cy="19810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dut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idl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914400"/>
            <a:ext cx="6019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3657600"/>
            <a:ext cx="3429000" cy="28954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lab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red.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sum of duty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5105520"/>
            <a:ext cx="4724280" cy="144756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pair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number of du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in lay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83808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838080"/>
            <a:ext cx="6095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3C9-565A-4976-825A-9A99B5BC137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89C66-36C2-4C99-9170-1AA01893E8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13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and 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y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number of ar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be hundreds of connections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363 flights, 7838 duties, 1.65 M conne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labels per path - duty rules are built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maller number of ar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ically not more than 30 connections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r number of lab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E38-939D-48FD-AF69-B8DFE40CD4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D6AB3-A5F8-4C6D-AA7C-62615B3975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 crews to cover all flights for a given fleet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 paid for fl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alty”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2BF-A92A-4AEE-A8E6-56AC88BE51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5C2CD-6805-4B41-8F48-5630A8BEE8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"/>
          <p:cNvSpPr/>
          <p:nvPr/>
        </p:nvSpPr>
        <p:spPr>
          <a:xfrm>
            <a:off x="4049640" y="1066680"/>
            <a:ext cx="762120" cy="762120"/>
          </a:xfrm>
          <a:prstGeom prst="rect">
            <a:avLst/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Ro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0680" cy="969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62720" y="2362320"/>
            <a:ext cx="803160" cy="803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343400" y="2916360"/>
            <a:ext cx="3144960" cy="969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073400" y="4038480"/>
            <a:ext cx="803520" cy="80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7121520" y="4038480"/>
            <a:ext cx="803160" cy="803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60560" y="4668840"/>
            <a:ext cx="3159360" cy="969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5673600" y="5749920"/>
            <a:ext cx="803520" cy="80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2133720" y="5749920"/>
            <a:ext cx="1655640" cy="80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AD3-D567-41D4-9237-A4417E9177B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C7198-671C-49A4-959F-8516437505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euristic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-and-bound with only root node LP solved using column gene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feasible solution may exist in the columns generated to solve the root node 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tional wisdom:  need some “bad” columns to get a “good”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498-EB79-47D7-8485-DDFADE3106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54EBC-DC5D-49AE-907F-8E0FA166F69B}" type="datetime1">
              <a:rPr lang="en-US"/>
              <a:t>07/29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a branching rule that is compatible with column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 must be enforceable without changing the structure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-label shortest path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based on variable dichotomy is not compat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not restrict the shortest path algorithm from finding a path (that is, a pairin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AFF-1BD2-4212-A82C-4B9195BAB3B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E2FA4-9BCD-4228-BCDA-C7FBCF784C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Variable Dichotomy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 to the crew pairing problem, pick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.t.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0 &lt;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&lt;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new problems: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,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rawback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bal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epth of t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forcing in the pricing probl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eas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h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6C4-7657-423A-A6B7-7A4EFA194D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43089-4B87-4D38-AE86-ED5361B992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on Follow-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, there must be two flight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, f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uch tha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s followed by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2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fractional amount in the solu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1-f2-f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 and 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 on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s/is not followed by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balan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wer branching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enforce in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497-1CCB-4205-B462-4397B4F09A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32356-5D53-4225-A91C-F23A6043DE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Alter Network to Enforce Branching Decis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in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3E9-E5B0-4499-BBFB-A3B04EB7E7C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5C31E-9CF9-46E3-8E7C-DB11B241B666}" type="datetime1">
              <a:rPr lang="en-US"/>
              <a:t>07/29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Select Flight Pairs for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 current LP solution values of all possible flight follow-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 on the follow-on with the greatest val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EC3-8D77-40B0-9673-66133E7F6F8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3BD79-515C-48C9-865B-2759974ABB80}" type="datetime1">
              <a:rPr lang="en-US"/>
              <a:t>07/29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n Airlines (1993)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5,000+ crew memb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ve $20+ million/y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s in 4 - 10 hou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713-26D6-4DF6-821C-69E7C423C51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DCD2E-708F-46F1-8218-AEDF44A23F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ther Crew Scheduling Research Topi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bin crew schedu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ng pairing and assig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obust plann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cove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ed mod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720-F2C4-4857-AEB9-BB256991ECE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A4BF7-B0B6-4790-8555-30E072C4AA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Flow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31240" cy="437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3080" y="1430280"/>
            <a:ext cx="7180200" cy="4361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438280"/>
            <a:ext cx="4495680" cy="2971800"/>
          </a:xfrm>
          <a:prstGeom prst="rect">
            <a:avLst/>
          </a:prstGeom>
          <a:solidFill>
            <a:srgbClr val="ed253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 feas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linear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9E9-96B7-4923-9014-4862F66BEF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F187E-60B8-404E-AF58-097B83DC06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uilding Bloc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98640" y="1828800"/>
            <a:ext cx="1849680" cy="335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40760" y="2058840"/>
            <a:ext cx="1706400" cy="31226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65400" y="2133720"/>
            <a:ext cx="2247480" cy="3062160"/>
            <a:chOff x="365400" y="2133720"/>
            <a:chExt cx="2247480" cy="3062160"/>
          </a:xfrm>
        </p:grpSpPr>
        <p:grpSp>
          <p:nvGrpSpPr>
            <p:cNvPr id="68" name=""/>
            <p:cNvGrpSpPr/>
            <p:nvPr/>
          </p:nvGrpSpPr>
          <p:grpSpPr>
            <a:xfrm>
              <a:off x="365400" y="2133720"/>
              <a:ext cx="1485720" cy="3062160"/>
              <a:chOff x="365400" y="2133720"/>
              <a:chExt cx="1485720" cy="30621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61880" y="2133720"/>
                <a:ext cx="1389240" cy="1295280"/>
                <a:chOff x="461880" y="2133720"/>
                <a:chExt cx="1389240" cy="1295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17680" y="2828880"/>
                  <a:ext cx="121284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" name=""/>
                <p:cNvGrpSpPr/>
                <p:nvPr/>
              </p:nvGrpSpPr>
              <p:grpSpPr>
                <a:xfrm>
                  <a:off x="461880" y="2133720"/>
                  <a:ext cx="1389240" cy="1295280"/>
                  <a:chOff x="461880" y="2133720"/>
                  <a:chExt cx="1389240" cy="129528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936720" y="22860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936720" y="243828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936720" y="3048120"/>
                    <a:ext cx="304560" cy="75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36720" y="32004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79520" y="2666880"/>
                    <a:ext cx="1371600" cy="2286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lnTo>
                          <a:pt x="5400" y="108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012680" y="2133720"/>
                    <a:ext cx="152640" cy="53316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012680" y="2895480"/>
                    <a:ext cx="152640" cy="53352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55480" y="243828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555480" y="289476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461880" y="2692440"/>
                    <a:ext cx="372960" cy="166680"/>
                  </a:xfrm>
                  <a:custGeom>
                    <a:avLst/>
                    <a:gdLst>
                      <a:gd name="textAreaLeft" fmla="*/ 360 w 372960"/>
                      <a:gd name="textAreaRight" fmla="*/ 373680 w 372960"/>
                      <a:gd name="textAreaTop" fmla="*/ 0 h 166680"/>
                      <a:gd name="textAreaBottom" fmla="*/ 16668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365400" y="4675320"/>
                <a:ext cx="103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Fligh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816200" y="4842000"/>
              <a:ext cx="590400" cy="134640"/>
            </a:xfrm>
            <a:prstGeom prst="rightArrow">
              <a:avLst>
                <a:gd name="adj1" fmla="val 50000"/>
                <a:gd name="adj2" fmla="val 109626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22480" y="272088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99080" y="2200320"/>
            <a:ext cx="2679480" cy="2936520"/>
            <a:chOff x="4699080" y="2200320"/>
            <a:chExt cx="2679480" cy="2936520"/>
          </a:xfrm>
        </p:grpSpPr>
        <p:sp>
          <p:nvSpPr>
            <p:cNvPr id="86" name=""/>
            <p:cNvSpPr/>
            <p:nvPr/>
          </p:nvSpPr>
          <p:spPr>
            <a:xfrm>
              <a:off x="5230080" y="46162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air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8160" y="482292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97800" y="264780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699080" y="2200320"/>
              <a:ext cx="1927080" cy="10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A6B-90ED-452E-8C6E-7071067F51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3EBFA-1652-4B09-90E8-900DE7838B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Period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uty period is a day-long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ecutive fligh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can be assigned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ingle cre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o be followed by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 of 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490-829F-4DFC-AC5E-AE85B759A7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9721D-616A-498B-ADB9-886207271A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flying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ut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282-06CA-4EC7-8C2D-4D711E7C1A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CCB94-F694-4787-B248-4C92B64D9C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6T16:12:55Z</dcterms:modified>
  <cp:revision>493</cp:revision>
  <dc:subject/>
  <dc:title>Thesis Proposal Meeting</dc:title>
</cp:coreProperties>
</file>