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5880" y="685440"/>
            <a:ext cx="457020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256FC2-B370-4C35-AA91-1AA67A69B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9440D5A-41F5-4755-ACBB-169BE335F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909720" y="4343040"/>
            <a:ext cx="50292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FB769AF-DF5B-479A-A709-BFDD6535C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0E3B05-55DA-4A02-AAEE-B7231D8D0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06480" y="4341600"/>
            <a:ext cx="503064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C9415CD-1CC6-407B-8975-B0144DC71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6480" y="4341600"/>
            <a:ext cx="503064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87AD-3D5C-44AD-8D4E-25F69FC2B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3814-105D-43B2-960F-63DF5E46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7855-4A9A-4958-9B79-107FD8B2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64AF-1810-4774-9C2E-D0C683A40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1DC4-909E-40BE-8EF9-AB5AC03D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320C-CC10-42F5-AEF5-57886B03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75D8-5BB5-4CCF-921A-67500DA3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5E5D-535E-42CD-8B16-7DC1690E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EFE0-CD79-4312-A597-2B6AB3BC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D6F7-F06F-4AE3-9B30-81E442A2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BA0B-0B53-4324-B615-72E1360E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D14B-6247-4377-B894-CD30003E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591240"/>
            <a:ext cx="205740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377E-2031-453D-90F2-52AFC1AE6BF2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01920" y="6590880"/>
            <a:ext cx="28958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590880"/>
            <a:ext cx="19047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A765-9AF9-4393-93AA-91BD834B2A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70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.206J/16.77J/ESD.215J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ynthia Barnhar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pring 2003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odified Cos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efinition: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Reduced cost for path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r,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modity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k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= 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p(k)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r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p(k)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= 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r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–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2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p(k)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 /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efinition: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Let modified cost for arc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ij and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modity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k  =  c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2320" indent="-20232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Reduced cost is non-negative for all commodity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variables if the modified cost of path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r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quals or exceeds the modified cost of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(k)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ess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/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02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"/>
          <p:cNvSpPr/>
          <p:nvPr/>
        </p:nvSpPr>
        <p:spPr>
          <a:xfrm>
            <a:off x="4932720" y="105393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68480" y="103950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EED3-83FF-435A-8A98-D735AEAB105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4F4E6-E51F-4DAF-A540-7D11AEED19FA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- A Price Directive Decomposi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"/>
          <p:cNvSpPr/>
          <p:nvPr/>
        </p:nvSpPr>
        <p:spPr>
          <a:xfrm>
            <a:off x="1177920" y="2590920"/>
            <a:ext cx="1549440" cy="2842920"/>
          </a:xfrm>
          <a:prstGeom prst="rect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49600" y="2590920"/>
            <a:ext cx="2109600" cy="2842920"/>
          </a:xfrm>
          <a:prstGeom prst="rect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2590920"/>
            <a:ext cx="4124520" cy="28429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6140000">
            <a:off x="-765360" y="3659400"/>
            <a:ext cx="2900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onstra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1905120"/>
            <a:ext cx="450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Millions/Billions of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68360" y="4292640"/>
            <a:ext cx="2447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ook Antiqua"/>
              </a:rPr>
              <a:t>Never Consider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080000">
            <a:off x="1551960" y="4603320"/>
            <a:ext cx="81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St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140000">
            <a:off x="3225240" y="4622400"/>
            <a:ext cx="992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Add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31240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tricted Master Problem (RM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1036-80B8-4F86-8299-01610180745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1CF2DD-E34C-4A52-A064-0AC50F2D6921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P Solution:  Column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1:  Solv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Restricted Master Proble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RMP) with subset of all variables (column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2:  Solv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ricing Proble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determine if any variables when added to the RMP can improve the objective function value (that is, if any variables have negative reduced cos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3:  If variables are identified in Step 2, add them to the RMP and return to Step 1; otherwise STO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2576-6832-4CD1-B48C-65729D095D3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6C092B-4D57-46AC-881A-1C3D0DA4FBDF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icing Problem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61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ive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optimal (non-negative) duals for the current restricted master problem and the keypa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ricing problem, for eac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Garamond"/>
              </a:rPr>
              <a:t>r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r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(k)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/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, letting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C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(k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/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quivalentl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 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Garamond"/>
              </a:rPr>
              <a:t>r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-  C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shortest path problem for commodity k (with modified arc costs).  If min 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Garamond"/>
              </a:rPr>
              <a:t>r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 C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then the original problem is solved, else add column corresponding to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the master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A1CB-2F94-4A3B-A580-D88A2DE4010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DB66D2-F044-412A-BDBA-0DD4E9DB06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ample- Iteration 1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0" y="1828800"/>
          <a:ext cx="131065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131065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0" y="10666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1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2;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2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4;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3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7;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4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8 (** denotes keypat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5486400"/>
            <a:ext cx="773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TE:  Gray columns not included in keypath formulation; purple elements are initial keypath matr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E61E-E715-4310-A41D-06DF74A048A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E4514D-E8ED-4821-B828-712D146EBB34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ample- Iteration 2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1752480"/>
          <a:ext cx="131065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131065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533520" y="5105520"/>
            <a:ext cx="7738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teration:  no columns price out, one constraint for commodity 3 is violated and added; and the problem is resolved– feasibility and optimality achie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0666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1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2;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2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4;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3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7;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4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8 (** denotes keypat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3A05-44E6-4B11-B875-DAE6616B5B4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E44970-0577-4F2D-9ED6-3277F0793154}" type="datetime1">
              <a:rPr lang="en-US"/>
              <a:t>07/29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4303800" cy="50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A638-CDE9-481E-B2AC-2D23A37825B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CB9A5E-130A-4B7E-8D17-A590D71F47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ow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4238640" cy="49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2167-F5C1-4033-A06A-A507E771F0A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A95688-60A6-4CD3-BF28-332E5BDC65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2666880" cy="609588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and Row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754360" y="228600"/>
            <a:ext cx="6138720" cy="632448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D0E4-C5C7-4CD0-92F7-664A7C25543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006BAE-0BF7-406C-94E3-E8825B9712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and Row Generation:  Constraint Matrix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943600" cy="47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7D22-671E-4F68-B917-E77C2250202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C529A6-1A04-4B31-969F-AADDEB5BA6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206J/16.77J/ESD.215J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ulti-commodity Network Flows: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 Keypath Formula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h formulation for multi-commodity flow problems revisi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ypath form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ypath solution algorith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lumn gen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w gen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604A-3152-4198-BA93-DA37875C4F4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035CAA-AEC5-4143-95F7-ED863328A1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Benefit of the Keypath Concep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now minimizing the objective function and most of the objective coefficients are __________.  Therefore, this will guide the decision variables to values of __________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does this help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86200" y="2743200"/>
            <a:ext cx="1447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ositive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057400" y="3733920"/>
            <a:ext cx="1904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A33B-F1F9-496C-A6FB-4B72D8FE6EC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2FBA4F-2BC6-4804-8CF9-9F7BAA36FF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olution Procedur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11360" y="971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Both Column Generation and Row Gen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tual flow of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1- Define RMP for Iteration 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Set k =1.  Denote an initial subset of columns (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 which is to be used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2- Solve RMP for Iteration 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Solve a problem with the subset of columns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3- Generate Row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Determine if any constraints are violated and express them explicitly in the constraint matrix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4- Generate Column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Price some of the remaining columns, and add a group (A*) that have a reduced cost less than zero, i.e.,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[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|A*]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5- Test Optimalit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If no columns or rows are added, terminate.  Otherwise, k =k+1, go to Step 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DE83-65F9-4A10-A1C8-310AFF588EF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D6DDE-5330-41CD-9B07-0C7024CFE3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nclusions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riable redefini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ows relaxation of constraints and subsequent (limited) cut gen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es not alter the pricing problem sol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09440" indent="-2124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hortest paths with modified co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ows problems with many commodities, as well as a large underlying network, to be solved with limited memory require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9BE8-F11F-46C5-A7A4-1BBF512608A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18F3B3-2776-4DCF-BE23-37EDB728C5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ath 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of all network arc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of all commod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:  set of all network nod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total capacity on arc ij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total quantity of commodity k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 set of all paths for commodity k, for all 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024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arameters (cont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per unit cost of commodity k on path p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:  = 1 if path p contains arc ij; and = 0 otherwi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fraction of total quantity of commodity k assigned to path 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CB2B-E9DA-4781-B1DC-D917291118F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E2AB9-CD50-4F8F-A16F-819E5A58F1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Path Formulat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Revisit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026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MINIMIZ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subject to: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0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24J/ESD.204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F6BE-7237-409D-BE19-FA8FBEF4DC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4247C-15F2-4638-A145-F260910021B7}" type="datetime5">
              <a:rPr lang="en-US"/>
              <a:t>Jul 29, 20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Keypath Concep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ath formulation for MCF problems can be recast equivalently as follow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ign all flow of commodit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a selected pa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lled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eypath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each commodit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825120" indent="-17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ften the keypath is the minimum cost path for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825120" indent="-17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resulting flow assignment is often infeasibl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085760" indent="-17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ne or more arc capacity constraints are viola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825120" indent="-17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the resulting flows are feasible and the keypaths are minimum cost, the flow assignment is optim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lve a linear programming formulation to minimize the cost of adjusting flows to achieve feasibi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825120" indent="-17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low adjustments involve removing flow of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rom its keypat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nd placing it on alternative pat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’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eac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88A1-C2B1-48B0-9FF2-72703F0219D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CE0F83-B4FE-4017-B9B3-AC4E03CD00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dditional Keypath 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: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keypath for commodit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total initial (flow assigned to keypaths) on arc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ij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(k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r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=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r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; change in cost when one unit of commodity k is shifted from keypa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p(k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to pa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(Note: typically non-negative i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p(k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has minimum cos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r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fraction of total quantity of commodity k removed from keypa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p(k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to pa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6FA0-E918-4FB6-8D83-0FBF4FF39AC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4A1BDB-FF73-437D-A7EB-A6DC5AC2E2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Keypath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0" y="1790640"/>
                <a:ext cx="9144000" cy="408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e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K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∈</m:t>
                                  </m:r>
                                  <m:sSup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</m:sup>
                                  </m:sSup>
                                </m:sub>
                                <m:sup/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sSup>
                                            <m:e>
                                              <m:r>
                                                <m:t xml:space="preserve">p</m:t>
                                              </m:r>
                                              <m:r>
                                                <m:t xml:space="preserve">(</m:t>
                                              </m:r>
                                              <m:r>
                                                <m:t xml:space="preserve">k</m:t>
                                              </m:r>
                                              <m:r>
                                                <m:t xml:space="preserve">)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r</m:t>
                                              </m:r>
                                            </m:sup>
                                          </m:sSup>
                                        </m:sub>
                                      </m:sSub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sSubSup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)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</m:e>
                              </m:nary>
                            </m:e>
                          </m:nary>
                        </m:e>
                        <m:e/>
                        <m:e/>
                      </m:mr>
                      <m:mr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t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:</m:t>
                          </m:r>
                        </m:e>
                        <m:e/>
                        <m:e/>
                        <m:e/>
                      </m:mr>
                      <m:mr>
                        <m:e/>
                        <m:e>
                          <m:r>
                            <m:t xml:space="preserve">−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K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∈</m:t>
                                  </m:r>
                                  <m:sSup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</m:sup>
                                  </m:sSup>
                                </m:sub>
                                <m:sup/>
                                <m:e>
                                  <m:sSubSup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j</m:t>
                                      </m:r>
                                    </m:sub>
                                    <m:sup>
                                      <m:r>
                                        <m:t xml:space="preserve">p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bSup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sSubSup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)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  <m:r>
                                    <m:t xml:space="preserve">+</m:t>
                                  </m:r>
                                </m:e>
                              </m:nary>
                            </m:e>
                          </m:nary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K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∈</m:t>
                                  </m:r>
                                  <m:sSup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</m:sup>
                                  </m:sSup>
                                </m:sub>
                                <m:sup/>
                                <m:e>
                                  <m:sSubSup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j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sSubSup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)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</m:e>
                              </m:nary>
                            </m:e>
                          </m:nary>
                        </m:e>
                        <m:e/>
                        <m:e/>
                      </m:mr>
                      <m:mr>
                        <m:e/>
                        <m:e>
                          <m:r>
                            <m:t xml:space="preserve"> </m:t>
                          </m:r>
                          <m:r>
                            <m:t xml:space="preserve">≤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e>
                        <m:e>
                          <m:r>
                            <m:t xml:space="preserve">∀</m:t>
                          </m:r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  <m:r>
                            <m:t xml:space="preserve">∈</m:t>
                          </m:r>
                          <m:r>
                            <m:t xml:space="preserve">A</m:t>
                          </m:r>
                        </m:e>
                        <m:e/>
                      </m:mr>
                      <m:mr>
                        <m:e/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r</m:t>
                              </m:r>
                              <m:r>
                                <m:t xml:space="preserve">∈</m:t>
                              </m:r>
                              <m:sSup>
                                <m:e>
                                  <m:r>
                                    <m:t xml:space="preserve">P</m:t>
                                  </m:r>
                                </m:e>
                                <m:sup>
                                  <m:r>
                                    <m:t xml:space="preserve">k</m:t>
                                  </m:r>
                                </m:sup>
                              </m:sSup>
                            </m:sub>
                            <m:sup/>
                            <m:e>
                              <m:sSubSup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</m:sub>
                                <m:sup>
                                  <m:r>
                                    <m:t xml:space="preserve">r</m:t>
                                  </m:r>
                                </m:sup>
                              </m:sSubSup>
                              <m:r>
                                <m:t xml:space="preserve">1</m:t>
                              </m:r>
                            </m:e>
                          </m:nary>
                        </m:e>
                        <m:e>
                          <m:r>
                            <m:t xml:space="preserve">∀</m:t>
                          </m:r>
                          <m:r>
                            <m:t xml:space="preserve">k</m:t>
                          </m:r>
                          <m:r>
                            <m:t xml:space="preserve">∈</m:t>
                          </m:r>
                          <m:r>
                            <m:t xml:space="preserve">K</m:t>
                          </m:r>
                        </m:e>
                        <m:e/>
                      </m:mr>
                      <m:mr>
                        <m:e/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sub>
                            <m:sup>
                              <m:r>
                                <m:t xml:space="preserve">r</m:t>
                              </m:r>
                            </m:sup>
                          </m:sSubSup>
                          <m:r>
                            <m:t xml:space="preserve">0</m:t>
                          </m:r>
                        </m:e>
                        <m:e>
                          <m:r>
                            <m:t xml:space="preserve">∀</m:t>
                          </m:r>
                          <m:r>
                            <m:t xml:space="preserve">r</m:t>
                          </m:r>
                          <m:r>
                            <m:t xml:space="preserve">∈</m:t>
                          </m:r>
                          <m:sSup>
                            <m:e>
                              <m:r>
                                <m:t xml:space="preserve">P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</m:e>
                        <m:e>
                          <m:r>
                            <m:t xml:space="preserve">∀</m:t>
                          </m:r>
                          <m:r>
                            <m:t xml:space="preserve">k</m:t>
                          </m:r>
                          <m:r>
                            <m:t xml:space="preserve">∈</m:t>
                          </m:r>
                          <m:r>
                            <m:t xml:space="preserve">K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8D4D-641D-4B3B-8AFE-1C07F109E5E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D8A408-D175-4108-B86E-5F713D28F4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ssociated Dual Variabl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ua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: the dual variable associated with the bundle constraint for arc ij 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is non-negativ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:  the dual variable associated with the commodity constraints 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s non-negativ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5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conomic Interpret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the value of an additional unit of capacity on arc 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the minimal cost to remove an additional unit of commodity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rom its keypath and place on another pa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"/>
          <p:cNvSpPr/>
          <p:nvPr/>
        </p:nvSpPr>
        <p:spPr>
          <a:xfrm>
            <a:off x="4932720" y="105393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68480" y="103950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1584-9DFD-44FC-937A-1200FD25B0D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AE1BD-F14C-4AB1-8BA6-664CC456F0F5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Optimality Conditions for the Path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re optimal for all k and all ij if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mal feasibility is satisfi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mentary slackness is satisfi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ual feasibility is satisfied (reduced cost is non-negative for a minimization proble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24J/ESD.204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2A7C-4004-4861-8149-ED8BC4B42F4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E0EDEE-51B5-4FDD-A7B8-57F541D97CCE}" type="datetime5">
              <a:rPr lang="en-US"/>
              <a:t>Jul 29, 20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03:11:32Z</dcterms:created>
  <dc:creator>Andrew P. Armacost</dc:creator>
  <dc:description/>
  <dc:language>en-US</dc:language>
  <cp:lastModifiedBy>CEE</cp:lastModifiedBy>
  <cp:lastPrinted>2000-05-28T17:01:40Z</cp:lastPrinted>
  <dcterms:modified xsi:type="dcterms:W3CDTF">2004-01-15T22:45:25Z</dcterms:modified>
  <cp:revision>408</cp:revision>
  <dc:subject/>
  <dc:title>Thesis Proposal Meeting</dc:title>
</cp:coreProperties>
</file>