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CABB-42A1-4798-9E2A-40A145CDC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3E80-D567-4D09-9CC0-E83A65319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A5BA-9704-4F07-AB90-632472FEB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44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968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44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968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3718-1B75-4F1C-BD00-71951DE82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30592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2E0E-6202-4C61-8BA4-122720E0B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844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968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844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968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F0CE-6A83-4881-8AA2-52D824920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8F53-2A3D-4890-931C-E62F9AD23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7E34-F2FB-48CE-B502-96288BD2D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30592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BDA3-4AEF-493E-B12F-3052D7899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2245-C72C-4F25-BDB1-A40C55ED3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5E8E-8ED0-4B02-8CD8-A89610252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0780-DF12-4D61-AE94-A8C3DC7D1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99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197920" y="6510240"/>
            <a:ext cx="709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9136080" cy="46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58000" y="6267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7652-2837-4201-A6A8-3CE0E3573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97920" y="6510240"/>
            <a:ext cx="709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buClr>
                <a:srgbClr val="000099"/>
              </a:buClr>
              <a:buSzPct val="60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ew Approaches to Add Robustness into Airline Schedul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2120" y="38095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han Lan, Cindy Barnhart and John-Paul Clarke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enter for Transportation and Logistic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ssachusetts Institute of Technolog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y 5 , 200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34000" y="228600"/>
            <a:ext cx="62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rtesy of Shan Lan, Cindy Barnhart and John-Paul Clarke. Used with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of Building Robust Pla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ck of a systematic way to define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ircraft, crew and passenger flows interact in the hub-and-spoke 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uge problem size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tractability issu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balance robustness and cost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F0B2-77C2-402A-A044-6D8FB35867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 of Robustn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cos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aircraft/passenger/crew delays and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asy to recover (aircraft, crew, passengers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solate disruptions and reduce the downstream impac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9CF6-F2CB-422E-9B5D-B6A160F0FE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bust Airline Schedule Plann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362320" y="3124080"/>
          <a:ext cx="6553080" cy="2590920"/>
        </p:xfrm>
        <a:graphic>
          <a:graphicData uri="http://schemas.openxmlformats.org/drawingml/2006/table">
            <a:tbl>
              <a:tblPr/>
              <a:tblGrid>
                <a:gridCol w="1398600"/>
                <a:gridCol w="1400040"/>
                <a:gridCol w="1324080"/>
                <a:gridCol w="1135080"/>
                <a:gridCol w="129528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ng &amp;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osenberger, </a:t>
                      </a: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t al.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geeva &amp; Clarke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ng &amp;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Yen &amp; Birg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chaefer, </a:t>
                      </a: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t al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ebalov &amp; Klab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2900520" y="2133720"/>
            <a:ext cx="5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2240" y="2133720"/>
            <a:ext cx="13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as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61280" y="213372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in delay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isru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213372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sol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isru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1981080"/>
            <a:ext cx="14000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60960" y="1981080"/>
            <a:ext cx="13161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1981080"/>
            <a:ext cx="2438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1981080"/>
            <a:ext cx="1398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840" y="3124080"/>
            <a:ext cx="2160360" cy="2590920"/>
            <a:chOff x="213840" y="3124080"/>
            <a:chExt cx="2160360" cy="2590920"/>
          </a:xfrm>
        </p:grpSpPr>
        <p:sp>
          <p:nvSpPr>
            <p:cNvPr id="122" name=""/>
            <p:cNvSpPr/>
            <p:nvPr/>
          </p:nvSpPr>
          <p:spPr>
            <a:xfrm>
              <a:off x="356400" y="3200400"/>
              <a:ext cx="18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Schedule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5320" y="388620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Fleet Assig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840" y="45720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Maintenance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6400" y="5257800"/>
              <a:ext cx="18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Crew Schedu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3280" y="31240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3280" y="38098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3280" y="44956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3280" y="51814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8562-585F-44E3-BFF2-9A9CD6542F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re Should We Start?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balance cost that airlines are willing to pay for robustness versus cost of oper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ooking for robust solution without significant added cos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maintenance routing problem: The financial impact is relatively small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t is more a feasibility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w to route aircraft has impacts on flight delays and cancellations, passengers, crew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hat robustness can be achieved for the maintenance routing problem?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43F9-4F4D-4D4A-9C77-BB85F9C7B8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1384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Robust Aircraft Maintenance Routing –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Delay Propag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Modeling Ide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tring based for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olution approac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roof-of-concept resul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C231-1C50-43F8-A93B-F8E9E09C62A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lay Propag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rrival delay may cause departure delay for the next flight that is using the same aircraft if there is not enough slack between these two fligh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ay propagation may cause schedule, passenger and crew disruptions for downstream flights (especially at hubs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520" y="4419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9528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5880" y="5486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5105520"/>
            <a:ext cx="6934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510552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4191120"/>
            <a:ext cx="53316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667400"/>
            <a:ext cx="2533680" cy="863280"/>
          </a:xfrm>
          <a:custGeom>
            <a:avLst/>
            <a:gdLst/>
            <a:ahLst/>
            <a:rect l="l" t="t" r="r" b="b"/>
            <a:pathLst>
              <a:path w="1596" h="544">
                <a:moveTo>
                  <a:pt x="0" y="276"/>
                </a:moveTo>
                <a:cubicBezTo>
                  <a:pt x="72" y="314"/>
                  <a:pt x="230" y="544"/>
                  <a:pt x="432" y="504"/>
                </a:cubicBezTo>
                <a:cubicBezTo>
                  <a:pt x="634" y="464"/>
                  <a:pt x="1018" y="72"/>
                  <a:pt x="1212" y="36"/>
                </a:cubicBezTo>
                <a:cubicBezTo>
                  <a:pt x="1406" y="0"/>
                  <a:pt x="1516" y="236"/>
                  <a:pt x="1596" y="2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7840" y="54864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133720" y="4191120"/>
            <a:ext cx="2895480" cy="914400"/>
            <a:chOff x="2133720" y="4191120"/>
            <a:chExt cx="2895480" cy="914400"/>
          </a:xfrm>
        </p:grpSpPr>
        <p:sp>
          <p:nvSpPr>
            <p:cNvPr id="145" name=""/>
            <p:cNvSpPr/>
            <p:nvPr/>
          </p:nvSpPr>
          <p:spPr>
            <a:xfrm>
              <a:off x="2133720" y="4191120"/>
              <a:ext cx="289548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4120" y="426744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181480" y="510552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548640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6019920"/>
            <a:ext cx="685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5943600"/>
            <a:ext cx="3049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249960" y="5105520"/>
            <a:ext cx="759960" cy="914400"/>
            <a:chOff x="6249960" y="5105520"/>
            <a:chExt cx="759960" cy="914400"/>
          </a:xfrm>
        </p:grpSpPr>
        <p:sp>
          <p:nvSpPr>
            <p:cNvPr id="152" name=""/>
            <p:cNvSpPr/>
            <p:nvPr/>
          </p:nvSpPr>
          <p:spPr>
            <a:xfrm>
              <a:off x="6476760" y="5105520"/>
              <a:ext cx="53316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9960" y="548676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2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066680" y="4191120"/>
            <a:ext cx="685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A415-CABB-4EE0-9ED5-5952CB8E3F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pagated Delay vs. Independent Dela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13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may be divided into two categorie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pagated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aused by inbound aircraft delay –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0-30% of total delay (Continental Airline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dependent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aused by other factors – not a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5053-55D5-4241-9203-B179B6C688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828800"/>
            <a:ext cx="693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3240" y="22953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6440" y="34383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7240" y="304812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1240" y="304812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 Tur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693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1148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2971800"/>
            <a:ext cx="6858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297180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2971800"/>
            <a:ext cx="152388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5200" y="26668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31000" y="41990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0" y="26668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4720" y="41990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48769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8200" y="45799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4520" y="4579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5400" y="48769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1828800"/>
            <a:ext cx="6858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6840" y="33624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828800"/>
            <a:ext cx="99072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1828800"/>
            <a:ext cx="160020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76440" y="2362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1880" y="2219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2400" y="23623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8200" y="23623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31360" y="20574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143000" y="4495680"/>
                <a:ext cx="27432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ac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TT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ac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D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590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352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0680" y="33782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Tur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A20C-8C56-49CD-94C0-0187F61FA6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ing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ays propagate along aircraft rout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nly limited slack can be ad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propriately located slack can prevent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outing aircraft intelligently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tter allocated slack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ssentially add slack where advantageous, reducing slack where less nee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59A0-B6A4-4940-814F-91E2B9508E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llustration of the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884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28600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2200" y="2819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2438280"/>
            <a:ext cx="6934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4382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5238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1523880"/>
            <a:ext cx="60948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2000160"/>
            <a:ext cx="2533680" cy="863640"/>
          </a:xfrm>
          <a:custGeom>
            <a:avLst/>
            <a:gdLst/>
            <a:ahLst/>
            <a:rect l="l" t="t" r="r" b="b"/>
            <a:pathLst>
              <a:path w="1596" h="544">
                <a:moveTo>
                  <a:pt x="0" y="276"/>
                </a:moveTo>
                <a:cubicBezTo>
                  <a:pt x="72" y="314"/>
                  <a:pt x="230" y="544"/>
                  <a:pt x="432" y="504"/>
                </a:cubicBezTo>
                <a:cubicBezTo>
                  <a:pt x="634" y="464"/>
                  <a:pt x="1018" y="72"/>
                  <a:pt x="1212" y="36"/>
                </a:cubicBezTo>
                <a:cubicBezTo>
                  <a:pt x="1406" y="0"/>
                  <a:pt x="1516" y="236"/>
                  <a:pt x="1596" y="2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7600" y="1981080"/>
            <a:ext cx="3086280" cy="841320"/>
          </a:xfrm>
          <a:custGeom>
            <a:avLst/>
            <a:gdLst/>
            <a:ahLst/>
            <a:rect l="l" t="t" r="r" b="b"/>
            <a:pathLst>
              <a:path w="1944" h="530">
                <a:moveTo>
                  <a:pt x="0" y="294"/>
                </a:moveTo>
                <a:cubicBezTo>
                  <a:pt x="80" y="326"/>
                  <a:pt x="250" y="530"/>
                  <a:pt x="480" y="486"/>
                </a:cubicBezTo>
                <a:cubicBezTo>
                  <a:pt x="710" y="442"/>
                  <a:pt x="1136" y="60"/>
                  <a:pt x="1380" y="30"/>
                </a:cubicBezTo>
                <a:cubicBezTo>
                  <a:pt x="1624" y="0"/>
                  <a:pt x="1827" y="249"/>
                  <a:pt x="1944" y="30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35080" y="1889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4160" y="2819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09680" y="1523880"/>
            <a:ext cx="2895840" cy="914400"/>
            <a:chOff x="2209680" y="1523880"/>
            <a:chExt cx="2895840" cy="914400"/>
          </a:xfrm>
        </p:grpSpPr>
        <p:sp>
          <p:nvSpPr>
            <p:cNvPr id="213" name=""/>
            <p:cNvSpPr/>
            <p:nvPr/>
          </p:nvSpPr>
          <p:spPr>
            <a:xfrm>
              <a:off x="2209680" y="1523880"/>
              <a:ext cx="289584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30800" y="16002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088040" y="2819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24382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81952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705720" y="182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981080"/>
            <a:ext cx="1600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34120" y="182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6080" y="1676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3429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3352680"/>
            <a:ext cx="685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438280"/>
            <a:ext cx="53316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3276720"/>
            <a:ext cx="30456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326280" y="2438280"/>
            <a:ext cx="760320" cy="914400"/>
            <a:chOff x="6326280" y="2438280"/>
            <a:chExt cx="760320" cy="914400"/>
          </a:xfrm>
        </p:grpSpPr>
        <p:sp>
          <p:nvSpPr>
            <p:cNvPr id="227" name=""/>
            <p:cNvSpPr/>
            <p:nvPr/>
          </p:nvSpPr>
          <p:spPr>
            <a:xfrm>
              <a:off x="6553080" y="2438280"/>
              <a:ext cx="53352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26280" y="281952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3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143000" y="1523880"/>
            <a:ext cx="685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43000" y="4029120"/>
            <a:ext cx="6972480" cy="2349360"/>
            <a:chOff x="1143000" y="4029120"/>
            <a:chExt cx="6972480" cy="2349360"/>
          </a:xfrm>
        </p:grpSpPr>
        <p:sp>
          <p:nvSpPr>
            <p:cNvPr id="231" name=""/>
            <p:cNvSpPr/>
            <p:nvPr/>
          </p:nvSpPr>
          <p:spPr>
            <a:xfrm>
              <a:off x="3620520" y="60102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8840" y="42670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9880" y="4800600"/>
              <a:ext cx="1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2200" y="533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1143000" y="4943520"/>
              <a:ext cx="697248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7800" y="4952880"/>
              <a:ext cx="53352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9680" y="4038480"/>
              <a:ext cx="53352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4038480"/>
              <a:ext cx="6094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43200" y="4624560"/>
              <a:ext cx="3959280" cy="688680"/>
            </a:xfrm>
            <a:custGeom>
              <a:avLst/>
              <a:gdLst/>
              <a:ahLst/>
              <a:rect l="l" t="t" r="r" b="b"/>
              <a:pathLst>
                <a:path w="2494" h="434">
                  <a:moveTo>
                    <a:pt x="0" y="207"/>
                  </a:moveTo>
                  <a:cubicBezTo>
                    <a:pt x="130" y="240"/>
                    <a:pt x="468" y="434"/>
                    <a:pt x="780" y="405"/>
                  </a:cubicBezTo>
                  <a:cubicBezTo>
                    <a:pt x="1092" y="376"/>
                    <a:pt x="1586" y="66"/>
                    <a:pt x="1872" y="33"/>
                  </a:cubicBezTo>
                  <a:cubicBezTo>
                    <a:pt x="2158" y="0"/>
                    <a:pt x="2365" y="169"/>
                    <a:pt x="2494" y="205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4038480"/>
              <a:ext cx="289584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9440" y="4749840"/>
              <a:ext cx="1619280" cy="376200"/>
            </a:xfrm>
            <a:custGeom>
              <a:avLst/>
              <a:gdLst/>
              <a:ahLst/>
              <a:rect l="l" t="t" r="r" b="b"/>
              <a:pathLst>
                <a:path w="1020" h="237">
                  <a:moveTo>
                    <a:pt x="0" y="128"/>
                  </a:moveTo>
                  <a:cubicBezTo>
                    <a:pt x="50" y="143"/>
                    <a:pt x="170" y="237"/>
                    <a:pt x="300" y="218"/>
                  </a:cubicBezTo>
                  <a:cubicBezTo>
                    <a:pt x="430" y="199"/>
                    <a:pt x="660" y="28"/>
                    <a:pt x="780" y="14"/>
                  </a:cubicBezTo>
                  <a:cubicBezTo>
                    <a:pt x="900" y="0"/>
                    <a:pt x="970" y="109"/>
                    <a:pt x="1020" y="134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560" y="44956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53341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0800" y="41148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88040" y="53341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4952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733920" y="5324040"/>
              <a:ext cx="163836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70572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257800" y="4486320"/>
              <a:ext cx="15620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33412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6080" y="4191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143000" y="5857920"/>
              <a:ext cx="689616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05720" y="4952880"/>
              <a:ext cx="53316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143000" y="4029120"/>
              <a:ext cx="689616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60AC-D427-4357-9BF2-DF69B3E099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 –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BADC-3295-4C1C-9243-DEF731F0082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ing Issu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use leg-based models to track th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ne variable (string) for each aircraft route between two maintenances (Barnhart, et al. 1998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string: a sequence of connected flights that begins and ends at maintenance sta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propagation for each route can be determ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ed to determine delays for each feasible rout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st of the feasible routes haven’t been realized y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D and TAD are a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D and TAD for these routes can’t be found in the historical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AD is not a function of routing and can be calculated by tracking the route of each individual aircraft in the historical data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2DBF-6A4A-4BA2-979C-6C7C59D0DB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enerating Flight Delay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r Any Feasible Rou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1: Determine propagated delays from historical data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= max (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slac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0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 2: Determine Independent Arrival Delays (IAD) from historical data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= 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 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 3: Determine TAD and PD for feasible route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the first flight on each string, New_TAD = IA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_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=max (New_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slac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0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_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= I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+ New_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3F51-BE35-4CD4-83CD-9A83C047A5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tring 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514600" y="1447920"/>
                <a:ext cx="4159080" cy="48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s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nary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ADF9-EF3D-472F-AE9C-A975C13D3F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990720" y="2057400"/>
                <a:ext cx="6553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E</m:t>
                    </m:r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bjective Function Coefficien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13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andom variables (PD) can be replaced by their mea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tribution of Total Arrival Dela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ssible distributions analyzed: Normal, Exponential, Gamma, Weibull, Lognormal, etc.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r statistical analysis shows that lognormal distribution is the best f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closed form of expected value function can be obtain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219320" y="5560920"/>
                <a:ext cx="35049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Φ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A6F5-789F-488B-AE36-E481736B17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lution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s formulation is a deterministic mixed-integer program with a huge number of 0-1 variabl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ranch-and-pr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anch-and-Bound with a linear programming relaxation solved at each node of the branch-and-bound tree using column gener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P solu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special branching strategy: branching on follow-ons (Ryan and Foster 1981, Barnhart et al. 1998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4628C-2015-4286-BEEA-061846C0C4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st Network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ta divided into two sets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rst data set (Jul 2000) used to build model and generate rout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data set (Aug 2000) used to test these new rout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9" name="network%20size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3352680" cy="17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ADC4-C384-4335-AE77-EBADA3BD30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Delay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uly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ugust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2" name="PD%20July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5029200" cy="1900080"/>
          </a:xfrm>
          <a:prstGeom prst="rect">
            <a:avLst/>
          </a:prstGeom>
          <a:ln w="0">
            <a:noFill/>
          </a:ln>
        </p:spPr>
      </p:pic>
      <p:pic>
        <p:nvPicPr>
          <p:cNvPr id="273" name="PD%20August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495288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984F-427D-4981-A6AF-4193247B2C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Delay Distrib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otal delays for existing and new routing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6" name="TD%20distribution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715000" cy="157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9880-EF3D-46ED-B6EF-A6273B9F28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Passenger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ruptions calculated at the flight leve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f a flight was cancelled, all passengers on that flight is disrupte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f actual departure time of flight B – actual arrival time of flight A &lt; minimum connecting time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ll passengers connecting from A to B are disrupt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9" name="PD%20Passengers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172200" cy="23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6818-40C1-4499-A26B-0298A1C8A6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assenger delays and disrup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Modeling Ide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Formulations and their proper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olution approac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roof-of-concept resul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8961-F204-4F1F-BBB1-AC00F8E03BE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819520" y="1371600"/>
            <a:ext cx="3580920" cy="3263760"/>
            <a:chOff x="2819520" y="1371600"/>
            <a:chExt cx="3580920" cy="3263760"/>
          </a:xfrm>
        </p:grpSpPr>
        <p:sp>
          <p:nvSpPr>
            <p:cNvPr id="86" name=""/>
            <p:cNvSpPr/>
            <p:nvPr/>
          </p:nvSpPr>
          <p:spPr>
            <a:xfrm>
              <a:off x="2819520" y="137160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hedule 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9520" y="417564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ew Schedu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19520" y="230292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eet 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9520" y="324396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intenance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08360" y="1810440"/>
              <a:ext cx="144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08360" y="2742120"/>
              <a:ext cx="144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08360" y="3673800"/>
              <a:ext cx="144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irline Schedule Planning Proc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st existing planning models assume that aircraft, crew, and passengers will operate as plann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5BEC-EA7D-40C0-918F-B0380102F4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elays and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and passenger delay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elay caused by disruptions is the most critical part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number of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good proxy for passenger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84" name="delay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867280" cy="195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AB27-7B58-4BA9-9E1F-C053C6DB03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 Related to Passenger Disruption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219320" y="1905120"/>
            <a:ext cx="6858000" cy="3968640"/>
            <a:chOff x="1219320" y="1905120"/>
            <a:chExt cx="6858000" cy="3968640"/>
          </a:xfrm>
        </p:grpSpPr>
        <p:grpSp>
          <p:nvGrpSpPr>
            <p:cNvPr id="287" name=""/>
            <p:cNvGrpSpPr/>
            <p:nvPr/>
          </p:nvGrpSpPr>
          <p:grpSpPr>
            <a:xfrm>
              <a:off x="1219320" y="2543760"/>
              <a:ext cx="6858000" cy="2643480"/>
              <a:chOff x="1219320" y="2543760"/>
              <a:chExt cx="6858000" cy="2643480"/>
            </a:xfrm>
          </p:grpSpPr>
          <p:sp>
            <p:nvSpPr>
              <p:cNvPr id="288" name=""/>
              <p:cNvSpPr/>
              <p:nvPr/>
            </p:nvSpPr>
            <p:spPr>
              <a:xfrm>
                <a:off x="1219320" y="390312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524240" y="2543760"/>
                <a:ext cx="1066680" cy="1359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15360" y="3903120"/>
                <a:ext cx="1218960" cy="128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86560" y="3978720"/>
                <a:ext cx="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81440" y="2543760"/>
                <a:ext cx="2971800" cy="1359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74320" y="397728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a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50120" y="395316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19320" y="254376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19320" y="518724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0920" y="3978720"/>
                <a:ext cx="0" cy="5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15360" y="3978720"/>
                <a:ext cx="0" cy="5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438640" y="4356000"/>
                <a:ext cx="342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12040" y="44316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12240" y="35254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D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6080" y="35254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16400" y="35254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72560" y="3903120"/>
                <a:ext cx="1600200" cy="128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98040" y="35254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D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76920" y="3147840"/>
                <a:ext cx="0" cy="37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560" y="3147840"/>
                <a:ext cx="0" cy="37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24640" y="329904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83640" y="29214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781720" y="190512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73880" y="541404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371600" y="160020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CT – MCT &lt; 0, passengers are disrup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CDB0-C945-4BBB-8B27-5DAC804994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ize Passenger Missed Connec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92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the slack is “eaten” by flight delay, passengers are disrupt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ding more slack can be good for connecting passengers, but can result in reduced productivity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propriately located slack can prevent passenger disrup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ving flight departure times in a small time window can lead to better allocated slack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F3B1-2303-42B1-BE67-87816A3F8C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llustration of the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3505320"/>
            <a:ext cx="4724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267080"/>
            <a:ext cx="4724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2666880"/>
            <a:ext cx="4724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5029200"/>
            <a:ext cx="4724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2666880"/>
            <a:ext cx="60948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3505320"/>
            <a:ext cx="68580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4267080"/>
            <a:ext cx="6858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3040" y="243828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3400" y="327672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53920" y="403056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3040" y="480060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666880" y="3657600"/>
                <a:ext cx="25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886200" y="4343400"/>
                <a:ext cx="2332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43000" y="2895480"/>
                <a:ext cx="2160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3581280" y="3505320"/>
            <a:ext cx="685800" cy="76176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91120" y="4267080"/>
            <a:ext cx="685800" cy="762120"/>
          </a:xfrm>
          <a:prstGeom prst="line">
            <a:avLst/>
          </a:prstGeom>
          <a:ln w="2556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1440" y="1673280"/>
            <a:ext cx="78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100 passengers in fligh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connect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3505320"/>
            <a:ext cx="668520" cy="76176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600200" y="3505320"/>
            <a:ext cx="762120" cy="761760"/>
            <a:chOff x="1600200" y="3505320"/>
            <a:chExt cx="762120" cy="761760"/>
          </a:xfrm>
        </p:grpSpPr>
        <p:sp>
          <p:nvSpPr>
            <p:cNvPr id="335" name=""/>
            <p:cNvSpPr/>
            <p:nvPr/>
          </p:nvSpPr>
          <p:spPr>
            <a:xfrm>
              <a:off x="1676520" y="3505320"/>
              <a:ext cx="685800" cy="761760"/>
            </a:xfrm>
            <a:prstGeom prst="line">
              <a:avLst/>
            </a:prstGeom>
            <a:ln w="25560">
              <a:solidFill>
                <a:srgbClr val="33cc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1600200" y="3733920"/>
                  <a:ext cx="32688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7" name=""/>
          <p:cNvSpPr/>
          <p:nvPr/>
        </p:nvSpPr>
        <p:spPr>
          <a:xfrm>
            <a:off x="685800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587760" y="2743200"/>
            <a:ext cx="5334120" cy="1424160"/>
            <a:chOff x="3587760" y="2743200"/>
            <a:chExt cx="5334120" cy="1424160"/>
          </a:xfrm>
        </p:grpSpPr>
        <p:sp>
          <p:nvSpPr>
            <p:cNvPr id="339" name=""/>
            <p:cNvSpPr/>
            <p:nvPr/>
          </p:nvSpPr>
          <p:spPr>
            <a:xfrm>
              <a:off x="6705720" y="2895480"/>
              <a:ext cx="221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 (misconnect)= 0.3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(disrupted pax) = 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3587760" y="2743200"/>
              <a:ext cx="5251320" cy="1424160"/>
              <a:chOff x="3587760" y="2743200"/>
              <a:chExt cx="5251320" cy="1424160"/>
            </a:xfrm>
          </p:grpSpPr>
          <p:sp>
            <p:nvSpPr>
              <p:cNvPr id="341" name=""/>
              <p:cNvSpPr/>
              <p:nvPr/>
            </p:nvSpPr>
            <p:spPr>
              <a:xfrm>
                <a:off x="3587760" y="3276720"/>
                <a:ext cx="3146400" cy="890640"/>
              </a:xfrm>
              <a:custGeom>
                <a:avLst/>
                <a:gdLst/>
                <a:ahLst/>
                <a:rect l="l" t="t" r="r" b="b"/>
                <a:pathLst>
                  <a:path w="1982" h="561">
                    <a:moveTo>
                      <a:pt x="0" y="561"/>
                    </a:moveTo>
                    <a:cubicBezTo>
                      <a:pt x="64" y="489"/>
                      <a:pt x="66" y="222"/>
                      <a:pt x="396" y="128"/>
                    </a:cubicBezTo>
                    <a:cubicBezTo>
                      <a:pt x="726" y="34"/>
                      <a:pt x="1652" y="27"/>
                      <a:pt x="198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34160" y="2743200"/>
                <a:ext cx="210492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4343400" y="3657600"/>
            <a:ext cx="4568760" cy="838080"/>
            <a:chOff x="4343400" y="3657600"/>
            <a:chExt cx="4568760" cy="838080"/>
          </a:xfrm>
        </p:grpSpPr>
        <p:sp>
          <p:nvSpPr>
            <p:cNvPr id="344" name=""/>
            <p:cNvSpPr/>
            <p:nvPr/>
          </p:nvSpPr>
          <p:spPr>
            <a:xfrm>
              <a:off x="6781320" y="3733920"/>
              <a:ext cx="21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(misconnect)=0.2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(disrupted pax) =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1680" y="3657600"/>
              <a:ext cx="21304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43400" y="4094280"/>
              <a:ext cx="2395440" cy="133200"/>
            </a:xfrm>
            <a:custGeom>
              <a:avLst/>
              <a:gdLst/>
              <a:ahLst/>
              <a:rect l="l" t="t" r="r" b="b"/>
              <a:pathLst>
                <a:path w="1592" h="84">
                  <a:moveTo>
                    <a:pt x="0" y="84"/>
                  </a:moveTo>
                  <a:cubicBezTo>
                    <a:pt x="49" y="74"/>
                    <a:pt x="31" y="24"/>
                    <a:pt x="296" y="12"/>
                  </a:cubicBezTo>
                  <a:cubicBezTo>
                    <a:pt x="561" y="0"/>
                    <a:pt x="1376" y="12"/>
                    <a:pt x="159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33160" y="5257800"/>
            <a:ext cx="54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disrupted passengers reduced: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E833-A9BE-4AA1-82AE-122D7743A3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re to Appl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666880" y="15235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ether a passenger will be disrupted depends on flight delays, a function of fleeting and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fore solving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mpact of the propagation of flight delays won’t be conside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 fleeting and routing solution may cause delay propagate in a different way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may eventually change the number of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fter solving fleeting and routing proble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propagation has been conside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ed to maintain the current fleeting and routing solution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1880" y="155412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880" y="570240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97180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433692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4440" y="24382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11200" y="380376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13000" y="51688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DB5A-13A3-4212-8171-B2C1D0648C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nection-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bjectiv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ize the expected total number of passengers missing connec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traint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each flight, exactly one copy will be selected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each connection, exactly one copy will be selected and this selected copy must connect the selected flight-leg copi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current fleeting and routing solution cannot be altered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880" y="3917880"/>
            <a:ext cx="5791320" cy="2942640"/>
            <a:chOff x="1523880" y="3917880"/>
            <a:chExt cx="5791320" cy="2942640"/>
          </a:xfrm>
        </p:grpSpPr>
        <p:sp>
          <p:nvSpPr>
            <p:cNvPr id="360" name=""/>
            <p:cNvSpPr/>
            <p:nvPr/>
          </p:nvSpPr>
          <p:spPr>
            <a:xfrm flipV="1">
              <a:off x="1523880" y="5239080"/>
              <a:ext cx="579132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529280" y="5956560"/>
              <a:ext cx="5769720" cy="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3880" y="4551840"/>
              <a:ext cx="5791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38720" y="4551840"/>
              <a:ext cx="6919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96680" y="5239080"/>
              <a:ext cx="830880" cy="71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02840" y="523908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5320" y="391788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82280" y="640080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58840" y="523908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76560" y="4551840"/>
              <a:ext cx="691920" cy="69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0160" y="4551840"/>
              <a:ext cx="692280" cy="69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1780200" y="4234680"/>
                  <a:ext cx="3168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72" name=""/>
            <p:cNvSpPr/>
            <p:nvPr/>
          </p:nvSpPr>
          <p:spPr>
            <a:xfrm>
              <a:off x="2673000" y="4924080"/>
              <a:ext cx="2085480" cy="633960"/>
            </a:xfrm>
            <a:custGeom>
              <a:avLst/>
              <a:gdLst/>
              <a:ahLst/>
              <a:rect l="l" t="t" r="r" b="b"/>
              <a:pathLst>
                <a:path w="1488" h="576">
                  <a:moveTo>
                    <a:pt x="0" y="286"/>
                  </a:moveTo>
                  <a:cubicBezTo>
                    <a:pt x="69" y="327"/>
                    <a:pt x="232" y="576"/>
                    <a:pt x="414" y="535"/>
                  </a:cubicBezTo>
                  <a:cubicBezTo>
                    <a:pt x="596" y="494"/>
                    <a:pt x="911" y="82"/>
                    <a:pt x="1090" y="41"/>
                  </a:cubicBezTo>
                  <a:cubicBezTo>
                    <a:pt x="1269" y="0"/>
                    <a:pt x="1405" y="235"/>
                    <a:pt x="1488" y="28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327040" y="423468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883240" y="423468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5412960" y="603180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5969520" y="6031800"/>
                  <a:ext cx="374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6450120" y="603180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3009240" y="5503320"/>
                  <a:ext cx="4500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379" name=""/>
            <p:cNvSpPr/>
            <p:nvPr/>
          </p:nvSpPr>
          <p:spPr>
            <a:xfrm>
              <a:off x="3211200" y="4902120"/>
              <a:ext cx="2578680" cy="659160"/>
            </a:xfrm>
            <a:custGeom>
              <a:avLst/>
              <a:gdLst/>
              <a:ahLst/>
              <a:rect l="l" t="t" r="r" b="b"/>
              <a:pathLst>
                <a:path w="1840" h="599">
                  <a:moveTo>
                    <a:pt x="0" y="306"/>
                  </a:moveTo>
                  <a:cubicBezTo>
                    <a:pt x="98" y="347"/>
                    <a:pt x="363" y="599"/>
                    <a:pt x="587" y="555"/>
                  </a:cubicBezTo>
                  <a:cubicBezTo>
                    <a:pt x="811" y="511"/>
                    <a:pt x="1137" y="86"/>
                    <a:pt x="1346" y="43"/>
                  </a:cubicBezTo>
                  <a:cubicBezTo>
                    <a:pt x="1555" y="0"/>
                    <a:pt x="1737" y="246"/>
                    <a:pt x="1840" y="29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5027400" y="4604760"/>
                  <a:ext cx="47376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D886-B307-4D1A-861A-E4CF4500483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nection-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14800" y="1676160"/>
            <a:ext cx="4579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1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second set of constraints are redundant and can be relax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2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integrality of the connection variables can be relax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09480" y="1600200"/>
                <a:ext cx="3157560" cy="39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C2B2-73F4-421D-8DED-CC4FDCD1967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lternative Connection-based Formu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5760" y="1596960"/>
            <a:ext cx="23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tio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876920" y="2209680"/>
                <a:ext cx="388620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4569840" y="1600200"/>
            <a:ext cx="24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tio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85800" y="2209680"/>
                <a:ext cx="3260880" cy="407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9F6D-F434-4415-80EE-FF42997AF5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 Propert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s on constraint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second set of constraints are redundant and can be relaxed in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integrality constraints of the connection variables can be relaxed in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on LP relax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LP relaxation of formulation one is at least as strong as those of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621B-2AF3-47F7-9A9A-F321763FBF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blem Siz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network from a major US airline used by Barnhart et al. (2001)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,044 flights and 76,641 itineraries.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uppose 7 copies will be generated for each flight (if 5 minutes interval is used, 7 copies correspond to a 30 minute time window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on average every flight connects to 12 flights with connecting passenger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676520" y="4267080"/>
          <a:ext cx="6629400" cy="2286000"/>
        </p:xfrm>
        <a:graphic>
          <a:graphicData uri="http://schemas.openxmlformats.org/drawingml/2006/table">
            <a:tbl>
              <a:tblPr/>
              <a:tblGrid>
                <a:gridCol w="557280"/>
                <a:gridCol w="1734840"/>
                <a:gridCol w="2679840"/>
                <a:gridCol w="1657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Integer 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R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5,4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,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03,9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8AAE-5689-4E01-A008-9B395E6CAD4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irline Oper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any reasons can cause delay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re weather conditions, unexpected aircraft and personnel failures, congested traffic, etc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lays may propagate through the 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ng delays and cancellations cause schedule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Airlines must reschedule aircraft/crew and re-accommodate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Huge revenue los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elays cost consumers and airlines about $6.5 billion in 2000 (Air Transport Association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1135-E5DB-451B-B5F1-B6441A8E7E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Maintain Current Fleeting and Routing Sol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an aircraft maintenance route: the planned turn time &gt;= minimum turn time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ce               , if the time between the arrival of flight copy        and the departure of flight copy        is less than the minimum turn time.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upper bounds will be set to zero for these x variabl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828800" y="2286000"/>
                <a:ext cx="11858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676520" y="2666880"/>
                <a:ext cx="4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858000" y="2743200"/>
                <a:ext cx="533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1676520" y="4191120"/>
            <a:ext cx="5790960" cy="2942640"/>
            <a:chOff x="1676520" y="4191120"/>
            <a:chExt cx="5790960" cy="2942640"/>
          </a:xfrm>
        </p:grpSpPr>
        <p:sp>
          <p:nvSpPr>
            <p:cNvPr id="400" name=""/>
            <p:cNvSpPr/>
            <p:nvPr/>
          </p:nvSpPr>
          <p:spPr>
            <a:xfrm flipV="1">
              <a:off x="1676520" y="5511960"/>
              <a:ext cx="579096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1681920" y="6229440"/>
              <a:ext cx="5769360" cy="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76520" y="4825080"/>
              <a:ext cx="579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91000" y="4825080"/>
              <a:ext cx="691920" cy="69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49320" y="5511960"/>
              <a:ext cx="830880" cy="71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55120" y="551196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67600" y="419112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34920" y="667404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11120" y="551196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29200" y="4825080"/>
              <a:ext cx="691920" cy="69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52800" y="4825080"/>
              <a:ext cx="692280" cy="69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"/>
                <p:cNvSpPr txBox="1"/>
                <p:nvPr/>
              </p:nvSpPr>
              <p:spPr>
                <a:xfrm>
                  <a:off x="1932840" y="4507920"/>
                  <a:ext cx="3168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2" name=""/>
            <p:cNvSpPr/>
            <p:nvPr/>
          </p:nvSpPr>
          <p:spPr>
            <a:xfrm>
              <a:off x="2825640" y="5197320"/>
              <a:ext cx="2085480" cy="633960"/>
            </a:xfrm>
            <a:custGeom>
              <a:avLst/>
              <a:gdLst/>
              <a:ahLst/>
              <a:rect l="l" t="t" r="r" b="b"/>
              <a:pathLst>
                <a:path w="1488" h="576">
                  <a:moveTo>
                    <a:pt x="0" y="286"/>
                  </a:moveTo>
                  <a:cubicBezTo>
                    <a:pt x="69" y="327"/>
                    <a:pt x="232" y="576"/>
                    <a:pt x="414" y="535"/>
                  </a:cubicBezTo>
                  <a:cubicBezTo>
                    <a:pt x="596" y="494"/>
                    <a:pt x="911" y="82"/>
                    <a:pt x="1090" y="41"/>
                  </a:cubicBezTo>
                  <a:cubicBezTo>
                    <a:pt x="1269" y="0"/>
                    <a:pt x="1405" y="235"/>
                    <a:pt x="1488" y="28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2479320" y="450792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3035520" y="450792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5565600" y="630468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6122160" y="6304680"/>
                  <a:ext cx="374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"/>
                <p:cNvSpPr txBox="1"/>
                <p:nvPr/>
              </p:nvSpPr>
              <p:spPr>
                <a:xfrm>
                  <a:off x="6602400" y="630468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3161880" y="5776560"/>
                  <a:ext cx="4500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19" name=""/>
            <p:cNvSpPr/>
            <p:nvPr/>
          </p:nvSpPr>
          <p:spPr>
            <a:xfrm>
              <a:off x="3363480" y="5175360"/>
              <a:ext cx="2578680" cy="659160"/>
            </a:xfrm>
            <a:custGeom>
              <a:avLst/>
              <a:gdLst/>
              <a:ahLst/>
              <a:rect l="l" t="t" r="r" b="b"/>
              <a:pathLst>
                <a:path w="1840" h="599">
                  <a:moveTo>
                    <a:pt x="0" y="306"/>
                  </a:moveTo>
                  <a:cubicBezTo>
                    <a:pt x="98" y="347"/>
                    <a:pt x="363" y="599"/>
                    <a:pt x="587" y="555"/>
                  </a:cubicBezTo>
                  <a:cubicBezTo>
                    <a:pt x="811" y="511"/>
                    <a:pt x="1137" y="86"/>
                    <a:pt x="1346" y="43"/>
                  </a:cubicBezTo>
                  <a:cubicBezTo>
                    <a:pt x="1555" y="0"/>
                    <a:pt x="1737" y="246"/>
                    <a:pt x="1840" y="29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5180040" y="4878000"/>
                  <a:ext cx="47376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CB17-DDB2-45FD-8FCD-79ED5B26697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lution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andom variables can be replaced by their mea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terministic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tribution of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ranch-and-Pr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523880" y="2133720"/>
                <a:ext cx="5639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971800" y="2895480"/>
                <a:ext cx="6094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523880" y="3200400"/>
                <a:ext cx="26672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ith prob 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ith prob  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057400" y="3962520"/>
                <a:ext cx="4495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ility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can be determined by considerin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- prob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T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T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MC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C443-37AD-4C65-A5B4-AAB09768401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use the same four networks, but add all flights together and form one network with total 278 flight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ta divided into two sets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rst data set (Jul 2000) used to build model and generate sche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data set (Aug 2000) used to test the new sche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ength of the formul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29" name="LP%20relaxation" descr=""/>
          <p:cNvPicPr/>
          <p:nvPr/>
        </p:nvPicPr>
        <p:blipFill>
          <a:blip r:embed="rId1"/>
          <a:stretch/>
        </p:blipFill>
        <p:spPr>
          <a:xfrm>
            <a:off x="1066680" y="4876920"/>
            <a:ext cx="7086600" cy="11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2F6B-A409-457A-849C-DA81B827619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sume 30 minute minimum connecting tim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July 2000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ugust 2000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2" name="July%20-%2030%20min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7467480" cy="1392120"/>
          </a:xfrm>
          <a:prstGeom prst="rect">
            <a:avLst/>
          </a:prstGeom>
          <a:ln w="0">
            <a:noFill/>
          </a:ln>
        </p:spPr>
      </p:pic>
      <p:pic>
        <p:nvPicPr>
          <p:cNvPr id="433" name="August%20-%2030%20min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7391520" cy="137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3CBC-5BE8-4F94-8DC3-EAAF3DBBB80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ugust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5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0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6" name="August%20-%2020%20min" descr=""/>
          <p:cNvPicPr/>
          <p:nvPr/>
        </p:nvPicPr>
        <p:blipFill>
          <a:blip r:embed="rId1"/>
          <a:stretch/>
        </p:blipFill>
        <p:spPr>
          <a:xfrm>
            <a:off x="1295280" y="4800600"/>
            <a:ext cx="7086600" cy="1320840"/>
          </a:xfrm>
          <a:prstGeom prst="rect">
            <a:avLst/>
          </a:prstGeom>
          <a:ln w="0">
            <a:noFill/>
          </a:ln>
        </p:spPr>
      </p:pic>
      <p:pic>
        <p:nvPicPr>
          <p:cNvPr id="437" name="August%20-%2025%20min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7162560" cy="13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51EF-3C9B-4337-86AE-5053891CDE3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w many copies to generat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0" name="Prob%20size%201%20min%20interval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5638680" cy="2111400"/>
          </a:xfrm>
          <a:prstGeom prst="rect">
            <a:avLst/>
          </a:prstGeom>
          <a:ln w="0">
            <a:noFill/>
          </a:ln>
        </p:spPr>
      </p:pic>
      <p:pic>
        <p:nvPicPr>
          <p:cNvPr id="441" name="Solution%201%20min%20interval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56386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7D44-F82A-4652-BE7B-CAC78A6E342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Flight Schedule Retim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ummary of Contribu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Future Research Dire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0D7E-1455-4579-9E65-C0D3D0C4566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ummary of Contribu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vide alternative definitions for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an optimization model and solution approach that can generate aircraft maintenance routes to minimiz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optimization models and solution approach to minimize the expected total number of passengers missing connections, and analyze the model propert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of-of-concept results show that these approaches are promis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integrated models for more robustne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E143-6C9B-4E51-9C91-92AE3420690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ture Research Direc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grated Model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grated robust aircraft maintenance routing with fleet assign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obust aircraft maintenance routing with time window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grated flight schedule re-timing with FAMTW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ther approach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eet assignment with minimal expected co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eet assignment under demand uncertaint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routes with swap opportun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routes with short cyc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52CC-76B1-4617-A3DD-87876C10B6F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uly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5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0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50" name="July%20-%2025%20min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7086600" cy="1320840"/>
          </a:xfrm>
          <a:prstGeom prst="rect">
            <a:avLst/>
          </a:prstGeom>
          <a:ln w="0">
            <a:noFill/>
          </a:ln>
        </p:spPr>
      </p:pic>
      <p:pic>
        <p:nvPicPr>
          <p:cNvPr id="451" name="July%20-%2020%20min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7086600" cy="13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4399-004E-48FD-BA9B-576161E5FD8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light Delays &amp; Cancel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nd (1995-1999)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increase (80%) in flights delayed more than 45 mi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increase (500%) in the number of cancelled fligh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Year 2000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0% of flights dela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5% of flights cancelle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uture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 traffic in US is expected to double in the next 10-15 years (Schaefer et al. (2001)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ach 1% increase in air traffic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 5% increase in delays (Schaefer et al. (2001)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ad to more frequent and serious delay and schedule disruption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80D7-27C4-4FAC-88EB-BDEA0EC4C3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act on Passeng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ruptions calculated at the flight level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a flight was cancelled, all passengers on that flight is disrupt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actual departure time of flight B – actual arrival time of flight A &lt; minimum connecting time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all passengers connecting from A to B are disrupted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umber of disrupted passengers only calculated for connections between flights that both have ASQP record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SQP has records only for domestic flights flown by jet airplanes and major airlines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ctual departure and arrival times for flights without ASQP records are unknown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Assume no disruptions for these flight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ssengers only counted as disrupted onc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passenger is disrupted on any flight leg of itinerary, passenger not counted as disrupted on the following flight leg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C864-C953-4D73-B3E3-D3A12B26C33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elays and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elay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difference between scheduled and actual arrival time at passengers’ destin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s are disrupted if their planned itineraries are infeasib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and passenger delay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56" name="delay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5181840" cy="17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ED55-205F-476F-9C97-2CFAD2239D1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isru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numbers: 4%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20-30 million in U.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perience very long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tribute to more than half of the total passenger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use huge revenue lo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troy airlines’ imag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duce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assenger delay caused by disruption is the most critical pa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ard to determine the delays for each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ize number of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5F2E-855C-4B6D-93A6-D931BDAAA10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P Sol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gorithm for LP relaxation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0: Create initial feasible sol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1: Solve the restricted master problem (RMP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nd optimal solution to RMP with a subset of all strings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2: Solve the pricing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enerate strings with negative reduced c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no string is generated, stop: the LP is solv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3: Construct a new restricted master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 the strings generat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o to step 1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53C5-B17D-48E9-92D2-6BD19852B04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ot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feasible string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fligh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ground variabl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set of strings ending (starting) wit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binary decision variable for each feasible string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integer variable to count number of aircraft on the ground at maintenance station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number of aircraft on the ground before (after)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departs at the maintenance station from whic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depar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number of aircraft on the ground before (after)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arrives at the maintenance station from whic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arriv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838080" y="3429000"/>
                <a:ext cx="385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838080" y="2971800"/>
                <a:ext cx="916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838080" y="4800600"/>
                <a:ext cx="1086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838080" y="5638680"/>
                <a:ext cx="1062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7F53-06C3-45F3-97C8-2A97496BBF5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otation (Cont.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propagated delay from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to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f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and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are in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indicator variable, equals 1 if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s in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, and equals 0 otherwi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number of times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crosses the count time, a single point time at which to count aircraf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number of times ground arc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crosses the count tim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: number of planes available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838080" y="1447920"/>
                <a:ext cx="533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838080" y="2286000"/>
                <a:ext cx="432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838080" y="3200400"/>
                <a:ext cx="3747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826920" y="4191120"/>
                <a:ext cx="3780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3244-931A-4BEC-BB88-F98B251F979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irline Service Quality Performance (ASQP) provides good source of delay inform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QP provides flight operation information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ll domestic flights served by jet aircraft by major airlines in U.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lanned departure time and arrival time, actual departure time and arrival time (including wheels-off and wheels-on time, taxi-out and taxi-in time, airborne tim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tail number for each fligh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ncelled flights  (reasons for cancellation, and aircraft tail number are not availabl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64E7-82C0-462B-8FB9-1718AA596DB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 of Cancel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cancelled flights in the historical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don’t know which aircraft supposed to fly th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don’t have the delay information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assume the propagated delays for these flights are zer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ower cancellation rat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ss passengers disrupted because of cancel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passengers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 days in Aug 2000 with very few cancellations (cancellation rate = 0.19%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ug 2000, 65% of disrupted passengers are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7 selected days in Aug 2000, 92% of disrupted passengers are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008B-39FA-4A60-AA82-E3F4DA05662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Low Cancellation Day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isruptions for 7 selected days in Aug 2000 with very few cancell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duction in number of disrupted passengers per non-cancelled flights is same as that for entire month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600200" y="2514600"/>
          <a:ext cx="4952880" cy="21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14600"/>
                    <a:ext cx="495288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91EF-35DE-4BB7-9BEE-06D3F0C7DF1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tens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bine with schedul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slacks may be added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further reduce delay propag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bine with fleet assign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ed to determine cost for propagated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feasible strings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better sol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um turn time is a function of fleet typ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grate with fleet assignment and schedule gener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1EE1-D8D2-49AF-A157-5F4CD7B3AFB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s are disrupted if their planned itineraries are infeasible becau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ights cancel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time to connec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% of passengers disrupted in 2000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alf of them are connecting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ery long delays for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verage delay for disrupted passengers is approx. 419 minutes (versus 14 min delay for non-disrupted passengers) (Bratu and Barnhart, 200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gnificant revenue lo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C993-080D-4CE2-B247-E8D94F4DA8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r Contribu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vide alternative definitions for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an optimization model and solution approach that can generate aircraft maintenance routes to minimiz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optimization models and solution approach to minimize the expected total number of passengers missing connection, and analyze the model propert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of-of-concept results show that these approaches are promis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integrated models for more robustne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106D-94D2-4B1E-9CAD-1C4656F9853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How to deal with schedule disrup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Challenges of building robust airline schedu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Definitions of robustne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Robust airline schedule planning approach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 --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CB09-3E1C-4163-8109-AA7358A0443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Deal with Schedule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wo ways to deal with schedule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-optimize schedule after disruptions occur (operation stag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uild robustness into the schedules (planning stag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isting planning systems do not have effective methods to manage disrup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more robust plan can reduce the effect of  disruptions on the operations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reduce operation costs and improve quality of serv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obust airline schedule planning methods are nee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D8F5-1E36-4722-AADC-7DFB6A16FA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22:04:04Z</dcterms:created>
  <dc:creator> </dc:creator>
  <dc:description/>
  <dc:language>en-US</dc:language>
  <cp:lastModifiedBy>CEE</cp:lastModifiedBy>
  <cp:lastPrinted>2002-10-17T14:54:11Z</cp:lastPrinted>
  <dcterms:modified xsi:type="dcterms:W3CDTF">2004-02-24T19:39:39Z</dcterms:modified>
  <cp:revision>475</cp:revision>
  <dc:subject/>
  <dc:title>Fleet Assignment under Demand Uncertainty</dc:title>
</cp:coreProperties>
</file>