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702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D16F85-221D-4228-8BFE-FC5DD4C95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8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49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for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0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51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for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2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53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for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4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55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evelop 2 models based on IFAM, namely,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6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57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employ an iterative solution algorithm.  The algorithm works as fol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8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59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implement our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2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43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now present an overview of the airline schedule planning process.  It begins with schedule design, in which…  Next is fleet assignment, in which…. 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ircraft routing, in which…. And the last is crew scheduling, in which….  We will now move to our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ction, our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ook at the fleet assignment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45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moving to the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ction, schedule design.  Our approach to the schedule design problem is incremen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pproach similar to the state of the practice.  The only difference is that we use model to select flights while airlines use human to select fligh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6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47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evelop 2 models based on IFAM, namely,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6704-EF30-4F67-82EC-6BD420BD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6088-9AEA-4686-8D1D-4AE84DB0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0304-C572-4633-BF33-ADF34EC8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F90A-6421-4333-886A-9FFF29133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3B8B-FB27-49B4-BE1E-8C62D47D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8509-5856-4E02-80B0-3C18F0E3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B285-320C-481D-A37B-69C4945F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8B91-375B-4495-B25C-B588B9E2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0DB8-FFBA-4A24-9223-97B3829B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F7E4-54FF-4E6B-B6A2-273FE324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1DBC-68A3-4D4C-B6FB-8AF351D9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BC0D-96E5-4275-B2B5-F2990DBC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4116-C2A9-4208-9242-5E42CBECD2AB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F737-CFC1-4D18-8885-F550362C51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SD-FAM: Exampl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898560" y="1332000"/>
            <a:ext cx="5486040" cy="1944720"/>
            <a:chOff x="898560" y="1332000"/>
            <a:chExt cx="5486040" cy="1944720"/>
          </a:xfrm>
        </p:grpSpPr>
        <p:grpSp>
          <p:nvGrpSpPr>
            <p:cNvPr id="157" name=""/>
            <p:cNvGrpSpPr/>
            <p:nvPr/>
          </p:nvGrpSpPr>
          <p:grpSpPr>
            <a:xfrm>
              <a:off x="4022640" y="1447920"/>
              <a:ext cx="2361960" cy="1828800"/>
              <a:chOff x="4022640" y="1447920"/>
              <a:chExt cx="2361960" cy="1828800"/>
            </a:xfrm>
          </p:grpSpPr>
          <p:sp>
            <p:nvSpPr>
              <p:cNvPr id="158" name=""/>
              <p:cNvSpPr/>
              <p:nvPr/>
            </p:nvSpPr>
            <p:spPr>
              <a:xfrm>
                <a:off x="4022640" y="1447920"/>
                <a:ext cx="457200" cy="18288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27400" y="1447920"/>
                <a:ext cx="457200" cy="18288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403880" y="1752480"/>
              <a:ext cx="1600200" cy="381240"/>
              <a:chOff x="4403880" y="1752480"/>
              <a:chExt cx="1600200" cy="381240"/>
            </a:xfrm>
          </p:grpSpPr>
          <p:sp>
            <p:nvSpPr>
              <p:cNvPr id="161" name=""/>
              <p:cNvSpPr/>
              <p:nvPr/>
            </p:nvSpPr>
            <p:spPr>
              <a:xfrm>
                <a:off x="4403880" y="1752480"/>
                <a:ext cx="1600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80200" y="2133720"/>
                <a:ext cx="14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403880" y="2514600"/>
              <a:ext cx="1600200" cy="380880"/>
              <a:chOff x="4403880" y="2514600"/>
              <a:chExt cx="1600200" cy="380880"/>
            </a:xfrm>
          </p:grpSpPr>
          <p:sp>
            <p:nvSpPr>
              <p:cNvPr id="164" name=""/>
              <p:cNvSpPr/>
              <p:nvPr/>
            </p:nvSpPr>
            <p:spPr>
              <a:xfrm>
                <a:off x="4480200" y="2514600"/>
                <a:ext cx="14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03880" y="2895480"/>
                <a:ext cx="1600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898560" y="1905120"/>
              <a:ext cx="2186280" cy="1114560"/>
              <a:chOff x="898560" y="1905120"/>
              <a:chExt cx="2186280" cy="1114560"/>
            </a:xfrm>
          </p:grpSpPr>
          <p:sp>
            <p:nvSpPr>
              <p:cNvPr id="167" name=""/>
              <p:cNvSpPr/>
              <p:nvPr/>
            </p:nvSpPr>
            <p:spPr>
              <a:xfrm>
                <a:off x="898560" y="1905120"/>
                <a:ext cx="218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 Narrow"/>
                  </a:rPr>
                  <a:t>Market Shar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449360" y="2438280"/>
                <a:ext cx="738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 Narrow"/>
                  </a:rPr>
                  <a:t>450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108240" y="1332000"/>
              <a:ext cx="2352600" cy="1642320"/>
              <a:chOff x="3108240" y="1332000"/>
              <a:chExt cx="2352600" cy="1642320"/>
            </a:xfrm>
          </p:grpSpPr>
          <p:sp>
            <p:nvSpPr>
              <p:cNvPr id="170" name=""/>
              <p:cNvSpPr/>
              <p:nvPr/>
            </p:nvSpPr>
            <p:spPr>
              <a:xfrm>
                <a:off x="4848120" y="133200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848120" y="171288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5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863960" y="209376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863960" y="251460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08240" y="1981080"/>
                <a:ext cx="685800" cy="457200"/>
              </a:xfrm>
              <a:prstGeom prst="rightArrow">
                <a:avLst>
                  <a:gd name="adj1" fmla="val 50000"/>
                  <a:gd name="adj2" fmla="val 37500"/>
                </a:avLst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" name=""/>
          <p:cNvGrpSpPr/>
          <p:nvPr/>
        </p:nvGrpSpPr>
        <p:grpSpPr>
          <a:xfrm>
            <a:off x="838080" y="4419720"/>
            <a:ext cx="2186280" cy="1114560"/>
            <a:chOff x="838080" y="4419720"/>
            <a:chExt cx="2186280" cy="1114560"/>
          </a:xfrm>
        </p:grpSpPr>
        <p:sp>
          <p:nvSpPr>
            <p:cNvPr id="176" name=""/>
            <p:cNvSpPr/>
            <p:nvPr/>
          </p:nvSpPr>
          <p:spPr>
            <a:xfrm>
              <a:off x="838080" y="4419720"/>
              <a:ext cx="218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Market Sha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25320" y="4952880"/>
              <a:ext cx="73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45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124080" y="3922560"/>
            <a:ext cx="2352600" cy="2252160"/>
            <a:chOff x="3124080" y="3922560"/>
            <a:chExt cx="2352600" cy="2252160"/>
          </a:xfrm>
        </p:grpSpPr>
        <p:sp>
          <p:nvSpPr>
            <p:cNvPr id="179" name=""/>
            <p:cNvSpPr/>
            <p:nvPr/>
          </p:nvSpPr>
          <p:spPr>
            <a:xfrm>
              <a:off x="4863960" y="392256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30344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5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79800" y="468468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9800" y="57150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4080" y="457200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724280" y="4338720"/>
            <a:ext cx="1122480" cy="1756800"/>
            <a:chOff x="4724280" y="4338720"/>
            <a:chExt cx="1122480" cy="1756800"/>
          </a:xfrm>
        </p:grpSpPr>
        <p:sp>
          <p:nvSpPr>
            <p:cNvPr id="185" name=""/>
            <p:cNvSpPr/>
            <p:nvPr/>
          </p:nvSpPr>
          <p:spPr>
            <a:xfrm>
              <a:off x="4724280" y="5105160"/>
              <a:ext cx="344520" cy="647640"/>
            </a:xfrm>
            <a:custGeom>
              <a:avLst/>
              <a:gdLst/>
              <a:ahLst/>
              <a:rect l="l" t="t" r="r" b="b"/>
              <a:pathLst>
                <a:path w="217" h="408">
                  <a:moveTo>
                    <a:pt x="217" y="408"/>
                  </a:moveTo>
                  <a:cubicBezTo>
                    <a:pt x="188" y="380"/>
                    <a:pt x="62" y="308"/>
                    <a:pt x="31" y="240"/>
                  </a:cubicBezTo>
                  <a:cubicBezTo>
                    <a:pt x="0" y="172"/>
                    <a:pt x="19" y="84"/>
                    <a:pt x="31" y="0"/>
                  </a:cubicBezTo>
                </a:path>
              </a:pathLst>
            </a:custGeom>
            <a:noFill/>
            <a:ln w="2844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54560" y="4738680"/>
              <a:ext cx="344520" cy="985320"/>
            </a:xfrm>
            <a:custGeom>
              <a:avLst/>
              <a:gdLst/>
              <a:ahLst/>
              <a:rect l="l" t="t" r="r" b="b"/>
              <a:pathLst>
                <a:path w="217" h="621">
                  <a:moveTo>
                    <a:pt x="0" y="621"/>
                  </a:moveTo>
                  <a:cubicBezTo>
                    <a:pt x="31" y="581"/>
                    <a:pt x="161" y="472"/>
                    <a:pt x="189" y="369"/>
                  </a:cubicBezTo>
                  <a:cubicBezTo>
                    <a:pt x="217" y="266"/>
                    <a:pt x="175" y="77"/>
                    <a:pt x="171" y="0"/>
                  </a:cubicBezTo>
                </a:path>
              </a:pathLst>
            </a:custGeom>
            <a:noFill/>
            <a:ln w="2844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83080" y="4338720"/>
              <a:ext cx="463680" cy="1376280"/>
            </a:xfrm>
            <a:custGeom>
              <a:avLst/>
              <a:gdLst/>
              <a:ahLst/>
              <a:rect l="l" t="t" r="r" b="b"/>
              <a:pathLst>
                <a:path w="292" h="867">
                  <a:moveTo>
                    <a:pt x="0" y="867"/>
                  </a:moveTo>
                  <a:cubicBezTo>
                    <a:pt x="42" y="826"/>
                    <a:pt x="212" y="765"/>
                    <a:pt x="252" y="621"/>
                  </a:cubicBezTo>
                  <a:cubicBezTo>
                    <a:pt x="292" y="477"/>
                    <a:pt x="245" y="129"/>
                    <a:pt x="243" y="0"/>
                  </a:cubicBezTo>
                </a:path>
              </a:pathLst>
            </a:custGeom>
            <a:noFill/>
            <a:ln w="2844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952880" y="5790960"/>
              <a:ext cx="457200" cy="30456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629400" y="3922560"/>
            <a:ext cx="2361960" cy="1944720"/>
            <a:chOff x="6629400" y="3922560"/>
            <a:chExt cx="2361960" cy="1944720"/>
          </a:xfrm>
        </p:grpSpPr>
        <p:grpSp>
          <p:nvGrpSpPr>
            <p:cNvPr id="190" name=""/>
            <p:cNvGrpSpPr/>
            <p:nvPr/>
          </p:nvGrpSpPr>
          <p:grpSpPr>
            <a:xfrm>
              <a:off x="6629400" y="4038480"/>
              <a:ext cx="2361960" cy="1828800"/>
              <a:chOff x="6629400" y="4038480"/>
              <a:chExt cx="2361960" cy="182880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6629400" y="4038480"/>
                <a:ext cx="2361960" cy="1828800"/>
                <a:chOff x="6629400" y="4038480"/>
                <a:chExt cx="2361960" cy="18288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6629400" y="403848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534160" y="403848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7004160" y="4343400"/>
                <a:ext cx="1600200" cy="380880"/>
                <a:chOff x="7004160" y="4343400"/>
                <a:chExt cx="1600200" cy="3808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7004160" y="4343400"/>
                  <a:ext cx="1600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080480" y="4724280"/>
                  <a:ext cx="1447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7086600" y="5105160"/>
                <a:ext cx="1447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7027920" y="3922560"/>
              <a:ext cx="15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 + recap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 Narrow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20000" y="4295880"/>
              <a:ext cx="15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50 + recap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 Narrow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0000" y="4691160"/>
              <a:ext cx="15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 + recap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 Narrow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038480" y="4038480"/>
            <a:ext cx="2361960" cy="2210040"/>
            <a:chOff x="4038480" y="4038480"/>
            <a:chExt cx="2361960" cy="2210040"/>
          </a:xfrm>
        </p:grpSpPr>
        <p:grpSp>
          <p:nvGrpSpPr>
            <p:cNvPr id="202" name=""/>
            <p:cNvGrpSpPr/>
            <p:nvPr/>
          </p:nvGrpSpPr>
          <p:grpSpPr>
            <a:xfrm>
              <a:off x="4038480" y="4038480"/>
              <a:ext cx="2361960" cy="1828800"/>
              <a:chOff x="4038480" y="4038480"/>
              <a:chExt cx="2361960" cy="182880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4038480" y="4038480"/>
                <a:ext cx="2361960" cy="1828800"/>
                <a:chOff x="4038480" y="4038480"/>
                <a:chExt cx="2361960" cy="182880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038480" y="403848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943240" y="403848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4413240" y="4343400"/>
                <a:ext cx="1600200" cy="380880"/>
                <a:chOff x="4413240" y="4343400"/>
                <a:chExt cx="1600200" cy="3808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4413240" y="4343400"/>
                  <a:ext cx="1600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489560" y="4724280"/>
                  <a:ext cx="1447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>
                <a:off x="4495680" y="5105160"/>
                <a:ext cx="1447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4419720" y="624852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CA39-2E6B-486E-A121-FFA1A7FC3EF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94372-A66D-425C-8A89-B92BF5B32C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SD-FAM Formulatio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961920" y="1181160"/>
            <a:ext cx="8077320" cy="483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A439-37B0-4690-8876-2F7765542B5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8CC57-7CDB-4807-87A6-073B0DCA54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SD-FAM Formulatio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961920" y="1181160"/>
            <a:ext cx="8077320" cy="48387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209680" y="2424240"/>
            <a:ext cx="6096240" cy="48564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 Narrow"/>
              </a:rPr>
              <a:t>Flight Sel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447920" y="1295280"/>
            <a:ext cx="6858000" cy="2819520"/>
            <a:chOff x="1447920" y="1295280"/>
            <a:chExt cx="6858000" cy="2819520"/>
          </a:xfrm>
        </p:grpSpPr>
        <p:sp>
          <p:nvSpPr>
            <p:cNvPr id="217" name=""/>
            <p:cNvSpPr/>
            <p:nvPr/>
          </p:nvSpPr>
          <p:spPr>
            <a:xfrm>
              <a:off x="1447920" y="1295280"/>
              <a:ext cx="6858000" cy="2819520"/>
            </a:xfrm>
            <a:custGeom>
              <a:avLst/>
              <a:gdLst/>
              <a:ahLst/>
              <a:rect l="l" t="t" r="r" b="b"/>
              <a:pathLst>
                <a:path w="4320" h="1776">
                  <a:moveTo>
                    <a:pt x="4320" y="672"/>
                  </a:moveTo>
                  <a:lnTo>
                    <a:pt x="4320" y="384"/>
                  </a:lnTo>
                  <a:lnTo>
                    <a:pt x="2016" y="384"/>
                  </a:lnTo>
                  <a:lnTo>
                    <a:pt x="2016" y="0"/>
                  </a:lnTo>
                  <a:lnTo>
                    <a:pt x="0" y="0"/>
                  </a:lnTo>
                  <a:lnTo>
                    <a:pt x="0" y="1776"/>
                  </a:lnTo>
                  <a:lnTo>
                    <a:pt x="4320" y="1776"/>
                  </a:lnTo>
                  <a:lnTo>
                    <a:pt x="4320" y="1056"/>
                  </a:lnTo>
                  <a:lnTo>
                    <a:pt x="432" y="1056"/>
                  </a:lnTo>
                  <a:lnTo>
                    <a:pt x="429" y="669"/>
                  </a:lnTo>
                  <a:lnTo>
                    <a:pt x="4320" y="67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24080" y="3032280"/>
              <a:ext cx="1533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cc99ff"/>
                  </a:solidFill>
                  <a:latin typeface="Arial Narrow"/>
                </a:rPr>
                <a:t>FAM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447920" y="1295280"/>
            <a:ext cx="7238880" cy="3962520"/>
            <a:chOff x="1447920" y="1295280"/>
            <a:chExt cx="7238880" cy="3962520"/>
          </a:xfrm>
        </p:grpSpPr>
        <p:sp>
          <p:nvSpPr>
            <p:cNvPr id="220" name=""/>
            <p:cNvSpPr/>
            <p:nvPr/>
          </p:nvSpPr>
          <p:spPr>
            <a:xfrm>
              <a:off x="1447920" y="1295280"/>
              <a:ext cx="7238880" cy="3962520"/>
            </a:xfrm>
            <a:custGeom>
              <a:avLst/>
              <a:gdLst/>
              <a:ahLst/>
              <a:rect l="l" t="t" r="r" b="b"/>
              <a:pathLst>
                <a:path w="4560" h="2496">
                  <a:moveTo>
                    <a:pt x="2112" y="3"/>
                  </a:moveTo>
                  <a:lnTo>
                    <a:pt x="2112" y="336"/>
                  </a:lnTo>
                  <a:lnTo>
                    <a:pt x="4368" y="336"/>
                  </a:lnTo>
                  <a:lnTo>
                    <a:pt x="4368" y="1824"/>
                  </a:lnTo>
                  <a:lnTo>
                    <a:pt x="0" y="1824"/>
                  </a:lnTo>
                  <a:lnTo>
                    <a:pt x="0" y="2496"/>
                  </a:lnTo>
                  <a:lnTo>
                    <a:pt x="4560" y="2496"/>
                  </a:lnTo>
                  <a:lnTo>
                    <a:pt x="4560" y="0"/>
                  </a:lnTo>
                  <a:lnTo>
                    <a:pt x="2112" y="3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64320" y="4191120"/>
              <a:ext cx="163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cc99ff"/>
                  </a:solidFill>
                  <a:latin typeface="Arial Narrow"/>
                </a:rPr>
                <a:t>PMM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80C4-A877-48FB-A656-F4702CE4B95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B99FA-B602-4FF5-822A-ACA8963F23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SD-FAM Formulatio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61920" y="1181160"/>
            <a:ext cx="8077320" cy="4838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209680" y="2424240"/>
            <a:ext cx="6096240" cy="48564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 Narrow"/>
              </a:rPr>
              <a:t>Flight Sel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447920" y="1295280"/>
            <a:ext cx="6858000" cy="2819520"/>
            <a:chOff x="1447920" y="1295280"/>
            <a:chExt cx="6858000" cy="2819520"/>
          </a:xfrm>
        </p:grpSpPr>
        <p:sp>
          <p:nvSpPr>
            <p:cNvPr id="226" name=""/>
            <p:cNvSpPr/>
            <p:nvPr/>
          </p:nvSpPr>
          <p:spPr>
            <a:xfrm>
              <a:off x="1447920" y="1295280"/>
              <a:ext cx="6858000" cy="2819520"/>
            </a:xfrm>
            <a:custGeom>
              <a:avLst/>
              <a:gdLst/>
              <a:ahLst/>
              <a:rect l="l" t="t" r="r" b="b"/>
              <a:pathLst>
                <a:path w="4320" h="1776">
                  <a:moveTo>
                    <a:pt x="4320" y="672"/>
                  </a:moveTo>
                  <a:lnTo>
                    <a:pt x="4320" y="384"/>
                  </a:lnTo>
                  <a:lnTo>
                    <a:pt x="2016" y="384"/>
                  </a:lnTo>
                  <a:lnTo>
                    <a:pt x="2016" y="0"/>
                  </a:lnTo>
                  <a:lnTo>
                    <a:pt x="0" y="0"/>
                  </a:lnTo>
                  <a:lnTo>
                    <a:pt x="0" y="1776"/>
                  </a:lnTo>
                  <a:lnTo>
                    <a:pt x="4320" y="1776"/>
                  </a:lnTo>
                  <a:lnTo>
                    <a:pt x="4320" y="1056"/>
                  </a:lnTo>
                  <a:lnTo>
                    <a:pt x="432" y="1056"/>
                  </a:lnTo>
                  <a:lnTo>
                    <a:pt x="429" y="669"/>
                  </a:lnTo>
                  <a:lnTo>
                    <a:pt x="4320" y="67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24080" y="3032280"/>
              <a:ext cx="1533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cc99ff"/>
                  </a:solidFill>
                  <a:latin typeface="Arial Narrow"/>
                </a:rPr>
                <a:t>FAM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447920" y="1295280"/>
            <a:ext cx="7238880" cy="3962520"/>
            <a:chOff x="1447920" y="1295280"/>
            <a:chExt cx="7238880" cy="3962520"/>
          </a:xfrm>
        </p:grpSpPr>
        <p:sp>
          <p:nvSpPr>
            <p:cNvPr id="229" name=""/>
            <p:cNvSpPr/>
            <p:nvPr/>
          </p:nvSpPr>
          <p:spPr>
            <a:xfrm>
              <a:off x="1447920" y="1295280"/>
              <a:ext cx="7238880" cy="3962520"/>
            </a:xfrm>
            <a:custGeom>
              <a:avLst/>
              <a:gdLst/>
              <a:ahLst/>
              <a:rect l="l" t="t" r="r" b="b"/>
              <a:pathLst>
                <a:path w="4560" h="2496">
                  <a:moveTo>
                    <a:pt x="2112" y="3"/>
                  </a:moveTo>
                  <a:lnTo>
                    <a:pt x="2112" y="336"/>
                  </a:lnTo>
                  <a:lnTo>
                    <a:pt x="4368" y="336"/>
                  </a:lnTo>
                  <a:lnTo>
                    <a:pt x="4368" y="1824"/>
                  </a:lnTo>
                  <a:lnTo>
                    <a:pt x="0" y="1824"/>
                  </a:lnTo>
                  <a:lnTo>
                    <a:pt x="0" y="2496"/>
                  </a:lnTo>
                  <a:lnTo>
                    <a:pt x="4560" y="2496"/>
                  </a:lnTo>
                  <a:lnTo>
                    <a:pt x="4560" y="0"/>
                  </a:lnTo>
                  <a:lnTo>
                    <a:pt x="2112" y="3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64320" y="4191120"/>
              <a:ext cx="163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cc99ff"/>
                  </a:solidFill>
                  <a:latin typeface="Arial Narrow"/>
                </a:rPr>
                <a:t>PMM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447920" y="1295280"/>
            <a:ext cx="7238880" cy="3962520"/>
            <a:chOff x="1447920" y="1295280"/>
            <a:chExt cx="7238880" cy="3962520"/>
          </a:xfrm>
        </p:grpSpPr>
        <p:grpSp>
          <p:nvGrpSpPr>
            <p:cNvPr id="232" name=""/>
            <p:cNvGrpSpPr/>
            <p:nvPr/>
          </p:nvGrpSpPr>
          <p:grpSpPr>
            <a:xfrm>
              <a:off x="1447920" y="1295280"/>
              <a:ext cx="6858000" cy="2819520"/>
              <a:chOff x="1447920" y="1295280"/>
              <a:chExt cx="6858000" cy="2819520"/>
            </a:xfrm>
          </p:grpSpPr>
          <p:sp>
            <p:nvSpPr>
              <p:cNvPr id="233" name=""/>
              <p:cNvSpPr/>
              <p:nvPr/>
            </p:nvSpPr>
            <p:spPr>
              <a:xfrm>
                <a:off x="1447920" y="1295280"/>
                <a:ext cx="6858000" cy="2819520"/>
              </a:xfrm>
              <a:custGeom>
                <a:avLst/>
                <a:gdLst/>
                <a:ahLst/>
                <a:rect l="l" t="t" r="r" b="b"/>
                <a:pathLst>
                  <a:path w="4320" h="1776">
                    <a:moveTo>
                      <a:pt x="4320" y="672"/>
                    </a:moveTo>
                    <a:lnTo>
                      <a:pt x="4320" y="384"/>
                    </a:lnTo>
                    <a:lnTo>
                      <a:pt x="2016" y="384"/>
                    </a:lnTo>
                    <a:lnTo>
                      <a:pt x="2016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4320" y="1776"/>
                    </a:lnTo>
                    <a:lnTo>
                      <a:pt x="4320" y="1056"/>
                    </a:lnTo>
                    <a:lnTo>
                      <a:pt x="432" y="1056"/>
                    </a:lnTo>
                    <a:lnTo>
                      <a:pt x="429" y="669"/>
                    </a:lnTo>
                    <a:lnTo>
                      <a:pt x="4320" y="672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134800" y="3048120"/>
                <a:ext cx="53852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cc99ff"/>
                    </a:solidFill>
                    <a:latin typeface="Arial Narrow"/>
                  </a:rPr>
                  <a:t>Fleet Assignment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1447920" y="1295280"/>
              <a:ext cx="7238880" cy="3962520"/>
              <a:chOff x="1447920" y="1295280"/>
              <a:chExt cx="7238880" cy="3962520"/>
            </a:xfrm>
          </p:grpSpPr>
          <p:sp>
            <p:nvSpPr>
              <p:cNvPr id="236" name=""/>
              <p:cNvSpPr/>
              <p:nvPr/>
            </p:nvSpPr>
            <p:spPr>
              <a:xfrm>
                <a:off x="1447920" y="1295280"/>
                <a:ext cx="7238880" cy="3962520"/>
              </a:xfrm>
              <a:custGeom>
                <a:avLst/>
                <a:gdLst/>
                <a:ahLst/>
                <a:rect l="l" t="t" r="r" b="b"/>
                <a:pathLst>
                  <a:path w="4560" h="2496">
                    <a:moveTo>
                      <a:pt x="2112" y="3"/>
                    </a:moveTo>
                    <a:lnTo>
                      <a:pt x="2112" y="336"/>
                    </a:lnTo>
                    <a:lnTo>
                      <a:pt x="4368" y="336"/>
                    </a:lnTo>
                    <a:lnTo>
                      <a:pt x="4368" y="1824"/>
                    </a:lnTo>
                    <a:lnTo>
                      <a:pt x="0" y="1824"/>
                    </a:lnTo>
                    <a:lnTo>
                      <a:pt x="0" y="2496"/>
                    </a:lnTo>
                    <a:lnTo>
                      <a:pt x="4560" y="2496"/>
                    </a:lnTo>
                    <a:lnTo>
                      <a:pt x="4560" y="0"/>
                    </a:lnTo>
                    <a:lnTo>
                      <a:pt x="2112" y="3"/>
                    </a:lnTo>
                    <a:close/>
                  </a:path>
                </a:pathLst>
              </a:custGeom>
              <a:solidFill>
                <a:srgbClr val="00ffff"/>
              </a:solidFill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77720" y="4191120"/>
                <a:ext cx="52646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cc99ff"/>
                    </a:solidFill>
                    <a:latin typeface="Arial Narrow"/>
                  </a:rPr>
                  <a:t>Spill + Recapture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2209680" y="2438280"/>
              <a:ext cx="6096240" cy="48600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99ff"/>
                  </a:solidFill>
                  <a:latin typeface="Arial Narrow"/>
                </a:rPr>
                <a:t>Schedule Desig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816A-FD88-464E-B461-B7351D5B46E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5B1C7-850F-4BA5-81BC-1632048B3F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Schedule Design:  Variable Market Share Model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cc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Garamond"/>
              </a:rPr>
              <a:t>Variable market share mode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10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tended Schedule Design and Fleet Assignment Model (ESD-FAM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10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Utilize demand correction term to adjust demand explicitly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721F-3A31-4984-8F92-F1D40CC7195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B5458-AD4B-4BE4-8082-ADB67E47A0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919440" y="2743200"/>
            <a:ext cx="5176440" cy="3050640"/>
            <a:chOff x="919440" y="2743200"/>
            <a:chExt cx="5176440" cy="3050640"/>
          </a:xfrm>
        </p:grpSpPr>
        <p:sp>
          <p:nvSpPr>
            <p:cNvPr id="242" name=""/>
            <p:cNvSpPr/>
            <p:nvPr/>
          </p:nvSpPr>
          <p:spPr>
            <a:xfrm>
              <a:off x="5562720" y="2743200"/>
              <a:ext cx="533160" cy="1676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895480" y="4190760"/>
              <a:ext cx="2743200" cy="114300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19440" y="5334120"/>
              <a:ext cx="312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Demand Correction Term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SD-FAM: Demand Correc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127160" y="874800"/>
            <a:ext cx="5486040" cy="1944720"/>
            <a:chOff x="1127160" y="874800"/>
            <a:chExt cx="5486040" cy="1944720"/>
          </a:xfrm>
        </p:grpSpPr>
        <p:grpSp>
          <p:nvGrpSpPr>
            <p:cNvPr id="247" name=""/>
            <p:cNvGrpSpPr/>
            <p:nvPr/>
          </p:nvGrpSpPr>
          <p:grpSpPr>
            <a:xfrm>
              <a:off x="4251240" y="990720"/>
              <a:ext cx="2361960" cy="1828800"/>
              <a:chOff x="4251240" y="990720"/>
              <a:chExt cx="2361960" cy="1828800"/>
            </a:xfrm>
          </p:grpSpPr>
          <p:sp>
            <p:nvSpPr>
              <p:cNvPr id="248" name=""/>
              <p:cNvSpPr/>
              <p:nvPr/>
            </p:nvSpPr>
            <p:spPr>
              <a:xfrm>
                <a:off x="4251240" y="990720"/>
                <a:ext cx="457200" cy="18288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156000" y="990720"/>
                <a:ext cx="457200" cy="18288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4632480" y="1295280"/>
              <a:ext cx="1600200" cy="381240"/>
              <a:chOff x="4632480" y="1295280"/>
              <a:chExt cx="1600200" cy="381240"/>
            </a:xfrm>
          </p:grpSpPr>
          <p:sp>
            <p:nvSpPr>
              <p:cNvPr id="251" name=""/>
              <p:cNvSpPr/>
              <p:nvPr/>
            </p:nvSpPr>
            <p:spPr>
              <a:xfrm>
                <a:off x="4632480" y="1295280"/>
                <a:ext cx="1600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708800" y="1676520"/>
                <a:ext cx="14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632480" y="2057400"/>
              <a:ext cx="1600200" cy="380880"/>
              <a:chOff x="4632480" y="2057400"/>
              <a:chExt cx="1600200" cy="380880"/>
            </a:xfrm>
          </p:grpSpPr>
          <p:sp>
            <p:nvSpPr>
              <p:cNvPr id="254" name=""/>
              <p:cNvSpPr/>
              <p:nvPr/>
            </p:nvSpPr>
            <p:spPr>
              <a:xfrm>
                <a:off x="4708800" y="2057400"/>
                <a:ext cx="14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632480" y="2438280"/>
                <a:ext cx="1600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1127160" y="1447920"/>
              <a:ext cx="2186280" cy="1114560"/>
              <a:chOff x="1127160" y="1447920"/>
              <a:chExt cx="2186280" cy="1114560"/>
            </a:xfrm>
          </p:grpSpPr>
          <p:sp>
            <p:nvSpPr>
              <p:cNvPr id="257" name=""/>
              <p:cNvSpPr/>
              <p:nvPr/>
            </p:nvSpPr>
            <p:spPr>
              <a:xfrm>
                <a:off x="1127160" y="1447920"/>
                <a:ext cx="218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 Narrow"/>
                  </a:rPr>
                  <a:t>Market Shar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677960" y="1981080"/>
                <a:ext cx="738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 Narrow"/>
                  </a:rPr>
                  <a:t>450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3336840" y="874800"/>
              <a:ext cx="2352600" cy="1642320"/>
              <a:chOff x="3336840" y="874800"/>
              <a:chExt cx="2352600" cy="1642320"/>
            </a:xfrm>
          </p:grpSpPr>
          <p:sp>
            <p:nvSpPr>
              <p:cNvPr id="260" name=""/>
              <p:cNvSpPr/>
              <p:nvPr/>
            </p:nvSpPr>
            <p:spPr>
              <a:xfrm>
                <a:off x="5076720" y="87480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076720" y="125568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5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092560" y="163656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092560" y="205740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336840" y="1523880"/>
                <a:ext cx="685800" cy="457200"/>
              </a:xfrm>
              <a:prstGeom prst="rightArrow">
                <a:avLst>
                  <a:gd name="adj1" fmla="val 50000"/>
                  <a:gd name="adj2" fmla="val 37500"/>
                </a:avLst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4267080" y="4876920"/>
            <a:ext cx="2361960" cy="1828800"/>
            <a:chOff x="4267080" y="4876920"/>
            <a:chExt cx="2361960" cy="1828800"/>
          </a:xfrm>
        </p:grpSpPr>
        <p:sp>
          <p:nvSpPr>
            <p:cNvPr id="266" name=""/>
            <p:cNvSpPr/>
            <p:nvPr/>
          </p:nvSpPr>
          <p:spPr>
            <a:xfrm>
              <a:off x="4267080" y="48769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71840" y="48769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47960" y="518148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24280" y="556272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723200" y="4761000"/>
            <a:ext cx="1443960" cy="840600"/>
            <a:chOff x="4723200" y="4761000"/>
            <a:chExt cx="1443960" cy="840600"/>
          </a:xfrm>
        </p:grpSpPr>
        <p:sp>
          <p:nvSpPr>
            <p:cNvPr id="271" name=""/>
            <p:cNvSpPr/>
            <p:nvPr/>
          </p:nvSpPr>
          <p:spPr>
            <a:xfrm>
              <a:off x="5092560" y="47610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23200" y="5141880"/>
              <a:ext cx="14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50+40+4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066680" y="1828800"/>
            <a:ext cx="6705360" cy="2935440"/>
            <a:chOff x="1066680" y="1828800"/>
            <a:chExt cx="6705360" cy="2935440"/>
          </a:xfrm>
        </p:grpSpPr>
        <p:grpSp>
          <p:nvGrpSpPr>
            <p:cNvPr id="274" name=""/>
            <p:cNvGrpSpPr/>
            <p:nvPr/>
          </p:nvGrpSpPr>
          <p:grpSpPr>
            <a:xfrm>
              <a:off x="1066680" y="2935440"/>
              <a:ext cx="5546520" cy="1828800"/>
              <a:chOff x="1066680" y="2935440"/>
              <a:chExt cx="5546520" cy="182880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4251240" y="2935440"/>
                <a:ext cx="2361960" cy="1828800"/>
                <a:chOff x="4251240" y="2935440"/>
                <a:chExt cx="2361960" cy="18288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251240" y="293544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156000" y="293544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632120" y="3240000"/>
                  <a:ext cx="1600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708440" y="3621240"/>
                  <a:ext cx="1447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708440" y="4230720"/>
                  <a:ext cx="1447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066680" y="3352680"/>
                <a:ext cx="2186280" cy="1114920"/>
                <a:chOff x="1066680" y="3352680"/>
                <a:chExt cx="2186280" cy="11149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066680" y="3352680"/>
                  <a:ext cx="2186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Arial Narrow"/>
                    </a:rPr>
                    <a:t>Market Shar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753920" y="3886200"/>
                  <a:ext cx="738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Arial Narrow"/>
                    </a:rPr>
                    <a:t>410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4" name=""/>
            <p:cNvGrpSpPr/>
            <p:nvPr/>
          </p:nvGrpSpPr>
          <p:grpSpPr>
            <a:xfrm>
              <a:off x="6781680" y="1828800"/>
              <a:ext cx="990360" cy="1981080"/>
              <a:chOff x="6781680" y="1828800"/>
              <a:chExt cx="990360" cy="1981080"/>
            </a:xfrm>
          </p:grpSpPr>
          <p:sp>
            <p:nvSpPr>
              <p:cNvPr id="285" name=""/>
              <p:cNvSpPr/>
              <p:nvPr/>
            </p:nvSpPr>
            <p:spPr>
              <a:xfrm>
                <a:off x="6781680" y="1828800"/>
                <a:ext cx="99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781680" y="3809880"/>
                <a:ext cx="99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81680" y="1828800"/>
                <a:ext cx="914400" cy="1981080"/>
              </a:xfrm>
              <a:prstGeom prst="downArrow">
                <a:avLst>
                  <a:gd name="adj1" fmla="val 50000"/>
                  <a:gd name="adj2" fmla="val 54163"/>
                </a:avLst>
              </a:prstGeom>
              <a:gradFill rotWithShape="0">
                <a:gsLst>
                  <a:gs pos="0">
                    <a:srgbClr val="5e7575"/>
                  </a:gs>
                  <a:gs pos="100000">
                    <a:srgbClr val="cc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4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3282840" y="2819520"/>
            <a:ext cx="2428920" cy="1413720"/>
            <a:chOff x="3282840" y="2819520"/>
            <a:chExt cx="2428920" cy="1413720"/>
          </a:xfrm>
        </p:grpSpPr>
        <p:sp>
          <p:nvSpPr>
            <p:cNvPr id="289" name=""/>
            <p:cNvSpPr/>
            <p:nvPr/>
          </p:nvSpPr>
          <p:spPr>
            <a:xfrm>
              <a:off x="5099040" y="28195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99040" y="32004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9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114880" y="37735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2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82840" y="342900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282840" y="2819520"/>
            <a:ext cx="2774160" cy="1413720"/>
            <a:chOff x="3282840" y="2819520"/>
            <a:chExt cx="2774160" cy="1413720"/>
          </a:xfrm>
        </p:grpSpPr>
        <p:sp>
          <p:nvSpPr>
            <p:cNvPr id="294" name=""/>
            <p:cNvSpPr/>
            <p:nvPr/>
          </p:nvSpPr>
          <p:spPr>
            <a:xfrm>
              <a:off x="4880160" y="2819520"/>
              <a:ext cx="102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 +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80520" y="3200400"/>
              <a:ext cx="11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50 + 4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96360" y="3773520"/>
              <a:ext cx="11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 + 2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82840" y="342900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781680" y="3809880"/>
            <a:ext cx="990360" cy="1981080"/>
            <a:chOff x="6781680" y="3809880"/>
            <a:chExt cx="990360" cy="1981080"/>
          </a:xfrm>
        </p:grpSpPr>
        <p:sp>
          <p:nvSpPr>
            <p:cNvPr id="299" name=""/>
            <p:cNvSpPr/>
            <p:nvPr/>
          </p:nvSpPr>
          <p:spPr>
            <a:xfrm>
              <a:off x="6781680" y="380988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81680" y="579096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81680" y="3809880"/>
              <a:ext cx="914400" cy="1981080"/>
            </a:xfrm>
            <a:prstGeom prst="downArrow">
              <a:avLst>
                <a:gd name="adj1" fmla="val 50000"/>
                <a:gd name="adj2" fmla="val 54163"/>
              </a:avLst>
            </a:prstGeom>
            <a:gradFill rotWithShape="0">
              <a:gsLst>
                <a:gs pos="0">
                  <a:srgbClr val="5e7575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8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118280" y="1828800"/>
            <a:ext cx="1873440" cy="4525920"/>
            <a:chOff x="7118280" y="1828800"/>
            <a:chExt cx="1873440" cy="4525920"/>
          </a:xfrm>
        </p:grpSpPr>
        <p:grpSp>
          <p:nvGrpSpPr>
            <p:cNvPr id="303" name=""/>
            <p:cNvGrpSpPr/>
            <p:nvPr/>
          </p:nvGrpSpPr>
          <p:grpSpPr>
            <a:xfrm>
              <a:off x="7118280" y="1828800"/>
              <a:ext cx="1873440" cy="4525920"/>
              <a:chOff x="7118280" y="1828800"/>
              <a:chExt cx="1873440" cy="452592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8001000" y="1828800"/>
                <a:ext cx="990720" cy="3962520"/>
                <a:chOff x="8001000" y="1828800"/>
                <a:chExt cx="990720" cy="39625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8001000" y="5791320"/>
                  <a:ext cx="99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8077320" y="1828800"/>
                  <a:ext cx="914400" cy="3962520"/>
                </a:xfrm>
                <a:prstGeom prst="downArrow">
                  <a:avLst>
                    <a:gd name="adj1" fmla="val 50000"/>
                    <a:gd name="adj2" fmla="val 108337"/>
                  </a:avLst>
                </a:prstGeom>
                <a:gradFill rotWithShape="0">
                  <a:gsLst>
                    <a:gs pos="0">
                      <a:srgbClr val="755e46"/>
                    </a:gs>
                    <a:gs pos="100000">
                      <a:srgbClr val="ffcc99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15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8001000" y="1828800"/>
                  <a:ext cx="99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>
                <a:off x="7118280" y="58356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7924680" y="373392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24680" y="380988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8001000" y="3657600"/>
              <a:ext cx="7632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4815720" y="5522760"/>
            <a:ext cx="13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 Narrow"/>
              </a:rPr>
              <a:t>-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 Narrow"/>
              </a:rPr>
              <a:t>2</a:t>
            </a:r>
            <a:r>
              <a:rPr b="0" lang="en-US" sz="2400" spc="-1" strike="noStrike" baseline="30000">
                <a:solidFill>
                  <a:srgbClr val="cc99ff"/>
                </a:solidFill>
                <a:latin typeface="Arial Narrow"/>
              </a:rPr>
              <a:t>nd</a:t>
            </a:r>
            <a:r>
              <a:rPr b="0" lang="en-US" sz="2400" spc="-1" strike="noStrike">
                <a:solidFill>
                  <a:srgbClr val="cc99ff"/>
                </a:solidFill>
                <a:latin typeface="Arial Narrow"/>
              </a:rPr>
              <a:t> degr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 Narrow"/>
              </a:rPr>
              <a:t>corr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11240" y="624852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99ff"/>
                </a:solidFill>
                <a:latin typeface="Arial Narrow"/>
              </a:rPr>
              <a:t>Data Quality Iss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18B8-7488-4BE5-AC0E-34553063878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8D26B-8571-434B-929A-B194860AC1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D-FAM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835344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5F34-75C6-4602-82F4-2AB946323AE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C635D-9366-4C20-AA6D-0395300597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D-FAM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8353440" cy="5410080"/>
          </a:xfrm>
          <a:prstGeom prst="rect">
            <a:avLst/>
          </a:prstGeom>
          <a:ln w="0">
            <a:noFill/>
          </a:ln>
        </p:spPr>
      </p:pic>
      <p:grpSp>
        <p:nvGrpSpPr>
          <p:cNvPr id="318" name=""/>
          <p:cNvGrpSpPr/>
          <p:nvPr/>
        </p:nvGrpSpPr>
        <p:grpSpPr>
          <a:xfrm>
            <a:off x="990720" y="1295280"/>
            <a:ext cx="7619760" cy="3733920"/>
            <a:chOff x="990720" y="1295280"/>
            <a:chExt cx="7619760" cy="3733920"/>
          </a:xfrm>
        </p:grpSpPr>
        <p:sp>
          <p:nvSpPr>
            <p:cNvPr id="319" name=""/>
            <p:cNvSpPr/>
            <p:nvPr/>
          </p:nvSpPr>
          <p:spPr>
            <a:xfrm>
              <a:off x="990720" y="1295280"/>
              <a:ext cx="7619760" cy="3733920"/>
            </a:xfrm>
            <a:custGeom>
              <a:avLst/>
              <a:gdLst/>
              <a:ahLst/>
              <a:rect l="l" t="t" r="r" b="b"/>
              <a:pathLst>
                <a:path w="4800" h="2352">
                  <a:moveTo>
                    <a:pt x="3504" y="2352"/>
                  </a:moveTo>
                  <a:lnTo>
                    <a:pt x="4800" y="2352"/>
                  </a:lnTo>
                  <a:lnTo>
                    <a:pt x="4800" y="432"/>
                  </a:lnTo>
                  <a:lnTo>
                    <a:pt x="2640" y="432"/>
                  </a:lnTo>
                  <a:lnTo>
                    <a:pt x="2640" y="0"/>
                  </a:lnTo>
                  <a:lnTo>
                    <a:pt x="0" y="0"/>
                  </a:lnTo>
                  <a:lnTo>
                    <a:pt x="0" y="1632"/>
                  </a:lnTo>
                  <a:lnTo>
                    <a:pt x="1488" y="1632"/>
                  </a:lnTo>
                  <a:lnTo>
                    <a:pt x="1488" y="2064"/>
                  </a:lnTo>
                  <a:lnTo>
                    <a:pt x="3504" y="2064"/>
                  </a:lnTo>
                  <a:lnTo>
                    <a:pt x="3504" y="23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43560" y="2438280"/>
              <a:ext cx="4415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cc99ff"/>
                  </a:solidFill>
                  <a:latin typeface="Arial"/>
                </a:rPr>
                <a:t>ISD-FAM</a:t>
              </a: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990720" y="1295280"/>
            <a:ext cx="8001000" cy="4724640"/>
            <a:chOff x="990720" y="1295280"/>
            <a:chExt cx="8001000" cy="4724640"/>
          </a:xfrm>
        </p:grpSpPr>
        <p:sp>
          <p:nvSpPr>
            <p:cNvPr id="322" name=""/>
            <p:cNvSpPr/>
            <p:nvPr/>
          </p:nvSpPr>
          <p:spPr>
            <a:xfrm>
              <a:off x="990720" y="1295280"/>
              <a:ext cx="8001000" cy="4724640"/>
            </a:xfrm>
            <a:custGeom>
              <a:avLst/>
              <a:gdLst/>
              <a:ahLst/>
              <a:rect l="l" t="t" r="r" b="b"/>
              <a:pathLst>
                <a:path w="5040" h="2976">
                  <a:moveTo>
                    <a:pt x="2688" y="0"/>
                  </a:moveTo>
                  <a:lnTo>
                    <a:pt x="2688" y="384"/>
                  </a:lnTo>
                  <a:lnTo>
                    <a:pt x="4848" y="384"/>
                  </a:lnTo>
                  <a:lnTo>
                    <a:pt x="4848" y="2400"/>
                  </a:lnTo>
                  <a:lnTo>
                    <a:pt x="3456" y="2400"/>
                  </a:lnTo>
                  <a:lnTo>
                    <a:pt x="3456" y="2112"/>
                  </a:lnTo>
                  <a:lnTo>
                    <a:pt x="1440" y="2112"/>
                  </a:lnTo>
                  <a:lnTo>
                    <a:pt x="1440" y="1680"/>
                  </a:lnTo>
                  <a:lnTo>
                    <a:pt x="0" y="1680"/>
                  </a:lnTo>
                  <a:lnTo>
                    <a:pt x="0" y="2976"/>
                  </a:lnTo>
                  <a:lnTo>
                    <a:pt x="5040" y="2976"/>
                  </a:lnTo>
                  <a:lnTo>
                    <a:pt x="5040" y="0"/>
                  </a:lnTo>
                  <a:lnTo>
                    <a:pt x="2688" y="0"/>
                  </a:lnTo>
                  <a:close/>
                </a:path>
              </a:pathLst>
            </a:custGeom>
            <a:solidFill>
              <a:srgbClr val="ccffcc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27960" y="5105520"/>
              <a:ext cx="752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cc99ff"/>
                  </a:solidFill>
                  <a:latin typeface="Arial"/>
                </a:rPr>
                <a:t>Market Share Adjustment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4A65-4BE5-40BC-876D-39B4F57B978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A8FFB-3DC2-4CCE-A224-4895E5F31D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D-FAM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8353440" cy="541008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990720" y="1295280"/>
            <a:ext cx="7619760" cy="3733920"/>
            <a:chOff x="990720" y="1295280"/>
            <a:chExt cx="7619760" cy="3733920"/>
          </a:xfrm>
        </p:grpSpPr>
        <p:sp>
          <p:nvSpPr>
            <p:cNvPr id="327" name=""/>
            <p:cNvSpPr/>
            <p:nvPr/>
          </p:nvSpPr>
          <p:spPr>
            <a:xfrm>
              <a:off x="990720" y="1295280"/>
              <a:ext cx="7619760" cy="3733920"/>
            </a:xfrm>
            <a:custGeom>
              <a:avLst/>
              <a:gdLst/>
              <a:ahLst/>
              <a:rect l="l" t="t" r="r" b="b"/>
              <a:pathLst>
                <a:path w="4800" h="2352">
                  <a:moveTo>
                    <a:pt x="3504" y="2352"/>
                  </a:moveTo>
                  <a:lnTo>
                    <a:pt x="4800" y="2352"/>
                  </a:lnTo>
                  <a:lnTo>
                    <a:pt x="4800" y="432"/>
                  </a:lnTo>
                  <a:lnTo>
                    <a:pt x="2640" y="432"/>
                  </a:lnTo>
                  <a:lnTo>
                    <a:pt x="2640" y="0"/>
                  </a:lnTo>
                  <a:lnTo>
                    <a:pt x="0" y="0"/>
                  </a:lnTo>
                  <a:lnTo>
                    <a:pt x="0" y="1632"/>
                  </a:lnTo>
                  <a:lnTo>
                    <a:pt x="1488" y="1632"/>
                  </a:lnTo>
                  <a:lnTo>
                    <a:pt x="1488" y="2064"/>
                  </a:lnTo>
                  <a:lnTo>
                    <a:pt x="3504" y="2064"/>
                  </a:lnTo>
                  <a:lnTo>
                    <a:pt x="3504" y="23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43560" y="2438280"/>
              <a:ext cx="4415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cc99ff"/>
                  </a:solidFill>
                  <a:latin typeface="Arial"/>
                </a:rPr>
                <a:t>ISD-FAM</a:t>
              </a: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990720" y="1295280"/>
            <a:ext cx="8001000" cy="4724640"/>
            <a:chOff x="990720" y="1295280"/>
            <a:chExt cx="8001000" cy="4724640"/>
          </a:xfrm>
        </p:grpSpPr>
        <p:sp>
          <p:nvSpPr>
            <p:cNvPr id="330" name=""/>
            <p:cNvSpPr/>
            <p:nvPr/>
          </p:nvSpPr>
          <p:spPr>
            <a:xfrm>
              <a:off x="990720" y="1295280"/>
              <a:ext cx="8001000" cy="4724640"/>
            </a:xfrm>
            <a:custGeom>
              <a:avLst/>
              <a:gdLst/>
              <a:ahLst/>
              <a:rect l="l" t="t" r="r" b="b"/>
              <a:pathLst>
                <a:path w="5040" h="2976">
                  <a:moveTo>
                    <a:pt x="2688" y="0"/>
                  </a:moveTo>
                  <a:lnTo>
                    <a:pt x="2688" y="384"/>
                  </a:lnTo>
                  <a:lnTo>
                    <a:pt x="4848" y="384"/>
                  </a:lnTo>
                  <a:lnTo>
                    <a:pt x="4848" y="2400"/>
                  </a:lnTo>
                  <a:lnTo>
                    <a:pt x="3456" y="2400"/>
                  </a:lnTo>
                  <a:lnTo>
                    <a:pt x="3456" y="2112"/>
                  </a:lnTo>
                  <a:lnTo>
                    <a:pt x="1440" y="2112"/>
                  </a:lnTo>
                  <a:lnTo>
                    <a:pt x="1440" y="1680"/>
                  </a:lnTo>
                  <a:lnTo>
                    <a:pt x="0" y="1680"/>
                  </a:lnTo>
                  <a:lnTo>
                    <a:pt x="0" y="2976"/>
                  </a:lnTo>
                  <a:lnTo>
                    <a:pt x="5040" y="2976"/>
                  </a:lnTo>
                  <a:lnTo>
                    <a:pt x="5040" y="0"/>
                  </a:lnTo>
                  <a:lnTo>
                    <a:pt x="2688" y="0"/>
                  </a:lnTo>
                  <a:close/>
                </a:path>
              </a:pathLst>
            </a:custGeom>
            <a:solidFill>
              <a:srgbClr val="ccffcc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27960" y="5105520"/>
              <a:ext cx="752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cc99ff"/>
                  </a:solidFill>
                  <a:latin typeface="Arial"/>
                </a:rPr>
                <a:t>Market Share Adjustment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143000" y="1219320"/>
            <a:ext cx="8001000" cy="5104440"/>
            <a:chOff x="1143000" y="1219320"/>
            <a:chExt cx="8001000" cy="5104440"/>
          </a:xfrm>
        </p:grpSpPr>
        <p:grpSp>
          <p:nvGrpSpPr>
            <p:cNvPr id="333" name=""/>
            <p:cNvGrpSpPr/>
            <p:nvPr/>
          </p:nvGrpSpPr>
          <p:grpSpPr>
            <a:xfrm>
              <a:off x="1143000" y="1219320"/>
              <a:ext cx="7619760" cy="4047480"/>
              <a:chOff x="1143000" y="1219320"/>
              <a:chExt cx="7619760" cy="4047480"/>
            </a:xfrm>
          </p:grpSpPr>
          <p:sp>
            <p:nvSpPr>
              <p:cNvPr id="334" name=""/>
              <p:cNvSpPr/>
              <p:nvPr/>
            </p:nvSpPr>
            <p:spPr>
              <a:xfrm>
                <a:off x="1143000" y="1283400"/>
                <a:ext cx="7619760" cy="3983400"/>
              </a:xfrm>
              <a:custGeom>
                <a:avLst/>
                <a:gdLst/>
                <a:ahLst/>
                <a:rect l="l" t="t" r="r" b="b"/>
                <a:pathLst>
                  <a:path w="4800" h="2352">
                    <a:moveTo>
                      <a:pt x="3504" y="2352"/>
                    </a:moveTo>
                    <a:lnTo>
                      <a:pt x="4800" y="2352"/>
                    </a:lnTo>
                    <a:lnTo>
                      <a:pt x="4800" y="432"/>
                    </a:lnTo>
                    <a:lnTo>
                      <a:pt x="2640" y="432"/>
                    </a:lnTo>
                    <a:lnTo>
                      <a:pt x="2640" y="0"/>
                    </a:lnTo>
                    <a:lnTo>
                      <a:pt x="0" y="0"/>
                    </a:lnTo>
                    <a:lnTo>
                      <a:pt x="0" y="1632"/>
                    </a:lnTo>
                    <a:lnTo>
                      <a:pt x="1488" y="1632"/>
                    </a:lnTo>
                    <a:lnTo>
                      <a:pt x="1488" y="2064"/>
                    </a:lnTo>
                    <a:lnTo>
                      <a:pt x="3504" y="2064"/>
                    </a:lnTo>
                    <a:lnTo>
                      <a:pt x="3504" y="2352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220040" y="1219320"/>
                <a:ext cx="7470000" cy="326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Constant </a:t>
                </a: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Market Share</a:t>
                </a: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	</a:t>
                </a: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Schedule Design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	</a:t>
                </a: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	</a:t>
                </a: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  </a:t>
                </a:r>
                <a:r>
                  <a:rPr b="1" lang="en-US" sz="4000" spc="-1" strike="noStrike">
                    <a:solidFill>
                      <a:srgbClr val="cc99ff"/>
                    </a:solidFill>
                    <a:latin typeface="Arial"/>
                  </a:rPr>
                  <a:t>&amp; </a:t>
                </a: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Fleet Assgn.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1143000" y="1283400"/>
              <a:ext cx="8001000" cy="5040360"/>
              <a:chOff x="1143000" y="1283400"/>
              <a:chExt cx="8001000" cy="5040360"/>
            </a:xfrm>
          </p:grpSpPr>
          <p:sp>
            <p:nvSpPr>
              <p:cNvPr id="337" name=""/>
              <p:cNvSpPr/>
              <p:nvPr/>
            </p:nvSpPr>
            <p:spPr>
              <a:xfrm>
                <a:off x="1143000" y="1283400"/>
                <a:ext cx="8001000" cy="5040360"/>
              </a:xfrm>
              <a:custGeom>
                <a:avLst/>
                <a:gdLst/>
                <a:ahLst/>
                <a:rect l="l" t="t" r="r" b="b"/>
                <a:pathLst>
                  <a:path w="5040" h="2976">
                    <a:moveTo>
                      <a:pt x="2688" y="0"/>
                    </a:moveTo>
                    <a:lnTo>
                      <a:pt x="2688" y="384"/>
                    </a:lnTo>
                    <a:lnTo>
                      <a:pt x="4848" y="384"/>
                    </a:lnTo>
                    <a:lnTo>
                      <a:pt x="4848" y="2400"/>
                    </a:lnTo>
                    <a:lnTo>
                      <a:pt x="3456" y="2400"/>
                    </a:lnTo>
                    <a:lnTo>
                      <a:pt x="3456" y="2112"/>
                    </a:lnTo>
                    <a:lnTo>
                      <a:pt x="1440" y="2112"/>
                    </a:lnTo>
                    <a:lnTo>
                      <a:pt x="1440" y="1680"/>
                    </a:lnTo>
                    <a:lnTo>
                      <a:pt x="0" y="1680"/>
                    </a:lnTo>
                    <a:lnTo>
                      <a:pt x="0" y="2976"/>
                    </a:lnTo>
                    <a:lnTo>
                      <a:pt x="5040" y="2976"/>
                    </a:lnTo>
                    <a:lnTo>
                      <a:pt x="5040" y="0"/>
                    </a:lnTo>
                    <a:lnTo>
                      <a:pt x="2688" y="0"/>
                    </a:lnTo>
                    <a:close/>
                  </a:path>
                </a:pathLst>
              </a:custGeom>
              <a:solidFill>
                <a:srgbClr val="ccffcc"/>
              </a:solidFill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80240" y="5348520"/>
                <a:ext cx="7524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cc99ff"/>
                    </a:solidFill>
                    <a:latin typeface="Arial"/>
                  </a:rPr>
                  <a:t>Market Share Adjustment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7ED8-A007-4F99-916B-15EB7A04BA9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6FDAC-DC06-4E41-8E03-E85CD34659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lution Algorith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"/>
          <p:cNvSpPr/>
          <p:nvPr/>
        </p:nvSpPr>
        <p:spPr>
          <a:xfrm>
            <a:off x="2057400" y="1219320"/>
            <a:ext cx="1219320" cy="45720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 Narrow"/>
              </a:rPr>
              <a:t>ST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143000" y="2895480"/>
            <a:ext cx="3124080" cy="1447560"/>
            <a:chOff x="1143000" y="2895480"/>
            <a:chExt cx="3124080" cy="1447560"/>
          </a:xfrm>
        </p:grpSpPr>
        <p:sp>
          <p:nvSpPr>
            <p:cNvPr id="342" name=""/>
            <p:cNvSpPr/>
            <p:nvPr/>
          </p:nvSpPr>
          <p:spPr>
            <a:xfrm>
              <a:off x="1143000" y="3504960"/>
              <a:ext cx="3124080" cy="838080"/>
            </a:xfrm>
            <a:prstGeom prst="flowChartProcess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Calculate new demand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for the resulting schedu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66880" y="2895480"/>
              <a:ext cx="0" cy="609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3733920" y="1371600"/>
            <a:ext cx="1752480" cy="1219320"/>
            <a:chOff x="3733920" y="1371600"/>
            <a:chExt cx="1752480" cy="1219320"/>
          </a:xfrm>
        </p:grpSpPr>
        <p:sp>
          <p:nvSpPr>
            <p:cNvPr id="345" name=""/>
            <p:cNvSpPr/>
            <p:nvPr/>
          </p:nvSpPr>
          <p:spPr>
            <a:xfrm>
              <a:off x="3733920" y="2590920"/>
              <a:ext cx="1066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00600" y="13716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00600" y="1371600"/>
              <a:ext cx="0" cy="12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410080" y="1066680"/>
            <a:ext cx="3124440" cy="1447560"/>
            <a:chOff x="5410080" y="1066680"/>
            <a:chExt cx="3124440" cy="1447560"/>
          </a:xfrm>
        </p:grpSpPr>
        <p:sp>
          <p:nvSpPr>
            <p:cNvPr id="349" name=""/>
            <p:cNvSpPr/>
            <p:nvPr/>
          </p:nvSpPr>
          <p:spPr>
            <a:xfrm>
              <a:off x="6934320" y="1904760"/>
              <a:ext cx="0" cy="609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10080" y="1066680"/>
              <a:ext cx="3124440" cy="838080"/>
            </a:xfrm>
            <a:prstGeom prst="flowChartProcess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Update modifi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324480" y="5486400"/>
            <a:ext cx="1427760" cy="1066320"/>
            <a:chOff x="6324480" y="5486400"/>
            <a:chExt cx="1427760" cy="1066320"/>
          </a:xfrm>
        </p:grpSpPr>
        <p:grpSp>
          <p:nvGrpSpPr>
            <p:cNvPr id="352" name=""/>
            <p:cNvGrpSpPr/>
            <p:nvPr/>
          </p:nvGrpSpPr>
          <p:grpSpPr>
            <a:xfrm>
              <a:off x="6324480" y="5486400"/>
              <a:ext cx="1219320" cy="1066320"/>
              <a:chOff x="6324480" y="5486400"/>
              <a:chExt cx="1219320" cy="1066320"/>
            </a:xfrm>
          </p:grpSpPr>
          <p:sp>
            <p:nvSpPr>
              <p:cNvPr id="353" name=""/>
              <p:cNvSpPr/>
              <p:nvPr/>
            </p:nvSpPr>
            <p:spPr>
              <a:xfrm>
                <a:off x="6324480" y="6095880"/>
                <a:ext cx="1219320" cy="456840"/>
              </a:xfrm>
              <a:prstGeom prst="flowChartAlternateProcess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STO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934320" y="5486400"/>
                <a:ext cx="0" cy="609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7073280" y="5675040"/>
              <a:ext cx="6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410080" y="2286000"/>
            <a:ext cx="3124440" cy="1447920"/>
            <a:chOff x="5410080" y="2286000"/>
            <a:chExt cx="3124440" cy="1447920"/>
          </a:xfrm>
        </p:grpSpPr>
        <p:grpSp>
          <p:nvGrpSpPr>
            <p:cNvPr id="357" name=""/>
            <p:cNvGrpSpPr/>
            <p:nvPr/>
          </p:nvGrpSpPr>
          <p:grpSpPr>
            <a:xfrm>
              <a:off x="5410080" y="2286000"/>
              <a:ext cx="3124440" cy="1447920"/>
              <a:chOff x="5410080" y="2286000"/>
              <a:chExt cx="3124440" cy="1447920"/>
            </a:xfrm>
          </p:grpSpPr>
          <p:sp>
            <p:nvSpPr>
              <p:cNvPr id="358" name=""/>
              <p:cNvSpPr/>
              <p:nvPr/>
            </p:nvSpPr>
            <p:spPr>
              <a:xfrm>
                <a:off x="5410080" y="2286000"/>
                <a:ext cx="3124440" cy="838440"/>
              </a:xfrm>
              <a:prstGeom prst="flowChartProcess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Identify itineraries that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cause discrepancie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934320" y="3124440"/>
                <a:ext cx="0" cy="609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6996960" y="312444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N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267080" y="3505320"/>
            <a:ext cx="4038840" cy="2286000"/>
            <a:chOff x="4267080" y="3505320"/>
            <a:chExt cx="4038840" cy="2286000"/>
          </a:xfrm>
        </p:grpSpPr>
        <p:sp>
          <p:nvSpPr>
            <p:cNvPr id="362" name=""/>
            <p:cNvSpPr/>
            <p:nvPr/>
          </p:nvSpPr>
          <p:spPr>
            <a:xfrm>
              <a:off x="4952880" y="4648320"/>
              <a:ext cx="609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67080" y="541044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52880" y="4648320"/>
              <a:ext cx="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62720" y="3505320"/>
              <a:ext cx="2743200" cy="2286000"/>
            </a:xfrm>
            <a:prstGeom prst="flowChartDecision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Has th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stopping criter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been met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676520" y="1676520"/>
            <a:ext cx="2737440" cy="1678680"/>
            <a:chOff x="1676520" y="1676520"/>
            <a:chExt cx="2737440" cy="1678680"/>
          </a:xfrm>
        </p:grpSpPr>
        <p:grpSp>
          <p:nvGrpSpPr>
            <p:cNvPr id="367" name=""/>
            <p:cNvGrpSpPr/>
            <p:nvPr/>
          </p:nvGrpSpPr>
          <p:grpSpPr>
            <a:xfrm>
              <a:off x="1676520" y="1676520"/>
              <a:ext cx="2057400" cy="1218600"/>
              <a:chOff x="1676520" y="1676520"/>
              <a:chExt cx="2057400" cy="1218600"/>
            </a:xfrm>
          </p:grpSpPr>
          <p:sp>
            <p:nvSpPr>
              <p:cNvPr id="368" name=""/>
              <p:cNvSpPr/>
              <p:nvPr/>
            </p:nvSpPr>
            <p:spPr>
              <a:xfrm>
                <a:off x="1676520" y="2285640"/>
                <a:ext cx="2057400" cy="609480"/>
              </a:xfrm>
              <a:prstGeom prst="flowChartProcess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Solve I/ESD-FA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66880" y="1676520"/>
                <a:ext cx="0" cy="609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2678760" y="2895480"/>
              <a:ext cx="17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Contribution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143000" y="4343400"/>
            <a:ext cx="3270960" cy="1907640"/>
            <a:chOff x="1143000" y="4343400"/>
            <a:chExt cx="3270960" cy="1907640"/>
          </a:xfrm>
        </p:grpSpPr>
        <p:grpSp>
          <p:nvGrpSpPr>
            <p:cNvPr id="372" name=""/>
            <p:cNvGrpSpPr/>
            <p:nvPr/>
          </p:nvGrpSpPr>
          <p:grpSpPr>
            <a:xfrm>
              <a:off x="1143000" y="4343400"/>
              <a:ext cx="3124080" cy="1447920"/>
              <a:chOff x="1143000" y="4343400"/>
              <a:chExt cx="3124080" cy="1447920"/>
            </a:xfrm>
          </p:grpSpPr>
          <p:sp>
            <p:nvSpPr>
              <p:cNvPr id="373" name=""/>
              <p:cNvSpPr/>
              <p:nvPr/>
            </p:nvSpPr>
            <p:spPr>
              <a:xfrm>
                <a:off x="1143000" y="4953240"/>
                <a:ext cx="3124080" cy="838080"/>
              </a:xfrm>
              <a:prstGeom prst="flowChartProcess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Obtain revenue estimates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from PM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666880" y="4343400"/>
                <a:ext cx="0" cy="609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2678760" y="5791320"/>
              <a:ext cx="17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Contribution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2D5F-97F3-472F-9AB1-22EB7E0AE83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1099F-19F0-41CA-8598-B499AF6B5A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963/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he Schedule Design Problem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 Definition and Objecti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hedule Design with Constant Market Sh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hedule Design with Variable Market Sh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hedule Design Solution Algorith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xt Ste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Look to the Future in Airline Schedule Optimiz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41FA-FEFC-4B3E-BA12-869E618E220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D5CD0-84F3-437D-9DB2-C18287A97A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tate Of The Practice/ Theor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actic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st schedule decisions made without optimiz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t least one major airline uses Fleet Assignment with Time Window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mplementation of Incremental Schedule Design approach underway at a major airli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ory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els and algorithms for incremental schedule design have been developed and prototyp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lidation in progr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4B0-F4E3-468F-823F-7F7363286924}" type="slidenum">
              <a:t>2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5BD02-E104-4DE4-A61A-80B5EE0BE9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ational Experienc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D-FAM requires long runtimes and large amounts of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~ 40 minutes on a workstation class computer for medium size (800 legs) schedul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~ 20 hours on a 6-processor workstation, running parallel CPLEX for full size (2,000 legs) schedu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D-FAM takes even longer runtimes and exhausts the memory in some c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0 mins (ISD-FAM) vs. 12 hrs (ESD-FAM) on same medium size schedu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FC5-C105-419B-A855-A0510918E37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4A52D-16E3-4EA0-BB4C-29BA7454A9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 Design: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mand and supply intera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D-FAM captures interactions more accurat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ulting schedules operate fewer fligh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wer operating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wer aircraft requi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~$100 - $350 million improvement annua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ared 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lanners’ schedu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lude benefits from saved aircraf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D995-8281-4079-922D-6612E5AD3F7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E21C3-05CA-4BA1-8B21-E476641F89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 Design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ults are subject to several cavea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ns are often disrup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etitors’ respon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lying assump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terministic dema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timal control of passeng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mand foreca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apture rates/Demand correction ter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netheless, significant improvements are achiev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D01D-D35A-4672-86B1-1BF710BF952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DA8F2-163B-4C83-8BFF-553B71BC73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otential for Improved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lace IFAM with SF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8229600" cy="42256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7391520" y="3124080"/>
            <a:ext cx="4572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33cc"/>
                </a:solidFill>
                <a:latin typeface="Garamond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4CA2-3966-40DD-96E4-B92C7FB61F5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8F334-C396-4C90-8CEE-DA29FE3922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FAM Basic Concep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olate network eff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ill occurs only on </a:t>
            </a:r>
            <a:r>
              <a:rPr b="0" i="1" lang="en-US" sz="2800" spc="-1" strike="noStrike">
                <a:solidFill>
                  <a:srgbClr val="ffff00"/>
                </a:solidFill>
                <a:latin typeface="Garamond"/>
              </a:rPr>
              <a:t>constrained le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1112760" y="2317680"/>
            <a:ext cx="2656080" cy="3355920"/>
            <a:chOff x="1112760" y="2317680"/>
            <a:chExt cx="2656080" cy="3355920"/>
          </a:xfrm>
        </p:grpSpPr>
        <p:sp>
          <p:nvSpPr>
            <p:cNvPr id="392" name=""/>
            <p:cNvSpPr/>
            <p:nvPr/>
          </p:nvSpPr>
          <p:spPr>
            <a:xfrm>
              <a:off x="1112760" y="2317680"/>
              <a:ext cx="2656080" cy="3355920"/>
            </a:xfrm>
            <a:prstGeom prst="rect">
              <a:avLst/>
            </a:prstGeom>
            <a:solidFill>
              <a:srgbClr val="ccffcc"/>
            </a:solidFill>
            <a:ln w="65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1527120" y="2571840"/>
              <a:ext cx="552600" cy="768240"/>
              <a:chOff x="1527120" y="2571840"/>
              <a:chExt cx="552600" cy="768240"/>
            </a:xfrm>
          </p:grpSpPr>
          <p:sp>
            <p:nvSpPr>
              <p:cNvPr id="394" name=""/>
              <p:cNvSpPr/>
              <p:nvPr/>
            </p:nvSpPr>
            <p:spPr>
              <a:xfrm>
                <a:off x="1547640" y="2577960"/>
                <a:ext cx="508320" cy="739800"/>
              </a:xfrm>
              <a:custGeom>
                <a:avLst/>
                <a:gdLst/>
                <a:ahLst/>
                <a:rect l="l" t="t" r="r" b="b"/>
                <a:pathLst>
                  <a:path w="1918" h="2330">
                    <a:moveTo>
                      <a:pt x="0" y="467"/>
                    </a:moveTo>
                    <a:lnTo>
                      <a:pt x="173" y="423"/>
                    </a:lnTo>
                    <a:lnTo>
                      <a:pt x="291" y="500"/>
                    </a:lnTo>
                    <a:lnTo>
                      <a:pt x="335" y="657"/>
                    </a:lnTo>
                    <a:lnTo>
                      <a:pt x="321" y="857"/>
                    </a:lnTo>
                    <a:lnTo>
                      <a:pt x="847" y="911"/>
                    </a:lnTo>
                    <a:lnTo>
                      <a:pt x="1134" y="34"/>
                    </a:lnTo>
                    <a:lnTo>
                      <a:pt x="1209" y="0"/>
                    </a:lnTo>
                    <a:lnTo>
                      <a:pt x="1302" y="11"/>
                    </a:lnTo>
                    <a:lnTo>
                      <a:pt x="1365" y="74"/>
                    </a:lnTo>
                    <a:lnTo>
                      <a:pt x="1393" y="230"/>
                    </a:lnTo>
                    <a:lnTo>
                      <a:pt x="1344" y="705"/>
                    </a:lnTo>
                    <a:lnTo>
                      <a:pt x="1312" y="984"/>
                    </a:lnTo>
                    <a:lnTo>
                      <a:pt x="1658" y="1064"/>
                    </a:lnTo>
                    <a:lnTo>
                      <a:pt x="1827" y="1139"/>
                    </a:lnTo>
                    <a:lnTo>
                      <a:pt x="1918" y="1253"/>
                    </a:lnTo>
                    <a:lnTo>
                      <a:pt x="1900" y="1342"/>
                    </a:lnTo>
                    <a:lnTo>
                      <a:pt x="1795" y="1406"/>
                    </a:lnTo>
                    <a:lnTo>
                      <a:pt x="1228" y="1334"/>
                    </a:lnTo>
                    <a:lnTo>
                      <a:pt x="1029" y="1953"/>
                    </a:lnTo>
                    <a:lnTo>
                      <a:pt x="929" y="2203"/>
                    </a:lnTo>
                    <a:lnTo>
                      <a:pt x="824" y="2330"/>
                    </a:lnTo>
                    <a:lnTo>
                      <a:pt x="636" y="2305"/>
                    </a:lnTo>
                    <a:lnTo>
                      <a:pt x="591" y="2162"/>
                    </a:lnTo>
                    <a:lnTo>
                      <a:pt x="749" y="1284"/>
                    </a:lnTo>
                    <a:lnTo>
                      <a:pt x="65" y="993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544760" y="2736720"/>
                <a:ext cx="501480" cy="276480"/>
              </a:xfrm>
              <a:custGeom>
                <a:avLst/>
                <a:gdLst/>
                <a:ahLst/>
                <a:rect l="l" t="t" r="r" b="b"/>
                <a:pathLst>
                  <a:path w="1898" h="871">
                    <a:moveTo>
                      <a:pt x="1898" y="806"/>
                    </a:moveTo>
                    <a:lnTo>
                      <a:pt x="290" y="457"/>
                    </a:lnTo>
                    <a:lnTo>
                      <a:pt x="230" y="122"/>
                    </a:lnTo>
                    <a:lnTo>
                      <a:pt x="0" y="0"/>
                    </a:lnTo>
                    <a:lnTo>
                      <a:pt x="40" y="444"/>
                    </a:lnTo>
                    <a:lnTo>
                      <a:pt x="383" y="643"/>
                    </a:lnTo>
                    <a:lnTo>
                      <a:pt x="1658" y="871"/>
                    </a:lnTo>
                    <a:lnTo>
                      <a:pt x="1857" y="855"/>
                    </a:lnTo>
                    <a:lnTo>
                      <a:pt x="1898" y="806"/>
                    </a:lnTo>
                    <a:lnTo>
                      <a:pt x="1898" y="806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946160" y="294156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01" h="97">
                    <a:moveTo>
                      <a:pt x="38" y="96"/>
                    </a:moveTo>
                    <a:lnTo>
                      <a:pt x="19" y="87"/>
                    </a:lnTo>
                    <a:lnTo>
                      <a:pt x="6" y="73"/>
                    </a:lnTo>
                    <a:lnTo>
                      <a:pt x="0" y="55"/>
                    </a:lnTo>
                    <a:lnTo>
                      <a:pt x="0" y="35"/>
                    </a:lnTo>
                    <a:lnTo>
                      <a:pt x="10" y="17"/>
                    </a:lnTo>
                    <a:lnTo>
                      <a:pt x="18" y="13"/>
                    </a:lnTo>
                    <a:lnTo>
                      <a:pt x="24" y="7"/>
                    </a:lnTo>
                    <a:lnTo>
                      <a:pt x="34" y="3"/>
                    </a:lnTo>
                    <a:lnTo>
                      <a:pt x="43" y="0"/>
                    </a:lnTo>
                    <a:lnTo>
                      <a:pt x="53" y="1"/>
                    </a:lnTo>
                    <a:lnTo>
                      <a:pt x="65" y="3"/>
                    </a:lnTo>
                    <a:lnTo>
                      <a:pt x="83" y="11"/>
                    </a:lnTo>
                    <a:lnTo>
                      <a:pt x="95" y="25"/>
                    </a:lnTo>
                    <a:lnTo>
                      <a:pt x="101" y="42"/>
                    </a:lnTo>
                    <a:lnTo>
                      <a:pt x="101" y="62"/>
                    </a:lnTo>
                    <a:lnTo>
                      <a:pt x="91" y="79"/>
                    </a:lnTo>
                    <a:lnTo>
                      <a:pt x="85" y="85"/>
                    </a:lnTo>
                    <a:lnTo>
                      <a:pt x="76" y="91"/>
                    </a:lnTo>
                    <a:lnTo>
                      <a:pt x="68" y="95"/>
                    </a:lnTo>
                    <a:lnTo>
                      <a:pt x="57" y="96"/>
                    </a:lnTo>
                    <a:lnTo>
                      <a:pt x="48" y="97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93960" y="2930400"/>
                <a:ext cx="25200" cy="32040"/>
              </a:xfrm>
              <a:custGeom>
                <a:avLst/>
                <a:gdLst/>
                <a:ahLst/>
                <a:rect l="l" t="t" r="r" b="b"/>
                <a:pathLst>
                  <a:path w="101" h="98">
                    <a:moveTo>
                      <a:pt x="38" y="96"/>
                    </a:moveTo>
                    <a:lnTo>
                      <a:pt x="20" y="88"/>
                    </a:lnTo>
                    <a:lnTo>
                      <a:pt x="7" y="73"/>
                    </a:lnTo>
                    <a:lnTo>
                      <a:pt x="0" y="56"/>
                    </a:lnTo>
                    <a:lnTo>
                      <a:pt x="2" y="35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3" y="0"/>
                    </a:lnTo>
                    <a:lnTo>
                      <a:pt x="54" y="1"/>
                    </a:lnTo>
                    <a:lnTo>
                      <a:pt x="65" y="1"/>
                    </a:lnTo>
                    <a:lnTo>
                      <a:pt x="82" y="10"/>
                    </a:lnTo>
                    <a:lnTo>
                      <a:pt x="95" y="25"/>
                    </a:lnTo>
                    <a:lnTo>
                      <a:pt x="101" y="42"/>
                    </a:lnTo>
                    <a:lnTo>
                      <a:pt x="100" y="61"/>
                    </a:lnTo>
                    <a:lnTo>
                      <a:pt x="91" y="79"/>
                    </a:lnTo>
                    <a:lnTo>
                      <a:pt x="85" y="85"/>
                    </a:lnTo>
                    <a:lnTo>
                      <a:pt x="76" y="92"/>
                    </a:lnTo>
                    <a:lnTo>
                      <a:pt x="67" y="95"/>
                    </a:lnTo>
                    <a:lnTo>
                      <a:pt x="57" y="96"/>
                    </a:lnTo>
                    <a:lnTo>
                      <a:pt x="49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39960" y="2919240"/>
                <a:ext cx="27000" cy="32040"/>
              </a:xfrm>
              <a:custGeom>
                <a:avLst/>
                <a:gdLst/>
                <a:ahLst/>
                <a:rect l="l" t="t" r="r" b="b"/>
                <a:pathLst>
                  <a:path w="103" h="98">
                    <a:moveTo>
                      <a:pt x="38" y="95"/>
                    </a:moveTo>
                    <a:lnTo>
                      <a:pt x="18" y="87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9"/>
                    </a:lnTo>
                    <a:lnTo>
                      <a:pt x="17" y="12"/>
                    </a:lnTo>
                    <a:lnTo>
                      <a:pt x="25" y="7"/>
                    </a:lnTo>
                    <a:lnTo>
                      <a:pt x="33" y="3"/>
                    </a:lnTo>
                    <a:lnTo>
                      <a:pt x="43" y="1"/>
                    </a:lnTo>
                    <a:lnTo>
                      <a:pt x="54" y="0"/>
                    </a:lnTo>
                    <a:lnTo>
                      <a:pt x="64" y="2"/>
                    </a:lnTo>
                    <a:lnTo>
                      <a:pt x="82" y="11"/>
                    </a:lnTo>
                    <a:lnTo>
                      <a:pt x="95" y="26"/>
                    </a:lnTo>
                    <a:lnTo>
                      <a:pt x="103" y="43"/>
                    </a:lnTo>
                    <a:lnTo>
                      <a:pt x="100" y="62"/>
                    </a:lnTo>
                    <a:lnTo>
                      <a:pt x="92" y="80"/>
                    </a:lnTo>
                    <a:lnTo>
                      <a:pt x="85" y="86"/>
                    </a:lnTo>
                    <a:lnTo>
                      <a:pt x="77" y="92"/>
                    </a:lnTo>
                    <a:lnTo>
                      <a:pt x="67" y="95"/>
                    </a:lnTo>
                    <a:lnTo>
                      <a:pt x="58" y="98"/>
                    </a:lnTo>
                    <a:lnTo>
                      <a:pt x="47" y="98"/>
                    </a:lnTo>
                    <a:lnTo>
                      <a:pt x="38" y="95"/>
                    </a:lnTo>
                    <a:lnTo>
                      <a:pt x="38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787400" y="290988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02" h="97">
                    <a:moveTo>
                      <a:pt x="37" y="94"/>
                    </a:moveTo>
                    <a:lnTo>
                      <a:pt x="19" y="86"/>
                    </a:lnTo>
                    <a:lnTo>
                      <a:pt x="7" y="73"/>
                    </a:lnTo>
                    <a:lnTo>
                      <a:pt x="0" y="55"/>
                    </a:lnTo>
                    <a:lnTo>
                      <a:pt x="1" y="35"/>
                    </a:lnTo>
                    <a:lnTo>
                      <a:pt x="10" y="18"/>
                    </a:lnTo>
                    <a:lnTo>
                      <a:pt x="17" y="12"/>
                    </a:lnTo>
                    <a:lnTo>
                      <a:pt x="26" y="7"/>
                    </a:lnTo>
                    <a:lnTo>
                      <a:pt x="34" y="2"/>
                    </a:lnTo>
                    <a:lnTo>
                      <a:pt x="44" y="0"/>
                    </a:lnTo>
                    <a:lnTo>
                      <a:pt x="54" y="0"/>
                    </a:lnTo>
                    <a:lnTo>
                      <a:pt x="64" y="1"/>
                    </a:lnTo>
                    <a:lnTo>
                      <a:pt x="82" y="11"/>
                    </a:lnTo>
                    <a:lnTo>
                      <a:pt x="96" y="25"/>
                    </a:lnTo>
                    <a:lnTo>
                      <a:pt x="102" y="43"/>
                    </a:lnTo>
                    <a:lnTo>
                      <a:pt x="100" y="61"/>
                    </a:lnTo>
                    <a:lnTo>
                      <a:pt x="92" y="79"/>
                    </a:lnTo>
                    <a:lnTo>
                      <a:pt x="84" y="85"/>
                    </a:lnTo>
                    <a:lnTo>
                      <a:pt x="78" y="90"/>
                    </a:lnTo>
                    <a:lnTo>
                      <a:pt x="67" y="94"/>
                    </a:lnTo>
                    <a:lnTo>
                      <a:pt x="59" y="97"/>
                    </a:lnTo>
                    <a:lnTo>
                      <a:pt x="49" y="96"/>
                    </a:lnTo>
                    <a:lnTo>
                      <a:pt x="37" y="94"/>
                    </a:lnTo>
                    <a:lnTo>
                      <a:pt x="3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733400" y="289872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02" h="96">
                    <a:moveTo>
                      <a:pt x="37" y="95"/>
                    </a:moveTo>
                    <a:lnTo>
                      <a:pt x="20" y="85"/>
                    </a:lnTo>
                    <a:lnTo>
                      <a:pt x="6" y="72"/>
                    </a:lnTo>
                    <a:lnTo>
                      <a:pt x="0" y="53"/>
                    </a:lnTo>
                    <a:lnTo>
                      <a:pt x="2" y="35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5" y="6"/>
                    </a:lnTo>
                    <a:lnTo>
                      <a:pt x="34" y="2"/>
                    </a:lnTo>
                    <a:lnTo>
                      <a:pt x="44" y="0"/>
                    </a:lnTo>
                    <a:lnTo>
                      <a:pt x="53" y="0"/>
                    </a:lnTo>
                    <a:lnTo>
                      <a:pt x="64" y="2"/>
                    </a:lnTo>
                    <a:lnTo>
                      <a:pt x="82" y="11"/>
                    </a:lnTo>
                    <a:lnTo>
                      <a:pt x="96" y="23"/>
                    </a:lnTo>
                    <a:lnTo>
                      <a:pt x="102" y="41"/>
                    </a:lnTo>
                    <a:lnTo>
                      <a:pt x="101" y="61"/>
                    </a:lnTo>
                    <a:lnTo>
                      <a:pt x="92" y="78"/>
                    </a:lnTo>
                    <a:lnTo>
                      <a:pt x="84" y="84"/>
                    </a:lnTo>
                    <a:lnTo>
                      <a:pt x="77" y="90"/>
                    </a:lnTo>
                    <a:lnTo>
                      <a:pt x="67" y="94"/>
                    </a:lnTo>
                    <a:lnTo>
                      <a:pt x="58" y="96"/>
                    </a:lnTo>
                    <a:lnTo>
                      <a:pt x="48" y="96"/>
                    </a:lnTo>
                    <a:lnTo>
                      <a:pt x="37" y="95"/>
                    </a:lnTo>
                    <a:lnTo>
                      <a:pt x="3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681200" y="288756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01" h="98">
                    <a:moveTo>
                      <a:pt x="37" y="96"/>
                    </a:moveTo>
                    <a:lnTo>
                      <a:pt x="19" y="87"/>
                    </a:lnTo>
                    <a:lnTo>
                      <a:pt x="6" y="72"/>
                    </a:lnTo>
                    <a:lnTo>
                      <a:pt x="0" y="55"/>
                    </a:lnTo>
                    <a:lnTo>
                      <a:pt x="0" y="36"/>
                    </a:lnTo>
                    <a:lnTo>
                      <a:pt x="10" y="18"/>
                    </a:lnTo>
                    <a:lnTo>
                      <a:pt x="16" y="12"/>
                    </a:lnTo>
                    <a:lnTo>
                      <a:pt x="24" y="7"/>
                    </a:lnTo>
                    <a:lnTo>
                      <a:pt x="34" y="3"/>
                    </a:lnTo>
                    <a:lnTo>
                      <a:pt x="43" y="0"/>
                    </a:lnTo>
                    <a:lnTo>
                      <a:pt x="53" y="1"/>
                    </a:lnTo>
                    <a:lnTo>
                      <a:pt x="63" y="3"/>
                    </a:lnTo>
                    <a:lnTo>
                      <a:pt x="82" y="11"/>
                    </a:lnTo>
                    <a:lnTo>
                      <a:pt x="95" y="25"/>
                    </a:lnTo>
                    <a:lnTo>
                      <a:pt x="101" y="42"/>
                    </a:lnTo>
                    <a:lnTo>
                      <a:pt x="100" y="62"/>
                    </a:lnTo>
                    <a:lnTo>
                      <a:pt x="90" y="79"/>
                    </a:lnTo>
                    <a:lnTo>
                      <a:pt x="84" y="85"/>
                    </a:lnTo>
                    <a:lnTo>
                      <a:pt x="76" y="92"/>
                    </a:lnTo>
                    <a:lnTo>
                      <a:pt x="68" y="95"/>
                    </a:lnTo>
                    <a:lnTo>
                      <a:pt x="57" y="97"/>
                    </a:lnTo>
                    <a:lnTo>
                      <a:pt x="48" y="98"/>
                    </a:lnTo>
                    <a:lnTo>
                      <a:pt x="37" y="96"/>
                    </a:lnTo>
                    <a:lnTo>
                      <a:pt x="37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627200" y="2876400"/>
                <a:ext cx="27000" cy="32040"/>
              </a:xfrm>
              <a:custGeom>
                <a:avLst/>
                <a:gdLst/>
                <a:ahLst/>
                <a:rect l="l" t="t" r="r" b="b"/>
                <a:pathLst>
                  <a:path w="101" h="99">
                    <a:moveTo>
                      <a:pt x="38" y="96"/>
                    </a:moveTo>
                    <a:lnTo>
                      <a:pt x="20" y="88"/>
                    </a:lnTo>
                    <a:lnTo>
                      <a:pt x="6" y="73"/>
                    </a:lnTo>
                    <a:lnTo>
                      <a:pt x="0" y="56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3"/>
                    </a:lnTo>
                    <a:lnTo>
                      <a:pt x="25" y="8"/>
                    </a:lnTo>
                    <a:lnTo>
                      <a:pt x="35" y="3"/>
                    </a:lnTo>
                    <a:lnTo>
                      <a:pt x="43" y="2"/>
                    </a:lnTo>
                    <a:lnTo>
                      <a:pt x="53" y="0"/>
                    </a:lnTo>
                    <a:lnTo>
                      <a:pt x="62" y="2"/>
                    </a:lnTo>
                    <a:lnTo>
                      <a:pt x="82" y="11"/>
                    </a:lnTo>
                    <a:lnTo>
                      <a:pt x="94" y="26"/>
                    </a:lnTo>
                    <a:lnTo>
                      <a:pt x="101" y="43"/>
                    </a:lnTo>
                    <a:lnTo>
                      <a:pt x="100" y="63"/>
                    </a:lnTo>
                    <a:lnTo>
                      <a:pt x="91" y="80"/>
                    </a:lnTo>
                    <a:lnTo>
                      <a:pt x="85" y="86"/>
                    </a:lnTo>
                    <a:lnTo>
                      <a:pt x="75" y="92"/>
                    </a:lnTo>
                    <a:lnTo>
                      <a:pt x="67" y="96"/>
                    </a:lnTo>
                    <a:lnTo>
                      <a:pt x="57" y="98"/>
                    </a:lnTo>
                    <a:lnTo>
                      <a:pt x="47" y="99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754280" y="2571840"/>
                <a:ext cx="168120" cy="326880"/>
              </a:xfrm>
              <a:custGeom>
                <a:avLst/>
                <a:gdLst/>
                <a:ahLst/>
                <a:rect l="l" t="t" r="r" b="b"/>
                <a:pathLst>
                  <a:path w="636" h="1031">
                    <a:moveTo>
                      <a:pt x="0" y="944"/>
                    </a:moveTo>
                    <a:lnTo>
                      <a:pt x="23" y="804"/>
                    </a:lnTo>
                    <a:lnTo>
                      <a:pt x="52" y="661"/>
                    </a:lnTo>
                    <a:lnTo>
                      <a:pt x="72" y="579"/>
                    </a:lnTo>
                    <a:lnTo>
                      <a:pt x="94" y="494"/>
                    </a:lnTo>
                    <a:lnTo>
                      <a:pt x="121" y="409"/>
                    </a:lnTo>
                    <a:lnTo>
                      <a:pt x="150" y="326"/>
                    </a:lnTo>
                    <a:lnTo>
                      <a:pt x="166" y="285"/>
                    </a:lnTo>
                    <a:lnTo>
                      <a:pt x="183" y="247"/>
                    </a:lnTo>
                    <a:lnTo>
                      <a:pt x="201" y="209"/>
                    </a:lnTo>
                    <a:lnTo>
                      <a:pt x="219" y="174"/>
                    </a:lnTo>
                    <a:lnTo>
                      <a:pt x="239" y="142"/>
                    </a:lnTo>
                    <a:lnTo>
                      <a:pt x="258" y="113"/>
                    </a:lnTo>
                    <a:lnTo>
                      <a:pt x="303" y="60"/>
                    </a:lnTo>
                    <a:lnTo>
                      <a:pt x="314" y="50"/>
                    </a:lnTo>
                    <a:lnTo>
                      <a:pt x="325" y="40"/>
                    </a:lnTo>
                    <a:lnTo>
                      <a:pt x="350" y="24"/>
                    </a:lnTo>
                    <a:lnTo>
                      <a:pt x="374" y="13"/>
                    </a:lnTo>
                    <a:lnTo>
                      <a:pt x="401" y="5"/>
                    </a:lnTo>
                    <a:lnTo>
                      <a:pt x="474" y="0"/>
                    </a:lnTo>
                    <a:lnTo>
                      <a:pt x="544" y="19"/>
                    </a:lnTo>
                    <a:lnTo>
                      <a:pt x="573" y="43"/>
                    </a:lnTo>
                    <a:lnTo>
                      <a:pt x="588" y="60"/>
                    </a:lnTo>
                    <a:lnTo>
                      <a:pt x="599" y="81"/>
                    </a:lnTo>
                    <a:lnTo>
                      <a:pt x="636" y="199"/>
                    </a:lnTo>
                    <a:lnTo>
                      <a:pt x="634" y="412"/>
                    </a:lnTo>
                    <a:lnTo>
                      <a:pt x="600" y="690"/>
                    </a:lnTo>
                    <a:lnTo>
                      <a:pt x="561" y="929"/>
                    </a:lnTo>
                    <a:lnTo>
                      <a:pt x="542" y="1031"/>
                    </a:lnTo>
                    <a:lnTo>
                      <a:pt x="488" y="1030"/>
                    </a:lnTo>
                    <a:lnTo>
                      <a:pt x="511" y="910"/>
                    </a:lnTo>
                    <a:lnTo>
                      <a:pt x="554" y="638"/>
                    </a:lnTo>
                    <a:lnTo>
                      <a:pt x="585" y="338"/>
                    </a:lnTo>
                    <a:lnTo>
                      <a:pt x="585" y="218"/>
                    </a:lnTo>
                    <a:lnTo>
                      <a:pt x="580" y="172"/>
                    </a:lnTo>
                    <a:lnTo>
                      <a:pt x="570" y="139"/>
                    </a:lnTo>
                    <a:lnTo>
                      <a:pt x="544" y="94"/>
                    </a:lnTo>
                    <a:lnTo>
                      <a:pt x="530" y="78"/>
                    </a:lnTo>
                    <a:lnTo>
                      <a:pt x="516" y="65"/>
                    </a:lnTo>
                    <a:lnTo>
                      <a:pt x="488" y="47"/>
                    </a:lnTo>
                    <a:lnTo>
                      <a:pt x="464" y="39"/>
                    </a:lnTo>
                    <a:lnTo>
                      <a:pt x="424" y="40"/>
                    </a:lnTo>
                    <a:lnTo>
                      <a:pt x="408" y="46"/>
                    </a:lnTo>
                    <a:lnTo>
                      <a:pt x="461" y="166"/>
                    </a:lnTo>
                    <a:lnTo>
                      <a:pt x="362" y="209"/>
                    </a:lnTo>
                    <a:lnTo>
                      <a:pt x="439" y="293"/>
                    </a:lnTo>
                    <a:lnTo>
                      <a:pt x="334" y="359"/>
                    </a:lnTo>
                    <a:lnTo>
                      <a:pt x="430" y="472"/>
                    </a:lnTo>
                    <a:lnTo>
                      <a:pt x="307" y="552"/>
                    </a:lnTo>
                    <a:lnTo>
                      <a:pt x="381" y="671"/>
                    </a:lnTo>
                    <a:lnTo>
                      <a:pt x="272" y="748"/>
                    </a:lnTo>
                    <a:lnTo>
                      <a:pt x="343" y="1010"/>
                    </a:lnTo>
                    <a:lnTo>
                      <a:pt x="0" y="944"/>
                    </a:lnTo>
                    <a:lnTo>
                      <a:pt x="0" y="9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687680" y="2952720"/>
                <a:ext cx="191880" cy="387360"/>
              </a:xfrm>
              <a:custGeom>
                <a:avLst/>
                <a:gdLst/>
                <a:ahLst/>
                <a:rect l="l" t="t" r="r" b="b"/>
                <a:pathLst>
                  <a:path w="724" h="1220">
                    <a:moveTo>
                      <a:pt x="178" y="0"/>
                    </a:moveTo>
                    <a:lnTo>
                      <a:pt x="164" y="45"/>
                    </a:lnTo>
                    <a:lnTo>
                      <a:pt x="132" y="166"/>
                    </a:lnTo>
                    <a:lnTo>
                      <a:pt x="110" y="247"/>
                    </a:lnTo>
                    <a:lnTo>
                      <a:pt x="89" y="338"/>
                    </a:lnTo>
                    <a:lnTo>
                      <a:pt x="46" y="541"/>
                    </a:lnTo>
                    <a:lnTo>
                      <a:pt x="14" y="748"/>
                    </a:lnTo>
                    <a:lnTo>
                      <a:pt x="4" y="846"/>
                    </a:lnTo>
                    <a:lnTo>
                      <a:pt x="0" y="938"/>
                    </a:lnTo>
                    <a:lnTo>
                      <a:pt x="5" y="1020"/>
                    </a:lnTo>
                    <a:lnTo>
                      <a:pt x="17" y="1089"/>
                    </a:lnTo>
                    <a:lnTo>
                      <a:pt x="40" y="1143"/>
                    </a:lnTo>
                    <a:lnTo>
                      <a:pt x="56" y="1162"/>
                    </a:lnTo>
                    <a:lnTo>
                      <a:pt x="74" y="1177"/>
                    </a:lnTo>
                    <a:lnTo>
                      <a:pt x="98" y="1190"/>
                    </a:lnTo>
                    <a:lnTo>
                      <a:pt x="121" y="1202"/>
                    </a:lnTo>
                    <a:lnTo>
                      <a:pt x="165" y="1219"/>
                    </a:lnTo>
                    <a:lnTo>
                      <a:pt x="252" y="1220"/>
                    </a:lnTo>
                    <a:lnTo>
                      <a:pt x="294" y="1202"/>
                    </a:lnTo>
                    <a:lnTo>
                      <a:pt x="318" y="1187"/>
                    </a:lnTo>
                    <a:lnTo>
                      <a:pt x="339" y="1169"/>
                    </a:lnTo>
                    <a:lnTo>
                      <a:pt x="364" y="1147"/>
                    </a:lnTo>
                    <a:lnTo>
                      <a:pt x="375" y="1135"/>
                    </a:lnTo>
                    <a:lnTo>
                      <a:pt x="388" y="1121"/>
                    </a:lnTo>
                    <a:lnTo>
                      <a:pt x="439" y="1054"/>
                    </a:lnTo>
                    <a:lnTo>
                      <a:pt x="467" y="1011"/>
                    </a:lnTo>
                    <a:lnTo>
                      <a:pt x="492" y="954"/>
                    </a:lnTo>
                    <a:lnTo>
                      <a:pt x="519" y="890"/>
                    </a:lnTo>
                    <a:lnTo>
                      <a:pt x="545" y="817"/>
                    </a:lnTo>
                    <a:lnTo>
                      <a:pt x="569" y="738"/>
                    </a:lnTo>
                    <a:lnTo>
                      <a:pt x="592" y="658"/>
                    </a:lnTo>
                    <a:lnTo>
                      <a:pt x="636" y="490"/>
                    </a:lnTo>
                    <a:lnTo>
                      <a:pt x="672" y="332"/>
                    </a:lnTo>
                    <a:lnTo>
                      <a:pt x="700" y="200"/>
                    </a:lnTo>
                    <a:lnTo>
                      <a:pt x="724" y="76"/>
                    </a:lnTo>
                    <a:lnTo>
                      <a:pt x="669" y="55"/>
                    </a:lnTo>
                    <a:lnTo>
                      <a:pt x="648" y="150"/>
                    </a:lnTo>
                    <a:lnTo>
                      <a:pt x="624" y="251"/>
                    </a:lnTo>
                    <a:lnTo>
                      <a:pt x="593" y="376"/>
                    </a:lnTo>
                    <a:lnTo>
                      <a:pt x="557" y="514"/>
                    </a:lnTo>
                    <a:lnTo>
                      <a:pt x="519" y="652"/>
                    </a:lnTo>
                    <a:lnTo>
                      <a:pt x="498" y="720"/>
                    </a:lnTo>
                    <a:lnTo>
                      <a:pt x="476" y="783"/>
                    </a:lnTo>
                    <a:lnTo>
                      <a:pt x="455" y="842"/>
                    </a:lnTo>
                    <a:lnTo>
                      <a:pt x="435" y="895"/>
                    </a:lnTo>
                    <a:lnTo>
                      <a:pt x="412" y="939"/>
                    </a:lnTo>
                    <a:lnTo>
                      <a:pt x="391" y="977"/>
                    </a:lnTo>
                    <a:lnTo>
                      <a:pt x="369" y="1009"/>
                    </a:lnTo>
                    <a:lnTo>
                      <a:pt x="346" y="1034"/>
                    </a:lnTo>
                    <a:lnTo>
                      <a:pt x="335" y="1045"/>
                    </a:lnTo>
                    <a:lnTo>
                      <a:pt x="323" y="1053"/>
                    </a:lnTo>
                    <a:lnTo>
                      <a:pt x="303" y="1069"/>
                    </a:lnTo>
                    <a:lnTo>
                      <a:pt x="280" y="1080"/>
                    </a:lnTo>
                    <a:lnTo>
                      <a:pt x="262" y="1087"/>
                    </a:lnTo>
                    <a:lnTo>
                      <a:pt x="198" y="1089"/>
                    </a:lnTo>
                    <a:lnTo>
                      <a:pt x="173" y="1083"/>
                    </a:lnTo>
                    <a:lnTo>
                      <a:pt x="309" y="877"/>
                    </a:lnTo>
                    <a:lnTo>
                      <a:pt x="178" y="729"/>
                    </a:lnTo>
                    <a:lnTo>
                      <a:pt x="353" y="656"/>
                    </a:lnTo>
                    <a:lnTo>
                      <a:pt x="213" y="466"/>
                    </a:lnTo>
                    <a:lnTo>
                      <a:pt x="416" y="383"/>
                    </a:lnTo>
                    <a:lnTo>
                      <a:pt x="278" y="191"/>
                    </a:lnTo>
                    <a:lnTo>
                      <a:pt x="500" y="58"/>
                    </a:lnTo>
                    <a:lnTo>
                      <a:pt x="178" y="0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7120" y="2705040"/>
                <a:ext cx="552600" cy="354240"/>
              </a:xfrm>
              <a:custGeom>
                <a:avLst/>
                <a:gdLst/>
                <a:ahLst/>
                <a:rect l="l" t="t" r="r" b="b"/>
                <a:pathLst>
                  <a:path w="2084" h="1113">
                    <a:moveTo>
                      <a:pt x="401" y="440"/>
                    </a:moveTo>
                    <a:lnTo>
                      <a:pt x="368" y="477"/>
                    </a:lnTo>
                    <a:lnTo>
                      <a:pt x="588" y="504"/>
                    </a:lnTo>
                    <a:lnTo>
                      <a:pt x="814" y="534"/>
                    </a:lnTo>
                    <a:lnTo>
                      <a:pt x="1077" y="570"/>
                    </a:lnTo>
                    <a:lnTo>
                      <a:pt x="1344" y="613"/>
                    </a:lnTo>
                    <a:lnTo>
                      <a:pt x="1471" y="636"/>
                    </a:lnTo>
                    <a:lnTo>
                      <a:pt x="1586" y="660"/>
                    </a:lnTo>
                    <a:lnTo>
                      <a:pt x="1685" y="684"/>
                    </a:lnTo>
                    <a:lnTo>
                      <a:pt x="1767" y="707"/>
                    </a:lnTo>
                    <a:lnTo>
                      <a:pt x="1839" y="740"/>
                    </a:lnTo>
                    <a:lnTo>
                      <a:pt x="1880" y="768"/>
                    </a:lnTo>
                    <a:lnTo>
                      <a:pt x="1900" y="790"/>
                    </a:lnTo>
                    <a:lnTo>
                      <a:pt x="1915" y="810"/>
                    </a:lnTo>
                    <a:lnTo>
                      <a:pt x="1933" y="840"/>
                    </a:lnTo>
                    <a:lnTo>
                      <a:pt x="1945" y="867"/>
                    </a:lnTo>
                    <a:lnTo>
                      <a:pt x="1945" y="904"/>
                    </a:lnTo>
                    <a:lnTo>
                      <a:pt x="1930" y="923"/>
                    </a:lnTo>
                    <a:lnTo>
                      <a:pt x="1916" y="935"/>
                    </a:lnTo>
                    <a:lnTo>
                      <a:pt x="1898" y="941"/>
                    </a:lnTo>
                    <a:lnTo>
                      <a:pt x="1863" y="941"/>
                    </a:lnTo>
                    <a:lnTo>
                      <a:pt x="1810" y="940"/>
                    </a:lnTo>
                    <a:lnTo>
                      <a:pt x="1732" y="927"/>
                    </a:lnTo>
                    <a:lnTo>
                      <a:pt x="1630" y="908"/>
                    </a:lnTo>
                    <a:lnTo>
                      <a:pt x="1509" y="887"/>
                    </a:lnTo>
                    <a:lnTo>
                      <a:pt x="1376" y="860"/>
                    </a:lnTo>
                    <a:lnTo>
                      <a:pt x="1236" y="833"/>
                    </a:lnTo>
                    <a:lnTo>
                      <a:pt x="1093" y="804"/>
                    </a:lnTo>
                    <a:lnTo>
                      <a:pt x="949" y="773"/>
                    </a:lnTo>
                    <a:lnTo>
                      <a:pt x="812" y="743"/>
                    </a:lnTo>
                    <a:lnTo>
                      <a:pt x="684" y="717"/>
                    </a:lnTo>
                    <a:lnTo>
                      <a:pt x="569" y="690"/>
                    </a:lnTo>
                    <a:lnTo>
                      <a:pt x="472" y="671"/>
                    </a:lnTo>
                    <a:lnTo>
                      <a:pt x="398" y="653"/>
                    </a:lnTo>
                    <a:lnTo>
                      <a:pt x="334" y="639"/>
                    </a:lnTo>
                    <a:lnTo>
                      <a:pt x="154" y="400"/>
                    </a:lnTo>
                    <a:lnTo>
                      <a:pt x="255" y="396"/>
                    </a:lnTo>
                    <a:lnTo>
                      <a:pt x="173" y="232"/>
                    </a:lnTo>
                    <a:lnTo>
                      <a:pt x="298" y="224"/>
                    </a:lnTo>
                    <a:lnTo>
                      <a:pt x="106" y="0"/>
                    </a:lnTo>
                    <a:lnTo>
                      <a:pt x="36" y="66"/>
                    </a:lnTo>
                    <a:lnTo>
                      <a:pt x="0" y="174"/>
                    </a:lnTo>
                    <a:lnTo>
                      <a:pt x="3" y="288"/>
                    </a:lnTo>
                    <a:lnTo>
                      <a:pt x="13" y="369"/>
                    </a:lnTo>
                    <a:lnTo>
                      <a:pt x="29" y="449"/>
                    </a:lnTo>
                    <a:lnTo>
                      <a:pt x="46" y="521"/>
                    </a:lnTo>
                    <a:lnTo>
                      <a:pt x="61" y="583"/>
                    </a:lnTo>
                    <a:lnTo>
                      <a:pt x="77" y="638"/>
                    </a:lnTo>
                    <a:lnTo>
                      <a:pt x="119" y="656"/>
                    </a:lnTo>
                    <a:lnTo>
                      <a:pt x="166" y="675"/>
                    </a:lnTo>
                    <a:lnTo>
                      <a:pt x="225" y="701"/>
                    </a:lnTo>
                    <a:lnTo>
                      <a:pt x="258" y="716"/>
                    </a:lnTo>
                    <a:lnTo>
                      <a:pt x="292" y="729"/>
                    </a:lnTo>
                    <a:lnTo>
                      <a:pt x="329" y="744"/>
                    </a:lnTo>
                    <a:lnTo>
                      <a:pt x="365" y="761"/>
                    </a:lnTo>
                    <a:lnTo>
                      <a:pt x="402" y="776"/>
                    </a:lnTo>
                    <a:lnTo>
                      <a:pt x="440" y="791"/>
                    </a:lnTo>
                    <a:lnTo>
                      <a:pt x="477" y="806"/>
                    </a:lnTo>
                    <a:lnTo>
                      <a:pt x="512" y="821"/>
                    </a:lnTo>
                    <a:lnTo>
                      <a:pt x="578" y="847"/>
                    </a:lnTo>
                    <a:lnTo>
                      <a:pt x="638" y="869"/>
                    </a:lnTo>
                    <a:lnTo>
                      <a:pt x="694" y="888"/>
                    </a:lnTo>
                    <a:lnTo>
                      <a:pt x="740" y="904"/>
                    </a:lnTo>
                    <a:lnTo>
                      <a:pt x="830" y="929"/>
                    </a:lnTo>
                    <a:lnTo>
                      <a:pt x="867" y="829"/>
                    </a:lnTo>
                    <a:lnTo>
                      <a:pt x="1285" y="905"/>
                    </a:lnTo>
                    <a:lnTo>
                      <a:pt x="1257" y="1049"/>
                    </a:lnTo>
                    <a:lnTo>
                      <a:pt x="1332" y="1065"/>
                    </a:lnTo>
                    <a:lnTo>
                      <a:pt x="1412" y="1080"/>
                    </a:lnTo>
                    <a:lnTo>
                      <a:pt x="1513" y="1096"/>
                    </a:lnTo>
                    <a:lnTo>
                      <a:pt x="1628" y="1110"/>
                    </a:lnTo>
                    <a:lnTo>
                      <a:pt x="1737" y="1113"/>
                    </a:lnTo>
                    <a:lnTo>
                      <a:pt x="1836" y="1112"/>
                    </a:lnTo>
                    <a:lnTo>
                      <a:pt x="1925" y="1096"/>
                    </a:lnTo>
                    <a:lnTo>
                      <a:pt x="1992" y="1074"/>
                    </a:lnTo>
                    <a:lnTo>
                      <a:pt x="2038" y="1047"/>
                    </a:lnTo>
                    <a:lnTo>
                      <a:pt x="2062" y="1024"/>
                    </a:lnTo>
                    <a:lnTo>
                      <a:pt x="2078" y="992"/>
                    </a:lnTo>
                    <a:lnTo>
                      <a:pt x="2084" y="958"/>
                    </a:lnTo>
                    <a:lnTo>
                      <a:pt x="2082" y="928"/>
                    </a:lnTo>
                    <a:lnTo>
                      <a:pt x="2073" y="896"/>
                    </a:lnTo>
                    <a:lnTo>
                      <a:pt x="2053" y="857"/>
                    </a:lnTo>
                    <a:lnTo>
                      <a:pt x="2026" y="819"/>
                    </a:lnTo>
                    <a:lnTo>
                      <a:pt x="1997" y="788"/>
                    </a:lnTo>
                    <a:lnTo>
                      <a:pt x="1983" y="775"/>
                    </a:lnTo>
                    <a:lnTo>
                      <a:pt x="1969" y="762"/>
                    </a:lnTo>
                    <a:lnTo>
                      <a:pt x="1951" y="749"/>
                    </a:lnTo>
                    <a:lnTo>
                      <a:pt x="1931" y="736"/>
                    </a:lnTo>
                    <a:lnTo>
                      <a:pt x="1908" y="723"/>
                    </a:lnTo>
                    <a:lnTo>
                      <a:pt x="1882" y="708"/>
                    </a:lnTo>
                    <a:lnTo>
                      <a:pt x="1852" y="694"/>
                    </a:lnTo>
                    <a:lnTo>
                      <a:pt x="1818" y="679"/>
                    </a:lnTo>
                    <a:lnTo>
                      <a:pt x="1780" y="665"/>
                    </a:lnTo>
                    <a:lnTo>
                      <a:pt x="1736" y="649"/>
                    </a:lnTo>
                    <a:lnTo>
                      <a:pt x="1681" y="632"/>
                    </a:lnTo>
                    <a:lnTo>
                      <a:pt x="1608" y="616"/>
                    </a:lnTo>
                    <a:lnTo>
                      <a:pt x="1523" y="598"/>
                    </a:lnTo>
                    <a:lnTo>
                      <a:pt x="1425" y="580"/>
                    </a:lnTo>
                    <a:lnTo>
                      <a:pt x="1207" y="544"/>
                    </a:lnTo>
                    <a:lnTo>
                      <a:pt x="978" y="512"/>
                    </a:lnTo>
                    <a:lnTo>
                      <a:pt x="760" y="484"/>
                    </a:lnTo>
                    <a:lnTo>
                      <a:pt x="576" y="461"/>
                    </a:lnTo>
                    <a:lnTo>
                      <a:pt x="401" y="440"/>
                    </a:lnTo>
                    <a:lnTo>
                      <a:pt x="40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547640" y="2698920"/>
                <a:ext cx="96840" cy="158760"/>
              </a:xfrm>
              <a:custGeom>
                <a:avLst/>
                <a:gdLst/>
                <a:ahLst/>
                <a:rect l="l" t="t" r="r" b="b"/>
                <a:pathLst>
                  <a:path w="366" h="496">
                    <a:moveTo>
                      <a:pt x="0" y="44"/>
                    </a:moveTo>
                    <a:lnTo>
                      <a:pt x="60" y="6"/>
                    </a:lnTo>
                    <a:lnTo>
                      <a:pt x="112" y="0"/>
                    </a:lnTo>
                    <a:lnTo>
                      <a:pt x="177" y="12"/>
                    </a:lnTo>
                    <a:lnTo>
                      <a:pt x="243" y="44"/>
                    </a:lnTo>
                    <a:lnTo>
                      <a:pt x="275" y="67"/>
                    </a:lnTo>
                    <a:lnTo>
                      <a:pt x="301" y="97"/>
                    </a:lnTo>
                    <a:lnTo>
                      <a:pt x="341" y="164"/>
                    </a:lnTo>
                    <a:lnTo>
                      <a:pt x="360" y="229"/>
                    </a:lnTo>
                    <a:lnTo>
                      <a:pt x="366" y="332"/>
                    </a:lnTo>
                    <a:lnTo>
                      <a:pt x="350" y="413"/>
                    </a:lnTo>
                    <a:lnTo>
                      <a:pt x="336" y="464"/>
                    </a:lnTo>
                    <a:lnTo>
                      <a:pt x="298" y="496"/>
                    </a:lnTo>
                    <a:lnTo>
                      <a:pt x="310" y="219"/>
                    </a:lnTo>
                    <a:lnTo>
                      <a:pt x="282" y="170"/>
                    </a:lnTo>
                    <a:lnTo>
                      <a:pt x="268" y="152"/>
                    </a:lnTo>
                    <a:lnTo>
                      <a:pt x="256" y="136"/>
                    </a:lnTo>
                    <a:lnTo>
                      <a:pt x="241" y="123"/>
                    </a:lnTo>
                    <a:lnTo>
                      <a:pt x="226" y="115"/>
                    </a:lnTo>
                    <a:lnTo>
                      <a:pt x="194" y="101"/>
                    </a:lnTo>
                    <a:lnTo>
                      <a:pt x="158" y="100"/>
                    </a:lnTo>
                    <a:lnTo>
                      <a:pt x="122" y="108"/>
                    </a:lnTo>
                    <a:lnTo>
                      <a:pt x="95" y="120"/>
                    </a:lnTo>
                    <a:lnTo>
                      <a:pt x="84" y="125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838160" y="3092400"/>
                <a:ext cx="60480" cy="65160"/>
              </a:xfrm>
              <a:custGeom>
                <a:avLst/>
                <a:gdLst/>
                <a:ahLst/>
                <a:rect l="l" t="t" r="r" b="b"/>
                <a:pathLst>
                  <a:path w="228" h="207">
                    <a:moveTo>
                      <a:pt x="61" y="0"/>
                    </a:moveTo>
                    <a:lnTo>
                      <a:pt x="156" y="26"/>
                    </a:lnTo>
                    <a:lnTo>
                      <a:pt x="217" y="72"/>
                    </a:lnTo>
                    <a:lnTo>
                      <a:pt x="228" y="123"/>
                    </a:lnTo>
                    <a:lnTo>
                      <a:pt x="215" y="173"/>
                    </a:lnTo>
                    <a:lnTo>
                      <a:pt x="177" y="203"/>
                    </a:lnTo>
                    <a:lnTo>
                      <a:pt x="137" y="207"/>
                    </a:lnTo>
                    <a:lnTo>
                      <a:pt x="0" y="193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595520" y="3059280"/>
                <a:ext cx="102960" cy="45720"/>
              </a:xfrm>
              <a:custGeom>
                <a:avLst/>
                <a:gdLst/>
                <a:ahLst/>
                <a:rect l="l" t="t" r="r" b="b"/>
                <a:pathLst>
                  <a:path w="389" h="143">
                    <a:moveTo>
                      <a:pt x="389" y="30"/>
                    </a:moveTo>
                    <a:lnTo>
                      <a:pt x="357" y="143"/>
                    </a:lnTo>
                    <a:lnTo>
                      <a:pt x="0" y="0"/>
                    </a:lnTo>
                    <a:lnTo>
                      <a:pt x="389" y="30"/>
                    </a:lnTo>
                    <a:lnTo>
                      <a:pt x="38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668600" y="2692440"/>
                <a:ext cx="93600" cy="34920"/>
              </a:xfrm>
              <a:custGeom>
                <a:avLst/>
                <a:gdLst/>
                <a:ahLst/>
                <a:rect l="l" t="t" r="r" b="b"/>
                <a:pathLst>
                  <a:path w="359" h="106">
                    <a:moveTo>
                      <a:pt x="359" y="17"/>
                    </a:moveTo>
                    <a:lnTo>
                      <a:pt x="338" y="106"/>
                    </a:lnTo>
                    <a:lnTo>
                      <a:pt x="0" y="0"/>
                    </a:lnTo>
                    <a:lnTo>
                      <a:pt x="359" y="17"/>
                    </a:lnTo>
                    <a:lnTo>
                      <a:pt x="35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903320" y="2720880"/>
                <a:ext cx="60480" cy="68400"/>
              </a:xfrm>
              <a:custGeom>
                <a:avLst/>
                <a:gdLst/>
                <a:ahLst/>
                <a:rect l="l" t="t" r="r" b="b"/>
                <a:pathLst>
                  <a:path w="228" h="219">
                    <a:moveTo>
                      <a:pt x="28" y="0"/>
                    </a:moveTo>
                    <a:lnTo>
                      <a:pt x="157" y="38"/>
                    </a:lnTo>
                    <a:lnTo>
                      <a:pt x="217" y="84"/>
                    </a:lnTo>
                    <a:lnTo>
                      <a:pt x="228" y="136"/>
                    </a:lnTo>
                    <a:lnTo>
                      <a:pt x="214" y="185"/>
                    </a:lnTo>
                    <a:lnTo>
                      <a:pt x="176" y="213"/>
                    </a:lnTo>
                    <a:lnTo>
                      <a:pt x="137" y="219"/>
                    </a:lnTo>
                    <a:lnTo>
                      <a:pt x="0" y="204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1436760" y="3583080"/>
              <a:ext cx="647640" cy="279360"/>
              <a:chOff x="1436760" y="3583080"/>
              <a:chExt cx="647640" cy="279360"/>
            </a:xfrm>
          </p:grpSpPr>
          <p:sp>
            <p:nvSpPr>
              <p:cNvPr id="412" name=""/>
              <p:cNvSpPr/>
              <p:nvPr/>
            </p:nvSpPr>
            <p:spPr>
              <a:xfrm>
                <a:off x="1436760" y="3583080"/>
                <a:ext cx="647640" cy="279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711440" y="3641760"/>
                <a:ext cx="68040" cy="49320"/>
              </a:xfrm>
              <a:custGeom>
                <a:avLst/>
                <a:gdLst/>
                <a:ahLst/>
                <a:rect l="l" t="t" r="r" b="b"/>
                <a:pathLst>
                  <a:path w="215" h="155">
                    <a:moveTo>
                      <a:pt x="98" y="60"/>
                    </a:moveTo>
                    <a:lnTo>
                      <a:pt x="79" y="71"/>
                    </a:lnTo>
                    <a:lnTo>
                      <a:pt x="62" y="82"/>
                    </a:lnTo>
                    <a:lnTo>
                      <a:pt x="47" y="95"/>
                    </a:lnTo>
                    <a:lnTo>
                      <a:pt x="34" y="107"/>
                    </a:lnTo>
                    <a:lnTo>
                      <a:pt x="23" y="120"/>
                    </a:lnTo>
                    <a:lnTo>
                      <a:pt x="14" y="132"/>
                    </a:lnTo>
                    <a:lnTo>
                      <a:pt x="9" y="143"/>
                    </a:lnTo>
                    <a:lnTo>
                      <a:pt x="6" y="155"/>
                    </a:lnTo>
                    <a:lnTo>
                      <a:pt x="4" y="152"/>
                    </a:lnTo>
                    <a:lnTo>
                      <a:pt x="2" y="151"/>
                    </a:lnTo>
                    <a:lnTo>
                      <a:pt x="1" y="148"/>
                    </a:lnTo>
                    <a:lnTo>
                      <a:pt x="0" y="146"/>
                    </a:lnTo>
                    <a:lnTo>
                      <a:pt x="0" y="135"/>
                    </a:lnTo>
                    <a:lnTo>
                      <a:pt x="4" y="120"/>
                    </a:lnTo>
                    <a:lnTo>
                      <a:pt x="13" y="104"/>
                    </a:lnTo>
                    <a:lnTo>
                      <a:pt x="27" y="85"/>
                    </a:lnTo>
                    <a:lnTo>
                      <a:pt x="42" y="67"/>
                    </a:lnTo>
                    <a:lnTo>
                      <a:pt x="61" y="49"/>
                    </a:lnTo>
                    <a:lnTo>
                      <a:pt x="82" y="33"/>
                    </a:lnTo>
                    <a:lnTo>
                      <a:pt x="104" y="19"/>
                    </a:lnTo>
                    <a:lnTo>
                      <a:pt x="126" y="9"/>
                    </a:lnTo>
                    <a:lnTo>
                      <a:pt x="145" y="3"/>
                    </a:lnTo>
                    <a:lnTo>
                      <a:pt x="162" y="0"/>
                    </a:lnTo>
                    <a:lnTo>
                      <a:pt x="178" y="1"/>
                    </a:lnTo>
                    <a:lnTo>
                      <a:pt x="191" y="5"/>
                    </a:lnTo>
                    <a:lnTo>
                      <a:pt x="202" y="10"/>
                    </a:lnTo>
                    <a:lnTo>
                      <a:pt x="209" y="19"/>
                    </a:lnTo>
                    <a:lnTo>
                      <a:pt x="214" y="28"/>
                    </a:lnTo>
                    <a:lnTo>
                      <a:pt x="215" y="30"/>
                    </a:lnTo>
                    <a:lnTo>
                      <a:pt x="215" y="33"/>
                    </a:lnTo>
                    <a:lnTo>
                      <a:pt x="215" y="36"/>
                    </a:lnTo>
                    <a:lnTo>
                      <a:pt x="214" y="39"/>
                    </a:lnTo>
                    <a:lnTo>
                      <a:pt x="207" y="34"/>
                    </a:lnTo>
                    <a:lnTo>
                      <a:pt x="197" y="31"/>
                    </a:lnTo>
                    <a:lnTo>
                      <a:pt x="184" y="31"/>
                    </a:lnTo>
                    <a:lnTo>
                      <a:pt x="170" y="33"/>
                    </a:lnTo>
                    <a:lnTo>
                      <a:pt x="153" y="36"/>
                    </a:lnTo>
                    <a:lnTo>
                      <a:pt x="135" y="43"/>
                    </a:lnTo>
                    <a:lnTo>
                      <a:pt x="117" y="50"/>
                    </a:lnTo>
                    <a:lnTo>
                      <a:pt x="98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609560" y="3629160"/>
                <a:ext cx="66960" cy="69840"/>
              </a:xfrm>
              <a:custGeom>
                <a:avLst/>
                <a:gdLst/>
                <a:ahLst/>
                <a:rect l="l" t="t" r="r" b="b"/>
                <a:pathLst>
                  <a:path w="212" h="218">
                    <a:moveTo>
                      <a:pt x="0" y="97"/>
                    </a:moveTo>
                    <a:lnTo>
                      <a:pt x="202" y="0"/>
                    </a:lnTo>
                    <a:lnTo>
                      <a:pt x="67" y="101"/>
                    </a:lnTo>
                    <a:lnTo>
                      <a:pt x="212" y="205"/>
                    </a:lnTo>
                    <a:lnTo>
                      <a:pt x="185" y="218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482840" y="3778200"/>
                <a:ext cx="317520" cy="81000"/>
              </a:xfrm>
              <a:custGeom>
                <a:avLst/>
                <a:gdLst/>
                <a:ahLst/>
                <a:rect l="l" t="t" r="r" b="b"/>
                <a:pathLst>
                  <a:path w="997" h="253">
                    <a:moveTo>
                      <a:pt x="0" y="253"/>
                    </a:moveTo>
                    <a:lnTo>
                      <a:pt x="0" y="253"/>
                    </a:lnTo>
                    <a:lnTo>
                      <a:pt x="2" y="251"/>
                    </a:lnTo>
                    <a:lnTo>
                      <a:pt x="4" y="248"/>
                    </a:lnTo>
                    <a:lnTo>
                      <a:pt x="9" y="244"/>
                    </a:lnTo>
                    <a:lnTo>
                      <a:pt x="14" y="239"/>
                    </a:lnTo>
                    <a:lnTo>
                      <a:pt x="21" y="233"/>
                    </a:lnTo>
                    <a:lnTo>
                      <a:pt x="29" y="226"/>
                    </a:lnTo>
                    <a:lnTo>
                      <a:pt x="40" y="218"/>
                    </a:lnTo>
                    <a:lnTo>
                      <a:pt x="52" y="209"/>
                    </a:lnTo>
                    <a:lnTo>
                      <a:pt x="66" y="199"/>
                    </a:lnTo>
                    <a:lnTo>
                      <a:pt x="83" y="188"/>
                    </a:lnTo>
                    <a:lnTo>
                      <a:pt x="101" y="177"/>
                    </a:lnTo>
                    <a:lnTo>
                      <a:pt x="123" y="165"/>
                    </a:lnTo>
                    <a:lnTo>
                      <a:pt x="147" y="151"/>
                    </a:lnTo>
                    <a:lnTo>
                      <a:pt x="174" y="137"/>
                    </a:lnTo>
                    <a:lnTo>
                      <a:pt x="203" y="122"/>
                    </a:lnTo>
                    <a:lnTo>
                      <a:pt x="214" y="117"/>
                    </a:lnTo>
                    <a:lnTo>
                      <a:pt x="227" y="112"/>
                    </a:lnTo>
                    <a:lnTo>
                      <a:pt x="242" y="107"/>
                    </a:lnTo>
                    <a:lnTo>
                      <a:pt x="258" y="104"/>
                    </a:lnTo>
                    <a:lnTo>
                      <a:pt x="274" y="99"/>
                    </a:lnTo>
                    <a:lnTo>
                      <a:pt x="292" y="94"/>
                    </a:lnTo>
                    <a:lnTo>
                      <a:pt x="311" y="89"/>
                    </a:lnTo>
                    <a:lnTo>
                      <a:pt x="328" y="85"/>
                    </a:lnTo>
                    <a:lnTo>
                      <a:pt x="345" y="81"/>
                    </a:lnTo>
                    <a:lnTo>
                      <a:pt x="361" y="78"/>
                    </a:lnTo>
                    <a:lnTo>
                      <a:pt x="376" y="74"/>
                    </a:lnTo>
                    <a:lnTo>
                      <a:pt x="389" y="71"/>
                    </a:lnTo>
                    <a:lnTo>
                      <a:pt x="399" y="69"/>
                    </a:lnTo>
                    <a:lnTo>
                      <a:pt x="407" y="68"/>
                    </a:lnTo>
                    <a:lnTo>
                      <a:pt x="413" y="66"/>
                    </a:lnTo>
                    <a:lnTo>
                      <a:pt x="415" y="66"/>
                    </a:lnTo>
                    <a:lnTo>
                      <a:pt x="193" y="166"/>
                    </a:lnTo>
                    <a:lnTo>
                      <a:pt x="209" y="165"/>
                    </a:lnTo>
                    <a:lnTo>
                      <a:pt x="225" y="162"/>
                    </a:lnTo>
                    <a:lnTo>
                      <a:pt x="245" y="160"/>
                    </a:lnTo>
                    <a:lnTo>
                      <a:pt x="265" y="156"/>
                    </a:lnTo>
                    <a:lnTo>
                      <a:pt x="288" y="153"/>
                    </a:lnTo>
                    <a:lnTo>
                      <a:pt x="311" y="150"/>
                    </a:lnTo>
                    <a:lnTo>
                      <a:pt x="336" y="145"/>
                    </a:lnTo>
                    <a:lnTo>
                      <a:pt x="361" y="141"/>
                    </a:lnTo>
                    <a:lnTo>
                      <a:pt x="388" y="136"/>
                    </a:lnTo>
                    <a:lnTo>
                      <a:pt x="415" y="131"/>
                    </a:lnTo>
                    <a:lnTo>
                      <a:pt x="443" y="126"/>
                    </a:lnTo>
                    <a:lnTo>
                      <a:pt x="472" y="120"/>
                    </a:lnTo>
                    <a:lnTo>
                      <a:pt x="501" y="115"/>
                    </a:lnTo>
                    <a:lnTo>
                      <a:pt x="531" y="109"/>
                    </a:lnTo>
                    <a:lnTo>
                      <a:pt x="561" y="102"/>
                    </a:lnTo>
                    <a:lnTo>
                      <a:pt x="591" y="96"/>
                    </a:lnTo>
                    <a:lnTo>
                      <a:pt x="621" y="90"/>
                    </a:lnTo>
                    <a:lnTo>
                      <a:pt x="651" y="84"/>
                    </a:lnTo>
                    <a:lnTo>
                      <a:pt x="681" y="78"/>
                    </a:lnTo>
                    <a:lnTo>
                      <a:pt x="711" y="70"/>
                    </a:lnTo>
                    <a:lnTo>
                      <a:pt x="740" y="64"/>
                    </a:lnTo>
                    <a:lnTo>
                      <a:pt x="769" y="58"/>
                    </a:lnTo>
                    <a:lnTo>
                      <a:pt x="796" y="51"/>
                    </a:lnTo>
                    <a:lnTo>
                      <a:pt x="823" y="45"/>
                    </a:lnTo>
                    <a:lnTo>
                      <a:pt x="849" y="39"/>
                    </a:lnTo>
                    <a:lnTo>
                      <a:pt x="874" y="33"/>
                    </a:lnTo>
                    <a:lnTo>
                      <a:pt x="898" y="26"/>
                    </a:lnTo>
                    <a:lnTo>
                      <a:pt x="921" y="22"/>
                    </a:lnTo>
                    <a:lnTo>
                      <a:pt x="943" y="15"/>
                    </a:lnTo>
                    <a:lnTo>
                      <a:pt x="963" y="10"/>
                    </a:lnTo>
                    <a:lnTo>
                      <a:pt x="980" y="5"/>
                    </a:lnTo>
                    <a:lnTo>
                      <a:pt x="997" y="0"/>
                    </a:lnTo>
                    <a:lnTo>
                      <a:pt x="977" y="9"/>
                    </a:lnTo>
                    <a:lnTo>
                      <a:pt x="953" y="19"/>
                    </a:lnTo>
                    <a:lnTo>
                      <a:pt x="927" y="28"/>
                    </a:lnTo>
                    <a:lnTo>
                      <a:pt x="898" y="38"/>
                    </a:lnTo>
                    <a:lnTo>
                      <a:pt x="867" y="48"/>
                    </a:lnTo>
                    <a:lnTo>
                      <a:pt x="832" y="59"/>
                    </a:lnTo>
                    <a:lnTo>
                      <a:pt x="797" y="69"/>
                    </a:lnTo>
                    <a:lnTo>
                      <a:pt x="759" y="79"/>
                    </a:lnTo>
                    <a:lnTo>
                      <a:pt x="720" y="90"/>
                    </a:lnTo>
                    <a:lnTo>
                      <a:pt x="679" y="100"/>
                    </a:lnTo>
                    <a:lnTo>
                      <a:pt x="638" y="111"/>
                    </a:lnTo>
                    <a:lnTo>
                      <a:pt x="596" y="121"/>
                    </a:lnTo>
                    <a:lnTo>
                      <a:pt x="553" y="132"/>
                    </a:lnTo>
                    <a:lnTo>
                      <a:pt x="511" y="142"/>
                    </a:lnTo>
                    <a:lnTo>
                      <a:pt x="468" y="152"/>
                    </a:lnTo>
                    <a:lnTo>
                      <a:pt x="425" y="162"/>
                    </a:lnTo>
                    <a:lnTo>
                      <a:pt x="384" y="171"/>
                    </a:lnTo>
                    <a:lnTo>
                      <a:pt x="343" y="181"/>
                    </a:lnTo>
                    <a:lnTo>
                      <a:pt x="303" y="190"/>
                    </a:lnTo>
                    <a:lnTo>
                      <a:pt x="264" y="198"/>
                    </a:lnTo>
                    <a:lnTo>
                      <a:pt x="227" y="206"/>
                    </a:lnTo>
                    <a:lnTo>
                      <a:pt x="192" y="213"/>
                    </a:lnTo>
                    <a:lnTo>
                      <a:pt x="160" y="221"/>
                    </a:lnTo>
                    <a:lnTo>
                      <a:pt x="128" y="227"/>
                    </a:lnTo>
                    <a:lnTo>
                      <a:pt x="100" y="233"/>
                    </a:lnTo>
                    <a:lnTo>
                      <a:pt x="75" y="238"/>
                    </a:lnTo>
                    <a:lnTo>
                      <a:pt x="53" y="242"/>
                    </a:lnTo>
                    <a:lnTo>
                      <a:pt x="35" y="246"/>
                    </a:lnTo>
                    <a:lnTo>
                      <a:pt x="20" y="249"/>
                    </a:lnTo>
                    <a:lnTo>
                      <a:pt x="10" y="252"/>
                    </a:lnTo>
                    <a:lnTo>
                      <a:pt x="2" y="253"/>
                    </a:lnTo>
                    <a:lnTo>
                      <a:pt x="0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436760" y="3621240"/>
                <a:ext cx="242640" cy="96840"/>
              </a:xfrm>
              <a:custGeom>
                <a:avLst/>
                <a:gdLst/>
                <a:ahLst/>
                <a:rect l="l" t="t" r="r" b="b"/>
                <a:pathLst>
                  <a:path w="762" h="307">
                    <a:moveTo>
                      <a:pt x="491" y="88"/>
                    </a:moveTo>
                    <a:lnTo>
                      <a:pt x="368" y="124"/>
                    </a:lnTo>
                    <a:lnTo>
                      <a:pt x="391" y="151"/>
                    </a:lnTo>
                    <a:lnTo>
                      <a:pt x="389" y="151"/>
                    </a:lnTo>
                    <a:lnTo>
                      <a:pt x="383" y="154"/>
                    </a:lnTo>
                    <a:lnTo>
                      <a:pt x="374" y="156"/>
                    </a:lnTo>
                    <a:lnTo>
                      <a:pt x="362" y="159"/>
                    </a:lnTo>
                    <a:lnTo>
                      <a:pt x="347" y="162"/>
                    </a:lnTo>
                    <a:lnTo>
                      <a:pt x="330" y="167"/>
                    </a:lnTo>
                    <a:lnTo>
                      <a:pt x="312" y="172"/>
                    </a:lnTo>
                    <a:lnTo>
                      <a:pt x="292" y="178"/>
                    </a:lnTo>
                    <a:lnTo>
                      <a:pt x="271" y="185"/>
                    </a:lnTo>
                    <a:lnTo>
                      <a:pt x="250" y="191"/>
                    </a:lnTo>
                    <a:lnTo>
                      <a:pt x="230" y="197"/>
                    </a:lnTo>
                    <a:lnTo>
                      <a:pt x="209" y="205"/>
                    </a:lnTo>
                    <a:lnTo>
                      <a:pt x="190" y="211"/>
                    </a:lnTo>
                    <a:lnTo>
                      <a:pt x="171" y="217"/>
                    </a:lnTo>
                    <a:lnTo>
                      <a:pt x="156" y="225"/>
                    </a:lnTo>
                    <a:lnTo>
                      <a:pt x="141" y="231"/>
                    </a:lnTo>
                    <a:lnTo>
                      <a:pt x="115" y="243"/>
                    </a:lnTo>
                    <a:lnTo>
                      <a:pt x="90" y="257"/>
                    </a:lnTo>
                    <a:lnTo>
                      <a:pt x="66" y="269"/>
                    </a:lnTo>
                    <a:lnTo>
                      <a:pt x="44" y="282"/>
                    </a:lnTo>
                    <a:lnTo>
                      <a:pt x="27" y="292"/>
                    </a:lnTo>
                    <a:lnTo>
                      <a:pt x="12" y="299"/>
                    </a:lnTo>
                    <a:lnTo>
                      <a:pt x="3" y="304"/>
                    </a:lnTo>
                    <a:lnTo>
                      <a:pt x="0" y="307"/>
                    </a:lnTo>
                    <a:lnTo>
                      <a:pt x="1" y="305"/>
                    </a:lnTo>
                    <a:lnTo>
                      <a:pt x="3" y="300"/>
                    </a:lnTo>
                    <a:lnTo>
                      <a:pt x="7" y="293"/>
                    </a:lnTo>
                    <a:lnTo>
                      <a:pt x="14" y="283"/>
                    </a:lnTo>
                    <a:lnTo>
                      <a:pt x="23" y="273"/>
                    </a:lnTo>
                    <a:lnTo>
                      <a:pt x="36" y="261"/>
                    </a:lnTo>
                    <a:lnTo>
                      <a:pt x="53" y="249"/>
                    </a:lnTo>
                    <a:lnTo>
                      <a:pt x="72" y="238"/>
                    </a:lnTo>
                    <a:lnTo>
                      <a:pt x="84" y="233"/>
                    </a:lnTo>
                    <a:lnTo>
                      <a:pt x="97" y="228"/>
                    </a:lnTo>
                    <a:lnTo>
                      <a:pt x="114" y="222"/>
                    </a:lnTo>
                    <a:lnTo>
                      <a:pt x="132" y="216"/>
                    </a:lnTo>
                    <a:lnTo>
                      <a:pt x="151" y="210"/>
                    </a:lnTo>
                    <a:lnTo>
                      <a:pt x="169" y="202"/>
                    </a:lnTo>
                    <a:lnTo>
                      <a:pt x="189" y="196"/>
                    </a:lnTo>
                    <a:lnTo>
                      <a:pt x="209" y="190"/>
                    </a:lnTo>
                    <a:lnTo>
                      <a:pt x="228" y="183"/>
                    </a:lnTo>
                    <a:lnTo>
                      <a:pt x="246" y="178"/>
                    </a:lnTo>
                    <a:lnTo>
                      <a:pt x="262" y="173"/>
                    </a:lnTo>
                    <a:lnTo>
                      <a:pt x="277" y="169"/>
                    </a:lnTo>
                    <a:lnTo>
                      <a:pt x="289" y="165"/>
                    </a:lnTo>
                    <a:lnTo>
                      <a:pt x="297" y="162"/>
                    </a:lnTo>
                    <a:lnTo>
                      <a:pt x="304" y="160"/>
                    </a:lnTo>
                    <a:lnTo>
                      <a:pt x="306" y="160"/>
                    </a:lnTo>
                    <a:lnTo>
                      <a:pt x="310" y="155"/>
                    </a:lnTo>
                    <a:lnTo>
                      <a:pt x="321" y="142"/>
                    </a:lnTo>
                    <a:lnTo>
                      <a:pt x="339" y="124"/>
                    </a:lnTo>
                    <a:lnTo>
                      <a:pt x="360" y="103"/>
                    </a:lnTo>
                    <a:lnTo>
                      <a:pt x="384" y="81"/>
                    </a:lnTo>
                    <a:lnTo>
                      <a:pt x="407" y="61"/>
                    </a:lnTo>
                    <a:lnTo>
                      <a:pt x="430" y="48"/>
                    </a:lnTo>
                    <a:lnTo>
                      <a:pt x="448" y="40"/>
                    </a:lnTo>
                    <a:lnTo>
                      <a:pt x="463" y="40"/>
                    </a:lnTo>
                    <a:lnTo>
                      <a:pt x="475" y="44"/>
                    </a:lnTo>
                    <a:lnTo>
                      <a:pt x="486" y="50"/>
                    </a:lnTo>
                    <a:lnTo>
                      <a:pt x="494" y="58"/>
                    </a:lnTo>
                    <a:lnTo>
                      <a:pt x="499" y="65"/>
                    </a:lnTo>
                    <a:lnTo>
                      <a:pt x="504" y="71"/>
                    </a:lnTo>
                    <a:lnTo>
                      <a:pt x="506" y="76"/>
                    </a:lnTo>
                    <a:lnTo>
                      <a:pt x="507" y="79"/>
                    </a:lnTo>
                    <a:lnTo>
                      <a:pt x="762" y="0"/>
                    </a:lnTo>
                    <a:lnTo>
                      <a:pt x="521" y="110"/>
                    </a:lnTo>
                    <a:lnTo>
                      <a:pt x="491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714680" y="3586320"/>
                <a:ext cx="368280" cy="188640"/>
              </a:xfrm>
              <a:custGeom>
                <a:avLst/>
                <a:gdLst/>
                <a:ahLst/>
                <a:rect l="l" t="t" r="r" b="b"/>
                <a:pathLst>
                  <a:path w="1160" h="593">
                    <a:moveTo>
                      <a:pt x="1083" y="173"/>
                    </a:moveTo>
                    <a:lnTo>
                      <a:pt x="1094" y="161"/>
                    </a:lnTo>
                    <a:lnTo>
                      <a:pt x="1099" y="146"/>
                    </a:lnTo>
                    <a:lnTo>
                      <a:pt x="1100" y="131"/>
                    </a:lnTo>
                    <a:lnTo>
                      <a:pt x="1098" y="116"/>
                    </a:lnTo>
                    <a:lnTo>
                      <a:pt x="1092" y="102"/>
                    </a:lnTo>
                    <a:lnTo>
                      <a:pt x="1082" y="91"/>
                    </a:lnTo>
                    <a:lnTo>
                      <a:pt x="1069" y="82"/>
                    </a:lnTo>
                    <a:lnTo>
                      <a:pt x="1053" y="79"/>
                    </a:lnTo>
                    <a:lnTo>
                      <a:pt x="1038" y="77"/>
                    </a:lnTo>
                    <a:lnTo>
                      <a:pt x="1022" y="77"/>
                    </a:lnTo>
                    <a:lnTo>
                      <a:pt x="1004" y="79"/>
                    </a:lnTo>
                    <a:lnTo>
                      <a:pt x="986" y="79"/>
                    </a:lnTo>
                    <a:lnTo>
                      <a:pt x="969" y="80"/>
                    </a:lnTo>
                    <a:lnTo>
                      <a:pt x="950" y="81"/>
                    </a:lnTo>
                    <a:lnTo>
                      <a:pt x="932" y="82"/>
                    </a:lnTo>
                    <a:lnTo>
                      <a:pt x="914" y="84"/>
                    </a:lnTo>
                    <a:lnTo>
                      <a:pt x="898" y="85"/>
                    </a:lnTo>
                    <a:lnTo>
                      <a:pt x="882" y="87"/>
                    </a:lnTo>
                    <a:lnTo>
                      <a:pt x="868" y="89"/>
                    </a:lnTo>
                    <a:lnTo>
                      <a:pt x="855" y="90"/>
                    </a:lnTo>
                    <a:lnTo>
                      <a:pt x="845" y="90"/>
                    </a:lnTo>
                    <a:lnTo>
                      <a:pt x="836" y="91"/>
                    </a:lnTo>
                    <a:lnTo>
                      <a:pt x="831" y="91"/>
                    </a:lnTo>
                    <a:lnTo>
                      <a:pt x="829" y="91"/>
                    </a:lnTo>
                    <a:lnTo>
                      <a:pt x="822" y="94"/>
                    </a:lnTo>
                    <a:lnTo>
                      <a:pt x="811" y="97"/>
                    </a:lnTo>
                    <a:lnTo>
                      <a:pt x="800" y="101"/>
                    </a:lnTo>
                    <a:lnTo>
                      <a:pt x="788" y="106"/>
                    </a:lnTo>
                    <a:lnTo>
                      <a:pt x="776" y="111"/>
                    </a:lnTo>
                    <a:lnTo>
                      <a:pt x="766" y="116"/>
                    </a:lnTo>
                    <a:lnTo>
                      <a:pt x="756" y="120"/>
                    </a:lnTo>
                    <a:lnTo>
                      <a:pt x="749" y="125"/>
                    </a:lnTo>
                    <a:lnTo>
                      <a:pt x="741" y="132"/>
                    </a:lnTo>
                    <a:lnTo>
                      <a:pt x="731" y="142"/>
                    </a:lnTo>
                    <a:lnTo>
                      <a:pt x="721" y="152"/>
                    </a:lnTo>
                    <a:lnTo>
                      <a:pt x="711" y="163"/>
                    </a:lnTo>
                    <a:lnTo>
                      <a:pt x="703" y="173"/>
                    </a:lnTo>
                    <a:lnTo>
                      <a:pt x="695" y="181"/>
                    </a:lnTo>
                    <a:lnTo>
                      <a:pt x="689" y="184"/>
                    </a:lnTo>
                    <a:lnTo>
                      <a:pt x="684" y="186"/>
                    </a:lnTo>
                    <a:lnTo>
                      <a:pt x="680" y="181"/>
                    </a:lnTo>
                    <a:lnTo>
                      <a:pt x="674" y="171"/>
                    </a:lnTo>
                    <a:lnTo>
                      <a:pt x="668" y="156"/>
                    </a:lnTo>
                    <a:lnTo>
                      <a:pt x="660" y="138"/>
                    </a:lnTo>
                    <a:lnTo>
                      <a:pt x="654" y="121"/>
                    </a:lnTo>
                    <a:lnTo>
                      <a:pt x="649" y="106"/>
                    </a:lnTo>
                    <a:lnTo>
                      <a:pt x="646" y="94"/>
                    </a:lnTo>
                    <a:lnTo>
                      <a:pt x="646" y="86"/>
                    </a:lnTo>
                    <a:lnTo>
                      <a:pt x="649" y="80"/>
                    </a:lnTo>
                    <a:lnTo>
                      <a:pt x="655" y="74"/>
                    </a:lnTo>
                    <a:lnTo>
                      <a:pt x="662" y="69"/>
                    </a:lnTo>
                    <a:lnTo>
                      <a:pt x="671" y="64"/>
                    </a:lnTo>
                    <a:lnTo>
                      <a:pt x="680" y="60"/>
                    </a:lnTo>
                    <a:lnTo>
                      <a:pt x="689" y="57"/>
                    </a:lnTo>
                    <a:lnTo>
                      <a:pt x="698" y="55"/>
                    </a:lnTo>
                    <a:lnTo>
                      <a:pt x="705" y="52"/>
                    </a:lnTo>
                    <a:lnTo>
                      <a:pt x="699" y="51"/>
                    </a:lnTo>
                    <a:lnTo>
                      <a:pt x="693" y="51"/>
                    </a:lnTo>
                    <a:lnTo>
                      <a:pt x="686" y="51"/>
                    </a:lnTo>
                    <a:lnTo>
                      <a:pt x="681" y="51"/>
                    </a:lnTo>
                    <a:lnTo>
                      <a:pt x="675" y="51"/>
                    </a:lnTo>
                    <a:lnTo>
                      <a:pt x="670" y="51"/>
                    </a:lnTo>
                    <a:lnTo>
                      <a:pt x="665" y="52"/>
                    </a:lnTo>
                    <a:lnTo>
                      <a:pt x="659" y="54"/>
                    </a:lnTo>
                    <a:lnTo>
                      <a:pt x="643" y="60"/>
                    </a:lnTo>
                    <a:lnTo>
                      <a:pt x="615" y="70"/>
                    </a:lnTo>
                    <a:lnTo>
                      <a:pt x="577" y="85"/>
                    </a:lnTo>
                    <a:lnTo>
                      <a:pt x="531" y="104"/>
                    </a:lnTo>
                    <a:lnTo>
                      <a:pt x="480" y="125"/>
                    </a:lnTo>
                    <a:lnTo>
                      <a:pt x="425" y="147"/>
                    </a:lnTo>
                    <a:lnTo>
                      <a:pt x="367" y="171"/>
                    </a:lnTo>
                    <a:lnTo>
                      <a:pt x="308" y="196"/>
                    </a:lnTo>
                    <a:lnTo>
                      <a:pt x="249" y="221"/>
                    </a:lnTo>
                    <a:lnTo>
                      <a:pt x="194" y="244"/>
                    </a:lnTo>
                    <a:lnTo>
                      <a:pt x="142" y="267"/>
                    </a:lnTo>
                    <a:lnTo>
                      <a:pt x="95" y="286"/>
                    </a:lnTo>
                    <a:lnTo>
                      <a:pt x="56" y="303"/>
                    </a:lnTo>
                    <a:lnTo>
                      <a:pt x="26" y="315"/>
                    </a:lnTo>
                    <a:lnTo>
                      <a:pt x="6" y="324"/>
                    </a:lnTo>
                    <a:lnTo>
                      <a:pt x="0" y="326"/>
                    </a:lnTo>
                    <a:lnTo>
                      <a:pt x="1" y="326"/>
                    </a:lnTo>
                    <a:lnTo>
                      <a:pt x="4" y="324"/>
                    </a:lnTo>
                    <a:lnTo>
                      <a:pt x="9" y="321"/>
                    </a:lnTo>
                    <a:lnTo>
                      <a:pt x="16" y="319"/>
                    </a:lnTo>
                    <a:lnTo>
                      <a:pt x="25" y="314"/>
                    </a:lnTo>
                    <a:lnTo>
                      <a:pt x="37" y="308"/>
                    </a:lnTo>
                    <a:lnTo>
                      <a:pt x="50" y="300"/>
                    </a:lnTo>
                    <a:lnTo>
                      <a:pt x="67" y="293"/>
                    </a:lnTo>
                    <a:lnTo>
                      <a:pt x="86" y="283"/>
                    </a:lnTo>
                    <a:lnTo>
                      <a:pt x="106" y="272"/>
                    </a:lnTo>
                    <a:lnTo>
                      <a:pt x="131" y="259"/>
                    </a:lnTo>
                    <a:lnTo>
                      <a:pt x="157" y="245"/>
                    </a:lnTo>
                    <a:lnTo>
                      <a:pt x="188" y="230"/>
                    </a:lnTo>
                    <a:lnTo>
                      <a:pt x="220" y="213"/>
                    </a:lnTo>
                    <a:lnTo>
                      <a:pt x="256" y="194"/>
                    </a:lnTo>
                    <a:lnTo>
                      <a:pt x="295" y="174"/>
                    </a:lnTo>
                    <a:lnTo>
                      <a:pt x="226" y="75"/>
                    </a:lnTo>
                    <a:lnTo>
                      <a:pt x="326" y="158"/>
                    </a:lnTo>
                    <a:lnTo>
                      <a:pt x="341" y="152"/>
                    </a:lnTo>
                    <a:lnTo>
                      <a:pt x="358" y="143"/>
                    </a:lnTo>
                    <a:lnTo>
                      <a:pt x="378" y="135"/>
                    </a:lnTo>
                    <a:lnTo>
                      <a:pt x="401" y="123"/>
                    </a:lnTo>
                    <a:lnTo>
                      <a:pt x="426" y="112"/>
                    </a:lnTo>
                    <a:lnTo>
                      <a:pt x="451" y="100"/>
                    </a:lnTo>
                    <a:lnTo>
                      <a:pt x="478" y="87"/>
                    </a:lnTo>
                    <a:lnTo>
                      <a:pt x="504" y="75"/>
                    </a:lnTo>
                    <a:lnTo>
                      <a:pt x="530" y="62"/>
                    </a:lnTo>
                    <a:lnTo>
                      <a:pt x="556" y="50"/>
                    </a:lnTo>
                    <a:lnTo>
                      <a:pt x="580" y="39"/>
                    </a:lnTo>
                    <a:lnTo>
                      <a:pt x="602" y="29"/>
                    </a:lnTo>
                    <a:lnTo>
                      <a:pt x="622" y="20"/>
                    </a:lnTo>
                    <a:lnTo>
                      <a:pt x="639" y="13"/>
                    </a:lnTo>
                    <a:lnTo>
                      <a:pt x="652" y="8"/>
                    </a:lnTo>
                    <a:lnTo>
                      <a:pt x="661" y="4"/>
                    </a:lnTo>
                    <a:lnTo>
                      <a:pt x="674" y="1"/>
                    </a:lnTo>
                    <a:lnTo>
                      <a:pt x="687" y="0"/>
                    </a:lnTo>
                    <a:lnTo>
                      <a:pt x="702" y="0"/>
                    </a:lnTo>
                    <a:lnTo>
                      <a:pt x="718" y="3"/>
                    </a:lnTo>
                    <a:lnTo>
                      <a:pt x="733" y="5"/>
                    </a:lnTo>
                    <a:lnTo>
                      <a:pt x="749" y="9"/>
                    </a:lnTo>
                    <a:lnTo>
                      <a:pt x="765" y="14"/>
                    </a:lnTo>
                    <a:lnTo>
                      <a:pt x="780" y="19"/>
                    </a:lnTo>
                    <a:lnTo>
                      <a:pt x="794" y="24"/>
                    </a:lnTo>
                    <a:lnTo>
                      <a:pt x="807" y="29"/>
                    </a:lnTo>
                    <a:lnTo>
                      <a:pt x="820" y="34"/>
                    </a:lnTo>
                    <a:lnTo>
                      <a:pt x="830" y="39"/>
                    </a:lnTo>
                    <a:lnTo>
                      <a:pt x="838" y="43"/>
                    </a:lnTo>
                    <a:lnTo>
                      <a:pt x="846" y="46"/>
                    </a:lnTo>
                    <a:lnTo>
                      <a:pt x="850" y="47"/>
                    </a:lnTo>
                    <a:lnTo>
                      <a:pt x="851" y="49"/>
                    </a:lnTo>
                    <a:lnTo>
                      <a:pt x="853" y="49"/>
                    </a:lnTo>
                    <a:lnTo>
                      <a:pt x="857" y="47"/>
                    </a:lnTo>
                    <a:lnTo>
                      <a:pt x="864" y="46"/>
                    </a:lnTo>
                    <a:lnTo>
                      <a:pt x="874" y="45"/>
                    </a:lnTo>
                    <a:lnTo>
                      <a:pt x="886" y="43"/>
                    </a:lnTo>
                    <a:lnTo>
                      <a:pt x="900" y="40"/>
                    </a:lnTo>
                    <a:lnTo>
                      <a:pt x="916" y="39"/>
                    </a:lnTo>
                    <a:lnTo>
                      <a:pt x="931" y="36"/>
                    </a:lnTo>
                    <a:lnTo>
                      <a:pt x="949" y="34"/>
                    </a:lnTo>
                    <a:lnTo>
                      <a:pt x="966" y="33"/>
                    </a:lnTo>
                    <a:lnTo>
                      <a:pt x="984" y="30"/>
                    </a:lnTo>
                    <a:lnTo>
                      <a:pt x="1002" y="29"/>
                    </a:lnTo>
                    <a:lnTo>
                      <a:pt x="1019" y="29"/>
                    </a:lnTo>
                    <a:lnTo>
                      <a:pt x="1035" y="29"/>
                    </a:lnTo>
                    <a:lnTo>
                      <a:pt x="1051" y="29"/>
                    </a:lnTo>
                    <a:lnTo>
                      <a:pt x="1065" y="30"/>
                    </a:lnTo>
                    <a:lnTo>
                      <a:pt x="1085" y="33"/>
                    </a:lnTo>
                    <a:lnTo>
                      <a:pt x="1102" y="36"/>
                    </a:lnTo>
                    <a:lnTo>
                      <a:pt x="1117" y="41"/>
                    </a:lnTo>
                    <a:lnTo>
                      <a:pt x="1129" y="46"/>
                    </a:lnTo>
                    <a:lnTo>
                      <a:pt x="1138" y="52"/>
                    </a:lnTo>
                    <a:lnTo>
                      <a:pt x="1147" y="60"/>
                    </a:lnTo>
                    <a:lnTo>
                      <a:pt x="1153" y="67"/>
                    </a:lnTo>
                    <a:lnTo>
                      <a:pt x="1157" y="75"/>
                    </a:lnTo>
                    <a:lnTo>
                      <a:pt x="1160" y="85"/>
                    </a:lnTo>
                    <a:lnTo>
                      <a:pt x="1160" y="95"/>
                    </a:lnTo>
                    <a:lnTo>
                      <a:pt x="1160" y="105"/>
                    </a:lnTo>
                    <a:lnTo>
                      <a:pt x="1157" y="116"/>
                    </a:lnTo>
                    <a:lnTo>
                      <a:pt x="1153" y="126"/>
                    </a:lnTo>
                    <a:lnTo>
                      <a:pt x="1149" y="137"/>
                    </a:lnTo>
                    <a:lnTo>
                      <a:pt x="1143" y="148"/>
                    </a:lnTo>
                    <a:lnTo>
                      <a:pt x="1136" y="158"/>
                    </a:lnTo>
                    <a:lnTo>
                      <a:pt x="1130" y="167"/>
                    </a:lnTo>
                    <a:lnTo>
                      <a:pt x="1123" y="176"/>
                    </a:lnTo>
                    <a:lnTo>
                      <a:pt x="1117" y="184"/>
                    </a:lnTo>
                    <a:lnTo>
                      <a:pt x="1109" y="192"/>
                    </a:lnTo>
                    <a:lnTo>
                      <a:pt x="1103" y="199"/>
                    </a:lnTo>
                    <a:lnTo>
                      <a:pt x="1097" y="207"/>
                    </a:lnTo>
                    <a:lnTo>
                      <a:pt x="1090" y="213"/>
                    </a:lnTo>
                    <a:lnTo>
                      <a:pt x="1085" y="218"/>
                    </a:lnTo>
                    <a:lnTo>
                      <a:pt x="1063" y="239"/>
                    </a:lnTo>
                    <a:lnTo>
                      <a:pt x="1038" y="259"/>
                    </a:lnTo>
                    <a:lnTo>
                      <a:pt x="1013" y="279"/>
                    </a:lnTo>
                    <a:lnTo>
                      <a:pt x="986" y="298"/>
                    </a:lnTo>
                    <a:lnTo>
                      <a:pt x="958" y="316"/>
                    </a:lnTo>
                    <a:lnTo>
                      <a:pt x="929" y="335"/>
                    </a:lnTo>
                    <a:lnTo>
                      <a:pt x="899" y="352"/>
                    </a:lnTo>
                    <a:lnTo>
                      <a:pt x="868" y="370"/>
                    </a:lnTo>
                    <a:lnTo>
                      <a:pt x="836" y="387"/>
                    </a:lnTo>
                    <a:lnTo>
                      <a:pt x="804" y="403"/>
                    </a:lnTo>
                    <a:lnTo>
                      <a:pt x="772" y="418"/>
                    </a:lnTo>
                    <a:lnTo>
                      <a:pt x="740" y="433"/>
                    </a:lnTo>
                    <a:lnTo>
                      <a:pt x="707" y="448"/>
                    </a:lnTo>
                    <a:lnTo>
                      <a:pt x="675" y="462"/>
                    </a:lnTo>
                    <a:lnTo>
                      <a:pt x="644" y="476"/>
                    </a:lnTo>
                    <a:lnTo>
                      <a:pt x="612" y="488"/>
                    </a:lnTo>
                    <a:lnTo>
                      <a:pt x="582" y="501"/>
                    </a:lnTo>
                    <a:lnTo>
                      <a:pt x="552" y="512"/>
                    </a:lnTo>
                    <a:lnTo>
                      <a:pt x="524" y="523"/>
                    </a:lnTo>
                    <a:lnTo>
                      <a:pt x="496" y="533"/>
                    </a:lnTo>
                    <a:lnTo>
                      <a:pt x="470" y="542"/>
                    </a:lnTo>
                    <a:lnTo>
                      <a:pt x="445" y="550"/>
                    </a:lnTo>
                    <a:lnTo>
                      <a:pt x="422" y="558"/>
                    </a:lnTo>
                    <a:lnTo>
                      <a:pt x="400" y="565"/>
                    </a:lnTo>
                    <a:lnTo>
                      <a:pt x="380" y="571"/>
                    </a:lnTo>
                    <a:lnTo>
                      <a:pt x="364" y="576"/>
                    </a:lnTo>
                    <a:lnTo>
                      <a:pt x="348" y="581"/>
                    </a:lnTo>
                    <a:lnTo>
                      <a:pt x="335" y="585"/>
                    </a:lnTo>
                    <a:lnTo>
                      <a:pt x="325" y="589"/>
                    </a:lnTo>
                    <a:lnTo>
                      <a:pt x="318" y="591"/>
                    </a:lnTo>
                    <a:lnTo>
                      <a:pt x="314" y="593"/>
                    </a:lnTo>
                    <a:lnTo>
                      <a:pt x="312" y="593"/>
                    </a:lnTo>
                    <a:lnTo>
                      <a:pt x="314" y="591"/>
                    </a:lnTo>
                    <a:lnTo>
                      <a:pt x="318" y="590"/>
                    </a:lnTo>
                    <a:lnTo>
                      <a:pt x="325" y="588"/>
                    </a:lnTo>
                    <a:lnTo>
                      <a:pt x="337" y="583"/>
                    </a:lnTo>
                    <a:lnTo>
                      <a:pt x="349" y="578"/>
                    </a:lnTo>
                    <a:lnTo>
                      <a:pt x="365" y="571"/>
                    </a:lnTo>
                    <a:lnTo>
                      <a:pt x="382" y="564"/>
                    </a:lnTo>
                    <a:lnTo>
                      <a:pt x="402" y="555"/>
                    </a:lnTo>
                    <a:lnTo>
                      <a:pt x="424" y="547"/>
                    </a:lnTo>
                    <a:lnTo>
                      <a:pt x="448" y="535"/>
                    </a:lnTo>
                    <a:lnTo>
                      <a:pt x="473" y="525"/>
                    </a:lnTo>
                    <a:lnTo>
                      <a:pt x="500" y="513"/>
                    </a:lnTo>
                    <a:lnTo>
                      <a:pt x="528" y="501"/>
                    </a:lnTo>
                    <a:lnTo>
                      <a:pt x="557" y="487"/>
                    </a:lnTo>
                    <a:lnTo>
                      <a:pt x="588" y="473"/>
                    </a:lnTo>
                    <a:lnTo>
                      <a:pt x="619" y="458"/>
                    </a:lnTo>
                    <a:lnTo>
                      <a:pt x="650" y="443"/>
                    </a:lnTo>
                    <a:lnTo>
                      <a:pt x="682" y="427"/>
                    </a:lnTo>
                    <a:lnTo>
                      <a:pt x="715" y="411"/>
                    </a:lnTo>
                    <a:lnTo>
                      <a:pt x="747" y="395"/>
                    </a:lnTo>
                    <a:lnTo>
                      <a:pt x="779" y="377"/>
                    </a:lnTo>
                    <a:lnTo>
                      <a:pt x="811" y="360"/>
                    </a:lnTo>
                    <a:lnTo>
                      <a:pt x="843" y="342"/>
                    </a:lnTo>
                    <a:lnTo>
                      <a:pt x="874" y="324"/>
                    </a:lnTo>
                    <a:lnTo>
                      <a:pt x="904" y="305"/>
                    </a:lnTo>
                    <a:lnTo>
                      <a:pt x="934" y="286"/>
                    </a:lnTo>
                    <a:lnTo>
                      <a:pt x="962" y="268"/>
                    </a:lnTo>
                    <a:lnTo>
                      <a:pt x="989" y="249"/>
                    </a:lnTo>
                    <a:lnTo>
                      <a:pt x="1015" y="230"/>
                    </a:lnTo>
                    <a:lnTo>
                      <a:pt x="1039" y="211"/>
                    </a:lnTo>
                    <a:lnTo>
                      <a:pt x="1062" y="192"/>
                    </a:lnTo>
                    <a:lnTo>
                      <a:pt x="1083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77800" y="3672000"/>
                <a:ext cx="363600" cy="114120"/>
              </a:xfrm>
              <a:custGeom>
                <a:avLst/>
                <a:gdLst/>
                <a:ahLst/>
                <a:rect l="l" t="t" r="r" b="b"/>
                <a:pathLst>
                  <a:path w="1147" h="361">
                    <a:moveTo>
                      <a:pt x="239" y="74"/>
                    </a:moveTo>
                    <a:lnTo>
                      <a:pt x="0" y="114"/>
                    </a:lnTo>
                    <a:lnTo>
                      <a:pt x="367" y="0"/>
                    </a:lnTo>
                    <a:lnTo>
                      <a:pt x="365" y="1"/>
                    </a:lnTo>
                    <a:lnTo>
                      <a:pt x="359" y="5"/>
                    </a:lnTo>
                    <a:lnTo>
                      <a:pt x="349" y="11"/>
                    </a:lnTo>
                    <a:lnTo>
                      <a:pt x="340" y="19"/>
                    </a:lnTo>
                    <a:lnTo>
                      <a:pt x="331" y="29"/>
                    </a:lnTo>
                    <a:lnTo>
                      <a:pt x="322" y="41"/>
                    </a:lnTo>
                    <a:lnTo>
                      <a:pt x="318" y="53"/>
                    </a:lnTo>
                    <a:lnTo>
                      <a:pt x="317" y="66"/>
                    </a:lnTo>
                    <a:lnTo>
                      <a:pt x="323" y="83"/>
                    </a:lnTo>
                    <a:lnTo>
                      <a:pt x="338" y="107"/>
                    </a:lnTo>
                    <a:lnTo>
                      <a:pt x="358" y="133"/>
                    </a:lnTo>
                    <a:lnTo>
                      <a:pt x="380" y="161"/>
                    </a:lnTo>
                    <a:lnTo>
                      <a:pt x="401" y="187"/>
                    </a:lnTo>
                    <a:lnTo>
                      <a:pt x="420" y="210"/>
                    </a:lnTo>
                    <a:lnTo>
                      <a:pt x="433" y="225"/>
                    </a:lnTo>
                    <a:lnTo>
                      <a:pt x="438" y="231"/>
                    </a:lnTo>
                    <a:lnTo>
                      <a:pt x="496" y="205"/>
                    </a:lnTo>
                    <a:lnTo>
                      <a:pt x="495" y="206"/>
                    </a:lnTo>
                    <a:lnTo>
                      <a:pt x="491" y="210"/>
                    </a:lnTo>
                    <a:lnTo>
                      <a:pt x="486" y="215"/>
                    </a:lnTo>
                    <a:lnTo>
                      <a:pt x="480" y="222"/>
                    </a:lnTo>
                    <a:lnTo>
                      <a:pt x="472" y="230"/>
                    </a:lnTo>
                    <a:lnTo>
                      <a:pt x="465" y="237"/>
                    </a:lnTo>
                    <a:lnTo>
                      <a:pt x="459" y="245"/>
                    </a:lnTo>
                    <a:lnTo>
                      <a:pt x="454" y="252"/>
                    </a:lnTo>
                    <a:lnTo>
                      <a:pt x="446" y="265"/>
                    </a:lnTo>
                    <a:lnTo>
                      <a:pt x="443" y="282"/>
                    </a:lnTo>
                    <a:lnTo>
                      <a:pt x="445" y="301"/>
                    </a:lnTo>
                    <a:lnTo>
                      <a:pt x="457" y="318"/>
                    </a:lnTo>
                    <a:lnTo>
                      <a:pt x="468" y="326"/>
                    </a:lnTo>
                    <a:lnTo>
                      <a:pt x="487" y="331"/>
                    </a:lnTo>
                    <a:lnTo>
                      <a:pt x="510" y="334"/>
                    </a:lnTo>
                    <a:lnTo>
                      <a:pt x="534" y="336"/>
                    </a:lnTo>
                    <a:lnTo>
                      <a:pt x="557" y="337"/>
                    </a:lnTo>
                    <a:lnTo>
                      <a:pt x="576" y="338"/>
                    </a:lnTo>
                    <a:lnTo>
                      <a:pt x="590" y="338"/>
                    </a:lnTo>
                    <a:lnTo>
                      <a:pt x="595" y="338"/>
                    </a:lnTo>
                    <a:lnTo>
                      <a:pt x="611" y="329"/>
                    </a:lnTo>
                    <a:lnTo>
                      <a:pt x="627" y="322"/>
                    </a:lnTo>
                    <a:lnTo>
                      <a:pt x="645" y="313"/>
                    </a:lnTo>
                    <a:lnTo>
                      <a:pt x="664" y="304"/>
                    </a:lnTo>
                    <a:lnTo>
                      <a:pt x="684" y="296"/>
                    </a:lnTo>
                    <a:lnTo>
                      <a:pt x="703" y="288"/>
                    </a:lnTo>
                    <a:lnTo>
                      <a:pt x="724" y="280"/>
                    </a:lnTo>
                    <a:lnTo>
                      <a:pt x="744" y="272"/>
                    </a:lnTo>
                    <a:lnTo>
                      <a:pt x="774" y="261"/>
                    </a:lnTo>
                    <a:lnTo>
                      <a:pt x="806" y="251"/>
                    </a:lnTo>
                    <a:lnTo>
                      <a:pt x="836" y="242"/>
                    </a:lnTo>
                    <a:lnTo>
                      <a:pt x="866" y="234"/>
                    </a:lnTo>
                    <a:lnTo>
                      <a:pt x="896" y="226"/>
                    </a:lnTo>
                    <a:lnTo>
                      <a:pt x="924" y="220"/>
                    </a:lnTo>
                    <a:lnTo>
                      <a:pt x="952" y="215"/>
                    </a:lnTo>
                    <a:lnTo>
                      <a:pt x="979" y="210"/>
                    </a:lnTo>
                    <a:lnTo>
                      <a:pt x="1005" y="206"/>
                    </a:lnTo>
                    <a:lnTo>
                      <a:pt x="1029" y="205"/>
                    </a:lnTo>
                    <a:lnTo>
                      <a:pt x="1052" y="204"/>
                    </a:lnTo>
                    <a:lnTo>
                      <a:pt x="1073" y="204"/>
                    </a:lnTo>
                    <a:lnTo>
                      <a:pt x="1091" y="205"/>
                    </a:lnTo>
                    <a:lnTo>
                      <a:pt x="1108" y="206"/>
                    </a:lnTo>
                    <a:lnTo>
                      <a:pt x="1121" y="210"/>
                    </a:lnTo>
                    <a:lnTo>
                      <a:pt x="1133" y="215"/>
                    </a:lnTo>
                    <a:lnTo>
                      <a:pt x="1140" y="221"/>
                    </a:lnTo>
                    <a:lnTo>
                      <a:pt x="1145" y="227"/>
                    </a:lnTo>
                    <a:lnTo>
                      <a:pt x="1147" y="236"/>
                    </a:lnTo>
                    <a:lnTo>
                      <a:pt x="1145" y="244"/>
                    </a:lnTo>
                    <a:lnTo>
                      <a:pt x="1141" y="253"/>
                    </a:lnTo>
                    <a:lnTo>
                      <a:pt x="1135" y="263"/>
                    </a:lnTo>
                    <a:lnTo>
                      <a:pt x="1125" y="273"/>
                    </a:lnTo>
                    <a:lnTo>
                      <a:pt x="1113" y="285"/>
                    </a:lnTo>
                    <a:lnTo>
                      <a:pt x="1118" y="272"/>
                    </a:lnTo>
                    <a:lnTo>
                      <a:pt x="1119" y="261"/>
                    </a:lnTo>
                    <a:lnTo>
                      <a:pt x="1115" y="252"/>
                    </a:lnTo>
                    <a:lnTo>
                      <a:pt x="1104" y="244"/>
                    </a:lnTo>
                    <a:lnTo>
                      <a:pt x="1093" y="239"/>
                    </a:lnTo>
                    <a:lnTo>
                      <a:pt x="1079" y="235"/>
                    </a:lnTo>
                    <a:lnTo>
                      <a:pt x="1064" y="234"/>
                    </a:lnTo>
                    <a:lnTo>
                      <a:pt x="1045" y="232"/>
                    </a:lnTo>
                    <a:lnTo>
                      <a:pt x="1024" y="232"/>
                    </a:lnTo>
                    <a:lnTo>
                      <a:pt x="1002" y="234"/>
                    </a:lnTo>
                    <a:lnTo>
                      <a:pt x="978" y="235"/>
                    </a:lnTo>
                    <a:lnTo>
                      <a:pt x="952" y="239"/>
                    </a:lnTo>
                    <a:lnTo>
                      <a:pt x="925" y="244"/>
                    </a:lnTo>
                    <a:lnTo>
                      <a:pt x="897" y="248"/>
                    </a:lnTo>
                    <a:lnTo>
                      <a:pt x="869" y="255"/>
                    </a:lnTo>
                    <a:lnTo>
                      <a:pt x="839" y="262"/>
                    </a:lnTo>
                    <a:lnTo>
                      <a:pt x="809" y="271"/>
                    </a:lnTo>
                    <a:lnTo>
                      <a:pt x="778" y="280"/>
                    </a:lnTo>
                    <a:lnTo>
                      <a:pt x="747" y="290"/>
                    </a:lnTo>
                    <a:lnTo>
                      <a:pt x="717" y="301"/>
                    </a:lnTo>
                    <a:lnTo>
                      <a:pt x="701" y="307"/>
                    </a:lnTo>
                    <a:lnTo>
                      <a:pt x="686" y="312"/>
                    </a:lnTo>
                    <a:lnTo>
                      <a:pt x="671" y="318"/>
                    </a:lnTo>
                    <a:lnTo>
                      <a:pt x="656" y="323"/>
                    </a:lnTo>
                    <a:lnTo>
                      <a:pt x="641" y="328"/>
                    </a:lnTo>
                    <a:lnTo>
                      <a:pt x="627" y="333"/>
                    </a:lnTo>
                    <a:lnTo>
                      <a:pt x="614" y="338"/>
                    </a:lnTo>
                    <a:lnTo>
                      <a:pt x="601" y="342"/>
                    </a:lnTo>
                    <a:lnTo>
                      <a:pt x="590" y="347"/>
                    </a:lnTo>
                    <a:lnTo>
                      <a:pt x="580" y="349"/>
                    </a:lnTo>
                    <a:lnTo>
                      <a:pt x="571" y="353"/>
                    </a:lnTo>
                    <a:lnTo>
                      <a:pt x="563" y="356"/>
                    </a:lnTo>
                    <a:lnTo>
                      <a:pt x="557" y="358"/>
                    </a:lnTo>
                    <a:lnTo>
                      <a:pt x="552" y="359"/>
                    </a:lnTo>
                    <a:lnTo>
                      <a:pt x="549" y="361"/>
                    </a:lnTo>
                    <a:lnTo>
                      <a:pt x="548" y="361"/>
                    </a:lnTo>
                    <a:lnTo>
                      <a:pt x="543" y="361"/>
                    </a:lnTo>
                    <a:lnTo>
                      <a:pt x="531" y="361"/>
                    </a:lnTo>
                    <a:lnTo>
                      <a:pt x="511" y="361"/>
                    </a:lnTo>
                    <a:lnTo>
                      <a:pt x="488" y="359"/>
                    </a:lnTo>
                    <a:lnTo>
                      <a:pt x="464" y="357"/>
                    </a:lnTo>
                    <a:lnTo>
                      <a:pt x="440" y="353"/>
                    </a:lnTo>
                    <a:lnTo>
                      <a:pt x="420" y="347"/>
                    </a:lnTo>
                    <a:lnTo>
                      <a:pt x="406" y="339"/>
                    </a:lnTo>
                    <a:lnTo>
                      <a:pt x="395" y="327"/>
                    </a:lnTo>
                    <a:lnTo>
                      <a:pt x="389" y="314"/>
                    </a:lnTo>
                    <a:lnTo>
                      <a:pt x="386" y="302"/>
                    </a:lnTo>
                    <a:lnTo>
                      <a:pt x="386" y="290"/>
                    </a:lnTo>
                    <a:lnTo>
                      <a:pt x="387" y="280"/>
                    </a:lnTo>
                    <a:lnTo>
                      <a:pt x="389" y="271"/>
                    </a:lnTo>
                    <a:lnTo>
                      <a:pt x="390" y="266"/>
                    </a:lnTo>
                    <a:lnTo>
                      <a:pt x="391" y="263"/>
                    </a:lnTo>
                    <a:lnTo>
                      <a:pt x="239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636560" y="3673440"/>
                <a:ext cx="92160" cy="74520"/>
              </a:xfrm>
              <a:custGeom>
                <a:avLst/>
                <a:gdLst/>
                <a:ahLst/>
                <a:rect l="l" t="t" r="r" b="b"/>
                <a:pathLst>
                  <a:path w="293" h="236">
                    <a:moveTo>
                      <a:pt x="0" y="166"/>
                    </a:moveTo>
                    <a:lnTo>
                      <a:pt x="6" y="146"/>
                    </a:lnTo>
                    <a:lnTo>
                      <a:pt x="16" y="127"/>
                    </a:lnTo>
                    <a:lnTo>
                      <a:pt x="31" y="109"/>
                    </a:lnTo>
                    <a:lnTo>
                      <a:pt x="50" y="91"/>
                    </a:lnTo>
                    <a:lnTo>
                      <a:pt x="71" y="75"/>
                    </a:lnTo>
                    <a:lnTo>
                      <a:pt x="95" y="59"/>
                    </a:lnTo>
                    <a:lnTo>
                      <a:pt x="121" y="44"/>
                    </a:lnTo>
                    <a:lnTo>
                      <a:pt x="146" y="30"/>
                    </a:lnTo>
                    <a:lnTo>
                      <a:pt x="171" y="18"/>
                    </a:lnTo>
                    <a:lnTo>
                      <a:pt x="192" y="9"/>
                    </a:lnTo>
                    <a:lnTo>
                      <a:pt x="209" y="3"/>
                    </a:lnTo>
                    <a:lnTo>
                      <a:pt x="222" y="0"/>
                    </a:lnTo>
                    <a:lnTo>
                      <a:pt x="233" y="0"/>
                    </a:lnTo>
                    <a:lnTo>
                      <a:pt x="241" y="3"/>
                    </a:lnTo>
                    <a:lnTo>
                      <a:pt x="248" y="5"/>
                    </a:lnTo>
                    <a:lnTo>
                      <a:pt x="255" y="9"/>
                    </a:lnTo>
                    <a:lnTo>
                      <a:pt x="261" y="14"/>
                    </a:lnTo>
                    <a:lnTo>
                      <a:pt x="266" y="19"/>
                    </a:lnTo>
                    <a:lnTo>
                      <a:pt x="271" y="25"/>
                    </a:lnTo>
                    <a:lnTo>
                      <a:pt x="275" y="33"/>
                    </a:lnTo>
                    <a:lnTo>
                      <a:pt x="280" y="41"/>
                    </a:lnTo>
                    <a:lnTo>
                      <a:pt x="283" y="50"/>
                    </a:lnTo>
                    <a:lnTo>
                      <a:pt x="286" y="60"/>
                    </a:lnTo>
                    <a:lnTo>
                      <a:pt x="289" y="71"/>
                    </a:lnTo>
                    <a:lnTo>
                      <a:pt x="293" y="101"/>
                    </a:lnTo>
                    <a:lnTo>
                      <a:pt x="291" y="128"/>
                    </a:lnTo>
                    <a:lnTo>
                      <a:pt x="284" y="148"/>
                    </a:lnTo>
                    <a:lnTo>
                      <a:pt x="271" y="161"/>
                    </a:lnTo>
                    <a:lnTo>
                      <a:pt x="266" y="162"/>
                    </a:lnTo>
                    <a:lnTo>
                      <a:pt x="261" y="162"/>
                    </a:lnTo>
                    <a:lnTo>
                      <a:pt x="255" y="161"/>
                    </a:lnTo>
                    <a:lnTo>
                      <a:pt x="249" y="158"/>
                    </a:lnTo>
                    <a:lnTo>
                      <a:pt x="244" y="153"/>
                    </a:lnTo>
                    <a:lnTo>
                      <a:pt x="240" y="148"/>
                    </a:lnTo>
                    <a:lnTo>
                      <a:pt x="235" y="141"/>
                    </a:lnTo>
                    <a:lnTo>
                      <a:pt x="231" y="133"/>
                    </a:lnTo>
                    <a:lnTo>
                      <a:pt x="234" y="137"/>
                    </a:lnTo>
                    <a:lnTo>
                      <a:pt x="238" y="140"/>
                    </a:lnTo>
                    <a:lnTo>
                      <a:pt x="241" y="140"/>
                    </a:lnTo>
                    <a:lnTo>
                      <a:pt x="244" y="140"/>
                    </a:lnTo>
                    <a:lnTo>
                      <a:pt x="250" y="133"/>
                    </a:lnTo>
                    <a:lnTo>
                      <a:pt x="254" y="122"/>
                    </a:lnTo>
                    <a:lnTo>
                      <a:pt x="255" y="109"/>
                    </a:lnTo>
                    <a:lnTo>
                      <a:pt x="252" y="92"/>
                    </a:lnTo>
                    <a:lnTo>
                      <a:pt x="247" y="77"/>
                    </a:lnTo>
                    <a:lnTo>
                      <a:pt x="241" y="66"/>
                    </a:lnTo>
                    <a:lnTo>
                      <a:pt x="234" y="60"/>
                    </a:lnTo>
                    <a:lnTo>
                      <a:pt x="226" y="60"/>
                    </a:lnTo>
                    <a:lnTo>
                      <a:pt x="222" y="64"/>
                    </a:lnTo>
                    <a:lnTo>
                      <a:pt x="219" y="69"/>
                    </a:lnTo>
                    <a:lnTo>
                      <a:pt x="216" y="76"/>
                    </a:lnTo>
                    <a:lnTo>
                      <a:pt x="215" y="85"/>
                    </a:lnTo>
                    <a:lnTo>
                      <a:pt x="214" y="70"/>
                    </a:lnTo>
                    <a:lnTo>
                      <a:pt x="215" y="58"/>
                    </a:lnTo>
                    <a:lnTo>
                      <a:pt x="216" y="45"/>
                    </a:lnTo>
                    <a:lnTo>
                      <a:pt x="219" y="34"/>
                    </a:lnTo>
                    <a:lnTo>
                      <a:pt x="214" y="35"/>
                    </a:lnTo>
                    <a:lnTo>
                      <a:pt x="209" y="38"/>
                    </a:lnTo>
                    <a:lnTo>
                      <a:pt x="202" y="39"/>
                    </a:lnTo>
                    <a:lnTo>
                      <a:pt x="195" y="41"/>
                    </a:lnTo>
                    <a:lnTo>
                      <a:pt x="190" y="55"/>
                    </a:lnTo>
                    <a:lnTo>
                      <a:pt x="188" y="71"/>
                    </a:lnTo>
                    <a:lnTo>
                      <a:pt x="188" y="89"/>
                    </a:lnTo>
                    <a:lnTo>
                      <a:pt x="190" y="107"/>
                    </a:lnTo>
                    <a:lnTo>
                      <a:pt x="196" y="128"/>
                    </a:lnTo>
                    <a:lnTo>
                      <a:pt x="204" y="145"/>
                    </a:lnTo>
                    <a:lnTo>
                      <a:pt x="210" y="157"/>
                    </a:lnTo>
                    <a:lnTo>
                      <a:pt x="217" y="166"/>
                    </a:lnTo>
                    <a:lnTo>
                      <a:pt x="222" y="172"/>
                    </a:lnTo>
                    <a:lnTo>
                      <a:pt x="227" y="175"/>
                    </a:lnTo>
                    <a:lnTo>
                      <a:pt x="231" y="177"/>
                    </a:lnTo>
                    <a:lnTo>
                      <a:pt x="232" y="177"/>
                    </a:lnTo>
                    <a:lnTo>
                      <a:pt x="230" y="177"/>
                    </a:lnTo>
                    <a:lnTo>
                      <a:pt x="225" y="177"/>
                    </a:lnTo>
                    <a:lnTo>
                      <a:pt x="218" y="176"/>
                    </a:lnTo>
                    <a:lnTo>
                      <a:pt x="209" y="171"/>
                    </a:lnTo>
                    <a:lnTo>
                      <a:pt x="199" y="165"/>
                    </a:lnTo>
                    <a:lnTo>
                      <a:pt x="190" y="153"/>
                    </a:lnTo>
                    <a:lnTo>
                      <a:pt x="181" y="136"/>
                    </a:lnTo>
                    <a:lnTo>
                      <a:pt x="173" y="114"/>
                    </a:lnTo>
                    <a:lnTo>
                      <a:pt x="171" y="95"/>
                    </a:lnTo>
                    <a:lnTo>
                      <a:pt x="171" y="77"/>
                    </a:lnTo>
                    <a:lnTo>
                      <a:pt x="173" y="61"/>
                    </a:lnTo>
                    <a:lnTo>
                      <a:pt x="177" y="48"/>
                    </a:lnTo>
                    <a:lnTo>
                      <a:pt x="172" y="50"/>
                    </a:lnTo>
                    <a:lnTo>
                      <a:pt x="167" y="53"/>
                    </a:lnTo>
                    <a:lnTo>
                      <a:pt x="162" y="55"/>
                    </a:lnTo>
                    <a:lnTo>
                      <a:pt x="157" y="58"/>
                    </a:lnTo>
                    <a:lnTo>
                      <a:pt x="150" y="61"/>
                    </a:lnTo>
                    <a:lnTo>
                      <a:pt x="145" y="64"/>
                    </a:lnTo>
                    <a:lnTo>
                      <a:pt x="140" y="67"/>
                    </a:lnTo>
                    <a:lnTo>
                      <a:pt x="134" y="71"/>
                    </a:lnTo>
                    <a:lnTo>
                      <a:pt x="114" y="82"/>
                    </a:lnTo>
                    <a:lnTo>
                      <a:pt x="97" y="92"/>
                    </a:lnTo>
                    <a:lnTo>
                      <a:pt x="82" y="101"/>
                    </a:lnTo>
                    <a:lnTo>
                      <a:pt x="69" y="110"/>
                    </a:lnTo>
                    <a:lnTo>
                      <a:pt x="58" y="120"/>
                    </a:lnTo>
                    <a:lnTo>
                      <a:pt x="49" y="130"/>
                    </a:lnTo>
                    <a:lnTo>
                      <a:pt x="44" y="142"/>
                    </a:lnTo>
                    <a:lnTo>
                      <a:pt x="41" y="157"/>
                    </a:lnTo>
                    <a:lnTo>
                      <a:pt x="43" y="183"/>
                    </a:lnTo>
                    <a:lnTo>
                      <a:pt x="55" y="201"/>
                    </a:lnTo>
                    <a:lnTo>
                      <a:pt x="71" y="212"/>
                    </a:lnTo>
                    <a:lnTo>
                      <a:pt x="92" y="218"/>
                    </a:lnTo>
                    <a:lnTo>
                      <a:pt x="113" y="221"/>
                    </a:lnTo>
                    <a:lnTo>
                      <a:pt x="132" y="221"/>
                    </a:lnTo>
                    <a:lnTo>
                      <a:pt x="144" y="219"/>
                    </a:lnTo>
                    <a:lnTo>
                      <a:pt x="149" y="219"/>
                    </a:lnTo>
                    <a:lnTo>
                      <a:pt x="142" y="222"/>
                    </a:lnTo>
                    <a:lnTo>
                      <a:pt x="124" y="227"/>
                    </a:lnTo>
                    <a:lnTo>
                      <a:pt x="99" y="233"/>
                    </a:lnTo>
                    <a:lnTo>
                      <a:pt x="71" y="236"/>
                    </a:lnTo>
                    <a:lnTo>
                      <a:pt x="43" y="233"/>
                    </a:lnTo>
                    <a:lnTo>
                      <a:pt x="19" y="223"/>
                    </a:lnTo>
                    <a:lnTo>
                      <a:pt x="4" y="202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1371600" y="4361040"/>
              <a:ext cx="75564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1371600" y="5018040"/>
              <a:ext cx="728640" cy="23760"/>
              <a:chOff x="1371600" y="5018040"/>
              <a:chExt cx="728640" cy="23760"/>
            </a:xfrm>
          </p:grpSpPr>
          <p:sp>
            <p:nvSpPr>
              <p:cNvPr id="422" name=""/>
              <p:cNvSpPr/>
              <p:nvPr/>
            </p:nvSpPr>
            <p:spPr>
              <a:xfrm>
                <a:off x="1371600" y="5018040"/>
                <a:ext cx="19512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639800" y="5018040"/>
                <a:ext cx="19368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06560" y="5018040"/>
                <a:ext cx="19368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2235240" y="2700360"/>
              <a:ext cx="107964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390760" y="2751120"/>
              <a:ext cx="75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otentially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95800" y="2954160"/>
              <a:ext cx="837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Constrained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387160" y="315756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Flight Le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35240" y="3476520"/>
              <a:ext cx="12747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04800" y="3527280"/>
              <a:ext cx="1001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Unconstrained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87160" y="373068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Flight Le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35240" y="4124160"/>
              <a:ext cx="107964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390760" y="4175280"/>
              <a:ext cx="75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otentially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81400" y="4378320"/>
              <a:ext cx="57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inding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79960" y="458136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tinerar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35240" y="490068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64480" y="495288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N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48880" y="49528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37080" y="4952880"/>
              <a:ext cx="57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inding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79960" y="515448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tinerar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12760" y="2317680"/>
              <a:ext cx="2656080" cy="3355920"/>
            </a:xfrm>
            <a:prstGeom prst="rect">
              <a:avLst/>
            </a:prstGeom>
            <a:solidFill>
              <a:srgbClr val="ccffcc"/>
            </a:solidFill>
            <a:ln w="65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71600" y="4361040"/>
              <a:ext cx="75564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371600" y="5018040"/>
              <a:ext cx="728640" cy="23760"/>
              <a:chOff x="1371600" y="5018040"/>
              <a:chExt cx="728640" cy="23760"/>
            </a:xfrm>
          </p:grpSpPr>
          <p:sp>
            <p:nvSpPr>
              <p:cNvPr id="444" name=""/>
              <p:cNvSpPr/>
              <p:nvPr/>
            </p:nvSpPr>
            <p:spPr>
              <a:xfrm>
                <a:off x="1371600" y="5018040"/>
                <a:ext cx="19512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639800" y="5018040"/>
                <a:ext cx="19368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906560" y="5018040"/>
                <a:ext cx="19368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2235240" y="2700360"/>
              <a:ext cx="107964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90760" y="2751120"/>
              <a:ext cx="75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otentially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95800" y="2954160"/>
              <a:ext cx="837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Constrained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87160" y="315756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Flight Le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235240" y="3476520"/>
              <a:ext cx="12747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404800" y="3527280"/>
              <a:ext cx="1001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Unconstrained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7160" y="373068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Flight Le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235240" y="4124160"/>
              <a:ext cx="107964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390760" y="4175280"/>
              <a:ext cx="75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otentially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81400" y="4378320"/>
              <a:ext cx="57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inding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379960" y="458136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tinerar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35240" y="490068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364480" y="495288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N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48880" y="49528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37080" y="4952880"/>
              <a:ext cx="57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inding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379960" y="515448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tinerar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1523880" y="2743200"/>
              <a:ext cx="609840" cy="457200"/>
              <a:chOff x="1523880" y="2743200"/>
              <a:chExt cx="609840" cy="457200"/>
            </a:xfrm>
          </p:grpSpPr>
          <p:sp>
            <p:nvSpPr>
              <p:cNvPr id="464" name=""/>
              <p:cNvSpPr/>
              <p:nvPr/>
            </p:nvSpPr>
            <p:spPr>
              <a:xfrm>
                <a:off x="1548360" y="298836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5" name=""/>
              <p:cNvGrpSpPr/>
              <p:nvPr/>
            </p:nvGrpSpPr>
            <p:grpSpPr>
              <a:xfrm>
                <a:off x="1523880" y="2743200"/>
                <a:ext cx="609840" cy="457200"/>
                <a:chOff x="1523880" y="2743200"/>
                <a:chExt cx="609840" cy="45720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1732320" y="27968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732320" y="2850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732320" y="30661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732320" y="31197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531440" y="293148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765440" y="27432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765440" y="30121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564920" y="28504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V="1">
                  <a:off x="1564920" y="30121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>
                  <a:off x="1523880" y="29404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6" name=""/>
            <p:cNvGrpSpPr/>
            <p:nvPr/>
          </p:nvGrpSpPr>
          <p:grpSpPr>
            <a:xfrm>
              <a:off x="1539360" y="3456720"/>
              <a:ext cx="607320" cy="513360"/>
              <a:chOff x="1539360" y="3456720"/>
              <a:chExt cx="607320" cy="513360"/>
            </a:xfrm>
          </p:grpSpPr>
          <p:sp>
            <p:nvSpPr>
              <p:cNvPr id="477" name=""/>
              <p:cNvSpPr/>
              <p:nvPr/>
            </p:nvSpPr>
            <p:spPr>
              <a:xfrm rot="19834800">
                <a:off x="1603440" y="366696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1539360" y="3456720"/>
                <a:ext cx="574920" cy="435600"/>
                <a:chOff x="1539360" y="3456720"/>
                <a:chExt cx="574920" cy="435600"/>
              </a:xfrm>
            </p:grpSpPr>
            <p:sp>
              <p:nvSpPr>
                <p:cNvPr id="479" name=""/>
                <p:cNvSpPr/>
                <p:nvPr/>
              </p:nvSpPr>
              <p:spPr>
                <a:xfrm rot="19834800">
                  <a:off x="1656720" y="3517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rot="19834800">
                  <a:off x="1683000" y="3564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rot="19834800">
                  <a:off x="1788840" y="3752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rot="19834800">
                  <a:off x="1815120" y="3799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rot="19834800">
                  <a:off x="1531080" y="361512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rot="19834800">
                  <a:off x="1703160" y="34606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rot="19834800">
                  <a:off x="1835280" y="36950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rot="19834800">
                  <a:off x="1554840" y="36597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V="1" rot="19834800">
                  <a:off x="1634040" y="38005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H="1" rot="19834800">
                  <a:off x="1551600" y="37357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89" name=""/>
          <p:cNvGrpSpPr/>
          <p:nvPr/>
        </p:nvGrpSpPr>
        <p:grpSpPr>
          <a:xfrm>
            <a:off x="4294080" y="2313000"/>
            <a:ext cx="4510080" cy="3367080"/>
            <a:chOff x="4294080" y="2313000"/>
            <a:chExt cx="4510080" cy="3367080"/>
          </a:xfrm>
        </p:grpSpPr>
        <p:sp>
          <p:nvSpPr>
            <p:cNvPr id="490" name=""/>
            <p:cNvSpPr/>
            <p:nvPr/>
          </p:nvSpPr>
          <p:spPr>
            <a:xfrm>
              <a:off x="4294080" y="231300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56360" y="3770280"/>
              <a:ext cx="42372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51560" y="3394080"/>
              <a:ext cx="33048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4886280" y="3776760"/>
              <a:ext cx="401760" cy="866520"/>
              <a:chOff x="4886280" y="3776760"/>
              <a:chExt cx="401760" cy="866520"/>
            </a:xfrm>
          </p:grpSpPr>
          <p:sp>
            <p:nvSpPr>
              <p:cNvPr id="494" name=""/>
              <p:cNvSpPr/>
              <p:nvPr/>
            </p:nvSpPr>
            <p:spPr>
              <a:xfrm>
                <a:off x="4886280" y="445932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992840" y="421956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099040" y="398160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205240" y="3776760"/>
                <a:ext cx="8280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6418440" y="3394080"/>
              <a:ext cx="941040" cy="303120"/>
              <a:chOff x="6418440" y="3394080"/>
              <a:chExt cx="941040" cy="303120"/>
            </a:xfrm>
          </p:grpSpPr>
          <p:sp>
            <p:nvSpPr>
              <p:cNvPr id="499" name=""/>
              <p:cNvSpPr/>
              <p:nvPr/>
            </p:nvSpPr>
            <p:spPr>
              <a:xfrm>
                <a:off x="6418440" y="3619440"/>
                <a:ext cx="18720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669000" y="354492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919920" y="346860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169040" y="339408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602400" y="2727360"/>
              <a:ext cx="685800" cy="871560"/>
              <a:chOff x="6602400" y="2727360"/>
              <a:chExt cx="685800" cy="871560"/>
            </a:xfrm>
          </p:grpSpPr>
          <p:sp>
            <p:nvSpPr>
              <p:cNvPr id="504" name=""/>
              <p:cNvSpPr/>
              <p:nvPr/>
            </p:nvSpPr>
            <p:spPr>
              <a:xfrm>
                <a:off x="6602400" y="343368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764400" y="322740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923160" y="3019320"/>
                <a:ext cx="13644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085160" y="2813040"/>
                <a:ext cx="13464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245360" y="27273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5761080" y="4608360"/>
              <a:ext cx="195120" cy="698760"/>
              <a:chOff x="5761080" y="4608360"/>
              <a:chExt cx="195120" cy="698760"/>
            </a:xfrm>
          </p:grpSpPr>
          <p:sp>
            <p:nvSpPr>
              <p:cNvPr id="510" name=""/>
              <p:cNvSpPr/>
              <p:nvPr/>
            </p:nvSpPr>
            <p:spPr>
              <a:xfrm>
                <a:off x="5888160" y="5116680"/>
                <a:ext cx="6804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824440" y="486252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761080" y="460836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7648560" y="3871800"/>
              <a:ext cx="401760" cy="866880"/>
              <a:chOff x="7648560" y="3871800"/>
              <a:chExt cx="401760" cy="866880"/>
            </a:xfrm>
          </p:grpSpPr>
          <p:sp>
            <p:nvSpPr>
              <p:cNvPr id="514" name=""/>
              <p:cNvSpPr/>
              <p:nvPr/>
            </p:nvSpPr>
            <p:spPr>
              <a:xfrm>
                <a:off x="7648560" y="455436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754760" y="431496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861320" y="407664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967520" y="3871800"/>
                <a:ext cx="8280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6886440" y="3395520"/>
              <a:ext cx="401760" cy="866880"/>
              <a:chOff x="6886440" y="3395520"/>
              <a:chExt cx="401760" cy="866880"/>
            </a:xfrm>
          </p:grpSpPr>
          <p:sp>
            <p:nvSpPr>
              <p:cNvPr id="519" name=""/>
              <p:cNvSpPr/>
              <p:nvPr/>
            </p:nvSpPr>
            <p:spPr>
              <a:xfrm>
                <a:off x="6886440" y="40784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993000" y="383868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099200" y="360036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205760" y="339552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5746680" y="3705120"/>
              <a:ext cx="658800" cy="750960"/>
              <a:chOff x="5746680" y="3705120"/>
              <a:chExt cx="658800" cy="750960"/>
            </a:xfrm>
          </p:grpSpPr>
          <p:sp>
            <p:nvSpPr>
              <p:cNvPr id="524" name=""/>
              <p:cNvSpPr/>
              <p:nvPr/>
            </p:nvSpPr>
            <p:spPr>
              <a:xfrm>
                <a:off x="5746680" y="429732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918040" y="41004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089760" y="390204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64360" y="370512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5270400" y="3011400"/>
              <a:ext cx="588960" cy="682560"/>
              <a:chOff x="5270400" y="3011400"/>
              <a:chExt cx="588960" cy="682560"/>
            </a:xfrm>
          </p:grpSpPr>
          <p:sp>
            <p:nvSpPr>
              <p:cNvPr id="529" name=""/>
              <p:cNvSpPr/>
              <p:nvPr/>
            </p:nvSpPr>
            <p:spPr>
              <a:xfrm>
                <a:off x="5270400" y="353376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38880" y="333360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10240" y="3135240"/>
                <a:ext cx="14112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780160" y="3011400"/>
                <a:ext cx="7920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6130800" y="4627440"/>
              <a:ext cx="1533600" cy="687600"/>
              <a:chOff x="6130800" y="4627440"/>
              <a:chExt cx="1533600" cy="687600"/>
            </a:xfrm>
          </p:grpSpPr>
          <p:sp>
            <p:nvSpPr>
              <p:cNvPr id="534" name=""/>
              <p:cNvSpPr/>
              <p:nvPr/>
            </p:nvSpPr>
            <p:spPr>
              <a:xfrm>
                <a:off x="6130800" y="521820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370560" y="5113440"/>
                <a:ext cx="18432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610320" y="500868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851520" y="490212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089840" y="4799160"/>
                <a:ext cx="18396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329600" y="4692600"/>
                <a:ext cx="18396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570800" y="462744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7088040" y="3114720"/>
              <a:ext cx="486000" cy="565200"/>
              <a:chOff x="7088040" y="3114720"/>
              <a:chExt cx="486000" cy="565200"/>
            </a:xfrm>
          </p:grpSpPr>
          <p:sp>
            <p:nvSpPr>
              <p:cNvPr id="542" name=""/>
              <p:cNvSpPr/>
              <p:nvPr/>
            </p:nvSpPr>
            <p:spPr>
              <a:xfrm>
                <a:off x="7105680" y="3119400"/>
                <a:ext cx="447480" cy="54468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300" y="516"/>
                    </a:lnTo>
                    <a:lnTo>
                      <a:pt x="345" y="678"/>
                    </a:lnTo>
                    <a:lnTo>
                      <a:pt x="331" y="884"/>
                    </a:lnTo>
                    <a:lnTo>
                      <a:pt x="873" y="940"/>
                    </a:lnTo>
                    <a:lnTo>
                      <a:pt x="1169" y="35"/>
                    </a:lnTo>
                    <a:lnTo>
                      <a:pt x="1246" y="0"/>
                    </a:lnTo>
                    <a:lnTo>
                      <a:pt x="1342" y="11"/>
                    </a:lnTo>
                    <a:lnTo>
                      <a:pt x="1407" y="77"/>
                    </a:lnTo>
                    <a:lnTo>
                      <a:pt x="1435" y="237"/>
                    </a:lnTo>
                    <a:lnTo>
                      <a:pt x="1385" y="727"/>
                    </a:lnTo>
                    <a:lnTo>
                      <a:pt x="1352" y="1014"/>
                    </a:lnTo>
                    <a:lnTo>
                      <a:pt x="1708" y="1097"/>
                    </a:lnTo>
                    <a:lnTo>
                      <a:pt x="1883" y="1174"/>
                    </a:lnTo>
                    <a:lnTo>
                      <a:pt x="1976" y="1292"/>
                    </a:lnTo>
                    <a:lnTo>
                      <a:pt x="1958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2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102440" y="3235320"/>
                <a:ext cx="44280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458120" y="33876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19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8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5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410600" y="33796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40" y="99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3" y="36"/>
                    </a:lnTo>
                    <a:lnTo>
                      <a:pt x="11" y="19"/>
                    </a:lnTo>
                    <a:lnTo>
                      <a:pt x="19" y="12"/>
                    </a:lnTo>
                    <a:lnTo>
                      <a:pt x="27" y="6"/>
                    </a:lnTo>
                    <a:lnTo>
                      <a:pt x="37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5" y="10"/>
                    </a:lnTo>
                    <a:lnTo>
                      <a:pt x="99" y="25"/>
                    </a:lnTo>
                    <a:lnTo>
                      <a:pt x="105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60" y="99"/>
                    </a:lnTo>
                    <a:lnTo>
                      <a:pt x="51" y="101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364520" y="33717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316640" y="336384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7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4" y="11"/>
                    </a:lnTo>
                    <a:lnTo>
                      <a:pt x="98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6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0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69120" y="33559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98">
                    <a:moveTo>
                      <a:pt x="39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3" y="36"/>
                    </a:lnTo>
                    <a:lnTo>
                      <a:pt x="11" y="16"/>
                    </a:lnTo>
                    <a:lnTo>
                      <a:pt x="18" y="12"/>
                    </a:lnTo>
                    <a:lnTo>
                      <a:pt x="27" y="5"/>
                    </a:lnTo>
                    <a:lnTo>
                      <a:pt x="36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9" y="23"/>
                    </a:lnTo>
                    <a:lnTo>
                      <a:pt x="106" y="41"/>
                    </a:lnTo>
                    <a:lnTo>
                      <a:pt x="105" y="62"/>
                    </a:lnTo>
                    <a:lnTo>
                      <a:pt x="95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70" y="96"/>
                    </a:lnTo>
                    <a:lnTo>
                      <a:pt x="61" y="98"/>
                    </a:lnTo>
                    <a:lnTo>
                      <a:pt x="50" y="98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223040" y="33480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175520" y="333864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39" y="99"/>
                    </a:moveTo>
                    <a:lnTo>
                      <a:pt x="21" y="91"/>
                    </a:lnTo>
                    <a:lnTo>
                      <a:pt x="6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8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288200" y="311472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5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2" y="293"/>
                    </a:lnTo>
                    <a:lnTo>
                      <a:pt x="189" y="254"/>
                    </a:lnTo>
                    <a:lnTo>
                      <a:pt x="208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7" y="13"/>
                    </a:lnTo>
                    <a:lnTo>
                      <a:pt x="414" y="5"/>
                    </a:lnTo>
                    <a:lnTo>
                      <a:pt x="490" y="0"/>
                    </a:lnTo>
                    <a:lnTo>
                      <a:pt x="561" y="19"/>
                    </a:lnTo>
                    <a:lnTo>
                      <a:pt x="592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9" y="958"/>
                    </a:lnTo>
                    <a:lnTo>
                      <a:pt x="559" y="1063"/>
                    </a:lnTo>
                    <a:lnTo>
                      <a:pt x="504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4" y="348"/>
                    </a:lnTo>
                    <a:lnTo>
                      <a:pt x="604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7" y="81"/>
                    </a:lnTo>
                    <a:lnTo>
                      <a:pt x="532" y="66"/>
                    </a:lnTo>
                    <a:lnTo>
                      <a:pt x="504" y="48"/>
                    </a:lnTo>
                    <a:lnTo>
                      <a:pt x="479" y="40"/>
                    </a:lnTo>
                    <a:lnTo>
                      <a:pt x="438" y="41"/>
                    </a:lnTo>
                    <a:lnTo>
                      <a:pt x="422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5" y="370"/>
                    </a:lnTo>
                    <a:lnTo>
                      <a:pt x="444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5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229520" y="3395520"/>
                <a:ext cx="16992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7" y="1122"/>
                    </a:lnTo>
                    <a:lnTo>
                      <a:pt x="40" y="1177"/>
                    </a:lnTo>
                    <a:lnTo>
                      <a:pt x="57" y="1197"/>
                    </a:lnTo>
                    <a:lnTo>
                      <a:pt x="75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2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0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0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3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7" y="922"/>
                    </a:lnTo>
                    <a:lnTo>
                      <a:pt x="424" y="968"/>
                    </a:lnTo>
                    <a:lnTo>
                      <a:pt x="402" y="1006"/>
                    </a:lnTo>
                    <a:lnTo>
                      <a:pt x="379" y="1039"/>
                    </a:lnTo>
                    <a:lnTo>
                      <a:pt x="356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1" y="1102"/>
                    </a:lnTo>
                    <a:lnTo>
                      <a:pt x="288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7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088040" y="3213000"/>
                <a:ext cx="48600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4" y="454"/>
                    </a:moveTo>
                    <a:lnTo>
                      <a:pt x="380" y="493"/>
                    </a:lnTo>
                    <a:lnTo>
                      <a:pt x="607" y="520"/>
                    </a:lnTo>
                    <a:lnTo>
                      <a:pt x="840" y="551"/>
                    </a:lnTo>
                    <a:lnTo>
                      <a:pt x="1111" y="588"/>
                    </a:lnTo>
                    <a:lnTo>
                      <a:pt x="1386" y="633"/>
                    </a:lnTo>
                    <a:lnTo>
                      <a:pt x="1517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8" y="792"/>
                    </a:lnTo>
                    <a:lnTo>
                      <a:pt x="1959" y="815"/>
                    </a:lnTo>
                    <a:lnTo>
                      <a:pt x="1974" y="836"/>
                    </a:lnTo>
                    <a:lnTo>
                      <a:pt x="1993" y="866"/>
                    </a:lnTo>
                    <a:lnTo>
                      <a:pt x="2005" y="894"/>
                    </a:lnTo>
                    <a:lnTo>
                      <a:pt x="2005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7"/>
                    </a:lnTo>
                    <a:lnTo>
                      <a:pt x="1556" y="915"/>
                    </a:lnTo>
                    <a:lnTo>
                      <a:pt x="1419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9" y="797"/>
                    </a:lnTo>
                    <a:lnTo>
                      <a:pt x="837" y="767"/>
                    </a:lnTo>
                    <a:lnTo>
                      <a:pt x="706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1" y="673"/>
                    </a:lnTo>
                    <a:lnTo>
                      <a:pt x="345" y="659"/>
                    </a:lnTo>
                    <a:lnTo>
                      <a:pt x="159" y="413"/>
                    </a:lnTo>
                    <a:lnTo>
                      <a:pt x="264" y="409"/>
                    </a:lnTo>
                    <a:lnTo>
                      <a:pt x="179" y="239"/>
                    </a:lnTo>
                    <a:lnTo>
                      <a:pt x="308" y="232"/>
                    </a:lnTo>
                    <a:lnTo>
                      <a:pt x="110" y="0"/>
                    </a:lnTo>
                    <a:lnTo>
                      <a:pt x="38" y="68"/>
                    </a:lnTo>
                    <a:lnTo>
                      <a:pt x="0" y="180"/>
                    </a:lnTo>
                    <a:lnTo>
                      <a:pt x="4" y="298"/>
                    </a:lnTo>
                    <a:lnTo>
                      <a:pt x="15" y="381"/>
                    </a:lnTo>
                    <a:lnTo>
                      <a:pt x="31" y="463"/>
                    </a:lnTo>
                    <a:lnTo>
                      <a:pt x="49" y="538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2" y="697"/>
                    </a:lnTo>
                    <a:lnTo>
                      <a:pt x="233" y="723"/>
                    </a:lnTo>
                    <a:lnTo>
                      <a:pt x="267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7" y="785"/>
                    </a:lnTo>
                    <a:lnTo>
                      <a:pt x="415" y="801"/>
                    </a:lnTo>
                    <a:lnTo>
                      <a:pt x="455" y="816"/>
                    </a:lnTo>
                    <a:lnTo>
                      <a:pt x="492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9" y="896"/>
                    </a:lnTo>
                    <a:lnTo>
                      <a:pt x="716" y="916"/>
                    </a:lnTo>
                    <a:lnTo>
                      <a:pt x="763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5" y="933"/>
                    </a:lnTo>
                    <a:lnTo>
                      <a:pt x="1296" y="1082"/>
                    </a:lnTo>
                    <a:lnTo>
                      <a:pt x="1373" y="1099"/>
                    </a:lnTo>
                    <a:lnTo>
                      <a:pt x="1456" y="1114"/>
                    </a:lnTo>
                    <a:lnTo>
                      <a:pt x="1559" y="1131"/>
                    </a:lnTo>
                    <a:lnTo>
                      <a:pt x="1678" y="1145"/>
                    </a:lnTo>
                    <a:lnTo>
                      <a:pt x="1791" y="1148"/>
                    </a:lnTo>
                    <a:lnTo>
                      <a:pt x="1893" y="1147"/>
                    </a:lnTo>
                    <a:lnTo>
                      <a:pt x="1984" y="1131"/>
                    </a:lnTo>
                    <a:lnTo>
                      <a:pt x="2053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2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7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800"/>
                    </a:lnTo>
                    <a:lnTo>
                      <a:pt x="2030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5" y="686"/>
                    </a:lnTo>
                    <a:lnTo>
                      <a:pt x="1790" y="669"/>
                    </a:lnTo>
                    <a:lnTo>
                      <a:pt x="1733" y="652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9" y="529"/>
                    </a:lnTo>
                    <a:lnTo>
                      <a:pt x="784" y="499"/>
                    </a:lnTo>
                    <a:lnTo>
                      <a:pt x="594" y="476"/>
                    </a:lnTo>
                    <a:lnTo>
                      <a:pt x="414" y="454"/>
                    </a:lnTo>
                    <a:lnTo>
                      <a:pt x="414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104240" y="320832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361280" y="349884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3" y="0"/>
                    </a:moveTo>
                    <a:lnTo>
                      <a:pt x="162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2" y="178"/>
                    </a:lnTo>
                    <a:lnTo>
                      <a:pt x="182" y="209"/>
                    </a:lnTo>
                    <a:lnTo>
                      <a:pt x="142" y="213"/>
                    </a:lnTo>
                    <a:lnTo>
                      <a:pt x="0" y="19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147080" y="3473280"/>
                <a:ext cx="9180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7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211880" y="3203640"/>
                <a:ext cx="82800" cy="25200"/>
              </a:xfrm>
              <a:custGeom>
                <a:avLst/>
                <a:gdLst/>
                <a:ahLst/>
                <a:rect l="l" t="t" r="r" b="b"/>
                <a:pathLst>
                  <a:path w="369" h="110">
                    <a:moveTo>
                      <a:pt x="369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69" y="18"/>
                    </a:lnTo>
                    <a:lnTo>
                      <a:pt x="36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419960" y="322416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1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4992840" y="3495600"/>
              <a:ext cx="487080" cy="566640"/>
              <a:chOff x="4992840" y="3495600"/>
              <a:chExt cx="487080" cy="566640"/>
            </a:xfrm>
          </p:grpSpPr>
          <p:sp>
            <p:nvSpPr>
              <p:cNvPr id="560" name=""/>
              <p:cNvSpPr/>
              <p:nvPr/>
            </p:nvSpPr>
            <p:spPr>
              <a:xfrm>
                <a:off x="5010120" y="3500280"/>
                <a:ext cx="447840" cy="544680"/>
              </a:xfrm>
              <a:custGeom>
                <a:avLst/>
                <a:gdLst/>
                <a:ahLst/>
                <a:rect l="l" t="t" r="r" b="b"/>
                <a:pathLst>
                  <a:path w="1976" h="2401">
                    <a:moveTo>
                      <a:pt x="0" y="481"/>
                    </a:moveTo>
                    <a:lnTo>
                      <a:pt x="178" y="436"/>
                    </a:lnTo>
                    <a:lnTo>
                      <a:pt x="299" y="515"/>
                    </a:lnTo>
                    <a:lnTo>
                      <a:pt x="344" y="677"/>
                    </a:lnTo>
                    <a:lnTo>
                      <a:pt x="330" y="883"/>
                    </a:lnTo>
                    <a:lnTo>
                      <a:pt x="872" y="939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1"/>
                    </a:lnTo>
                    <a:lnTo>
                      <a:pt x="1957" y="1383"/>
                    </a:lnTo>
                    <a:lnTo>
                      <a:pt x="1850" y="1449"/>
                    </a:lnTo>
                    <a:lnTo>
                      <a:pt x="1265" y="1374"/>
                    </a:lnTo>
                    <a:lnTo>
                      <a:pt x="1060" y="2012"/>
                    </a:lnTo>
                    <a:lnTo>
                      <a:pt x="956" y="2270"/>
                    </a:lnTo>
                    <a:lnTo>
                      <a:pt x="849" y="2401"/>
                    </a:lnTo>
                    <a:lnTo>
                      <a:pt x="655" y="2375"/>
                    </a:lnTo>
                    <a:lnTo>
                      <a:pt x="609" y="2228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1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006880" y="3618000"/>
                <a:ext cx="443160" cy="203040"/>
              </a:xfrm>
              <a:custGeom>
                <a:avLst/>
                <a:gdLst/>
                <a:ahLst/>
                <a:rect l="l" t="t" r="r" b="b"/>
                <a:pathLst>
                  <a:path w="1955" h="897">
                    <a:moveTo>
                      <a:pt x="1955" y="831"/>
                    </a:moveTo>
                    <a:lnTo>
                      <a:pt x="298" y="471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7"/>
                    </a:lnTo>
                    <a:lnTo>
                      <a:pt x="1913" y="881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362560" y="376884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8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3"/>
                    </a:lnTo>
                    <a:lnTo>
                      <a:pt x="86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315040" y="376092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1" y="90"/>
                    </a:lnTo>
                    <a:lnTo>
                      <a:pt x="8" y="75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5"/>
                    </a:lnTo>
                    <a:lnTo>
                      <a:pt x="69" y="98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268960" y="375300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8" y="98"/>
                    </a:moveTo>
                    <a:lnTo>
                      <a:pt x="18" y="90"/>
                    </a:lnTo>
                    <a:lnTo>
                      <a:pt x="6" y="76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9" y="20"/>
                    </a:lnTo>
                    <a:lnTo>
                      <a:pt x="17" y="12"/>
                    </a:lnTo>
                    <a:lnTo>
                      <a:pt x="25" y="7"/>
                    </a:lnTo>
                    <a:lnTo>
                      <a:pt x="34" y="3"/>
                    </a:lnTo>
                    <a:lnTo>
                      <a:pt x="43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4" y="82"/>
                    </a:lnTo>
                    <a:lnTo>
                      <a:pt x="86" y="89"/>
                    </a:lnTo>
                    <a:lnTo>
                      <a:pt x="79" y="94"/>
                    </a:lnTo>
                    <a:lnTo>
                      <a:pt x="69" y="98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221440" y="374508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6" h="100">
                    <a:moveTo>
                      <a:pt x="39" y="97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7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4"/>
                    </a:lnTo>
                    <a:lnTo>
                      <a:pt x="103" y="63"/>
                    </a:lnTo>
                    <a:lnTo>
                      <a:pt x="95" y="81"/>
                    </a:lnTo>
                    <a:lnTo>
                      <a:pt x="87" y="88"/>
                    </a:lnTo>
                    <a:lnTo>
                      <a:pt x="80" y="92"/>
                    </a:lnTo>
                    <a:lnTo>
                      <a:pt x="69" y="97"/>
                    </a:lnTo>
                    <a:lnTo>
                      <a:pt x="61" y="100"/>
                    </a:lnTo>
                    <a:lnTo>
                      <a:pt x="51" y="99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173560" y="37368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8"/>
                    </a:moveTo>
                    <a:lnTo>
                      <a:pt x="21" y="88"/>
                    </a:lnTo>
                    <a:lnTo>
                      <a:pt x="6" y="73"/>
                    </a:lnTo>
                    <a:lnTo>
                      <a:pt x="0" y="55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2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7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49" y="99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127480" y="372888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8"/>
                    </a:moveTo>
                    <a:lnTo>
                      <a:pt x="19" y="90"/>
                    </a:lnTo>
                    <a:lnTo>
                      <a:pt x="6" y="74"/>
                    </a:lnTo>
                    <a:lnTo>
                      <a:pt x="0" y="57"/>
                    </a:lnTo>
                    <a:lnTo>
                      <a:pt x="0" y="37"/>
                    </a:lnTo>
                    <a:lnTo>
                      <a:pt x="11" y="18"/>
                    </a:lnTo>
                    <a:lnTo>
                      <a:pt x="16" y="12"/>
                    </a:lnTo>
                    <a:lnTo>
                      <a:pt x="25" y="6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3"/>
                    </a:lnTo>
                    <a:lnTo>
                      <a:pt x="84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079960" y="37209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8"/>
                    </a:moveTo>
                    <a:lnTo>
                      <a:pt x="21" y="91"/>
                    </a:lnTo>
                    <a:lnTo>
                      <a:pt x="7" y="75"/>
                    </a:lnTo>
                    <a:lnTo>
                      <a:pt x="0" y="58"/>
                    </a:lnTo>
                    <a:lnTo>
                      <a:pt x="1" y="38"/>
                    </a:lnTo>
                    <a:lnTo>
                      <a:pt x="11" y="19"/>
                    </a:lnTo>
                    <a:lnTo>
                      <a:pt x="19" y="13"/>
                    </a:lnTo>
                    <a:lnTo>
                      <a:pt x="27" y="7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5" y="82"/>
                    </a:lnTo>
                    <a:lnTo>
                      <a:pt x="88" y="88"/>
                    </a:lnTo>
                    <a:lnTo>
                      <a:pt x="78" y="94"/>
                    </a:lnTo>
                    <a:lnTo>
                      <a:pt x="69" y="98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8"/>
                    </a:lnTo>
                    <a:lnTo>
                      <a:pt x="4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192640" y="349560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9"/>
                    </a:lnTo>
                    <a:lnTo>
                      <a:pt x="54" y="682"/>
                    </a:lnTo>
                    <a:lnTo>
                      <a:pt x="74" y="597"/>
                    </a:lnTo>
                    <a:lnTo>
                      <a:pt x="98" y="510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4"/>
                    </a:lnTo>
                    <a:lnTo>
                      <a:pt x="189" y="254"/>
                    </a:lnTo>
                    <a:lnTo>
                      <a:pt x="207" y="216"/>
                    </a:lnTo>
                    <a:lnTo>
                      <a:pt x="226" y="180"/>
                    </a:lnTo>
                    <a:lnTo>
                      <a:pt x="247" y="147"/>
                    </a:lnTo>
                    <a:lnTo>
                      <a:pt x="266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2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20"/>
                    </a:lnTo>
                    <a:lnTo>
                      <a:pt x="591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8"/>
                    </a:lnTo>
                    <a:lnTo>
                      <a:pt x="603" y="349"/>
                    </a:lnTo>
                    <a:lnTo>
                      <a:pt x="603" y="225"/>
                    </a:lnTo>
                    <a:lnTo>
                      <a:pt x="598" y="178"/>
                    </a:lnTo>
                    <a:lnTo>
                      <a:pt x="588" y="144"/>
                    </a:lnTo>
                    <a:lnTo>
                      <a:pt x="560" y="98"/>
                    </a:lnTo>
                    <a:lnTo>
                      <a:pt x="546" y="81"/>
                    </a:lnTo>
                    <a:lnTo>
                      <a:pt x="532" y="67"/>
                    </a:lnTo>
                    <a:lnTo>
                      <a:pt x="503" y="48"/>
                    </a:lnTo>
                    <a:lnTo>
                      <a:pt x="478" y="41"/>
                    </a:lnTo>
                    <a:lnTo>
                      <a:pt x="438" y="42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7"/>
                    </a:lnTo>
                    <a:lnTo>
                      <a:pt x="317" y="569"/>
                    </a:lnTo>
                    <a:lnTo>
                      <a:pt x="393" y="692"/>
                    </a:lnTo>
                    <a:lnTo>
                      <a:pt x="281" y="772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133960" y="3776760"/>
                <a:ext cx="169920" cy="285480"/>
              </a:xfrm>
              <a:custGeom>
                <a:avLst/>
                <a:gdLst/>
                <a:ahLst/>
                <a:rect l="l" t="t" r="r" b="b"/>
                <a:pathLst>
                  <a:path w="746" h="1258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5"/>
                    </a:lnTo>
                    <a:lnTo>
                      <a:pt x="91" y="348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2"/>
                    </a:lnTo>
                    <a:lnTo>
                      <a:pt x="0" y="967"/>
                    </a:lnTo>
                    <a:lnTo>
                      <a:pt x="5" y="1052"/>
                    </a:lnTo>
                    <a:lnTo>
                      <a:pt x="18" y="1123"/>
                    </a:lnTo>
                    <a:lnTo>
                      <a:pt x="41" y="1178"/>
                    </a:lnTo>
                    <a:lnTo>
                      <a:pt x="57" y="1197"/>
                    </a:lnTo>
                    <a:lnTo>
                      <a:pt x="76" y="1213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7"/>
                    </a:lnTo>
                    <a:lnTo>
                      <a:pt x="259" y="1258"/>
                    </a:lnTo>
                    <a:lnTo>
                      <a:pt x="303" y="1239"/>
                    </a:lnTo>
                    <a:lnTo>
                      <a:pt x="327" y="1224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6"/>
                    </a:lnTo>
                    <a:lnTo>
                      <a:pt x="452" y="1087"/>
                    </a:lnTo>
                    <a:lnTo>
                      <a:pt x="481" y="1042"/>
                    </a:lnTo>
                    <a:lnTo>
                      <a:pt x="507" y="984"/>
                    </a:lnTo>
                    <a:lnTo>
                      <a:pt x="534" y="917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8"/>
                    </a:lnTo>
                    <a:lnTo>
                      <a:pt x="655" y="505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30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7"/>
                    </a:lnTo>
                    <a:lnTo>
                      <a:pt x="380" y="1040"/>
                    </a:lnTo>
                    <a:lnTo>
                      <a:pt x="357" y="1066"/>
                    </a:lnTo>
                    <a:lnTo>
                      <a:pt x="345" y="1077"/>
                    </a:lnTo>
                    <a:lnTo>
                      <a:pt x="333" y="1086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1"/>
                    </a:lnTo>
                    <a:lnTo>
                      <a:pt x="204" y="1123"/>
                    </a:lnTo>
                    <a:lnTo>
                      <a:pt x="178" y="1116"/>
                    </a:lnTo>
                    <a:lnTo>
                      <a:pt x="318" y="904"/>
                    </a:lnTo>
                    <a:lnTo>
                      <a:pt x="183" y="751"/>
                    </a:lnTo>
                    <a:lnTo>
                      <a:pt x="363" y="676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7"/>
                    </a:lnTo>
                    <a:lnTo>
                      <a:pt x="515" y="60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992840" y="3594240"/>
                <a:ext cx="487080" cy="260280"/>
              </a:xfrm>
              <a:custGeom>
                <a:avLst/>
                <a:gdLst/>
                <a:ahLst/>
                <a:rect l="l" t="t" r="r" b="b"/>
                <a:pathLst>
                  <a:path w="2148" h="1147">
                    <a:moveTo>
                      <a:pt x="413" y="454"/>
                    </a:moveTo>
                    <a:lnTo>
                      <a:pt x="379" y="492"/>
                    </a:lnTo>
                    <a:lnTo>
                      <a:pt x="607" y="519"/>
                    </a:lnTo>
                    <a:lnTo>
                      <a:pt x="839" y="550"/>
                    </a:lnTo>
                    <a:lnTo>
                      <a:pt x="1110" y="587"/>
                    </a:lnTo>
                    <a:lnTo>
                      <a:pt x="1385" y="632"/>
                    </a:lnTo>
                    <a:lnTo>
                      <a:pt x="1516" y="655"/>
                    </a:lnTo>
                    <a:lnTo>
                      <a:pt x="1634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1"/>
                    </a:lnTo>
                    <a:lnTo>
                      <a:pt x="1958" y="814"/>
                    </a:lnTo>
                    <a:lnTo>
                      <a:pt x="1973" y="835"/>
                    </a:lnTo>
                    <a:lnTo>
                      <a:pt x="1992" y="866"/>
                    </a:lnTo>
                    <a:lnTo>
                      <a:pt x="2004" y="893"/>
                    </a:lnTo>
                    <a:lnTo>
                      <a:pt x="2004" y="932"/>
                    </a:lnTo>
                    <a:lnTo>
                      <a:pt x="1989" y="951"/>
                    </a:lnTo>
                    <a:lnTo>
                      <a:pt x="1975" y="963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6"/>
                    </a:lnTo>
                    <a:lnTo>
                      <a:pt x="1555" y="914"/>
                    </a:lnTo>
                    <a:lnTo>
                      <a:pt x="1418" y="887"/>
                    </a:lnTo>
                    <a:lnTo>
                      <a:pt x="1274" y="858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6"/>
                    </a:lnTo>
                    <a:lnTo>
                      <a:pt x="705" y="739"/>
                    </a:lnTo>
                    <a:lnTo>
                      <a:pt x="587" y="711"/>
                    </a:lnTo>
                    <a:lnTo>
                      <a:pt x="487" y="691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2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1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0"/>
                    </a:lnTo>
                    <a:lnTo>
                      <a:pt x="31" y="462"/>
                    </a:lnTo>
                    <a:lnTo>
                      <a:pt x="48" y="537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6"/>
                    </a:lnTo>
                    <a:lnTo>
                      <a:pt x="171" y="696"/>
                    </a:lnTo>
                    <a:lnTo>
                      <a:pt x="232" y="722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7"/>
                    </a:lnTo>
                    <a:lnTo>
                      <a:pt x="376" y="785"/>
                    </a:lnTo>
                    <a:lnTo>
                      <a:pt x="415" y="800"/>
                    </a:lnTo>
                    <a:lnTo>
                      <a:pt x="454" y="815"/>
                    </a:lnTo>
                    <a:lnTo>
                      <a:pt x="491" y="831"/>
                    </a:lnTo>
                    <a:lnTo>
                      <a:pt x="528" y="846"/>
                    </a:lnTo>
                    <a:lnTo>
                      <a:pt x="596" y="873"/>
                    </a:lnTo>
                    <a:lnTo>
                      <a:pt x="658" y="895"/>
                    </a:lnTo>
                    <a:lnTo>
                      <a:pt x="715" y="915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8"/>
                    </a:lnTo>
                    <a:lnTo>
                      <a:pt x="1456" y="1113"/>
                    </a:lnTo>
                    <a:lnTo>
                      <a:pt x="1559" y="1130"/>
                    </a:lnTo>
                    <a:lnTo>
                      <a:pt x="1677" y="1144"/>
                    </a:lnTo>
                    <a:lnTo>
                      <a:pt x="1790" y="1147"/>
                    </a:lnTo>
                    <a:lnTo>
                      <a:pt x="1892" y="1146"/>
                    </a:lnTo>
                    <a:lnTo>
                      <a:pt x="1983" y="1130"/>
                    </a:lnTo>
                    <a:lnTo>
                      <a:pt x="2052" y="1107"/>
                    </a:lnTo>
                    <a:lnTo>
                      <a:pt x="2101" y="1080"/>
                    </a:lnTo>
                    <a:lnTo>
                      <a:pt x="2125" y="1055"/>
                    </a:lnTo>
                    <a:lnTo>
                      <a:pt x="2141" y="1023"/>
                    </a:lnTo>
                    <a:lnTo>
                      <a:pt x="2148" y="987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3"/>
                    </a:lnTo>
                    <a:lnTo>
                      <a:pt x="2088" y="844"/>
                    </a:lnTo>
                    <a:lnTo>
                      <a:pt x="2058" y="812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8"/>
                    </a:lnTo>
                    <a:lnTo>
                      <a:pt x="1966" y="745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4" y="700"/>
                    </a:lnTo>
                    <a:lnTo>
                      <a:pt x="1834" y="685"/>
                    </a:lnTo>
                    <a:lnTo>
                      <a:pt x="1789" y="668"/>
                    </a:lnTo>
                    <a:lnTo>
                      <a:pt x="1732" y="651"/>
                    </a:lnTo>
                    <a:lnTo>
                      <a:pt x="1658" y="634"/>
                    </a:lnTo>
                    <a:lnTo>
                      <a:pt x="1570" y="616"/>
                    </a:lnTo>
                    <a:lnTo>
                      <a:pt x="1469" y="598"/>
                    </a:lnTo>
                    <a:lnTo>
                      <a:pt x="1244" y="561"/>
                    </a:lnTo>
                    <a:lnTo>
                      <a:pt x="1008" y="528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010120" y="3589200"/>
                <a:ext cx="8424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7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100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0" y="427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6"/>
                    </a:lnTo>
                    <a:lnTo>
                      <a:pt x="276" y="157"/>
                    </a:lnTo>
                    <a:lnTo>
                      <a:pt x="263" y="140"/>
                    </a:lnTo>
                    <a:lnTo>
                      <a:pt x="247" y="127"/>
                    </a:lnTo>
                    <a:lnTo>
                      <a:pt x="232" y="119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30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265720" y="3879720"/>
                <a:ext cx="54000" cy="47880"/>
              </a:xfrm>
              <a:custGeom>
                <a:avLst/>
                <a:gdLst/>
                <a:ahLst/>
                <a:rect l="l" t="t" r="r" b="b"/>
                <a:pathLst>
                  <a:path w="234" h="214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5"/>
                    </a:lnTo>
                    <a:lnTo>
                      <a:pt x="234" y="127"/>
                    </a:lnTo>
                    <a:lnTo>
                      <a:pt x="221" y="179"/>
                    </a:lnTo>
                    <a:lnTo>
                      <a:pt x="182" y="209"/>
                    </a:lnTo>
                    <a:lnTo>
                      <a:pt x="141" y="214"/>
                    </a:lnTo>
                    <a:lnTo>
                      <a:pt x="0" y="200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051520" y="3854520"/>
                <a:ext cx="92160" cy="3312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0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0"/>
                    </a:lnTo>
                    <a:lnTo>
                      <a:pt x="40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116680" y="3584520"/>
                <a:ext cx="8388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324400" y="3605040"/>
                <a:ext cx="54000" cy="5112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40"/>
                    </a:lnTo>
                    <a:lnTo>
                      <a:pt x="223" y="87"/>
                    </a:lnTo>
                    <a:lnTo>
                      <a:pt x="234" y="140"/>
                    </a:lnTo>
                    <a:lnTo>
                      <a:pt x="220" y="191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6135840" y="3591000"/>
              <a:ext cx="571320" cy="204840"/>
              <a:chOff x="6135840" y="3591000"/>
              <a:chExt cx="571320" cy="204840"/>
            </a:xfrm>
          </p:grpSpPr>
          <p:sp>
            <p:nvSpPr>
              <p:cNvPr id="578" name=""/>
              <p:cNvSpPr/>
              <p:nvPr/>
            </p:nvSpPr>
            <p:spPr>
              <a:xfrm>
                <a:off x="6135840" y="359100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377040" y="3633840"/>
                <a:ext cx="60120" cy="3492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286680" y="3624120"/>
                <a:ext cx="60120" cy="5112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175440" y="3733920"/>
                <a:ext cx="279360" cy="6012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135840" y="3618000"/>
                <a:ext cx="21240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380280" y="3592440"/>
                <a:ext cx="32364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170760" y="3654360"/>
                <a:ext cx="32040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10440" y="3657600"/>
                <a:ext cx="82440" cy="540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6421320" y="4257720"/>
              <a:ext cx="571680" cy="204840"/>
              <a:chOff x="6421320" y="4257720"/>
              <a:chExt cx="571680" cy="204840"/>
            </a:xfrm>
          </p:grpSpPr>
          <p:sp>
            <p:nvSpPr>
              <p:cNvPr id="587" name=""/>
              <p:cNvSpPr/>
              <p:nvPr/>
            </p:nvSpPr>
            <p:spPr>
              <a:xfrm>
                <a:off x="6421320" y="425772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662880" y="429912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9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7" y="73"/>
                    </a:lnTo>
                    <a:lnTo>
                      <a:pt x="50" y="84"/>
                    </a:lnTo>
                    <a:lnTo>
                      <a:pt x="37" y="95"/>
                    </a:lnTo>
                    <a:lnTo>
                      <a:pt x="25" y="106"/>
                    </a:lnTo>
                    <a:lnTo>
                      <a:pt x="16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5" y="134"/>
                    </a:lnTo>
                    <a:lnTo>
                      <a:pt x="3" y="133"/>
                    </a:lnTo>
                    <a:lnTo>
                      <a:pt x="2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5" y="106"/>
                    </a:lnTo>
                    <a:lnTo>
                      <a:pt x="15" y="91"/>
                    </a:lnTo>
                    <a:lnTo>
                      <a:pt x="29" y="75"/>
                    </a:lnTo>
                    <a:lnTo>
                      <a:pt x="46" y="59"/>
                    </a:lnTo>
                    <a:lnTo>
                      <a:pt x="66" y="43"/>
                    </a:lnTo>
                    <a:lnTo>
                      <a:pt x="88" y="29"/>
                    </a:lnTo>
                    <a:lnTo>
                      <a:pt x="111" y="16"/>
                    </a:lnTo>
                    <a:lnTo>
                      <a:pt x="134" y="8"/>
                    </a:lnTo>
                    <a:lnTo>
                      <a:pt x="154" y="2"/>
                    </a:lnTo>
                    <a:lnTo>
                      <a:pt x="172" y="0"/>
                    </a:lnTo>
                    <a:lnTo>
                      <a:pt x="189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8" y="24"/>
                    </a:lnTo>
                    <a:lnTo>
                      <a:pt x="229" y="26"/>
                    </a:lnTo>
                    <a:lnTo>
                      <a:pt x="229" y="29"/>
                    </a:lnTo>
                    <a:lnTo>
                      <a:pt x="229" y="32"/>
                    </a:lnTo>
                    <a:lnTo>
                      <a:pt x="228" y="34"/>
                    </a:lnTo>
                    <a:lnTo>
                      <a:pt x="220" y="30"/>
                    </a:lnTo>
                    <a:lnTo>
                      <a:pt x="209" y="27"/>
                    </a:lnTo>
                    <a:lnTo>
                      <a:pt x="196" y="27"/>
                    </a:lnTo>
                    <a:lnTo>
                      <a:pt x="180" y="29"/>
                    </a:lnTo>
                    <a:lnTo>
                      <a:pt x="163" y="32"/>
                    </a:lnTo>
                    <a:lnTo>
                      <a:pt x="144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572160" y="4289400"/>
                <a:ext cx="60480" cy="525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0" y="89"/>
                    </a:lnTo>
                    <a:lnTo>
                      <a:pt x="225" y="182"/>
                    </a:lnTo>
                    <a:lnTo>
                      <a:pt x="196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461280" y="440064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5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2" y="221"/>
                    </a:lnTo>
                    <a:lnTo>
                      <a:pt x="4" y="219"/>
                    </a:lnTo>
                    <a:lnTo>
                      <a:pt x="9" y="216"/>
                    </a:lnTo>
                    <a:lnTo>
                      <a:pt x="14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69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5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0" y="99"/>
                    </a:lnTo>
                    <a:lnTo>
                      <a:pt x="256" y="95"/>
                    </a:lnTo>
                    <a:lnTo>
                      <a:pt x="272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8" y="78"/>
                    </a:lnTo>
                    <a:lnTo>
                      <a:pt x="347" y="75"/>
                    </a:lnTo>
                    <a:lnTo>
                      <a:pt x="365" y="72"/>
                    </a:lnTo>
                    <a:lnTo>
                      <a:pt x="381" y="68"/>
                    </a:lnTo>
                    <a:lnTo>
                      <a:pt x="398" y="65"/>
                    </a:lnTo>
                    <a:lnTo>
                      <a:pt x="411" y="63"/>
                    </a:lnTo>
                    <a:lnTo>
                      <a:pt x="422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0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4" y="135"/>
                    </a:lnTo>
                    <a:lnTo>
                      <a:pt x="328" y="132"/>
                    </a:lnTo>
                    <a:lnTo>
                      <a:pt x="355" y="128"/>
                    </a:lnTo>
                    <a:lnTo>
                      <a:pt x="381" y="124"/>
                    </a:lnTo>
                    <a:lnTo>
                      <a:pt x="410" y="120"/>
                    </a:lnTo>
                    <a:lnTo>
                      <a:pt x="439" y="116"/>
                    </a:lnTo>
                    <a:lnTo>
                      <a:pt x="468" y="111"/>
                    </a:lnTo>
                    <a:lnTo>
                      <a:pt x="499" y="106"/>
                    </a:lnTo>
                    <a:lnTo>
                      <a:pt x="530" y="101"/>
                    </a:lnTo>
                    <a:lnTo>
                      <a:pt x="562" y="96"/>
                    </a:lnTo>
                    <a:lnTo>
                      <a:pt x="593" y="90"/>
                    </a:lnTo>
                    <a:lnTo>
                      <a:pt x="625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2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0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7" y="4"/>
                    </a:lnTo>
                    <a:lnTo>
                      <a:pt x="1055" y="0"/>
                    </a:lnTo>
                    <a:lnTo>
                      <a:pt x="1034" y="8"/>
                    </a:lnTo>
                    <a:lnTo>
                      <a:pt x="1009" y="17"/>
                    </a:lnTo>
                    <a:lnTo>
                      <a:pt x="981" y="24"/>
                    </a:lnTo>
                    <a:lnTo>
                      <a:pt x="950" y="33"/>
                    </a:lnTo>
                    <a:lnTo>
                      <a:pt x="917" y="42"/>
                    </a:lnTo>
                    <a:lnTo>
                      <a:pt x="881" y="52"/>
                    </a:lnTo>
                    <a:lnTo>
                      <a:pt x="843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5" y="117"/>
                    </a:lnTo>
                    <a:lnTo>
                      <a:pt x="540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0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79" y="210"/>
                    </a:lnTo>
                    <a:lnTo>
                      <a:pt x="56" y="214"/>
                    </a:lnTo>
                    <a:lnTo>
                      <a:pt x="36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2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421320" y="428292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4" y="133"/>
                    </a:lnTo>
                    <a:lnTo>
                      <a:pt x="412" y="133"/>
                    </a:lnTo>
                    <a:lnTo>
                      <a:pt x="405" y="135"/>
                    </a:lnTo>
                    <a:lnTo>
                      <a:pt x="396" y="137"/>
                    </a:lnTo>
                    <a:lnTo>
                      <a:pt x="383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0" y="152"/>
                    </a:lnTo>
                    <a:lnTo>
                      <a:pt x="309" y="157"/>
                    </a:lnTo>
                    <a:lnTo>
                      <a:pt x="287" y="163"/>
                    </a:lnTo>
                    <a:lnTo>
                      <a:pt x="265" y="168"/>
                    </a:lnTo>
                    <a:lnTo>
                      <a:pt x="243" y="174"/>
                    </a:lnTo>
                    <a:lnTo>
                      <a:pt x="221" y="180"/>
                    </a:lnTo>
                    <a:lnTo>
                      <a:pt x="201" y="186"/>
                    </a:lnTo>
                    <a:lnTo>
                      <a:pt x="181" y="191"/>
                    </a:lnTo>
                    <a:lnTo>
                      <a:pt x="165" y="198"/>
                    </a:lnTo>
                    <a:lnTo>
                      <a:pt x="149" y="203"/>
                    </a:lnTo>
                    <a:lnTo>
                      <a:pt x="122" y="214"/>
                    </a:lnTo>
                    <a:lnTo>
                      <a:pt x="95" y="226"/>
                    </a:lnTo>
                    <a:lnTo>
                      <a:pt x="70" y="237"/>
                    </a:lnTo>
                    <a:lnTo>
                      <a:pt x="47" y="248"/>
                    </a:lnTo>
                    <a:lnTo>
                      <a:pt x="28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7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8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3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59" y="185"/>
                    </a:lnTo>
                    <a:lnTo>
                      <a:pt x="179" y="178"/>
                    </a:lnTo>
                    <a:lnTo>
                      <a:pt x="200" y="172"/>
                    </a:lnTo>
                    <a:lnTo>
                      <a:pt x="221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7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1" y="141"/>
                    </a:lnTo>
                    <a:lnTo>
                      <a:pt x="324" y="141"/>
                    </a:lnTo>
                    <a:lnTo>
                      <a:pt x="328" y="136"/>
                    </a:lnTo>
                    <a:lnTo>
                      <a:pt x="340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6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0" y="35"/>
                    </a:lnTo>
                    <a:lnTo>
                      <a:pt x="503" y="38"/>
                    </a:lnTo>
                    <a:lnTo>
                      <a:pt x="514" y="44"/>
                    </a:lnTo>
                    <a:lnTo>
                      <a:pt x="523" y="50"/>
                    </a:lnTo>
                    <a:lnTo>
                      <a:pt x="529" y="57"/>
                    </a:lnTo>
                    <a:lnTo>
                      <a:pt x="533" y="62"/>
                    </a:lnTo>
                    <a:lnTo>
                      <a:pt x="535" y="67"/>
                    </a:lnTo>
                    <a:lnTo>
                      <a:pt x="536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665760" y="4257720"/>
                <a:ext cx="32400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6" y="153"/>
                    </a:moveTo>
                    <a:lnTo>
                      <a:pt x="1157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5" y="80"/>
                    </a:lnTo>
                    <a:lnTo>
                      <a:pt x="1131" y="73"/>
                    </a:lnTo>
                    <a:lnTo>
                      <a:pt x="1114" y="69"/>
                    </a:lnTo>
                    <a:lnTo>
                      <a:pt x="1099" y="68"/>
                    </a:lnTo>
                    <a:lnTo>
                      <a:pt x="1081" y="68"/>
                    </a:lnTo>
                    <a:lnTo>
                      <a:pt x="1062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5" y="71"/>
                    </a:lnTo>
                    <a:lnTo>
                      <a:pt x="986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3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79" y="80"/>
                    </a:lnTo>
                    <a:lnTo>
                      <a:pt x="877" y="80"/>
                    </a:lnTo>
                    <a:lnTo>
                      <a:pt x="869" y="82"/>
                    </a:lnTo>
                    <a:lnTo>
                      <a:pt x="858" y="86"/>
                    </a:lnTo>
                    <a:lnTo>
                      <a:pt x="846" y="89"/>
                    </a:lnTo>
                    <a:lnTo>
                      <a:pt x="834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2" y="110"/>
                    </a:lnTo>
                    <a:lnTo>
                      <a:pt x="783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8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6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6" y="93"/>
                    </a:lnTo>
                    <a:lnTo>
                      <a:pt x="683" y="82"/>
                    </a:lnTo>
                    <a:lnTo>
                      <a:pt x="683" y="76"/>
                    </a:lnTo>
                    <a:lnTo>
                      <a:pt x="686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8" y="50"/>
                    </a:lnTo>
                    <a:lnTo>
                      <a:pt x="738" y="48"/>
                    </a:lnTo>
                    <a:lnTo>
                      <a:pt x="746" y="46"/>
                    </a:lnTo>
                    <a:lnTo>
                      <a:pt x="739" y="45"/>
                    </a:lnTo>
                    <a:lnTo>
                      <a:pt x="733" y="45"/>
                    </a:lnTo>
                    <a:lnTo>
                      <a:pt x="726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8" y="45"/>
                    </a:lnTo>
                    <a:lnTo>
                      <a:pt x="703" y="46"/>
                    </a:lnTo>
                    <a:lnTo>
                      <a:pt x="697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0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49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49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7" y="278"/>
                    </a:lnTo>
                    <a:lnTo>
                      <a:pt x="6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8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8" y="272"/>
                    </a:lnTo>
                    <a:lnTo>
                      <a:pt x="52" y="265"/>
                    </a:lnTo>
                    <a:lnTo>
                      <a:pt x="70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8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2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0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0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3" y="66"/>
                    </a:lnTo>
                    <a:lnTo>
                      <a:pt x="561" y="55"/>
                    </a:lnTo>
                    <a:lnTo>
                      <a:pt x="588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5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7" y="0"/>
                    </a:lnTo>
                    <a:lnTo>
                      <a:pt x="743" y="0"/>
                    </a:lnTo>
                    <a:lnTo>
                      <a:pt x="759" y="2"/>
                    </a:lnTo>
                    <a:lnTo>
                      <a:pt x="776" y="4"/>
                    </a:lnTo>
                    <a:lnTo>
                      <a:pt x="792" y="8"/>
                    </a:lnTo>
                    <a:lnTo>
                      <a:pt x="809" y="12"/>
                    </a:lnTo>
                    <a:lnTo>
                      <a:pt x="825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7" y="30"/>
                    </a:lnTo>
                    <a:lnTo>
                      <a:pt x="878" y="34"/>
                    </a:lnTo>
                    <a:lnTo>
                      <a:pt x="887" y="37"/>
                    </a:lnTo>
                    <a:lnTo>
                      <a:pt x="895" y="41"/>
                    </a:lnTo>
                    <a:lnTo>
                      <a:pt x="899" y="42"/>
                    </a:lnTo>
                    <a:lnTo>
                      <a:pt x="900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2" y="35"/>
                    </a:lnTo>
                    <a:lnTo>
                      <a:pt x="969" y="34"/>
                    </a:lnTo>
                    <a:lnTo>
                      <a:pt x="985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1" y="26"/>
                    </a:lnTo>
                    <a:lnTo>
                      <a:pt x="1060" y="25"/>
                    </a:lnTo>
                    <a:lnTo>
                      <a:pt x="1078" y="25"/>
                    </a:lnTo>
                    <a:lnTo>
                      <a:pt x="1095" y="25"/>
                    </a:lnTo>
                    <a:lnTo>
                      <a:pt x="1112" y="25"/>
                    </a:lnTo>
                    <a:lnTo>
                      <a:pt x="1127" y="26"/>
                    </a:lnTo>
                    <a:lnTo>
                      <a:pt x="1148" y="28"/>
                    </a:lnTo>
                    <a:lnTo>
                      <a:pt x="1166" y="32"/>
                    </a:lnTo>
                    <a:lnTo>
                      <a:pt x="1181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3" y="53"/>
                    </a:lnTo>
                    <a:lnTo>
                      <a:pt x="1220" y="59"/>
                    </a:lnTo>
                    <a:lnTo>
                      <a:pt x="1224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4" y="102"/>
                    </a:lnTo>
                    <a:lnTo>
                      <a:pt x="1220" y="111"/>
                    </a:lnTo>
                    <a:lnTo>
                      <a:pt x="1216" y="121"/>
                    </a:lnTo>
                    <a:lnTo>
                      <a:pt x="1209" y="131"/>
                    </a:lnTo>
                    <a:lnTo>
                      <a:pt x="1202" y="140"/>
                    </a:lnTo>
                    <a:lnTo>
                      <a:pt x="1196" y="147"/>
                    </a:lnTo>
                    <a:lnTo>
                      <a:pt x="1188" y="155"/>
                    </a:lnTo>
                    <a:lnTo>
                      <a:pt x="1181" y="163"/>
                    </a:lnTo>
                    <a:lnTo>
                      <a:pt x="1174" y="169"/>
                    </a:lnTo>
                    <a:lnTo>
                      <a:pt x="1167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8" y="193"/>
                    </a:lnTo>
                    <a:lnTo>
                      <a:pt x="1125" y="211"/>
                    </a:lnTo>
                    <a:lnTo>
                      <a:pt x="1099" y="229"/>
                    </a:lnTo>
                    <a:lnTo>
                      <a:pt x="1072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2" y="383"/>
                    </a:lnTo>
                    <a:lnTo>
                      <a:pt x="748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4" y="462"/>
                    </a:lnTo>
                    <a:lnTo>
                      <a:pt x="524" y="471"/>
                    </a:lnTo>
                    <a:lnTo>
                      <a:pt x="497" y="479"/>
                    </a:lnTo>
                    <a:lnTo>
                      <a:pt x="470" y="486"/>
                    </a:lnTo>
                    <a:lnTo>
                      <a:pt x="446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4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1" y="524"/>
                    </a:lnTo>
                    <a:lnTo>
                      <a:pt x="329" y="524"/>
                    </a:lnTo>
                    <a:lnTo>
                      <a:pt x="331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5" y="505"/>
                    </a:lnTo>
                    <a:lnTo>
                      <a:pt x="404" y="499"/>
                    </a:lnTo>
                    <a:lnTo>
                      <a:pt x="425" y="491"/>
                    </a:lnTo>
                    <a:lnTo>
                      <a:pt x="448" y="483"/>
                    </a:lnTo>
                    <a:lnTo>
                      <a:pt x="474" y="473"/>
                    </a:lnTo>
                    <a:lnTo>
                      <a:pt x="500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89" y="430"/>
                    </a:lnTo>
                    <a:lnTo>
                      <a:pt x="621" y="418"/>
                    </a:lnTo>
                    <a:lnTo>
                      <a:pt x="654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0" y="349"/>
                    </a:lnTo>
                    <a:lnTo>
                      <a:pt x="824" y="333"/>
                    </a:lnTo>
                    <a:lnTo>
                      <a:pt x="858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8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4" y="169"/>
                    </a:lnTo>
                    <a:lnTo>
                      <a:pt x="114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456240" y="4321080"/>
                <a:ext cx="32256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7"/>
                    </a:moveTo>
                    <a:lnTo>
                      <a:pt x="0" y="102"/>
                    </a:lnTo>
                    <a:lnTo>
                      <a:pt x="389" y="0"/>
                    </a:lnTo>
                    <a:lnTo>
                      <a:pt x="387" y="2"/>
                    </a:lnTo>
                    <a:lnTo>
                      <a:pt x="380" y="5"/>
                    </a:lnTo>
                    <a:lnTo>
                      <a:pt x="370" y="10"/>
                    </a:lnTo>
                    <a:lnTo>
                      <a:pt x="360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7" y="48"/>
                    </a:lnTo>
                    <a:lnTo>
                      <a:pt x="336" y="59"/>
                    </a:lnTo>
                    <a:lnTo>
                      <a:pt x="343" y="74"/>
                    </a:lnTo>
                    <a:lnTo>
                      <a:pt x="358" y="95"/>
                    </a:lnTo>
                    <a:lnTo>
                      <a:pt x="379" y="118"/>
                    </a:lnTo>
                    <a:lnTo>
                      <a:pt x="402" y="144"/>
                    </a:lnTo>
                    <a:lnTo>
                      <a:pt x="426" y="167"/>
                    </a:lnTo>
                    <a:lnTo>
                      <a:pt x="445" y="187"/>
                    </a:lnTo>
                    <a:lnTo>
                      <a:pt x="459" y="200"/>
                    </a:lnTo>
                    <a:lnTo>
                      <a:pt x="464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0" y="187"/>
                    </a:lnTo>
                    <a:lnTo>
                      <a:pt x="515" y="191"/>
                    </a:lnTo>
                    <a:lnTo>
                      <a:pt x="508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6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6" y="289"/>
                    </a:lnTo>
                    <a:lnTo>
                      <a:pt x="516" y="293"/>
                    </a:lnTo>
                    <a:lnTo>
                      <a:pt x="540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5" y="300"/>
                    </a:lnTo>
                    <a:lnTo>
                      <a:pt x="631" y="300"/>
                    </a:lnTo>
                    <a:lnTo>
                      <a:pt x="647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3" y="270"/>
                    </a:lnTo>
                    <a:lnTo>
                      <a:pt x="724" y="262"/>
                    </a:lnTo>
                    <a:lnTo>
                      <a:pt x="745" y="256"/>
                    </a:lnTo>
                    <a:lnTo>
                      <a:pt x="767" y="248"/>
                    </a:lnTo>
                    <a:lnTo>
                      <a:pt x="788" y="242"/>
                    </a:lnTo>
                    <a:lnTo>
                      <a:pt x="820" y="232"/>
                    </a:lnTo>
                    <a:lnTo>
                      <a:pt x="853" y="223"/>
                    </a:lnTo>
                    <a:lnTo>
                      <a:pt x="885" y="215"/>
                    </a:lnTo>
                    <a:lnTo>
                      <a:pt x="917" y="207"/>
                    </a:lnTo>
                    <a:lnTo>
                      <a:pt x="949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7" y="187"/>
                    </a:lnTo>
                    <a:lnTo>
                      <a:pt x="1065" y="183"/>
                    </a:lnTo>
                    <a:lnTo>
                      <a:pt x="1090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5" y="182"/>
                    </a:lnTo>
                    <a:lnTo>
                      <a:pt x="1173" y="183"/>
                    </a:lnTo>
                    <a:lnTo>
                      <a:pt x="1187" y="187"/>
                    </a:lnTo>
                    <a:lnTo>
                      <a:pt x="1200" y="191"/>
                    </a:lnTo>
                    <a:lnTo>
                      <a:pt x="1207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8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4" y="242"/>
                    </a:lnTo>
                    <a:lnTo>
                      <a:pt x="1185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3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6" y="209"/>
                    </a:lnTo>
                    <a:lnTo>
                      <a:pt x="1009" y="212"/>
                    </a:lnTo>
                    <a:lnTo>
                      <a:pt x="980" y="216"/>
                    </a:lnTo>
                    <a:lnTo>
                      <a:pt x="950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3" y="272"/>
                    </a:lnTo>
                    <a:lnTo>
                      <a:pt x="727" y="277"/>
                    </a:lnTo>
                    <a:lnTo>
                      <a:pt x="711" y="282"/>
                    </a:lnTo>
                    <a:lnTo>
                      <a:pt x="695" y="287"/>
                    </a:lnTo>
                    <a:lnTo>
                      <a:pt x="679" y="291"/>
                    </a:lnTo>
                    <a:lnTo>
                      <a:pt x="665" y="296"/>
                    </a:lnTo>
                    <a:lnTo>
                      <a:pt x="650" y="300"/>
                    </a:lnTo>
                    <a:lnTo>
                      <a:pt x="637" y="303"/>
                    </a:lnTo>
                    <a:lnTo>
                      <a:pt x="625" y="308"/>
                    </a:lnTo>
                    <a:lnTo>
                      <a:pt x="614" y="310"/>
                    </a:lnTo>
                    <a:lnTo>
                      <a:pt x="605" y="313"/>
                    </a:lnTo>
                    <a:lnTo>
                      <a:pt x="596" y="315"/>
                    </a:lnTo>
                    <a:lnTo>
                      <a:pt x="590" y="318"/>
                    </a:lnTo>
                    <a:lnTo>
                      <a:pt x="585" y="319"/>
                    </a:lnTo>
                    <a:lnTo>
                      <a:pt x="582" y="320"/>
                    </a:lnTo>
                    <a:lnTo>
                      <a:pt x="581" y="320"/>
                    </a:lnTo>
                    <a:lnTo>
                      <a:pt x="575" y="320"/>
                    </a:lnTo>
                    <a:lnTo>
                      <a:pt x="562" y="320"/>
                    </a:lnTo>
                    <a:lnTo>
                      <a:pt x="541" y="320"/>
                    </a:lnTo>
                    <a:lnTo>
                      <a:pt x="517" y="319"/>
                    </a:lnTo>
                    <a:lnTo>
                      <a:pt x="492" y="316"/>
                    </a:lnTo>
                    <a:lnTo>
                      <a:pt x="466" y="313"/>
                    </a:lnTo>
                    <a:lnTo>
                      <a:pt x="445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2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0" y="248"/>
                    </a:lnTo>
                    <a:lnTo>
                      <a:pt x="412" y="240"/>
                    </a:lnTo>
                    <a:lnTo>
                      <a:pt x="413" y="236"/>
                    </a:lnTo>
                    <a:lnTo>
                      <a:pt x="415" y="234"/>
                    </a:lnTo>
                    <a:lnTo>
                      <a:pt x="254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97720" y="4322880"/>
                <a:ext cx="810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6" y="129"/>
                    </a:lnTo>
                    <a:lnTo>
                      <a:pt x="17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1" y="52"/>
                    </a:lnTo>
                    <a:lnTo>
                      <a:pt x="128" y="39"/>
                    </a:lnTo>
                    <a:lnTo>
                      <a:pt x="155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1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3" y="5"/>
                    </a:lnTo>
                    <a:lnTo>
                      <a:pt x="269" y="8"/>
                    </a:lnTo>
                    <a:lnTo>
                      <a:pt x="276" y="12"/>
                    </a:lnTo>
                    <a:lnTo>
                      <a:pt x="282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6" y="36"/>
                    </a:lnTo>
                    <a:lnTo>
                      <a:pt x="299" y="44"/>
                    </a:lnTo>
                    <a:lnTo>
                      <a:pt x="303" y="53"/>
                    </a:lnTo>
                    <a:lnTo>
                      <a:pt x="306" y="63"/>
                    </a:lnTo>
                    <a:lnTo>
                      <a:pt x="310" y="89"/>
                    </a:lnTo>
                    <a:lnTo>
                      <a:pt x="308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2" y="143"/>
                    </a:lnTo>
                    <a:lnTo>
                      <a:pt x="276" y="143"/>
                    </a:lnTo>
                    <a:lnTo>
                      <a:pt x="269" y="142"/>
                    </a:lnTo>
                    <a:lnTo>
                      <a:pt x="264" y="140"/>
                    </a:lnTo>
                    <a:lnTo>
                      <a:pt x="258" y="136"/>
                    </a:lnTo>
                    <a:lnTo>
                      <a:pt x="254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2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5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2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40" y="53"/>
                    </a:lnTo>
                    <a:lnTo>
                      <a:pt x="235" y="56"/>
                    </a:lnTo>
                    <a:lnTo>
                      <a:pt x="232" y="61"/>
                    </a:lnTo>
                    <a:lnTo>
                      <a:pt x="229" y="67"/>
                    </a:lnTo>
                    <a:lnTo>
                      <a:pt x="228" y="75"/>
                    </a:lnTo>
                    <a:lnTo>
                      <a:pt x="226" y="62"/>
                    </a:lnTo>
                    <a:lnTo>
                      <a:pt x="228" y="51"/>
                    </a:lnTo>
                    <a:lnTo>
                      <a:pt x="229" y="40"/>
                    </a:lnTo>
                    <a:lnTo>
                      <a:pt x="232" y="30"/>
                    </a:lnTo>
                    <a:lnTo>
                      <a:pt x="226" y="31"/>
                    </a:lnTo>
                    <a:lnTo>
                      <a:pt x="221" y="33"/>
                    </a:lnTo>
                    <a:lnTo>
                      <a:pt x="214" y="34"/>
                    </a:lnTo>
                    <a:lnTo>
                      <a:pt x="207" y="36"/>
                    </a:lnTo>
                    <a:lnTo>
                      <a:pt x="201" y="49"/>
                    </a:lnTo>
                    <a:lnTo>
                      <a:pt x="199" y="63"/>
                    </a:lnTo>
                    <a:lnTo>
                      <a:pt x="199" y="78"/>
                    </a:lnTo>
                    <a:lnTo>
                      <a:pt x="201" y="95"/>
                    </a:lnTo>
                    <a:lnTo>
                      <a:pt x="208" y="114"/>
                    </a:lnTo>
                    <a:lnTo>
                      <a:pt x="215" y="128"/>
                    </a:lnTo>
                    <a:lnTo>
                      <a:pt x="222" y="139"/>
                    </a:lnTo>
                    <a:lnTo>
                      <a:pt x="230" y="147"/>
                    </a:lnTo>
                    <a:lnTo>
                      <a:pt x="235" y="152"/>
                    </a:lnTo>
                    <a:lnTo>
                      <a:pt x="241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3" y="157"/>
                    </a:lnTo>
                    <a:lnTo>
                      <a:pt x="239" y="157"/>
                    </a:lnTo>
                    <a:lnTo>
                      <a:pt x="231" y="155"/>
                    </a:lnTo>
                    <a:lnTo>
                      <a:pt x="221" y="151"/>
                    </a:lnTo>
                    <a:lnTo>
                      <a:pt x="211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8" y="42"/>
                    </a:lnTo>
                    <a:lnTo>
                      <a:pt x="182" y="44"/>
                    </a:lnTo>
                    <a:lnTo>
                      <a:pt x="177" y="46"/>
                    </a:lnTo>
                    <a:lnTo>
                      <a:pt x="171" y="49"/>
                    </a:lnTo>
                    <a:lnTo>
                      <a:pt x="166" y="51"/>
                    </a:lnTo>
                    <a:lnTo>
                      <a:pt x="159" y="54"/>
                    </a:lnTo>
                    <a:lnTo>
                      <a:pt x="154" y="56"/>
                    </a:lnTo>
                    <a:lnTo>
                      <a:pt x="148" y="60"/>
                    </a:lnTo>
                    <a:lnTo>
                      <a:pt x="142" y="63"/>
                    </a:lnTo>
                    <a:lnTo>
                      <a:pt x="121" y="73"/>
                    </a:lnTo>
                    <a:lnTo>
                      <a:pt x="103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1" y="106"/>
                    </a:lnTo>
                    <a:lnTo>
                      <a:pt x="52" y="115"/>
                    </a:lnTo>
                    <a:lnTo>
                      <a:pt x="47" y="126"/>
                    </a:lnTo>
                    <a:lnTo>
                      <a:pt x="43" y="139"/>
                    </a:lnTo>
                    <a:lnTo>
                      <a:pt x="46" y="162"/>
                    </a:lnTo>
                    <a:lnTo>
                      <a:pt x="58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3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2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6" y="206"/>
                    </a:lnTo>
                    <a:lnTo>
                      <a:pt x="20" y="197"/>
                    </a:lnTo>
                    <a:lnTo>
                      <a:pt x="4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5754600" y="5210280"/>
              <a:ext cx="571680" cy="204840"/>
              <a:chOff x="5754600" y="5210280"/>
              <a:chExt cx="571680" cy="204840"/>
            </a:xfrm>
          </p:grpSpPr>
          <p:sp>
            <p:nvSpPr>
              <p:cNvPr id="596" name=""/>
              <p:cNvSpPr/>
              <p:nvPr/>
            </p:nvSpPr>
            <p:spPr>
              <a:xfrm>
                <a:off x="5754600" y="521028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996160" y="524988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2"/>
                    </a:moveTo>
                    <a:lnTo>
                      <a:pt x="84" y="62"/>
                    </a:lnTo>
                    <a:lnTo>
                      <a:pt x="66" y="72"/>
                    </a:lnTo>
                    <a:lnTo>
                      <a:pt x="50" y="83"/>
                    </a:lnTo>
                    <a:lnTo>
                      <a:pt x="36" y="94"/>
                    </a:lnTo>
                    <a:lnTo>
                      <a:pt x="24" y="105"/>
                    </a:lnTo>
                    <a:lnTo>
                      <a:pt x="15" y="116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8"/>
                    </a:lnTo>
                    <a:lnTo>
                      <a:pt x="0" y="119"/>
                    </a:lnTo>
                    <a:lnTo>
                      <a:pt x="4" y="105"/>
                    </a:lnTo>
                    <a:lnTo>
                      <a:pt x="14" y="91"/>
                    </a:lnTo>
                    <a:lnTo>
                      <a:pt x="29" y="74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7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8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29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905440" y="524196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2">
                    <a:moveTo>
                      <a:pt x="0" y="85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2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94200" y="5351400"/>
                <a:ext cx="279720" cy="58680"/>
              </a:xfrm>
              <a:custGeom>
                <a:avLst/>
                <a:gdLst/>
                <a:ahLst/>
                <a:rect l="l" t="t" r="r" b="b"/>
                <a:pathLst>
                  <a:path w="1056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2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4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2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1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0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7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7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5"/>
                    </a:lnTo>
                    <a:lnTo>
                      <a:pt x="469" y="111"/>
                    </a:lnTo>
                    <a:lnTo>
                      <a:pt x="500" y="105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1"/>
                    </a:lnTo>
                    <a:lnTo>
                      <a:pt x="783" y="56"/>
                    </a:lnTo>
                    <a:lnTo>
                      <a:pt x="814" y="50"/>
                    </a:lnTo>
                    <a:lnTo>
                      <a:pt x="843" y="45"/>
                    </a:lnTo>
                    <a:lnTo>
                      <a:pt x="871" y="39"/>
                    </a:lnTo>
                    <a:lnTo>
                      <a:pt x="899" y="34"/>
                    </a:lnTo>
                    <a:lnTo>
                      <a:pt x="925" y="28"/>
                    </a:lnTo>
                    <a:lnTo>
                      <a:pt x="951" y="23"/>
                    </a:lnTo>
                    <a:lnTo>
                      <a:pt x="975" y="18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7"/>
                    </a:lnTo>
                    <a:lnTo>
                      <a:pt x="1009" y="16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0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6"/>
                    </a:lnTo>
                    <a:lnTo>
                      <a:pt x="541" y="125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59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1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3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3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54600" y="523548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4"/>
                    </a:lnTo>
                    <a:lnTo>
                      <a:pt x="412" y="134"/>
                    </a:lnTo>
                    <a:lnTo>
                      <a:pt x="406" y="136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4"/>
                    </a:lnTo>
                    <a:lnTo>
                      <a:pt x="349" y="148"/>
                    </a:lnTo>
                    <a:lnTo>
                      <a:pt x="331" y="152"/>
                    </a:lnTo>
                    <a:lnTo>
                      <a:pt x="310" y="158"/>
                    </a:lnTo>
                    <a:lnTo>
                      <a:pt x="288" y="163"/>
                    </a:lnTo>
                    <a:lnTo>
                      <a:pt x="266" y="169"/>
                    </a:lnTo>
                    <a:lnTo>
                      <a:pt x="244" y="174"/>
                    </a:lnTo>
                    <a:lnTo>
                      <a:pt x="222" y="181"/>
                    </a:lnTo>
                    <a:lnTo>
                      <a:pt x="202" y="186"/>
                    </a:lnTo>
                    <a:lnTo>
                      <a:pt x="182" y="192"/>
                    </a:lnTo>
                    <a:lnTo>
                      <a:pt x="165" y="199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5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6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1"/>
                    </a:lnTo>
                    <a:lnTo>
                      <a:pt x="77" y="211"/>
                    </a:lnTo>
                    <a:lnTo>
                      <a:pt x="89" y="206"/>
                    </a:lnTo>
                    <a:lnTo>
                      <a:pt x="104" y="202"/>
                    </a:lnTo>
                    <a:lnTo>
                      <a:pt x="121" y="196"/>
                    </a:lnTo>
                    <a:lnTo>
                      <a:pt x="140" y="191"/>
                    </a:lnTo>
                    <a:lnTo>
                      <a:pt x="160" y="185"/>
                    </a:lnTo>
                    <a:lnTo>
                      <a:pt x="180" y="179"/>
                    </a:lnTo>
                    <a:lnTo>
                      <a:pt x="201" y="173"/>
                    </a:lnTo>
                    <a:lnTo>
                      <a:pt x="222" y="168"/>
                    </a:lnTo>
                    <a:lnTo>
                      <a:pt x="241" y="162"/>
                    </a:lnTo>
                    <a:lnTo>
                      <a:pt x="261" y="158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6"/>
                    </a:lnTo>
                    <a:lnTo>
                      <a:pt x="315" y="144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7"/>
                    </a:lnTo>
                    <a:lnTo>
                      <a:pt x="341" y="126"/>
                    </a:lnTo>
                    <a:lnTo>
                      <a:pt x="359" y="109"/>
                    </a:lnTo>
                    <a:lnTo>
                      <a:pt x="381" y="91"/>
                    </a:lnTo>
                    <a:lnTo>
                      <a:pt x="407" y="72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6"/>
                    </a:lnTo>
                    <a:lnTo>
                      <a:pt x="491" y="36"/>
                    </a:lnTo>
                    <a:lnTo>
                      <a:pt x="504" y="39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8"/>
                    </a:lnTo>
                    <a:lnTo>
                      <a:pt x="534" y="63"/>
                    </a:lnTo>
                    <a:lnTo>
                      <a:pt x="536" y="68"/>
                    </a:lnTo>
                    <a:lnTo>
                      <a:pt x="537" y="70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999040" y="5210280"/>
                <a:ext cx="32400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8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3"/>
                    </a:lnTo>
                    <a:lnTo>
                      <a:pt x="950" y="74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5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5"/>
                    </a:lnTo>
                    <a:lnTo>
                      <a:pt x="793" y="110"/>
                    </a:lnTo>
                    <a:lnTo>
                      <a:pt x="784" y="116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0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6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2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2"/>
                    </a:lnTo>
                    <a:lnTo>
                      <a:pt x="650" y="61"/>
                    </a:lnTo>
                    <a:lnTo>
                      <a:pt x="611" y="74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0"/>
                    </a:lnTo>
                    <a:lnTo>
                      <a:pt x="326" y="172"/>
                    </a:lnTo>
                    <a:lnTo>
                      <a:pt x="263" y="194"/>
                    </a:lnTo>
                    <a:lnTo>
                      <a:pt x="205" y="215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1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8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6"/>
                    </a:lnTo>
                    <a:lnTo>
                      <a:pt x="198" y="203"/>
                    </a:lnTo>
                    <a:lnTo>
                      <a:pt x="233" y="188"/>
                    </a:lnTo>
                    <a:lnTo>
                      <a:pt x="271" y="171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39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7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29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0"/>
                    </a:lnTo>
                    <a:lnTo>
                      <a:pt x="900" y="41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1"/>
                    </a:lnTo>
                    <a:lnTo>
                      <a:pt x="915" y="40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29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0"/>
                    </a:lnTo>
                    <a:lnTo>
                      <a:pt x="1205" y="46"/>
                    </a:lnTo>
                    <a:lnTo>
                      <a:pt x="1214" y="52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4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39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2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6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499"/>
                    </a:lnTo>
                    <a:lnTo>
                      <a:pt x="402" y="505"/>
                    </a:lnTo>
                    <a:lnTo>
                      <a:pt x="385" y="509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0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1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0"/>
                    </a:lnTo>
                    <a:lnTo>
                      <a:pt x="386" y="505"/>
                    </a:lnTo>
                    <a:lnTo>
                      <a:pt x="405" y="498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2"/>
                    </a:lnTo>
                    <a:lnTo>
                      <a:pt x="925" y="286"/>
                    </a:lnTo>
                    <a:lnTo>
                      <a:pt x="957" y="269"/>
                    </a:lnTo>
                    <a:lnTo>
                      <a:pt x="989" y="253"/>
                    </a:lnTo>
                    <a:lnTo>
                      <a:pt x="1019" y="236"/>
                    </a:lnTo>
                    <a:lnTo>
                      <a:pt x="1047" y="220"/>
                    </a:lnTo>
                    <a:lnTo>
                      <a:pt x="1075" y="203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89520" y="527220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7"/>
                    </a:lnTo>
                    <a:lnTo>
                      <a:pt x="501" y="204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5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7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929200" y="5273640"/>
                <a:ext cx="828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6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0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8"/>
                    </a:lnTo>
                    <a:lnTo>
                      <a:pt x="154" y="26"/>
                    </a:lnTo>
                    <a:lnTo>
                      <a:pt x="181" y="15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4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6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3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5"/>
                    </a:lnTo>
                    <a:lnTo>
                      <a:pt x="253" y="131"/>
                    </a:lnTo>
                    <a:lnTo>
                      <a:pt x="248" y="124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1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0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8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3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6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5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8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59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1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4"/>
                    </a:lnTo>
                    <a:lnTo>
                      <a:pt x="46" y="125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0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7850160" y="3781440"/>
              <a:ext cx="571680" cy="204840"/>
              <a:chOff x="7850160" y="3781440"/>
              <a:chExt cx="571680" cy="204840"/>
            </a:xfrm>
          </p:grpSpPr>
          <p:sp>
            <p:nvSpPr>
              <p:cNvPr id="605" name=""/>
              <p:cNvSpPr/>
              <p:nvPr/>
            </p:nvSpPr>
            <p:spPr>
              <a:xfrm>
                <a:off x="7850160" y="378144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091360" y="382284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001000" y="381492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889760" y="392436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850160" y="3808440"/>
                <a:ext cx="21276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094600" y="3782880"/>
                <a:ext cx="32400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885080" y="384480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49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1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024760" y="384660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4611600" y="4543560"/>
              <a:ext cx="571680" cy="204480"/>
              <a:chOff x="4611600" y="4543560"/>
              <a:chExt cx="571680" cy="204480"/>
            </a:xfrm>
          </p:grpSpPr>
          <p:sp>
            <p:nvSpPr>
              <p:cNvPr id="614" name=""/>
              <p:cNvSpPr/>
              <p:nvPr/>
            </p:nvSpPr>
            <p:spPr>
              <a:xfrm>
                <a:off x="4611600" y="4543560"/>
                <a:ext cx="571680" cy="204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853160" y="458460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762440" y="457524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651200" y="4686480"/>
                <a:ext cx="27972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611600" y="456876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6"/>
                    </a:lnTo>
                    <a:lnTo>
                      <a:pt x="71" y="237"/>
                    </a:lnTo>
                    <a:lnTo>
                      <a:pt x="47" y="248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5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2"/>
                    </a:lnTo>
                    <a:lnTo>
                      <a:pt x="222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6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56040" y="4543560"/>
                <a:ext cx="32400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646520" y="460692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6"/>
                    </a:moveTo>
                    <a:lnTo>
                      <a:pt x="0" y="102"/>
                    </a:lnTo>
                    <a:lnTo>
                      <a:pt x="390" y="0"/>
                    </a:lnTo>
                    <a:lnTo>
                      <a:pt x="387" y="2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4"/>
                    </a:lnTo>
                    <a:lnTo>
                      <a:pt x="426" y="167"/>
                    </a:lnTo>
                    <a:lnTo>
                      <a:pt x="446" y="186"/>
                    </a:lnTo>
                    <a:lnTo>
                      <a:pt x="459" y="200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2"/>
                    </a:lnTo>
                    <a:lnTo>
                      <a:pt x="821" y="232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5" y="242"/>
                    </a:lnTo>
                    <a:lnTo>
                      <a:pt x="1186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9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7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8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8"/>
                    </a:lnTo>
                    <a:lnTo>
                      <a:pt x="586" y="319"/>
                    </a:lnTo>
                    <a:lnTo>
                      <a:pt x="583" y="320"/>
                    </a:lnTo>
                    <a:lnTo>
                      <a:pt x="581" y="320"/>
                    </a:lnTo>
                    <a:lnTo>
                      <a:pt x="576" y="320"/>
                    </a:lnTo>
                    <a:lnTo>
                      <a:pt x="563" y="320"/>
                    </a:lnTo>
                    <a:lnTo>
                      <a:pt x="542" y="320"/>
                    </a:lnTo>
                    <a:lnTo>
                      <a:pt x="518" y="319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786200" y="4608360"/>
                <a:ext cx="82800" cy="558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7088040" y="2638440"/>
              <a:ext cx="571680" cy="204840"/>
              <a:chOff x="7088040" y="2638440"/>
              <a:chExt cx="571680" cy="204840"/>
            </a:xfrm>
          </p:grpSpPr>
          <p:sp>
            <p:nvSpPr>
              <p:cNvPr id="623" name=""/>
              <p:cNvSpPr/>
              <p:nvPr/>
            </p:nvSpPr>
            <p:spPr>
              <a:xfrm>
                <a:off x="7088040" y="263844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329600" y="268128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238880" y="267336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128000" y="278280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4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4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5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088040" y="266688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332840" y="2641680"/>
                <a:ext cx="32364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3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3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5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3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2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3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122960" y="270360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6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262640" y="2705040"/>
                <a:ext cx="82800" cy="55800"/>
              </a:xfrm>
              <a:custGeom>
                <a:avLst/>
                <a:gdLst/>
                <a:ahLst/>
                <a:rect l="l" t="t" r="r" b="b"/>
                <a:pathLst>
                  <a:path w="310" h="209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9"/>
                    </a:lnTo>
                    <a:lnTo>
                      <a:pt x="45" y="206"/>
                    </a:lnTo>
                    <a:lnTo>
                      <a:pt x="20" y="198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7373880" y="4352760"/>
              <a:ext cx="487440" cy="567000"/>
              <a:chOff x="7373880" y="4352760"/>
              <a:chExt cx="487440" cy="567000"/>
            </a:xfrm>
          </p:grpSpPr>
          <p:sp>
            <p:nvSpPr>
              <p:cNvPr id="632" name=""/>
              <p:cNvSpPr/>
              <p:nvPr/>
            </p:nvSpPr>
            <p:spPr>
              <a:xfrm>
                <a:off x="7391520" y="4357800"/>
                <a:ext cx="447480" cy="54432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2"/>
                    </a:lnTo>
                    <a:lnTo>
                      <a:pt x="1957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388280" y="4475160"/>
                <a:ext cx="442800" cy="2030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8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743960" y="46260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3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7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696080" y="46180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8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8"/>
                    </a:lnTo>
                    <a:lnTo>
                      <a:pt x="19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8" y="87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8"/>
                    </a:lnTo>
                    <a:lnTo>
                      <a:pt x="50" y="101"/>
                    </a:lnTo>
                    <a:lnTo>
                      <a:pt x="39" y="98"/>
                    </a:lnTo>
                    <a:lnTo>
                      <a:pt x="39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650000" y="461016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5" h="100">
                    <a:moveTo>
                      <a:pt x="38" y="97"/>
                    </a:moveTo>
                    <a:lnTo>
                      <a:pt x="18" y="89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7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3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0"/>
                    </a:lnTo>
                    <a:lnTo>
                      <a:pt x="48" y="100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602480" y="46022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99">
                    <a:moveTo>
                      <a:pt x="39" y="96"/>
                    </a:moveTo>
                    <a:lnTo>
                      <a:pt x="20" y="88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7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1" y="99"/>
                    </a:lnTo>
                    <a:lnTo>
                      <a:pt x="51" y="98"/>
                    </a:lnTo>
                    <a:lnTo>
                      <a:pt x="39" y="96"/>
                    </a:lnTo>
                    <a:lnTo>
                      <a:pt x="39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554960" y="459432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508880" y="458640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9"/>
                    </a:moveTo>
                    <a:lnTo>
                      <a:pt x="19" y="90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6" y="12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4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9"/>
                    </a:lnTo>
                    <a:lnTo>
                      <a:pt x="38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461360" y="457848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7" y="8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5" y="44"/>
                    </a:lnTo>
                    <a:lnTo>
                      <a:pt x="103" y="65"/>
                    </a:lnTo>
                    <a:lnTo>
                      <a:pt x="95" y="82"/>
                    </a:lnTo>
                    <a:lnTo>
                      <a:pt x="88" y="89"/>
                    </a:lnTo>
                    <a:lnTo>
                      <a:pt x="78" y="94"/>
                    </a:lnTo>
                    <a:lnTo>
                      <a:pt x="69" y="99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574040" y="4352760"/>
                <a:ext cx="147600" cy="24156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3"/>
                    </a:lnTo>
                    <a:lnTo>
                      <a:pt x="189" y="254"/>
                    </a:lnTo>
                    <a:lnTo>
                      <a:pt x="207" y="215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4" y="5"/>
                    </a:lnTo>
                    <a:lnTo>
                      <a:pt x="489" y="0"/>
                    </a:lnTo>
                    <a:lnTo>
                      <a:pt x="561" y="19"/>
                    </a:lnTo>
                    <a:lnTo>
                      <a:pt x="591" y="44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4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8" y="41"/>
                    </a:lnTo>
                    <a:lnTo>
                      <a:pt x="421" y="47"/>
                    </a:lnTo>
                    <a:lnTo>
                      <a:pt x="475" y="170"/>
                    </a:lnTo>
                    <a:lnTo>
                      <a:pt x="373" y="215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515360" y="4633920"/>
                <a:ext cx="169560" cy="28584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4" y="871"/>
                    </a:lnTo>
                    <a:lnTo>
                      <a:pt x="0" y="967"/>
                    </a:lnTo>
                    <a:lnTo>
                      <a:pt x="5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5"/>
                    </a:lnTo>
                    <a:lnTo>
                      <a:pt x="452" y="1086"/>
                    </a:lnTo>
                    <a:lnTo>
                      <a:pt x="481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4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5" y="1076"/>
                    </a:lnTo>
                    <a:lnTo>
                      <a:pt x="333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6"/>
                    </a:lnTo>
                    <a:lnTo>
                      <a:pt x="515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373880" y="445140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7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4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6"/>
                    </a:lnTo>
                    <a:lnTo>
                      <a:pt x="1556" y="915"/>
                    </a:lnTo>
                    <a:lnTo>
                      <a:pt x="1418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2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1"/>
                    </a:lnTo>
                    <a:lnTo>
                      <a:pt x="31" y="463"/>
                    </a:lnTo>
                    <a:lnTo>
                      <a:pt x="48" y="537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6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5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6" y="1082"/>
                    </a:lnTo>
                    <a:lnTo>
                      <a:pt x="1372" y="1099"/>
                    </a:lnTo>
                    <a:lnTo>
                      <a:pt x="1456" y="1114"/>
                    </a:lnTo>
                    <a:lnTo>
                      <a:pt x="1559" y="1130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0"/>
                    </a:lnTo>
                    <a:lnTo>
                      <a:pt x="2053" y="1107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4" y="685"/>
                    </a:lnTo>
                    <a:lnTo>
                      <a:pt x="1789" y="669"/>
                    </a:lnTo>
                    <a:lnTo>
                      <a:pt x="1732" y="651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391520" y="4446720"/>
                <a:ext cx="83880" cy="11736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99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5"/>
                    </a:lnTo>
                    <a:lnTo>
                      <a:pt x="276" y="156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2" y="118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647120" y="473724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432560" y="471168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1"/>
                    </a:lnTo>
                    <a:lnTo>
                      <a:pt x="40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497720" y="4441680"/>
                <a:ext cx="8424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7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7"/>
                    </a:lnTo>
                    <a:lnTo>
                      <a:pt x="37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705800" y="446256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39"/>
                    </a:lnTo>
                    <a:lnTo>
                      <a:pt x="223" y="86"/>
                    </a:lnTo>
                    <a:lnTo>
                      <a:pt x="234" y="140"/>
                    </a:lnTo>
                    <a:lnTo>
                      <a:pt x="220" y="190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5468760" y="4257720"/>
              <a:ext cx="487440" cy="565200"/>
              <a:chOff x="5468760" y="4257720"/>
              <a:chExt cx="487440" cy="565200"/>
            </a:xfrm>
          </p:grpSpPr>
          <p:sp>
            <p:nvSpPr>
              <p:cNvPr id="650" name=""/>
              <p:cNvSpPr/>
              <p:nvPr/>
            </p:nvSpPr>
            <p:spPr>
              <a:xfrm>
                <a:off x="5486400" y="4262400"/>
                <a:ext cx="447840" cy="544680"/>
              </a:xfrm>
              <a:custGeom>
                <a:avLst/>
                <a:gdLst/>
                <a:ahLst/>
                <a:rect l="l" t="t" r="r" b="b"/>
                <a:pathLst>
                  <a:path w="1975" h="2402">
                    <a:moveTo>
                      <a:pt x="0" y="482"/>
                    </a:moveTo>
                    <a:lnTo>
                      <a:pt x="177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1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7"/>
                    </a:lnTo>
                    <a:lnTo>
                      <a:pt x="1882" y="1174"/>
                    </a:lnTo>
                    <a:lnTo>
                      <a:pt x="1975" y="1292"/>
                    </a:lnTo>
                    <a:lnTo>
                      <a:pt x="1957" y="1384"/>
                    </a:lnTo>
                    <a:lnTo>
                      <a:pt x="1849" y="1449"/>
                    </a:lnTo>
                    <a:lnTo>
                      <a:pt x="1265" y="1375"/>
                    </a:lnTo>
                    <a:lnTo>
                      <a:pt x="1059" y="2013"/>
                    </a:lnTo>
                    <a:lnTo>
                      <a:pt x="956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483160" y="4378320"/>
                <a:ext cx="44280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9" y="898"/>
                    </a:lnTo>
                    <a:lnTo>
                      <a:pt x="1914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838840" y="45306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791320" y="45226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745240" y="45147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6" y="44"/>
                    </a:lnTo>
                    <a:lnTo>
                      <a:pt x="104" y="63"/>
                    </a:lnTo>
                    <a:lnTo>
                      <a:pt x="95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60" y="101"/>
                    </a:lnTo>
                    <a:lnTo>
                      <a:pt x="49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697360" y="450684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1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649840" y="44989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6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8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6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603760" y="44910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3"/>
                    </a:lnTo>
                    <a:lnTo>
                      <a:pt x="104" y="64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1" y="98"/>
                    </a:lnTo>
                    <a:lnTo>
                      <a:pt x="60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556240" y="448164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668920" y="425772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3" y="681"/>
                    </a:lnTo>
                    <a:lnTo>
                      <a:pt x="74" y="597"/>
                    </a:lnTo>
                    <a:lnTo>
                      <a:pt x="97" y="509"/>
                    </a:lnTo>
                    <a:lnTo>
                      <a:pt x="125" y="422"/>
                    </a:lnTo>
                    <a:lnTo>
                      <a:pt x="154" y="336"/>
                    </a:lnTo>
                    <a:lnTo>
                      <a:pt x="171" y="293"/>
                    </a:lnTo>
                    <a:lnTo>
                      <a:pt x="188" y="254"/>
                    </a:lnTo>
                    <a:lnTo>
                      <a:pt x="207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6" y="116"/>
                    </a:lnTo>
                    <a:lnTo>
                      <a:pt x="312" y="62"/>
                    </a:lnTo>
                    <a:lnTo>
                      <a:pt x="323" y="51"/>
                    </a:lnTo>
                    <a:lnTo>
                      <a:pt x="335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19"/>
                    </a:lnTo>
                    <a:lnTo>
                      <a:pt x="591" y="45"/>
                    </a:lnTo>
                    <a:lnTo>
                      <a:pt x="606" y="62"/>
                    </a:lnTo>
                    <a:lnTo>
                      <a:pt x="617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8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0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7" y="41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2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610240" y="4538520"/>
                <a:ext cx="16992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468760" y="435600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6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4" y="681"/>
                    </a:lnTo>
                    <a:lnTo>
                      <a:pt x="1736" y="705"/>
                    </a:lnTo>
                    <a:lnTo>
                      <a:pt x="1821" y="729"/>
                    </a:lnTo>
                    <a:lnTo>
                      <a:pt x="1895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3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4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7"/>
                    </a:lnTo>
                    <a:lnTo>
                      <a:pt x="1555" y="915"/>
                    </a:lnTo>
                    <a:lnTo>
                      <a:pt x="1418" y="887"/>
                    </a:lnTo>
                    <a:lnTo>
                      <a:pt x="1273" y="859"/>
                    </a:lnTo>
                    <a:lnTo>
                      <a:pt x="1126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8" y="239"/>
                    </a:lnTo>
                    <a:lnTo>
                      <a:pt x="307" y="232"/>
                    </a:lnTo>
                    <a:lnTo>
                      <a:pt x="109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8"/>
                    </a:lnTo>
                    <a:lnTo>
                      <a:pt x="14" y="381"/>
                    </a:lnTo>
                    <a:lnTo>
                      <a:pt x="30" y="463"/>
                    </a:lnTo>
                    <a:lnTo>
                      <a:pt x="48" y="538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7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1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4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7" y="847"/>
                    </a:lnTo>
                    <a:lnTo>
                      <a:pt x="595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5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9"/>
                    </a:lnTo>
                    <a:lnTo>
                      <a:pt x="1455" y="1114"/>
                    </a:lnTo>
                    <a:lnTo>
                      <a:pt x="1559" y="1131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1"/>
                    </a:lnTo>
                    <a:lnTo>
                      <a:pt x="2052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6" y="884"/>
                    </a:lnTo>
                    <a:lnTo>
                      <a:pt x="2087" y="844"/>
                    </a:lnTo>
                    <a:lnTo>
                      <a:pt x="2058" y="813"/>
                    </a:lnTo>
                    <a:lnTo>
                      <a:pt x="2043" y="800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3" y="701"/>
                    </a:lnTo>
                    <a:lnTo>
                      <a:pt x="1834" y="686"/>
                    </a:lnTo>
                    <a:lnTo>
                      <a:pt x="1789" y="669"/>
                    </a:lnTo>
                    <a:lnTo>
                      <a:pt x="1732" y="652"/>
                    </a:lnTo>
                    <a:lnTo>
                      <a:pt x="1657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484960" y="435132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8" h="512">
                    <a:moveTo>
                      <a:pt x="0" y="46"/>
                    </a:moveTo>
                    <a:lnTo>
                      <a:pt x="62" y="6"/>
                    </a:lnTo>
                    <a:lnTo>
                      <a:pt x="116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8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8" y="512"/>
                    </a:lnTo>
                    <a:lnTo>
                      <a:pt x="320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4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3" y="103"/>
                    </a:lnTo>
                    <a:lnTo>
                      <a:pt x="127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742000" y="464184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4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3" y="74"/>
                    </a:lnTo>
                    <a:lnTo>
                      <a:pt x="234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527800" y="4616280"/>
                <a:ext cx="9180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92600" y="4346640"/>
                <a:ext cx="84240" cy="2520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800680" y="436716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2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5564160" y="2924280"/>
              <a:ext cx="571680" cy="204840"/>
              <a:chOff x="5564160" y="2924280"/>
              <a:chExt cx="571680" cy="204840"/>
            </a:xfrm>
          </p:grpSpPr>
          <p:sp>
            <p:nvSpPr>
              <p:cNvPr id="668" name=""/>
              <p:cNvSpPr/>
              <p:nvPr/>
            </p:nvSpPr>
            <p:spPr>
              <a:xfrm>
                <a:off x="5564160" y="292428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805360" y="296712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715000" y="295920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603760" y="306864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64160" y="295128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808600" y="2927520"/>
                <a:ext cx="32400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99080" y="298944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738760" y="299088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4416480" y="4348080"/>
              <a:ext cx="865080" cy="579600"/>
              <a:chOff x="4416480" y="4348080"/>
              <a:chExt cx="865080" cy="579600"/>
            </a:xfrm>
          </p:grpSpPr>
          <p:sp>
            <p:nvSpPr>
              <p:cNvPr id="677" name=""/>
              <p:cNvSpPr/>
              <p:nvPr/>
            </p:nvSpPr>
            <p:spPr>
              <a:xfrm>
                <a:off x="4813200" y="43480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757760" y="43513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703760" y="43592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51200" y="4370400"/>
                <a:ext cx="3672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599000" y="43876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549680" y="44118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505400" y="44416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467240" y="44766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438800" y="451944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421160" y="45687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416480" y="462456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422600" y="46782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441680" y="47307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473720" y="477504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513320" y="481500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557600" y="484668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608360" y="4871880"/>
                <a:ext cx="3672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660920" y="489096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713120" y="490536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768920" y="491508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824360" y="4917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879800" y="491652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33800" y="490860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989600" y="48942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041800" y="4876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094360" y="48531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141880" y="48229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186520" y="4782960"/>
                <a:ext cx="2988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24320" y="47401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54560" y="46893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72200" y="463536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265720" y="457992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243400" y="452916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210280" y="448452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168880" y="44481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122800" y="44179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073480" y="439272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021280" y="4373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967280" y="43610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13280" y="43527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857840" y="4348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5416560" y="2728800"/>
              <a:ext cx="865080" cy="579600"/>
              <a:chOff x="5416560" y="2728800"/>
              <a:chExt cx="865080" cy="579600"/>
            </a:xfrm>
          </p:grpSpPr>
          <p:sp>
            <p:nvSpPr>
              <p:cNvPr id="719" name=""/>
              <p:cNvSpPr/>
              <p:nvPr/>
            </p:nvSpPr>
            <p:spPr>
              <a:xfrm>
                <a:off x="5813280" y="272880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757840" y="27320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703840" y="273996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651640" y="275112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599080" y="276876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549760" y="2792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505480" y="28224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467320" y="2857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438880" y="290052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421240" y="294948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416560" y="30052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423040" y="305928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442120" y="311148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473800" y="3156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513400" y="319572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557680" y="32274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608800" y="32529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661000" y="327168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713560" y="328608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69000" y="329580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824440" y="32986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880240" y="32972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934240" y="328932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989680" y="327492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041880" y="3257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094440" y="323388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141960" y="320364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186600" y="316404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224760" y="3121200"/>
                <a:ext cx="2664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254640" y="307008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272280" y="301608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265800" y="296064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243480" y="290988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210360" y="28656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168960" y="282888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122880" y="27986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073920" y="27734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021360" y="2754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967360" y="2741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913360" y="273384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57920" y="2728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6948360" y="2403360"/>
              <a:ext cx="865440" cy="579600"/>
              <a:chOff x="6948360" y="2403360"/>
              <a:chExt cx="865440" cy="579600"/>
            </a:xfrm>
          </p:grpSpPr>
          <p:sp>
            <p:nvSpPr>
              <p:cNvPr id="761" name=""/>
              <p:cNvSpPr/>
              <p:nvPr/>
            </p:nvSpPr>
            <p:spPr>
              <a:xfrm>
                <a:off x="7345440" y="2403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289640" y="24066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236000" y="241452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183440" y="24256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130880" y="244332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081920" y="24670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037280" y="2496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999120" y="2532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70680" y="25750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953400" y="262404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948360" y="2679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954840" y="273384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973920" y="27860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005600" y="2830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045200" y="2870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089840" y="2901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140600" y="2927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192800" y="294624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245360" y="29606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300800" y="297036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356600" y="2973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412040" y="29718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466040" y="2963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521480" y="29494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574040" y="2932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26240" y="290844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74120" y="28782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718400" y="2838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756560" y="27957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786800" y="27446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804080" y="269064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797960" y="26352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775640" y="258444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742160" y="25401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701120" y="250344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655040" y="24732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05720" y="24480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553160" y="2428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499520" y="241632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445520" y="2408400"/>
                <a:ext cx="3780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389720" y="24033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6035760" y="3395520"/>
              <a:ext cx="865080" cy="579600"/>
              <a:chOff x="6035760" y="3395520"/>
              <a:chExt cx="865080" cy="579600"/>
            </a:xfrm>
          </p:grpSpPr>
          <p:sp>
            <p:nvSpPr>
              <p:cNvPr id="803" name=""/>
              <p:cNvSpPr/>
              <p:nvPr/>
            </p:nvSpPr>
            <p:spPr>
              <a:xfrm>
                <a:off x="6432480" y="3395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377040" y="33987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323040" y="340668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270480" y="34178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218280" y="343548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168960" y="34592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124680" y="34894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86520" y="3524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58080" y="356724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40440" y="361620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035760" y="3672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041880" y="372600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060960" y="37782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093000" y="382284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132600" y="38624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176880" y="38941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227640" y="3919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280200" y="39387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332400" y="395280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388200" y="39625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443640" y="39654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499080" y="39639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553080" y="39560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608880" y="39416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661080" y="3924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713640" y="390060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761160" y="38703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805440" y="3830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843600" y="3787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873840" y="373680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891480" y="368316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85000" y="362736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862680" y="357660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829560" y="353232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788160" y="34956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742080" y="3465360"/>
                <a:ext cx="36720" cy="241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692760" y="34401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640560" y="3421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586560" y="34084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532560" y="340056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77120" y="3395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6321600" y="4062240"/>
              <a:ext cx="865080" cy="579600"/>
              <a:chOff x="6321600" y="4062240"/>
              <a:chExt cx="865080" cy="579600"/>
            </a:xfrm>
          </p:grpSpPr>
          <p:sp>
            <p:nvSpPr>
              <p:cNvPr id="845" name=""/>
              <p:cNvSpPr/>
              <p:nvPr/>
            </p:nvSpPr>
            <p:spPr>
              <a:xfrm>
                <a:off x="6718320" y="4062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662880" y="40654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608880" y="407340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556320" y="408456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504120" y="4102200"/>
                <a:ext cx="3780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454800" y="4125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10160" y="4156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372360" y="4191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343560" y="42339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326280" y="428292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321600" y="43387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327720" y="439272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346800" y="444492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378480" y="44895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418440" y="45291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462720" y="45608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513480" y="458640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566040" y="4605480"/>
                <a:ext cx="3780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618240" y="461952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673680" y="462924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729480" y="46324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784920" y="46306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838920" y="46227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894360" y="460836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946920" y="4591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999120" y="456732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047000" y="45370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091280" y="449748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129440" y="445464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159680" y="440388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176960" y="4349880"/>
                <a:ext cx="972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170840" y="429408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148520" y="424332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115040" y="419904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074000" y="416232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027920" y="41324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978600" y="41068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926400" y="408780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872400" y="407520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818400" y="406728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762600" y="406224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7750080" y="3586320"/>
              <a:ext cx="865440" cy="579240"/>
              <a:chOff x="7750080" y="3586320"/>
              <a:chExt cx="865440" cy="579240"/>
            </a:xfrm>
          </p:grpSpPr>
          <p:sp>
            <p:nvSpPr>
              <p:cNvPr id="887" name=""/>
              <p:cNvSpPr/>
              <p:nvPr/>
            </p:nvSpPr>
            <p:spPr>
              <a:xfrm>
                <a:off x="8147160" y="3586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091360" y="35892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037360" y="359712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985160" y="36082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932600" y="362592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883640" y="36496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839000" y="367992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800840" y="37148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772400" y="37576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754760" y="3807000"/>
                <a:ext cx="1620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750080" y="38624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756560" y="391644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775640" y="39686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807320" y="40132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846920" y="40528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891560" y="40845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942320" y="41101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994520" y="412920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047080" y="41432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102520" y="41529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8158320" y="41562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213760" y="41544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8267760" y="41464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323200" y="41324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375760" y="41148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427960" y="409104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475840" y="40608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520120" y="40212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8558280" y="39783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588520" y="392760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8605800" y="387360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8599320" y="3817800"/>
                <a:ext cx="1440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8577360" y="376704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8543880" y="37227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8502480" y="368604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456760" y="36561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407440" y="36306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354880" y="3611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8300880" y="35989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247240" y="3591000"/>
                <a:ext cx="3780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191440" y="3586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5638680" y="5006880"/>
              <a:ext cx="865440" cy="579600"/>
              <a:chOff x="5638680" y="5006880"/>
              <a:chExt cx="865440" cy="579600"/>
            </a:xfrm>
          </p:grpSpPr>
          <p:sp>
            <p:nvSpPr>
              <p:cNvPr id="929" name=""/>
              <p:cNvSpPr/>
              <p:nvPr/>
            </p:nvSpPr>
            <p:spPr>
              <a:xfrm>
                <a:off x="6035760" y="50068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979960" y="501012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925960" y="50180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73760" y="502920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21200" y="50468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772240" y="50706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727600" y="51004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689440" y="513540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661000" y="51786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643720" y="52275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638680" y="52833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645160" y="533700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664240" y="53895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695920" y="543384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735520" y="54738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780160" y="55054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0920" y="553068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83120" y="554976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935680" y="556416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991120" y="557388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046920" y="55767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102360" y="5575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156360" y="556740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211800" y="55530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264360" y="55357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316560" y="55119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364440" y="54817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408720" y="54421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446880" y="5398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477120" y="53481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494400" y="529416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488280" y="523872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465960" y="518796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432480" y="514368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391440" y="51069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345360" y="5076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296040" y="5051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243480" y="50324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189840" y="50198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135840" y="5011560"/>
                <a:ext cx="3780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080040" y="50068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4821120" y="3435480"/>
              <a:ext cx="865440" cy="706320"/>
              <a:chOff x="4821120" y="3435480"/>
              <a:chExt cx="865440" cy="706320"/>
            </a:xfrm>
          </p:grpSpPr>
          <p:sp>
            <p:nvSpPr>
              <p:cNvPr id="971" name=""/>
              <p:cNvSpPr/>
              <p:nvPr/>
            </p:nvSpPr>
            <p:spPr>
              <a:xfrm>
                <a:off x="5218200" y="3435480"/>
                <a:ext cx="46080" cy="936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162400" y="343836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108400" y="344808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057640" y="346248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006880" y="348300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960800" y="35100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917960" y="354348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883040" y="358128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853160" y="362592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834080" y="367524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822920" y="372744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821120" y="3782880"/>
                <a:ext cx="9720" cy="3996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827600" y="383868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843440" y="3892680"/>
                <a:ext cx="1908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867200" y="394164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898880" y="398628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938840" y="40258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984920" y="405936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033880" y="4084560"/>
                <a:ext cx="36720" cy="223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083200" y="41068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137200" y="41212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192640" y="4130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248440" y="41324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303880" y="4127400"/>
                <a:ext cx="39600" cy="129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357880" y="41162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411880" y="40971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462640" y="407340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511960" y="40435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557680" y="4006800"/>
                <a:ext cx="3204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597640" y="3965400"/>
                <a:ext cx="27000" cy="3204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629320" y="39178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656320" y="386712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672160" y="381312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676840" y="375768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667480" y="3703680"/>
                <a:ext cx="1404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645160" y="365112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616720" y="360360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81800" y="356220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7160" y="3527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491080" y="34974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440320" y="3473280"/>
                <a:ext cx="38160" cy="2088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389560" y="34545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35560" y="34416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280120" y="34369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5310360" y="4178160"/>
              <a:ext cx="865080" cy="706680"/>
              <a:chOff x="5310360" y="4178160"/>
              <a:chExt cx="865080" cy="706680"/>
            </a:xfrm>
          </p:grpSpPr>
          <p:sp>
            <p:nvSpPr>
              <p:cNvPr id="1016" name=""/>
              <p:cNvSpPr/>
              <p:nvPr/>
            </p:nvSpPr>
            <p:spPr>
              <a:xfrm>
                <a:off x="5707080" y="4178160"/>
                <a:ext cx="4428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651640" y="41799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597640" y="418932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545080" y="420372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94320" y="422604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48240" y="425124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407200" y="42847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370480" y="432288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342040" y="43689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321160" y="441792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311800" y="447048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310360" y="45259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315040" y="458136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30880" y="4633920"/>
                <a:ext cx="2052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56080" y="468324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88120" y="472752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27720" y="4767120"/>
                <a:ext cx="3312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72000" y="48006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521320" y="48276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572080" y="48481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626080" y="486252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680080" y="48718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735520" y="487512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791320" y="48704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845320" y="48578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899320" y="483876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951520" y="48150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000840" y="47847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045120" y="474984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084720" y="470700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118200" y="466092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145200" y="4608360"/>
                <a:ext cx="17640" cy="399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161040" y="4554360"/>
                <a:ext cx="12600" cy="3996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165720" y="44989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154560" y="444492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34040" y="4394160"/>
                <a:ext cx="2052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105600" y="4346640"/>
                <a:ext cx="23760" cy="331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068880" y="430524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026040" y="426888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978520" y="42386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929200" y="42148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877000" y="419580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823000" y="41846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767560" y="41799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6885000" y="3043080"/>
              <a:ext cx="865080" cy="706680"/>
              <a:chOff x="6885000" y="3043080"/>
              <a:chExt cx="865080" cy="706680"/>
            </a:xfrm>
          </p:grpSpPr>
          <p:sp>
            <p:nvSpPr>
              <p:cNvPr id="1061" name=""/>
              <p:cNvSpPr/>
              <p:nvPr/>
            </p:nvSpPr>
            <p:spPr>
              <a:xfrm>
                <a:off x="7281720" y="3043080"/>
                <a:ext cx="4608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226280" y="3044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172280" y="305424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121520" y="30686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070760" y="30909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024680" y="31161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981840" y="314964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946920" y="31878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916680" y="323388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897600" y="328284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886440" y="333540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885000" y="33908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891480" y="344664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907320" y="34988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931080" y="3548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962760" y="3592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002360" y="3632040"/>
                <a:ext cx="3348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048440" y="3665520"/>
                <a:ext cx="3348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097760" y="3692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147080" y="3713040"/>
                <a:ext cx="3780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201080" y="372744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256520" y="3736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311960" y="37400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367760" y="37353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421400" y="372276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475400" y="370368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526160" y="36799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575480" y="364968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621560" y="36147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661160" y="35719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693200" y="352584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719840" y="3473280"/>
                <a:ext cx="19080" cy="399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736040" y="341964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740720" y="33638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731000" y="33098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709040" y="325908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680240" y="3211560"/>
                <a:ext cx="25560" cy="331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645320" y="317016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601040" y="313380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554960" y="31035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504200" y="307980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453440" y="306072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399440" y="304956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343640" y="304488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5" name=""/>
            <p:cNvGrpSpPr/>
            <p:nvPr/>
          </p:nvGrpSpPr>
          <p:grpSpPr>
            <a:xfrm>
              <a:off x="7207200" y="4276800"/>
              <a:ext cx="865080" cy="706320"/>
              <a:chOff x="7207200" y="4276800"/>
              <a:chExt cx="865080" cy="706320"/>
            </a:xfrm>
          </p:grpSpPr>
          <p:sp>
            <p:nvSpPr>
              <p:cNvPr id="1106" name=""/>
              <p:cNvSpPr/>
              <p:nvPr/>
            </p:nvSpPr>
            <p:spPr>
              <a:xfrm>
                <a:off x="7604280" y="4276800"/>
                <a:ext cx="44280" cy="936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548480" y="42800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494480" y="428940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442280" y="430380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391520" y="432432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345440" y="435132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304040" y="438480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267680" y="442260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238880" y="44672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218360" y="451656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209000" y="456876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207200" y="46245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211880" y="4680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227720" y="4734000"/>
                <a:ext cx="2088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253280" y="478296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284960" y="4827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324560" y="4867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369200" y="49006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418520" y="492588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469280" y="494820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523280" y="4962600"/>
                <a:ext cx="38160" cy="140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577280" y="4971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632720" y="49737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688160" y="4968720"/>
                <a:ext cx="39960" cy="129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742160" y="495792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796160" y="493884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848720" y="491508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897680" y="488484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942320" y="48481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981920" y="48070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015400" y="475920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042400" y="470844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8058240" y="4654440"/>
                <a:ext cx="12600" cy="3996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8062920" y="4599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8051760" y="454500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8031240" y="449280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8002440" y="4444920"/>
                <a:ext cx="2412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966080" y="440388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923240" y="436896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875720" y="4338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826400" y="43149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773840" y="42958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719840" y="428292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664400" y="42782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0" name=""/>
            <p:cNvSpPr/>
            <p:nvPr/>
          </p:nvSpPr>
          <p:spPr>
            <a:xfrm>
              <a:off x="4294080" y="231300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256360" y="3770280"/>
              <a:ext cx="42372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351560" y="3394080"/>
              <a:ext cx="33048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4886280" y="3776760"/>
              <a:ext cx="401760" cy="866520"/>
              <a:chOff x="4886280" y="3776760"/>
              <a:chExt cx="401760" cy="866520"/>
            </a:xfrm>
          </p:grpSpPr>
          <p:sp>
            <p:nvSpPr>
              <p:cNvPr id="1154" name=""/>
              <p:cNvSpPr/>
              <p:nvPr/>
            </p:nvSpPr>
            <p:spPr>
              <a:xfrm>
                <a:off x="4886280" y="445932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992840" y="421956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099040" y="398160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205240" y="3776760"/>
                <a:ext cx="8280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6418440" y="3394080"/>
              <a:ext cx="941040" cy="303120"/>
              <a:chOff x="6418440" y="3394080"/>
              <a:chExt cx="941040" cy="303120"/>
            </a:xfrm>
          </p:grpSpPr>
          <p:sp>
            <p:nvSpPr>
              <p:cNvPr id="1159" name=""/>
              <p:cNvSpPr/>
              <p:nvPr/>
            </p:nvSpPr>
            <p:spPr>
              <a:xfrm>
                <a:off x="6418440" y="3619440"/>
                <a:ext cx="18720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669000" y="354492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919920" y="346860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169040" y="339408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6602400" y="2727360"/>
              <a:ext cx="685800" cy="871560"/>
              <a:chOff x="6602400" y="2727360"/>
              <a:chExt cx="685800" cy="871560"/>
            </a:xfrm>
          </p:grpSpPr>
          <p:sp>
            <p:nvSpPr>
              <p:cNvPr id="1164" name=""/>
              <p:cNvSpPr/>
              <p:nvPr/>
            </p:nvSpPr>
            <p:spPr>
              <a:xfrm>
                <a:off x="6602400" y="343368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764400" y="322740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923160" y="3019320"/>
                <a:ext cx="13644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085160" y="2813040"/>
                <a:ext cx="13464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245360" y="27273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5761080" y="4608360"/>
              <a:ext cx="195120" cy="698760"/>
              <a:chOff x="5761080" y="4608360"/>
              <a:chExt cx="195120" cy="698760"/>
            </a:xfrm>
          </p:grpSpPr>
          <p:sp>
            <p:nvSpPr>
              <p:cNvPr id="1170" name=""/>
              <p:cNvSpPr/>
              <p:nvPr/>
            </p:nvSpPr>
            <p:spPr>
              <a:xfrm>
                <a:off x="5888160" y="5116680"/>
                <a:ext cx="6804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824440" y="486252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761080" y="460836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7648560" y="3871800"/>
              <a:ext cx="401760" cy="866880"/>
              <a:chOff x="7648560" y="3871800"/>
              <a:chExt cx="401760" cy="866880"/>
            </a:xfrm>
          </p:grpSpPr>
          <p:sp>
            <p:nvSpPr>
              <p:cNvPr id="1174" name=""/>
              <p:cNvSpPr/>
              <p:nvPr/>
            </p:nvSpPr>
            <p:spPr>
              <a:xfrm>
                <a:off x="7648560" y="455436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754760" y="431496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861320" y="407664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967520" y="3871800"/>
                <a:ext cx="8280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6886440" y="3395520"/>
              <a:ext cx="401760" cy="866880"/>
              <a:chOff x="6886440" y="3395520"/>
              <a:chExt cx="401760" cy="866880"/>
            </a:xfrm>
          </p:grpSpPr>
          <p:sp>
            <p:nvSpPr>
              <p:cNvPr id="1179" name=""/>
              <p:cNvSpPr/>
              <p:nvPr/>
            </p:nvSpPr>
            <p:spPr>
              <a:xfrm>
                <a:off x="6886440" y="40784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993000" y="383868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099200" y="360036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205760" y="339552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5746680" y="3705120"/>
              <a:ext cx="658800" cy="750960"/>
              <a:chOff x="5746680" y="3705120"/>
              <a:chExt cx="658800" cy="750960"/>
            </a:xfrm>
          </p:grpSpPr>
          <p:sp>
            <p:nvSpPr>
              <p:cNvPr id="1184" name=""/>
              <p:cNvSpPr/>
              <p:nvPr/>
            </p:nvSpPr>
            <p:spPr>
              <a:xfrm>
                <a:off x="5746680" y="429732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918040" y="41004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089760" y="390204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264360" y="370512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5270400" y="3011400"/>
              <a:ext cx="588960" cy="682560"/>
              <a:chOff x="5270400" y="3011400"/>
              <a:chExt cx="588960" cy="682560"/>
            </a:xfrm>
          </p:grpSpPr>
          <p:sp>
            <p:nvSpPr>
              <p:cNvPr id="1189" name=""/>
              <p:cNvSpPr/>
              <p:nvPr/>
            </p:nvSpPr>
            <p:spPr>
              <a:xfrm>
                <a:off x="5270400" y="353376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438880" y="333360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610240" y="3135240"/>
                <a:ext cx="14112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780160" y="3011400"/>
                <a:ext cx="7920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6130800" y="4627440"/>
              <a:ext cx="1533600" cy="687600"/>
              <a:chOff x="6130800" y="4627440"/>
              <a:chExt cx="1533600" cy="687600"/>
            </a:xfrm>
          </p:grpSpPr>
          <p:sp>
            <p:nvSpPr>
              <p:cNvPr id="1194" name=""/>
              <p:cNvSpPr/>
              <p:nvPr/>
            </p:nvSpPr>
            <p:spPr>
              <a:xfrm>
                <a:off x="6130800" y="521820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370560" y="5113440"/>
                <a:ext cx="18432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10320" y="500868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851520" y="490212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089840" y="4799160"/>
                <a:ext cx="18396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329600" y="4692600"/>
                <a:ext cx="18396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570800" y="462744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4416480" y="4348080"/>
              <a:ext cx="865080" cy="579600"/>
              <a:chOff x="4416480" y="4348080"/>
              <a:chExt cx="865080" cy="579600"/>
            </a:xfrm>
          </p:grpSpPr>
          <p:sp>
            <p:nvSpPr>
              <p:cNvPr id="1202" name=""/>
              <p:cNvSpPr/>
              <p:nvPr/>
            </p:nvSpPr>
            <p:spPr>
              <a:xfrm>
                <a:off x="4813200" y="43480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757760" y="43513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703760" y="43592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651200" y="4370400"/>
                <a:ext cx="3672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599000" y="43876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549680" y="44118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505400" y="44416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467240" y="44766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438800" y="451944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421160" y="45687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416480" y="462456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422600" y="46782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441680" y="47307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473720" y="477504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513320" y="481500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557600" y="484668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608360" y="4871880"/>
                <a:ext cx="3672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660920" y="489096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713120" y="490536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768920" y="491508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824360" y="4917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879800" y="491652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933800" y="490860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989600" y="48942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041800" y="4876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094360" y="48531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141880" y="48229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186520" y="4782960"/>
                <a:ext cx="2988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224320" y="47401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254560" y="46893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272200" y="463536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265720" y="457992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243400" y="452916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210280" y="448452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168880" y="44481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122800" y="44179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073480" y="439272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021280" y="4373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967280" y="43610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913280" y="43527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857840" y="4348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5416560" y="2728800"/>
              <a:ext cx="865080" cy="579600"/>
              <a:chOff x="5416560" y="2728800"/>
              <a:chExt cx="865080" cy="579600"/>
            </a:xfrm>
          </p:grpSpPr>
          <p:sp>
            <p:nvSpPr>
              <p:cNvPr id="1244" name=""/>
              <p:cNvSpPr/>
              <p:nvPr/>
            </p:nvSpPr>
            <p:spPr>
              <a:xfrm>
                <a:off x="5813280" y="272880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757840" y="27320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703840" y="273996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651640" y="275112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599080" y="276876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549760" y="2792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505480" y="28224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467320" y="2857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438880" y="290052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421240" y="294948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16560" y="30052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423040" y="305928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442120" y="311148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473800" y="3156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513400" y="319572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557680" y="32274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608800" y="32529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661000" y="327168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713560" y="328608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769000" y="329580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824440" y="32986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880240" y="32972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934240" y="328932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989680" y="327492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041880" y="3257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094440" y="323388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141960" y="320364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186600" y="316404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224760" y="3121200"/>
                <a:ext cx="2664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254640" y="307008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272280" y="301608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265800" y="296064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243480" y="290988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210360" y="28656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168960" y="282888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122880" y="27986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073920" y="27734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021360" y="2754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967360" y="2741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913360" y="273384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857920" y="2728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5" name=""/>
            <p:cNvGrpSpPr/>
            <p:nvPr/>
          </p:nvGrpSpPr>
          <p:grpSpPr>
            <a:xfrm>
              <a:off x="6948360" y="2403360"/>
              <a:ext cx="865440" cy="579600"/>
              <a:chOff x="6948360" y="2403360"/>
              <a:chExt cx="865440" cy="579600"/>
            </a:xfrm>
          </p:grpSpPr>
          <p:sp>
            <p:nvSpPr>
              <p:cNvPr id="1286" name=""/>
              <p:cNvSpPr/>
              <p:nvPr/>
            </p:nvSpPr>
            <p:spPr>
              <a:xfrm>
                <a:off x="7345440" y="2403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289640" y="24066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236000" y="241452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183440" y="24256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130880" y="244332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081920" y="24670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037280" y="2496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999120" y="2532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970680" y="25750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953400" y="262404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948360" y="2679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954840" y="273384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973920" y="27860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005600" y="2830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045200" y="2870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089840" y="2901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140600" y="2927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192800" y="294624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245360" y="29606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300800" y="297036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356600" y="2973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412040" y="29718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7466040" y="2963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521480" y="29494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574040" y="2932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7626240" y="290844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674120" y="28782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7718400" y="2838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756560" y="27957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7786800" y="27446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7804080" y="269064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797960" y="26352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7775640" y="258444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742160" y="25401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701120" y="250344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7655040" y="24732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605720" y="24480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553160" y="2428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499520" y="241632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445520" y="2408400"/>
                <a:ext cx="3780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389720" y="24033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27" name=""/>
            <p:cNvGrpSpPr/>
            <p:nvPr/>
          </p:nvGrpSpPr>
          <p:grpSpPr>
            <a:xfrm>
              <a:off x="6035760" y="3395520"/>
              <a:ext cx="865080" cy="579600"/>
              <a:chOff x="6035760" y="3395520"/>
              <a:chExt cx="865080" cy="579600"/>
            </a:xfrm>
          </p:grpSpPr>
          <p:sp>
            <p:nvSpPr>
              <p:cNvPr id="1328" name=""/>
              <p:cNvSpPr/>
              <p:nvPr/>
            </p:nvSpPr>
            <p:spPr>
              <a:xfrm>
                <a:off x="6432480" y="3395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377040" y="33987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323040" y="340668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270480" y="34178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218280" y="343548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168960" y="34592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124680" y="34894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086520" y="3524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058080" y="356724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040440" y="361620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035760" y="3672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041880" y="372600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060960" y="37782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093000" y="382284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132600" y="38624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176880" y="38941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227640" y="3919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280200" y="39387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332400" y="395280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388200" y="39625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443640" y="39654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499080" y="39639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553080" y="39560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608880" y="39416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661080" y="3924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713640" y="390060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761160" y="38703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805440" y="3830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843600" y="3787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873840" y="373680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891480" y="368316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885000" y="362736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862680" y="357660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829560" y="353232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788160" y="34956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742080" y="3465360"/>
                <a:ext cx="36720" cy="241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692760" y="34401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640560" y="3421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586560" y="34084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532560" y="340056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477120" y="3395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6321600" y="4062240"/>
              <a:ext cx="865080" cy="579600"/>
              <a:chOff x="6321600" y="4062240"/>
              <a:chExt cx="865080" cy="579600"/>
            </a:xfrm>
          </p:grpSpPr>
          <p:sp>
            <p:nvSpPr>
              <p:cNvPr id="1370" name=""/>
              <p:cNvSpPr/>
              <p:nvPr/>
            </p:nvSpPr>
            <p:spPr>
              <a:xfrm>
                <a:off x="6718320" y="4062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662880" y="40654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608880" y="407340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556320" y="408456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504120" y="4102200"/>
                <a:ext cx="3780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454800" y="4125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410160" y="4156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372360" y="4191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343560" y="42339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326280" y="428292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321600" y="43387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327720" y="439272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346800" y="444492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378480" y="44895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418440" y="45291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462720" y="45608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513480" y="458640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566040" y="4605480"/>
                <a:ext cx="3780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618240" y="461952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673680" y="462924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729480" y="46324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784920" y="46306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838920" y="46227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894360" y="460836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946920" y="4591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999120" y="456732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047000" y="45370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091280" y="449748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129440" y="445464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159680" y="440388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176960" y="4349880"/>
                <a:ext cx="972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170840" y="429408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148520" y="424332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115040" y="419904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074000" y="416232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027920" y="41324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978600" y="41068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926400" y="408780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872400" y="407520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818400" y="406728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762600" y="406224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7750080" y="3586320"/>
              <a:ext cx="865440" cy="579240"/>
              <a:chOff x="7750080" y="3586320"/>
              <a:chExt cx="865440" cy="579240"/>
            </a:xfrm>
          </p:grpSpPr>
          <p:sp>
            <p:nvSpPr>
              <p:cNvPr id="1412" name=""/>
              <p:cNvSpPr/>
              <p:nvPr/>
            </p:nvSpPr>
            <p:spPr>
              <a:xfrm>
                <a:off x="8147160" y="3586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8091360" y="35892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8037360" y="359712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985160" y="36082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932600" y="362592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883640" y="36496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839000" y="367992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800840" y="37148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772400" y="37576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754760" y="3807000"/>
                <a:ext cx="1620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750080" y="38624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756560" y="391644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775640" y="39686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807320" y="40132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846920" y="40528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7891560" y="40845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942320" y="41101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7994520" y="412920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8047080" y="41432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8102520" y="41529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8158320" y="41562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8213760" y="41544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8267760" y="41464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323200" y="41324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375760" y="41148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8427960" y="409104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8475840" y="40608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8520120" y="40212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8558280" y="39783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8588520" y="392760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8605800" y="387360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8599320" y="3817800"/>
                <a:ext cx="1440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8577360" y="376704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8543880" y="37227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8502480" y="368604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8456760" y="36561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8407440" y="36306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8354880" y="3611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8300880" y="35989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8247240" y="3591000"/>
                <a:ext cx="3780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8191440" y="3586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3" name=""/>
            <p:cNvGrpSpPr/>
            <p:nvPr/>
          </p:nvGrpSpPr>
          <p:grpSpPr>
            <a:xfrm>
              <a:off x="5638680" y="5006880"/>
              <a:ext cx="865440" cy="579600"/>
              <a:chOff x="5638680" y="5006880"/>
              <a:chExt cx="865440" cy="579600"/>
            </a:xfrm>
          </p:grpSpPr>
          <p:sp>
            <p:nvSpPr>
              <p:cNvPr id="1454" name=""/>
              <p:cNvSpPr/>
              <p:nvPr/>
            </p:nvSpPr>
            <p:spPr>
              <a:xfrm>
                <a:off x="6035760" y="50068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979960" y="501012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925960" y="50180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873760" y="502920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821200" y="50468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772240" y="50706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727600" y="51004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689440" y="513540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661000" y="51786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643720" y="52275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638680" y="52833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645160" y="533700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664240" y="53895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695920" y="543384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735520" y="54738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780160" y="55054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5830920" y="553068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883120" y="554976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935680" y="556416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991120" y="557388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046920" y="55767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6102360" y="5575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156360" y="556740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211800" y="55530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264360" y="55357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316560" y="55119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364440" y="54817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408720" y="54421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446880" y="5398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477120" y="53481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494400" y="529416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488280" y="523872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465960" y="518796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432480" y="514368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391440" y="51069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345360" y="5076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296040" y="5051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243480" y="50324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189840" y="50198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135840" y="5011560"/>
                <a:ext cx="3780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080040" y="50068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95" name=""/>
            <p:cNvGrpSpPr/>
            <p:nvPr/>
          </p:nvGrpSpPr>
          <p:grpSpPr>
            <a:xfrm>
              <a:off x="4821120" y="3435480"/>
              <a:ext cx="865440" cy="706320"/>
              <a:chOff x="4821120" y="3435480"/>
              <a:chExt cx="865440" cy="706320"/>
            </a:xfrm>
          </p:grpSpPr>
          <p:sp>
            <p:nvSpPr>
              <p:cNvPr id="1496" name=""/>
              <p:cNvSpPr/>
              <p:nvPr/>
            </p:nvSpPr>
            <p:spPr>
              <a:xfrm>
                <a:off x="5218200" y="3435480"/>
                <a:ext cx="46080" cy="936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162400" y="343836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108400" y="344808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057640" y="346248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006880" y="348300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960800" y="35100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917960" y="354348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4883040" y="358128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853160" y="362592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4834080" y="367524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4822920" y="372744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4821120" y="3782880"/>
                <a:ext cx="9720" cy="3996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4827600" y="383868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4843440" y="3892680"/>
                <a:ext cx="1908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4867200" y="394164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4898880" y="398628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4938840" y="40258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4984920" y="405936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5033880" y="4084560"/>
                <a:ext cx="36720" cy="223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5083200" y="41068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5137200" y="41212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192640" y="4130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5248440" y="41324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5303880" y="4127400"/>
                <a:ext cx="39600" cy="129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5357880" y="41162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5411880" y="40971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5462640" y="407340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511960" y="40435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5557680" y="4006800"/>
                <a:ext cx="3204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5597640" y="3965400"/>
                <a:ext cx="27000" cy="3204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5629320" y="39178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5656320" y="386712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5672160" y="381312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5676840" y="375768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5667480" y="3703680"/>
                <a:ext cx="1404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5645160" y="365112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5616720" y="360360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5581800" y="356220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5537160" y="3527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491080" y="34974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440320" y="3473280"/>
                <a:ext cx="38160" cy="2088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389560" y="34545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335560" y="34416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280120" y="34369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0" name=""/>
            <p:cNvGrpSpPr/>
            <p:nvPr/>
          </p:nvGrpSpPr>
          <p:grpSpPr>
            <a:xfrm>
              <a:off x="5310360" y="4178160"/>
              <a:ext cx="865080" cy="706680"/>
              <a:chOff x="5310360" y="4178160"/>
              <a:chExt cx="865080" cy="706680"/>
            </a:xfrm>
          </p:grpSpPr>
          <p:sp>
            <p:nvSpPr>
              <p:cNvPr id="1541" name=""/>
              <p:cNvSpPr/>
              <p:nvPr/>
            </p:nvSpPr>
            <p:spPr>
              <a:xfrm>
                <a:off x="5707080" y="4178160"/>
                <a:ext cx="4428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651640" y="41799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597640" y="418932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545080" y="420372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494320" y="422604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448240" y="425124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407200" y="42847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370480" y="432288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342040" y="43689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321160" y="441792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311800" y="447048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310360" y="45259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315040" y="458136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330880" y="4633920"/>
                <a:ext cx="2052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356080" y="468324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388120" y="472752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427720" y="4767120"/>
                <a:ext cx="3312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472000" y="48006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521320" y="48276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572080" y="48481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626080" y="486252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680080" y="48718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735520" y="487512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791320" y="48704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5845320" y="48578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5899320" y="483876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5951520" y="48150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000840" y="47847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6045120" y="474984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84720" y="470700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118200" y="466092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6145200" y="4608360"/>
                <a:ext cx="17640" cy="399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161040" y="4554360"/>
                <a:ext cx="12600" cy="3996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165720" y="44989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154560" y="444492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134040" y="4394160"/>
                <a:ext cx="2052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105600" y="4346640"/>
                <a:ext cx="23760" cy="331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068880" y="430524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026040" y="426888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5978520" y="42386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5929200" y="42148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5877000" y="419580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5823000" y="41846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5767560" y="41799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6885000" y="3043080"/>
              <a:ext cx="865080" cy="706680"/>
              <a:chOff x="6885000" y="3043080"/>
              <a:chExt cx="865080" cy="706680"/>
            </a:xfrm>
          </p:grpSpPr>
          <p:sp>
            <p:nvSpPr>
              <p:cNvPr id="1586" name=""/>
              <p:cNvSpPr/>
              <p:nvPr/>
            </p:nvSpPr>
            <p:spPr>
              <a:xfrm>
                <a:off x="7281720" y="3043080"/>
                <a:ext cx="4608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226280" y="3044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172280" y="305424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121520" y="30686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070760" y="30909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024680" y="31161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981840" y="314964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946920" y="31878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916680" y="323388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897600" y="328284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886440" y="333540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885000" y="33908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891480" y="344664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907320" y="34988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931080" y="3548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6962760" y="3592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002360" y="3632040"/>
                <a:ext cx="3348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048440" y="3665520"/>
                <a:ext cx="3348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097760" y="3692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147080" y="3713040"/>
                <a:ext cx="3780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201080" y="372744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256520" y="3736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311960" y="37400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367760" y="37353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421400" y="372276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475400" y="370368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526160" y="36799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575480" y="364968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621560" y="36147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661160" y="35719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693200" y="352584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719840" y="3473280"/>
                <a:ext cx="19080" cy="399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736040" y="341964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740720" y="33638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731000" y="33098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709040" y="325908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680240" y="3211560"/>
                <a:ext cx="25560" cy="331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645320" y="317016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601040" y="313380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554960" y="31035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504200" y="307980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453440" y="306072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399440" y="304956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343640" y="304488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"/>
            <p:cNvGrpSpPr/>
            <p:nvPr/>
          </p:nvGrpSpPr>
          <p:grpSpPr>
            <a:xfrm>
              <a:off x="7207200" y="4276800"/>
              <a:ext cx="865080" cy="706320"/>
              <a:chOff x="7207200" y="4276800"/>
              <a:chExt cx="865080" cy="706320"/>
            </a:xfrm>
          </p:grpSpPr>
          <p:sp>
            <p:nvSpPr>
              <p:cNvPr id="1631" name=""/>
              <p:cNvSpPr/>
              <p:nvPr/>
            </p:nvSpPr>
            <p:spPr>
              <a:xfrm>
                <a:off x="7604280" y="4276800"/>
                <a:ext cx="44280" cy="936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548480" y="42800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494480" y="428940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442280" y="430380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391520" y="432432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345440" y="435132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304040" y="438480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267680" y="442260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238880" y="44672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218360" y="451656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209000" y="456876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207200" y="46245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211880" y="4680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227720" y="4734000"/>
                <a:ext cx="2088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253280" y="478296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284960" y="4827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324560" y="4867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369200" y="49006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418520" y="492588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469280" y="494820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523280" y="4962600"/>
                <a:ext cx="38160" cy="140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577280" y="4971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632720" y="49737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688160" y="4968720"/>
                <a:ext cx="39960" cy="129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742160" y="495792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796160" y="493884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848720" y="491508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897680" y="488484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7942320" y="48481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7981920" y="48070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8015400" y="475920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8042400" y="470844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8058240" y="4654440"/>
                <a:ext cx="12600" cy="3996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8062920" y="4599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8051760" y="454500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8031240" y="449280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8002440" y="4444920"/>
                <a:ext cx="2412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966080" y="440388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923240" y="436896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875720" y="4338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826400" y="43149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773840" y="42958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7719840" y="428292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7664400" y="42782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5" name=""/>
            <p:cNvSpPr/>
            <p:nvPr/>
          </p:nvSpPr>
          <p:spPr>
            <a:xfrm>
              <a:off x="8053200" y="518148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 Narrow"/>
                </a:rPr>
                <a:t>F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76" name=""/>
            <p:cNvGrpSpPr/>
            <p:nvPr/>
          </p:nvGrpSpPr>
          <p:grpSpPr>
            <a:xfrm>
              <a:off x="4952880" y="3505320"/>
              <a:ext cx="609840" cy="457200"/>
              <a:chOff x="4952880" y="3505320"/>
              <a:chExt cx="609840" cy="457200"/>
            </a:xfrm>
          </p:grpSpPr>
          <p:sp>
            <p:nvSpPr>
              <p:cNvPr id="1677" name=""/>
              <p:cNvSpPr/>
              <p:nvPr/>
            </p:nvSpPr>
            <p:spPr>
              <a:xfrm>
                <a:off x="4977360" y="375048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78" name=""/>
              <p:cNvGrpSpPr/>
              <p:nvPr/>
            </p:nvGrpSpPr>
            <p:grpSpPr>
              <a:xfrm>
                <a:off x="4952880" y="3505320"/>
                <a:ext cx="609840" cy="457200"/>
                <a:chOff x="4952880" y="3505320"/>
                <a:chExt cx="609840" cy="45720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5161320" y="35589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161320" y="36126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5161320" y="38282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5161320" y="38818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4960440" y="369360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5194440" y="35053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5194440" y="37742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4993920" y="36126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 flipV="1">
                  <a:off x="4993920" y="3774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 flipH="1">
                  <a:off x="4952880" y="37026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89" name=""/>
            <p:cNvGrpSpPr/>
            <p:nvPr/>
          </p:nvGrpSpPr>
          <p:grpSpPr>
            <a:xfrm>
              <a:off x="5410080" y="4267080"/>
              <a:ext cx="609840" cy="457200"/>
              <a:chOff x="5410080" y="4267080"/>
              <a:chExt cx="609840" cy="457200"/>
            </a:xfrm>
          </p:grpSpPr>
          <p:sp>
            <p:nvSpPr>
              <p:cNvPr id="1690" name=""/>
              <p:cNvSpPr/>
              <p:nvPr/>
            </p:nvSpPr>
            <p:spPr>
              <a:xfrm>
                <a:off x="5434560" y="451224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91" name=""/>
              <p:cNvGrpSpPr/>
              <p:nvPr/>
            </p:nvGrpSpPr>
            <p:grpSpPr>
              <a:xfrm>
                <a:off x="5410080" y="4267080"/>
                <a:ext cx="609840" cy="457200"/>
                <a:chOff x="5410080" y="4267080"/>
                <a:chExt cx="609840" cy="457200"/>
              </a:xfrm>
            </p:grpSpPr>
            <p:sp>
              <p:nvSpPr>
                <p:cNvPr id="1692" name=""/>
                <p:cNvSpPr/>
                <p:nvPr/>
              </p:nvSpPr>
              <p:spPr>
                <a:xfrm>
                  <a:off x="5618520" y="4320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5618520" y="4374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5618520" y="4590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5618520" y="4643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5417640" y="445536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5651640" y="42670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5651640" y="45360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5451120" y="43743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 flipV="1">
                  <a:off x="5451120" y="45360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 flipH="1">
                  <a:off x="5410080" y="44643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02" name=""/>
            <p:cNvGrpSpPr/>
            <p:nvPr/>
          </p:nvGrpSpPr>
          <p:grpSpPr>
            <a:xfrm>
              <a:off x="7010280" y="3124080"/>
              <a:ext cx="609840" cy="457200"/>
              <a:chOff x="7010280" y="3124080"/>
              <a:chExt cx="609840" cy="457200"/>
            </a:xfrm>
          </p:grpSpPr>
          <p:sp>
            <p:nvSpPr>
              <p:cNvPr id="1703" name=""/>
              <p:cNvSpPr/>
              <p:nvPr/>
            </p:nvSpPr>
            <p:spPr>
              <a:xfrm>
                <a:off x="7034760" y="336924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04" name=""/>
              <p:cNvGrpSpPr/>
              <p:nvPr/>
            </p:nvGrpSpPr>
            <p:grpSpPr>
              <a:xfrm>
                <a:off x="7010280" y="3124080"/>
                <a:ext cx="609840" cy="457200"/>
                <a:chOff x="7010280" y="3124080"/>
                <a:chExt cx="609840" cy="457200"/>
              </a:xfrm>
            </p:grpSpPr>
            <p:sp>
              <p:nvSpPr>
                <p:cNvPr id="1705" name=""/>
                <p:cNvSpPr/>
                <p:nvPr/>
              </p:nvSpPr>
              <p:spPr>
                <a:xfrm>
                  <a:off x="7218720" y="3177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7218720" y="3231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7218720" y="3447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7218720" y="3500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7017840" y="331236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7251840" y="31240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7251840" y="33930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7051320" y="32313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 flipV="1">
                  <a:off x="7051320" y="33930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 flipH="1">
                  <a:off x="7010280" y="33213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15" name=""/>
            <p:cNvGrpSpPr/>
            <p:nvPr/>
          </p:nvGrpSpPr>
          <p:grpSpPr>
            <a:xfrm>
              <a:off x="7391520" y="4419720"/>
              <a:ext cx="609480" cy="457200"/>
              <a:chOff x="7391520" y="4419720"/>
              <a:chExt cx="609480" cy="457200"/>
            </a:xfrm>
          </p:grpSpPr>
          <p:sp>
            <p:nvSpPr>
              <p:cNvPr id="1716" name=""/>
              <p:cNvSpPr/>
              <p:nvPr/>
            </p:nvSpPr>
            <p:spPr>
              <a:xfrm>
                <a:off x="7416000" y="466488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17" name=""/>
              <p:cNvGrpSpPr/>
              <p:nvPr/>
            </p:nvGrpSpPr>
            <p:grpSpPr>
              <a:xfrm>
                <a:off x="7391520" y="4419720"/>
                <a:ext cx="609480" cy="457200"/>
                <a:chOff x="7391520" y="4419720"/>
                <a:chExt cx="609480" cy="457200"/>
              </a:xfrm>
            </p:grpSpPr>
            <p:sp>
              <p:nvSpPr>
                <p:cNvPr id="1718" name=""/>
                <p:cNvSpPr/>
                <p:nvPr/>
              </p:nvSpPr>
              <p:spPr>
                <a:xfrm>
                  <a:off x="7599600" y="4473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7599600" y="4527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7599600" y="4742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7599600" y="4796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7399080" y="460800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7633080" y="44197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7633080" y="46886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7432560" y="45270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 flipV="1">
                  <a:off x="7432560" y="46886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 flipH="1">
                  <a:off x="7391520" y="46170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8" name=""/>
            <p:cNvGrpSpPr/>
            <p:nvPr/>
          </p:nvGrpSpPr>
          <p:grpSpPr>
            <a:xfrm>
              <a:off x="5501880" y="2770920"/>
              <a:ext cx="606960" cy="513000"/>
              <a:chOff x="5501880" y="2770920"/>
              <a:chExt cx="606960" cy="513000"/>
            </a:xfrm>
          </p:grpSpPr>
          <p:sp>
            <p:nvSpPr>
              <p:cNvPr id="1729" name=""/>
              <p:cNvSpPr/>
              <p:nvPr/>
            </p:nvSpPr>
            <p:spPr>
              <a:xfrm rot="19834800">
                <a:off x="5565960" y="298116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30" name=""/>
              <p:cNvGrpSpPr/>
              <p:nvPr/>
            </p:nvGrpSpPr>
            <p:grpSpPr>
              <a:xfrm>
                <a:off x="5501880" y="2770920"/>
                <a:ext cx="574200" cy="435600"/>
                <a:chOff x="5501880" y="2770920"/>
                <a:chExt cx="574200" cy="435600"/>
              </a:xfrm>
            </p:grpSpPr>
            <p:sp>
              <p:nvSpPr>
                <p:cNvPr id="1731" name=""/>
                <p:cNvSpPr/>
                <p:nvPr/>
              </p:nvSpPr>
              <p:spPr>
                <a:xfrm rot="19834800">
                  <a:off x="5618880" y="28321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 rot="19834800">
                  <a:off x="5645160" y="2878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 rot="19834800">
                  <a:off x="5751000" y="30668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 rot="19834800">
                  <a:off x="5777280" y="3113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 rot="19834800">
                  <a:off x="5493240" y="29293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 rot="19834800">
                  <a:off x="5665680" y="2774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 rot="19834800">
                  <a:off x="5797800" y="30092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 rot="19834800">
                  <a:off x="5517360" y="29736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 flipV="1" rot="19834800">
                  <a:off x="5596200" y="31147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 flipH="1" rot="19834800">
                  <a:off x="5514120" y="30499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41" name=""/>
            <p:cNvGrpSpPr/>
            <p:nvPr/>
          </p:nvGrpSpPr>
          <p:grpSpPr>
            <a:xfrm>
              <a:off x="4587480" y="4447440"/>
              <a:ext cx="606960" cy="513000"/>
              <a:chOff x="4587480" y="4447440"/>
              <a:chExt cx="606960" cy="513000"/>
            </a:xfrm>
          </p:grpSpPr>
          <p:sp>
            <p:nvSpPr>
              <p:cNvPr id="1742" name=""/>
              <p:cNvSpPr/>
              <p:nvPr/>
            </p:nvSpPr>
            <p:spPr>
              <a:xfrm rot="19834800">
                <a:off x="4651560" y="465768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43" name=""/>
              <p:cNvGrpSpPr/>
              <p:nvPr/>
            </p:nvGrpSpPr>
            <p:grpSpPr>
              <a:xfrm>
                <a:off x="4587480" y="4447440"/>
                <a:ext cx="574200" cy="435600"/>
                <a:chOff x="4587480" y="4447440"/>
                <a:chExt cx="574200" cy="435600"/>
              </a:xfrm>
            </p:grpSpPr>
            <p:sp>
              <p:nvSpPr>
                <p:cNvPr id="1744" name=""/>
                <p:cNvSpPr/>
                <p:nvPr/>
              </p:nvSpPr>
              <p:spPr>
                <a:xfrm rot="19834800">
                  <a:off x="4704480" y="4508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 rot="19834800">
                  <a:off x="4730760" y="4555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 rot="19834800">
                  <a:off x="4836600" y="4743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 rot="19834800">
                  <a:off x="4862880" y="47901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 rot="19834800">
                  <a:off x="4578840" y="460584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 rot="19834800">
                  <a:off x="4751280" y="44514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 rot="19834800">
                  <a:off x="4883400" y="46857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 rot="19834800">
                  <a:off x="4602960" y="46501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 flipV="1" rot="19834800">
                  <a:off x="4681800" y="4791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 flipH="1" rot="19834800">
                  <a:off x="4599720" y="472644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54" name=""/>
            <p:cNvGrpSpPr/>
            <p:nvPr/>
          </p:nvGrpSpPr>
          <p:grpSpPr>
            <a:xfrm>
              <a:off x="7102080" y="2466000"/>
              <a:ext cx="606960" cy="513000"/>
              <a:chOff x="7102080" y="2466000"/>
              <a:chExt cx="606960" cy="513000"/>
            </a:xfrm>
          </p:grpSpPr>
          <p:sp>
            <p:nvSpPr>
              <p:cNvPr id="1755" name=""/>
              <p:cNvSpPr/>
              <p:nvPr/>
            </p:nvSpPr>
            <p:spPr>
              <a:xfrm rot="19834800">
                <a:off x="7166160" y="26762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56" name=""/>
              <p:cNvGrpSpPr/>
              <p:nvPr/>
            </p:nvGrpSpPr>
            <p:grpSpPr>
              <a:xfrm>
                <a:off x="7102080" y="2466000"/>
                <a:ext cx="574200" cy="435600"/>
                <a:chOff x="7102080" y="2466000"/>
                <a:chExt cx="574200" cy="435600"/>
              </a:xfrm>
            </p:grpSpPr>
            <p:sp>
              <p:nvSpPr>
                <p:cNvPr id="1757" name=""/>
                <p:cNvSpPr/>
                <p:nvPr/>
              </p:nvSpPr>
              <p:spPr>
                <a:xfrm rot="19834800">
                  <a:off x="7219080" y="2527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 rot="19834800">
                  <a:off x="7245360" y="2574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 rot="19834800">
                  <a:off x="7351200" y="2761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 rot="19834800">
                  <a:off x="7377480" y="2808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 rot="19834800">
                  <a:off x="7093440" y="262440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 rot="19834800">
                  <a:off x="7265880" y="24699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 rot="19834800">
                  <a:off x="7398000" y="27043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 rot="19834800">
                  <a:off x="7117560" y="26686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 flipV="1" rot="19834800">
                  <a:off x="7196400" y="28098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 flipH="1" rot="19834800">
                  <a:off x="7114320" y="27450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7" name=""/>
            <p:cNvGrpSpPr/>
            <p:nvPr/>
          </p:nvGrpSpPr>
          <p:grpSpPr>
            <a:xfrm>
              <a:off x="5730480" y="5056920"/>
              <a:ext cx="606960" cy="513000"/>
              <a:chOff x="5730480" y="5056920"/>
              <a:chExt cx="606960" cy="513000"/>
            </a:xfrm>
          </p:grpSpPr>
          <p:sp>
            <p:nvSpPr>
              <p:cNvPr id="1768" name=""/>
              <p:cNvSpPr/>
              <p:nvPr/>
            </p:nvSpPr>
            <p:spPr>
              <a:xfrm rot="19834800">
                <a:off x="5794560" y="526716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69" name=""/>
              <p:cNvGrpSpPr/>
              <p:nvPr/>
            </p:nvGrpSpPr>
            <p:grpSpPr>
              <a:xfrm>
                <a:off x="5730480" y="5056920"/>
                <a:ext cx="574200" cy="435600"/>
                <a:chOff x="5730480" y="5056920"/>
                <a:chExt cx="574200" cy="435600"/>
              </a:xfrm>
            </p:grpSpPr>
            <p:sp>
              <p:nvSpPr>
                <p:cNvPr id="1770" name=""/>
                <p:cNvSpPr/>
                <p:nvPr/>
              </p:nvSpPr>
              <p:spPr>
                <a:xfrm rot="19834800">
                  <a:off x="5847480" y="51181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 rot="19834800">
                  <a:off x="5873760" y="5164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 rot="19834800">
                  <a:off x="5979600" y="53528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 rot="19834800">
                  <a:off x="6005880" y="5399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 rot="19834800">
                  <a:off x="5721840" y="52153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 rot="19834800">
                  <a:off x="5894280" y="5060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rot="19834800">
                  <a:off x="6026400" y="52952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 rot="19834800">
                  <a:off x="5745960" y="52596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 flipV="1" rot="19834800">
                  <a:off x="5824800" y="54007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 flipH="1" rot="19834800">
                  <a:off x="5742720" y="53359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80" name=""/>
            <p:cNvGrpSpPr/>
            <p:nvPr/>
          </p:nvGrpSpPr>
          <p:grpSpPr>
            <a:xfrm>
              <a:off x="6416280" y="4142520"/>
              <a:ext cx="606960" cy="513000"/>
              <a:chOff x="6416280" y="4142520"/>
              <a:chExt cx="606960" cy="513000"/>
            </a:xfrm>
          </p:grpSpPr>
          <p:sp>
            <p:nvSpPr>
              <p:cNvPr id="1781" name=""/>
              <p:cNvSpPr/>
              <p:nvPr/>
            </p:nvSpPr>
            <p:spPr>
              <a:xfrm rot="19834800">
                <a:off x="6480360" y="435276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82" name=""/>
              <p:cNvGrpSpPr/>
              <p:nvPr/>
            </p:nvGrpSpPr>
            <p:grpSpPr>
              <a:xfrm>
                <a:off x="6416280" y="4142520"/>
                <a:ext cx="574200" cy="435600"/>
                <a:chOff x="6416280" y="4142520"/>
                <a:chExt cx="574200" cy="435600"/>
              </a:xfrm>
            </p:grpSpPr>
            <p:sp>
              <p:nvSpPr>
                <p:cNvPr id="1783" name=""/>
                <p:cNvSpPr/>
                <p:nvPr/>
              </p:nvSpPr>
              <p:spPr>
                <a:xfrm rot="19834800">
                  <a:off x="6533280" y="4203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 rot="19834800">
                  <a:off x="6559560" y="4250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 rot="19834800">
                  <a:off x="6665400" y="4438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 rot="19834800">
                  <a:off x="6691680" y="44852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 rot="19834800">
                  <a:off x="6407640" y="43009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rot="19834800">
                  <a:off x="6580080" y="41464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 rot="19834800">
                  <a:off x="6712200" y="43808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 rot="19834800">
                  <a:off x="6431760" y="43452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 flipV="1" rot="19834800">
                  <a:off x="6510600" y="44863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 flipH="1" rot="19834800">
                  <a:off x="6428520" y="44215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3" name=""/>
            <p:cNvGrpSpPr/>
            <p:nvPr/>
          </p:nvGrpSpPr>
          <p:grpSpPr>
            <a:xfrm>
              <a:off x="6187680" y="3456720"/>
              <a:ext cx="606960" cy="513000"/>
              <a:chOff x="6187680" y="3456720"/>
              <a:chExt cx="606960" cy="513000"/>
            </a:xfrm>
          </p:grpSpPr>
          <p:sp>
            <p:nvSpPr>
              <p:cNvPr id="1794" name=""/>
              <p:cNvSpPr/>
              <p:nvPr/>
            </p:nvSpPr>
            <p:spPr>
              <a:xfrm rot="19834800">
                <a:off x="6251760" y="366696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95" name=""/>
              <p:cNvGrpSpPr/>
              <p:nvPr/>
            </p:nvGrpSpPr>
            <p:grpSpPr>
              <a:xfrm>
                <a:off x="6187680" y="3456720"/>
                <a:ext cx="574200" cy="435600"/>
                <a:chOff x="6187680" y="3456720"/>
                <a:chExt cx="574200" cy="435600"/>
              </a:xfrm>
            </p:grpSpPr>
            <p:sp>
              <p:nvSpPr>
                <p:cNvPr id="1796" name=""/>
                <p:cNvSpPr/>
                <p:nvPr/>
              </p:nvSpPr>
              <p:spPr>
                <a:xfrm rot="19834800">
                  <a:off x="6304680" y="3517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 rot="19834800">
                  <a:off x="6330960" y="3564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 rot="19834800">
                  <a:off x="6436800" y="3752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 rot="19834800">
                  <a:off x="6463080" y="3799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rot="19834800">
                  <a:off x="6179040" y="36151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 rot="19834800">
                  <a:off x="6351480" y="34606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 rot="19834800">
                  <a:off x="6483600" y="36950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 rot="19834800">
                  <a:off x="6203160" y="36594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 flipV="1" rot="19834800">
                  <a:off x="6282000" y="38005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 flipH="1" rot="19834800">
                  <a:off x="6199920" y="37357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06" name=""/>
            <p:cNvGrpSpPr/>
            <p:nvPr/>
          </p:nvGrpSpPr>
          <p:grpSpPr>
            <a:xfrm>
              <a:off x="7864200" y="3685320"/>
              <a:ext cx="606960" cy="513000"/>
              <a:chOff x="7864200" y="3685320"/>
              <a:chExt cx="606960" cy="513000"/>
            </a:xfrm>
          </p:grpSpPr>
          <p:sp>
            <p:nvSpPr>
              <p:cNvPr id="1807" name=""/>
              <p:cNvSpPr/>
              <p:nvPr/>
            </p:nvSpPr>
            <p:spPr>
              <a:xfrm rot="19834800">
                <a:off x="7928280" y="389556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08" name=""/>
              <p:cNvGrpSpPr/>
              <p:nvPr/>
            </p:nvGrpSpPr>
            <p:grpSpPr>
              <a:xfrm>
                <a:off x="7864200" y="3685320"/>
                <a:ext cx="574200" cy="435600"/>
                <a:chOff x="7864200" y="3685320"/>
                <a:chExt cx="574200" cy="435600"/>
              </a:xfrm>
            </p:grpSpPr>
            <p:sp>
              <p:nvSpPr>
                <p:cNvPr id="1809" name=""/>
                <p:cNvSpPr/>
                <p:nvPr/>
              </p:nvSpPr>
              <p:spPr>
                <a:xfrm rot="19834800">
                  <a:off x="7981200" y="3746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 rot="19834800">
                  <a:off x="8007480" y="37933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 rot="19834800">
                  <a:off x="8113320" y="39812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 rot="19834800">
                  <a:off x="8139600" y="40280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 rot="19834800">
                  <a:off x="7855560" y="38437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 rot="19834800">
                  <a:off x="8028000" y="36892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 rot="19834800">
                  <a:off x="8160120" y="39236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 rot="19834800">
                  <a:off x="7879680" y="38880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 flipV="1" rot="19834800">
                  <a:off x="7958520" y="40291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 flipH="1" rot="19834800">
                  <a:off x="7876440" y="39643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19" name=""/>
          <p:cNvGrpSpPr/>
          <p:nvPr/>
        </p:nvGrpSpPr>
        <p:grpSpPr>
          <a:xfrm>
            <a:off x="4281480" y="2324160"/>
            <a:ext cx="4510080" cy="3367080"/>
            <a:chOff x="4281480" y="2324160"/>
            <a:chExt cx="4510080" cy="3367080"/>
          </a:xfrm>
        </p:grpSpPr>
        <p:sp>
          <p:nvSpPr>
            <p:cNvPr id="1820" name=""/>
            <p:cNvSpPr/>
            <p:nvPr/>
          </p:nvSpPr>
          <p:spPr>
            <a:xfrm>
              <a:off x="4281480" y="232416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243400" y="3781440"/>
              <a:ext cx="42408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338960" y="3405240"/>
              <a:ext cx="33012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3" name=""/>
            <p:cNvGrpSpPr/>
            <p:nvPr/>
          </p:nvGrpSpPr>
          <p:grpSpPr>
            <a:xfrm>
              <a:off x="4873680" y="3787920"/>
              <a:ext cx="401400" cy="866520"/>
              <a:chOff x="4873680" y="3787920"/>
              <a:chExt cx="401400" cy="866520"/>
            </a:xfrm>
          </p:grpSpPr>
          <p:sp>
            <p:nvSpPr>
              <p:cNvPr id="1824" name=""/>
              <p:cNvSpPr/>
              <p:nvPr/>
            </p:nvSpPr>
            <p:spPr>
              <a:xfrm>
                <a:off x="4873680" y="447048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979880" y="4230720"/>
                <a:ext cx="9864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5086440" y="399276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5192640" y="3787920"/>
                <a:ext cx="8244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8" name=""/>
            <p:cNvGrpSpPr/>
            <p:nvPr/>
          </p:nvGrpSpPr>
          <p:grpSpPr>
            <a:xfrm>
              <a:off x="6405480" y="3405240"/>
              <a:ext cx="941400" cy="303120"/>
              <a:chOff x="6405480" y="3405240"/>
              <a:chExt cx="941400" cy="303120"/>
            </a:xfrm>
          </p:grpSpPr>
          <p:sp>
            <p:nvSpPr>
              <p:cNvPr id="1829" name=""/>
              <p:cNvSpPr/>
              <p:nvPr/>
            </p:nvSpPr>
            <p:spPr>
              <a:xfrm>
                <a:off x="6405480" y="3630600"/>
                <a:ext cx="18756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656400" y="355608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907320" y="3479760"/>
                <a:ext cx="1886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156440" y="340524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3" name=""/>
            <p:cNvGrpSpPr/>
            <p:nvPr/>
          </p:nvGrpSpPr>
          <p:grpSpPr>
            <a:xfrm>
              <a:off x="6589800" y="2738520"/>
              <a:ext cx="685800" cy="871560"/>
              <a:chOff x="6589800" y="2738520"/>
              <a:chExt cx="685800" cy="871560"/>
            </a:xfrm>
          </p:grpSpPr>
          <p:sp>
            <p:nvSpPr>
              <p:cNvPr id="1834" name=""/>
              <p:cNvSpPr/>
              <p:nvPr/>
            </p:nvSpPr>
            <p:spPr>
              <a:xfrm>
                <a:off x="6589800" y="344484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6751440" y="323856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6910200" y="3030480"/>
                <a:ext cx="13680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072200" y="282420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232760" y="27385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9" name=""/>
            <p:cNvGrpSpPr/>
            <p:nvPr/>
          </p:nvGrpSpPr>
          <p:grpSpPr>
            <a:xfrm>
              <a:off x="5748480" y="4619520"/>
              <a:ext cx="195120" cy="698760"/>
              <a:chOff x="5748480" y="4619520"/>
              <a:chExt cx="195120" cy="698760"/>
            </a:xfrm>
          </p:grpSpPr>
          <p:sp>
            <p:nvSpPr>
              <p:cNvPr id="1840" name=""/>
              <p:cNvSpPr/>
              <p:nvPr/>
            </p:nvSpPr>
            <p:spPr>
              <a:xfrm>
                <a:off x="5875200" y="5127840"/>
                <a:ext cx="6840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5811840" y="487368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5748480" y="461952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43" name=""/>
            <p:cNvGrpSpPr/>
            <p:nvPr/>
          </p:nvGrpSpPr>
          <p:grpSpPr>
            <a:xfrm>
              <a:off x="7635960" y="3882960"/>
              <a:ext cx="401400" cy="866880"/>
              <a:chOff x="7635960" y="3882960"/>
              <a:chExt cx="401400" cy="866880"/>
            </a:xfrm>
          </p:grpSpPr>
          <p:sp>
            <p:nvSpPr>
              <p:cNvPr id="1844" name=""/>
              <p:cNvSpPr/>
              <p:nvPr/>
            </p:nvSpPr>
            <p:spPr>
              <a:xfrm>
                <a:off x="7635960" y="456552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742160" y="432612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7848720" y="408780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954920" y="388296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48" name=""/>
            <p:cNvGrpSpPr/>
            <p:nvPr/>
          </p:nvGrpSpPr>
          <p:grpSpPr>
            <a:xfrm>
              <a:off x="6873840" y="3406680"/>
              <a:ext cx="401760" cy="866880"/>
              <a:chOff x="6873840" y="3406680"/>
              <a:chExt cx="401760" cy="866880"/>
            </a:xfrm>
          </p:grpSpPr>
          <p:sp>
            <p:nvSpPr>
              <p:cNvPr id="1849" name=""/>
              <p:cNvSpPr/>
              <p:nvPr/>
            </p:nvSpPr>
            <p:spPr>
              <a:xfrm>
                <a:off x="6873840" y="408960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80040" y="38498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7086600" y="361152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192800" y="3406680"/>
                <a:ext cx="8280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3" name=""/>
            <p:cNvGrpSpPr/>
            <p:nvPr/>
          </p:nvGrpSpPr>
          <p:grpSpPr>
            <a:xfrm>
              <a:off x="5734080" y="3716280"/>
              <a:ext cx="658800" cy="750960"/>
              <a:chOff x="5734080" y="3716280"/>
              <a:chExt cx="658800" cy="750960"/>
            </a:xfrm>
          </p:grpSpPr>
          <p:sp>
            <p:nvSpPr>
              <p:cNvPr id="1854" name=""/>
              <p:cNvSpPr/>
              <p:nvPr/>
            </p:nvSpPr>
            <p:spPr>
              <a:xfrm>
                <a:off x="5734080" y="430848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5905440" y="411156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076800" y="39132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6251400" y="371628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5257800" y="3022560"/>
              <a:ext cx="588960" cy="682560"/>
              <a:chOff x="5257800" y="3022560"/>
              <a:chExt cx="588960" cy="682560"/>
            </a:xfrm>
          </p:grpSpPr>
          <p:sp>
            <p:nvSpPr>
              <p:cNvPr id="1859" name=""/>
              <p:cNvSpPr/>
              <p:nvPr/>
            </p:nvSpPr>
            <p:spPr>
              <a:xfrm>
                <a:off x="5257800" y="354492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5425920" y="334476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5597640" y="3146400"/>
                <a:ext cx="14112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5767200" y="3022560"/>
                <a:ext cx="7956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3" name=""/>
            <p:cNvGrpSpPr/>
            <p:nvPr/>
          </p:nvGrpSpPr>
          <p:grpSpPr>
            <a:xfrm>
              <a:off x="6118200" y="4638600"/>
              <a:ext cx="1533600" cy="687600"/>
              <a:chOff x="6118200" y="4638600"/>
              <a:chExt cx="1533600" cy="687600"/>
            </a:xfrm>
          </p:grpSpPr>
          <p:sp>
            <p:nvSpPr>
              <p:cNvPr id="1864" name=""/>
              <p:cNvSpPr/>
              <p:nvPr/>
            </p:nvSpPr>
            <p:spPr>
              <a:xfrm>
                <a:off x="6118200" y="522936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6357960" y="5124600"/>
                <a:ext cx="18396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6597720" y="5019840"/>
                <a:ext cx="18396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6838920" y="491328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7076880" y="481032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316640" y="4703760"/>
                <a:ext cx="1843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7558200" y="463860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1" name=""/>
            <p:cNvGrpSpPr/>
            <p:nvPr/>
          </p:nvGrpSpPr>
          <p:grpSpPr>
            <a:xfrm>
              <a:off x="7075440" y="3125880"/>
              <a:ext cx="485640" cy="565200"/>
              <a:chOff x="7075440" y="3125880"/>
              <a:chExt cx="485640" cy="565200"/>
            </a:xfrm>
          </p:grpSpPr>
          <p:sp>
            <p:nvSpPr>
              <p:cNvPr id="1872" name=""/>
              <p:cNvSpPr/>
              <p:nvPr/>
            </p:nvSpPr>
            <p:spPr>
              <a:xfrm>
                <a:off x="7093080" y="3130560"/>
                <a:ext cx="447480" cy="54468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300" y="516"/>
                    </a:lnTo>
                    <a:lnTo>
                      <a:pt x="345" y="678"/>
                    </a:lnTo>
                    <a:lnTo>
                      <a:pt x="331" y="884"/>
                    </a:lnTo>
                    <a:lnTo>
                      <a:pt x="873" y="940"/>
                    </a:lnTo>
                    <a:lnTo>
                      <a:pt x="1169" y="35"/>
                    </a:lnTo>
                    <a:lnTo>
                      <a:pt x="1246" y="0"/>
                    </a:lnTo>
                    <a:lnTo>
                      <a:pt x="1342" y="11"/>
                    </a:lnTo>
                    <a:lnTo>
                      <a:pt x="1407" y="77"/>
                    </a:lnTo>
                    <a:lnTo>
                      <a:pt x="1435" y="237"/>
                    </a:lnTo>
                    <a:lnTo>
                      <a:pt x="1385" y="727"/>
                    </a:lnTo>
                    <a:lnTo>
                      <a:pt x="1352" y="1014"/>
                    </a:lnTo>
                    <a:lnTo>
                      <a:pt x="1708" y="1097"/>
                    </a:lnTo>
                    <a:lnTo>
                      <a:pt x="1883" y="1174"/>
                    </a:lnTo>
                    <a:lnTo>
                      <a:pt x="1976" y="1292"/>
                    </a:lnTo>
                    <a:lnTo>
                      <a:pt x="1958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2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089840" y="3246480"/>
                <a:ext cx="44280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7445520" y="33987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19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8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5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7397640" y="33908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40" y="99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3" y="36"/>
                    </a:lnTo>
                    <a:lnTo>
                      <a:pt x="11" y="19"/>
                    </a:lnTo>
                    <a:lnTo>
                      <a:pt x="19" y="12"/>
                    </a:lnTo>
                    <a:lnTo>
                      <a:pt x="27" y="6"/>
                    </a:lnTo>
                    <a:lnTo>
                      <a:pt x="37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5" y="10"/>
                    </a:lnTo>
                    <a:lnTo>
                      <a:pt x="99" y="25"/>
                    </a:lnTo>
                    <a:lnTo>
                      <a:pt x="105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60" y="99"/>
                    </a:lnTo>
                    <a:lnTo>
                      <a:pt x="51" y="101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351560" y="338292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304040" y="33750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7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4" y="11"/>
                    </a:lnTo>
                    <a:lnTo>
                      <a:pt x="98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6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0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7256520" y="33670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98">
                    <a:moveTo>
                      <a:pt x="39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3" y="36"/>
                    </a:lnTo>
                    <a:lnTo>
                      <a:pt x="11" y="16"/>
                    </a:lnTo>
                    <a:lnTo>
                      <a:pt x="18" y="12"/>
                    </a:lnTo>
                    <a:lnTo>
                      <a:pt x="27" y="5"/>
                    </a:lnTo>
                    <a:lnTo>
                      <a:pt x="36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9" y="23"/>
                    </a:lnTo>
                    <a:lnTo>
                      <a:pt x="106" y="41"/>
                    </a:lnTo>
                    <a:lnTo>
                      <a:pt x="105" y="62"/>
                    </a:lnTo>
                    <a:lnTo>
                      <a:pt x="95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70" y="96"/>
                    </a:lnTo>
                    <a:lnTo>
                      <a:pt x="61" y="98"/>
                    </a:lnTo>
                    <a:lnTo>
                      <a:pt x="50" y="98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210440" y="33591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162920" y="33498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39" y="99"/>
                    </a:moveTo>
                    <a:lnTo>
                      <a:pt x="21" y="91"/>
                    </a:lnTo>
                    <a:lnTo>
                      <a:pt x="6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8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7275600" y="312588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5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2" y="293"/>
                    </a:lnTo>
                    <a:lnTo>
                      <a:pt x="189" y="254"/>
                    </a:lnTo>
                    <a:lnTo>
                      <a:pt x="208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7" y="13"/>
                    </a:lnTo>
                    <a:lnTo>
                      <a:pt x="414" y="5"/>
                    </a:lnTo>
                    <a:lnTo>
                      <a:pt x="490" y="0"/>
                    </a:lnTo>
                    <a:lnTo>
                      <a:pt x="561" y="19"/>
                    </a:lnTo>
                    <a:lnTo>
                      <a:pt x="592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9" y="958"/>
                    </a:lnTo>
                    <a:lnTo>
                      <a:pt x="559" y="1063"/>
                    </a:lnTo>
                    <a:lnTo>
                      <a:pt x="504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4" y="348"/>
                    </a:lnTo>
                    <a:lnTo>
                      <a:pt x="604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7" y="81"/>
                    </a:lnTo>
                    <a:lnTo>
                      <a:pt x="532" y="66"/>
                    </a:lnTo>
                    <a:lnTo>
                      <a:pt x="504" y="48"/>
                    </a:lnTo>
                    <a:lnTo>
                      <a:pt x="479" y="40"/>
                    </a:lnTo>
                    <a:lnTo>
                      <a:pt x="438" y="41"/>
                    </a:lnTo>
                    <a:lnTo>
                      <a:pt x="422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5" y="370"/>
                    </a:lnTo>
                    <a:lnTo>
                      <a:pt x="444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5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7216920" y="3406680"/>
                <a:ext cx="16956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7" y="1122"/>
                    </a:lnTo>
                    <a:lnTo>
                      <a:pt x="40" y="1177"/>
                    </a:lnTo>
                    <a:lnTo>
                      <a:pt x="57" y="1197"/>
                    </a:lnTo>
                    <a:lnTo>
                      <a:pt x="75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2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0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0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3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7" y="922"/>
                    </a:lnTo>
                    <a:lnTo>
                      <a:pt x="424" y="968"/>
                    </a:lnTo>
                    <a:lnTo>
                      <a:pt x="402" y="1006"/>
                    </a:lnTo>
                    <a:lnTo>
                      <a:pt x="379" y="1039"/>
                    </a:lnTo>
                    <a:lnTo>
                      <a:pt x="356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1" y="1102"/>
                    </a:lnTo>
                    <a:lnTo>
                      <a:pt x="288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7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075440" y="3224160"/>
                <a:ext cx="4856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4" y="454"/>
                    </a:moveTo>
                    <a:lnTo>
                      <a:pt x="380" y="493"/>
                    </a:lnTo>
                    <a:lnTo>
                      <a:pt x="607" y="520"/>
                    </a:lnTo>
                    <a:lnTo>
                      <a:pt x="840" y="551"/>
                    </a:lnTo>
                    <a:lnTo>
                      <a:pt x="1111" y="588"/>
                    </a:lnTo>
                    <a:lnTo>
                      <a:pt x="1386" y="633"/>
                    </a:lnTo>
                    <a:lnTo>
                      <a:pt x="1517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8" y="792"/>
                    </a:lnTo>
                    <a:lnTo>
                      <a:pt x="1959" y="815"/>
                    </a:lnTo>
                    <a:lnTo>
                      <a:pt x="1974" y="836"/>
                    </a:lnTo>
                    <a:lnTo>
                      <a:pt x="1993" y="866"/>
                    </a:lnTo>
                    <a:lnTo>
                      <a:pt x="2005" y="894"/>
                    </a:lnTo>
                    <a:lnTo>
                      <a:pt x="2005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7"/>
                    </a:lnTo>
                    <a:lnTo>
                      <a:pt x="1556" y="915"/>
                    </a:lnTo>
                    <a:lnTo>
                      <a:pt x="1419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9" y="797"/>
                    </a:lnTo>
                    <a:lnTo>
                      <a:pt x="837" y="767"/>
                    </a:lnTo>
                    <a:lnTo>
                      <a:pt x="706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1" y="673"/>
                    </a:lnTo>
                    <a:lnTo>
                      <a:pt x="345" y="659"/>
                    </a:lnTo>
                    <a:lnTo>
                      <a:pt x="159" y="413"/>
                    </a:lnTo>
                    <a:lnTo>
                      <a:pt x="264" y="409"/>
                    </a:lnTo>
                    <a:lnTo>
                      <a:pt x="179" y="239"/>
                    </a:lnTo>
                    <a:lnTo>
                      <a:pt x="308" y="232"/>
                    </a:lnTo>
                    <a:lnTo>
                      <a:pt x="110" y="0"/>
                    </a:lnTo>
                    <a:lnTo>
                      <a:pt x="38" y="68"/>
                    </a:lnTo>
                    <a:lnTo>
                      <a:pt x="0" y="180"/>
                    </a:lnTo>
                    <a:lnTo>
                      <a:pt x="4" y="298"/>
                    </a:lnTo>
                    <a:lnTo>
                      <a:pt x="15" y="381"/>
                    </a:lnTo>
                    <a:lnTo>
                      <a:pt x="31" y="463"/>
                    </a:lnTo>
                    <a:lnTo>
                      <a:pt x="49" y="538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2" y="697"/>
                    </a:lnTo>
                    <a:lnTo>
                      <a:pt x="233" y="723"/>
                    </a:lnTo>
                    <a:lnTo>
                      <a:pt x="267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7" y="785"/>
                    </a:lnTo>
                    <a:lnTo>
                      <a:pt x="415" y="801"/>
                    </a:lnTo>
                    <a:lnTo>
                      <a:pt x="455" y="816"/>
                    </a:lnTo>
                    <a:lnTo>
                      <a:pt x="492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9" y="896"/>
                    </a:lnTo>
                    <a:lnTo>
                      <a:pt x="716" y="916"/>
                    </a:lnTo>
                    <a:lnTo>
                      <a:pt x="763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5" y="933"/>
                    </a:lnTo>
                    <a:lnTo>
                      <a:pt x="1296" y="1082"/>
                    </a:lnTo>
                    <a:lnTo>
                      <a:pt x="1373" y="1099"/>
                    </a:lnTo>
                    <a:lnTo>
                      <a:pt x="1456" y="1114"/>
                    </a:lnTo>
                    <a:lnTo>
                      <a:pt x="1559" y="1131"/>
                    </a:lnTo>
                    <a:lnTo>
                      <a:pt x="1678" y="1145"/>
                    </a:lnTo>
                    <a:lnTo>
                      <a:pt x="1791" y="1148"/>
                    </a:lnTo>
                    <a:lnTo>
                      <a:pt x="1893" y="1147"/>
                    </a:lnTo>
                    <a:lnTo>
                      <a:pt x="1984" y="1131"/>
                    </a:lnTo>
                    <a:lnTo>
                      <a:pt x="2053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2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7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800"/>
                    </a:lnTo>
                    <a:lnTo>
                      <a:pt x="2030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5" y="686"/>
                    </a:lnTo>
                    <a:lnTo>
                      <a:pt x="1790" y="669"/>
                    </a:lnTo>
                    <a:lnTo>
                      <a:pt x="1733" y="652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9" y="529"/>
                    </a:lnTo>
                    <a:lnTo>
                      <a:pt x="784" y="499"/>
                    </a:lnTo>
                    <a:lnTo>
                      <a:pt x="594" y="476"/>
                    </a:lnTo>
                    <a:lnTo>
                      <a:pt x="414" y="454"/>
                    </a:lnTo>
                    <a:lnTo>
                      <a:pt x="414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091280" y="321948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348680" y="3510000"/>
                <a:ext cx="5364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3" y="0"/>
                    </a:moveTo>
                    <a:lnTo>
                      <a:pt x="162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2" y="178"/>
                    </a:lnTo>
                    <a:lnTo>
                      <a:pt x="182" y="209"/>
                    </a:lnTo>
                    <a:lnTo>
                      <a:pt x="142" y="213"/>
                    </a:lnTo>
                    <a:lnTo>
                      <a:pt x="0" y="19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134120" y="348444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7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199280" y="3214800"/>
                <a:ext cx="82440" cy="25200"/>
              </a:xfrm>
              <a:custGeom>
                <a:avLst/>
                <a:gdLst/>
                <a:ahLst/>
                <a:rect l="l" t="t" r="r" b="b"/>
                <a:pathLst>
                  <a:path w="369" h="110">
                    <a:moveTo>
                      <a:pt x="369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69" y="18"/>
                    </a:lnTo>
                    <a:lnTo>
                      <a:pt x="36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7407360" y="32353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1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9" name=""/>
            <p:cNvGrpSpPr/>
            <p:nvPr/>
          </p:nvGrpSpPr>
          <p:grpSpPr>
            <a:xfrm>
              <a:off x="4979880" y="3506760"/>
              <a:ext cx="487440" cy="566640"/>
              <a:chOff x="4979880" y="3506760"/>
              <a:chExt cx="487440" cy="566640"/>
            </a:xfrm>
          </p:grpSpPr>
          <p:sp>
            <p:nvSpPr>
              <p:cNvPr id="1890" name=""/>
              <p:cNvSpPr/>
              <p:nvPr/>
            </p:nvSpPr>
            <p:spPr>
              <a:xfrm>
                <a:off x="4997520" y="3511440"/>
                <a:ext cx="447480" cy="544680"/>
              </a:xfrm>
              <a:custGeom>
                <a:avLst/>
                <a:gdLst/>
                <a:ahLst/>
                <a:rect l="l" t="t" r="r" b="b"/>
                <a:pathLst>
                  <a:path w="1976" h="2401">
                    <a:moveTo>
                      <a:pt x="0" y="481"/>
                    </a:moveTo>
                    <a:lnTo>
                      <a:pt x="178" y="436"/>
                    </a:lnTo>
                    <a:lnTo>
                      <a:pt x="299" y="515"/>
                    </a:lnTo>
                    <a:lnTo>
                      <a:pt x="344" y="677"/>
                    </a:lnTo>
                    <a:lnTo>
                      <a:pt x="330" y="883"/>
                    </a:lnTo>
                    <a:lnTo>
                      <a:pt x="872" y="939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1"/>
                    </a:lnTo>
                    <a:lnTo>
                      <a:pt x="1957" y="1383"/>
                    </a:lnTo>
                    <a:lnTo>
                      <a:pt x="1850" y="1449"/>
                    </a:lnTo>
                    <a:lnTo>
                      <a:pt x="1265" y="1374"/>
                    </a:lnTo>
                    <a:lnTo>
                      <a:pt x="1060" y="2012"/>
                    </a:lnTo>
                    <a:lnTo>
                      <a:pt x="956" y="2270"/>
                    </a:lnTo>
                    <a:lnTo>
                      <a:pt x="849" y="2401"/>
                    </a:lnTo>
                    <a:lnTo>
                      <a:pt x="655" y="2375"/>
                    </a:lnTo>
                    <a:lnTo>
                      <a:pt x="609" y="2228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1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4994280" y="3629160"/>
                <a:ext cx="442800" cy="203040"/>
              </a:xfrm>
              <a:custGeom>
                <a:avLst/>
                <a:gdLst/>
                <a:ahLst/>
                <a:rect l="l" t="t" r="r" b="b"/>
                <a:pathLst>
                  <a:path w="1955" h="897">
                    <a:moveTo>
                      <a:pt x="1955" y="831"/>
                    </a:moveTo>
                    <a:lnTo>
                      <a:pt x="298" y="471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7"/>
                    </a:lnTo>
                    <a:lnTo>
                      <a:pt x="1913" y="881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5349960" y="378000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8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3"/>
                    </a:lnTo>
                    <a:lnTo>
                      <a:pt x="86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5302080" y="377208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1" y="90"/>
                    </a:lnTo>
                    <a:lnTo>
                      <a:pt x="8" y="75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5"/>
                    </a:lnTo>
                    <a:lnTo>
                      <a:pt x="69" y="98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5256360" y="376416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8" y="98"/>
                    </a:moveTo>
                    <a:lnTo>
                      <a:pt x="18" y="90"/>
                    </a:lnTo>
                    <a:lnTo>
                      <a:pt x="6" y="76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9" y="20"/>
                    </a:lnTo>
                    <a:lnTo>
                      <a:pt x="17" y="12"/>
                    </a:lnTo>
                    <a:lnTo>
                      <a:pt x="25" y="7"/>
                    </a:lnTo>
                    <a:lnTo>
                      <a:pt x="34" y="3"/>
                    </a:lnTo>
                    <a:lnTo>
                      <a:pt x="43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4" y="82"/>
                    </a:lnTo>
                    <a:lnTo>
                      <a:pt x="86" y="89"/>
                    </a:lnTo>
                    <a:lnTo>
                      <a:pt x="79" y="94"/>
                    </a:lnTo>
                    <a:lnTo>
                      <a:pt x="69" y="98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208480" y="375624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6" h="100">
                    <a:moveTo>
                      <a:pt x="39" y="97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7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4"/>
                    </a:lnTo>
                    <a:lnTo>
                      <a:pt x="103" y="63"/>
                    </a:lnTo>
                    <a:lnTo>
                      <a:pt x="95" y="81"/>
                    </a:lnTo>
                    <a:lnTo>
                      <a:pt x="87" y="88"/>
                    </a:lnTo>
                    <a:lnTo>
                      <a:pt x="80" y="92"/>
                    </a:lnTo>
                    <a:lnTo>
                      <a:pt x="69" y="97"/>
                    </a:lnTo>
                    <a:lnTo>
                      <a:pt x="61" y="100"/>
                    </a:lnTo>
                    <a:lnTo>
                      <a:pt x="51" y="99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160960" y="37479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8"/>
                    </a:moveTo>
                    <a:lnTo>
                      <a:pt x="21" y="88"/>
                    </a:lnTo>
                    <a:lnTo>
                      <a:pt x="6" y="73"/>
                    </a:lnTo>
                    <a:lnTo>
                      <a:pt x="0" y="55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2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7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49" y="99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5114880" y="37400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8"/>
                    </a:moveTo>
                    <a:lnTo>
                      <a:pt x="19" y="90"/>
                    </a:lnTo>
                    <a:lnTo>
                      <a:pt x="6" y="74"/>
                    </a:lnTo>
                    <a:lnTo>
                      <a:pt x="0" y="57"/>
                    </a:lnTo>
                    <a:lnTo>
                      <a:pt x="0" y="37"/>
                    </a:lnTo>
                    <a:lnTo>
                      <a:pt x="11" y="18"/>
                    </a:lnTo>
                    <a:lnTo>
                      <a:pt x="16" y="12"/>
                    </a:lnTo>
                    <a:lnTo>
                      <a:pt x="25" y="6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3"/>
                    </a:lnTo>
                    <a:lnTo>
                      <a:pt x="84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5067360" y="37321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8"/>
                    </a:moveTo>
                    <a:lnTo>
                      <a:pt x="21" y="91"/>
                    </a:lnTo>
                    <a:lnTo>
                      <a:pt x="7" y="75"/>
                    </a:lnTo>
                    <a:lnTo>
                      <a:pt x="0" y="58"/>
                    </a:lnTo>
                    <a:lnTo>
                      <a:pt x="1" y="38"/>
                    </a:lnTo>
                    <a:lnTo>
                      <a:pt x="11" y="19"/>
                    </a:lnTo>
                    <a:lnTo>
                      <a:pt x="19" y="13"/>
                    </a:lnTo>
                    <a:lnTo>
                      <a:pt x="27" y="7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5" y="82"/>
                    </a:lnTo>
                    <a:lnTo>
                      <a:pt x="88" y="88"/>
                    </a:lnTo>
                    <a:lnTo>
                      <a:pt x="78" y="94"/>
                    </a:lnTo>
                    <a:lnTo>
                      <a:pt x="69" y="98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8"/>
                    </a:lnTo>
                    <a:lnTo>
                      <a:pt x="4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180040" y="350676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9"/>
                    </a:lnTo>
                    <a:lnTo>
                      <a:pt x="54" y="682"/>
                    </a:lnTo>
                    <a:lnTo>
                      <a:pt x="74" y="597"/>
                    </a:lnTo>
                    <a:lnTo>
                      <a:pt x="98" y="510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4"/>
                    </a:lnTo>
                    <a:lnTo>
                      <a:pt x="189" y="254"/>
                    </a:lnTo>
                    <a:lnTo>
                      <a:pt x="207" y="216"/>
                    </a:lnTo>
                    <a:lnTo>
                      <a:pt x="226" y="180"/>
                    </a:lnTo>
                    <a:lnTo>
                      <a:pt x="247" y="147"/>
                    </a:lnTo>
                    <a:lnTo>
                      <a:pt x="266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2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20"/>
                    </a:lnTo>
                    <a:lnTo>
                      <a:pt x="591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8"/>
                    </a:lnTo>
                    <a:lnTo>
                      <a:pt x="603" y="349"/>
                    </a:lnTo>
                    <a:lnTo>
                      <a:pt x="603" y="225"/>
                    </a:lnTo>
                    <a:lnTo>
                      <a:pt x="598" y="178"/>
                    </a:lnTo>
                    <a:lnTo>
                      <a:pt x="588" y="144"/>
                    </a:lnTo>
                    <a:lnTo>
                      <a:pt x="560" y="98"/>
                    </a:lnTo>
                    <a:lnTo>
                      <a:pt x="546" y="81"/>
                    </a:lnTo>
                    <a:lnTo>
                      <a:pt x="532" y="67"/>
                    </a:lnTo>
                    <a:lnTo>
                      <a:pt x="503" y="48"/>
                    </a:lnTo>
                    <a:lnTo>
                      <a:pt x="478" y="41"/>
                    </a:lnTo>
                    <a:lnTo>
                      <a:pt x="438" y="42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7"/>
                    </a:lnTo>
                    <a:lnTo>
                      <a:pt x="317" y="569"/>
                    </a:lnTo>
                    <a:lnTo>
                      <a:pt x="393" y="692"/>
                    </a:lnTo>
                    <a:lnTo>
                      <a:pt x="281" y="772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121360" y="3787920"/>
                <a:ext cx="169920" cy="285480"/>
              </a:xfrm>
              <a:custGeom>
                <a:avLst/>
                <a:gdLst/>
                <a:ahLst/>
                <a:rect l="l" t="t" r="r" b="b"/>
                <a:pathLst>
                  <a:path w="746" h="1258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5"/>
                    </a:lnTo>
                    <a:lnTo>
                      <a:pt x="91" y="348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2"/>
                    </a:lnTo>
                    <a:lnTo>
                      <a:pt x="0" y="967"/>
                    </a:lnTo>
                    <a:lnTo>
                      <a:pt x="5" y="1052"/>
                    </a:lnTo>
                    <a:lnTo>
                      <a:pt x="18" y="1123"/>
                    </a:lnTo>
                    <a:lnTo>
                      <a:pt x="41" y="1178"/>
                    </a:lnTo>
                    <a:lnTo>
                      <a:pt x="57" y="1197"/>
                    </a:lnTo>
                    <a:lnTo>
                      <a:pt x="76" y="1213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7"/>
                    </a:lnTo>
                    <a:lnTo>
                      <a:pt x="259" y="1258"/>
                    </a:lnTo>
                    <a:lnTo>
                      <a:pt x="303" y="1239"/>
                    </a:lnTo>
                    <a:lnTo>
                      <a:pt x="327" y="1224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6"/>
                    </a:lnTo>
                    <a:lnTo>
                      <a:pt x="452" y="1087"/>
                    </a:lnTo>
                    <a:lnTo>
                      <a:pt x="481" y="1042"/>
                    </a:lnTo>
                    <a:lnTo>
                      <a:pt x="507" y="984"/>
                    </a:lnTo>
                    <a:lnTo>
                      <a:pt x="534" y="917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8"/>
                    </a:lnTo>
                    <a:lnTo>
                      <a:pt x="655" y="505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30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7"/>
                    </a:lnTo>
                    <a:lnTo>
                      <a:pt x="380" y="1040"/>
                    </a:lnTo>
                    <a:lnTo>
                      <a:pt x="357" y="1066"/>
                    </a:lnTo>
                    <a:lnTo>
                      <a:pt x="345" y="1077"/>
                    </a:lnTo>
                    <a:lnTo>
                      <a:pt x="333" y="1086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1"/>
                    </a:lnTo>
                    <a:lnTo>
                      <a:pt x="204" y="1123"/>
                    </a:lnTo>
                    <a:lnTo>
                      <a:pt x="178" y="1116"/>
                    </a:lnTo>
                    <a:lnTo>
                      <a:pt x="318" y="904"/>
                    </a:lnTo>
                    <a:lnTo>
                      <a:pt x="183" y="751"/>
                    </a:lnTo>
                    <a:lnTo>
                      <a:pt x="363" y="676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7"/>
                    </a:lnTo>
                    <a:lnTo>
                      <a:pt x="515" y="60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4979880" y="360540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7">
                    <a:moveTo>
                      <a:pt x="413" y="454"/>
                    </a:moveTo>
                    <a:lnTo>
                      <a:pt x="379" y="492"/>
                    </a:lnTo>
                    <a:lnTo>
                      <a:pt x="607" y="519"/>
                    </a:lnTo>
                    <a:lnTo>
                      <a:pt x="839" y="550"/>
                    </a:lnTo>
                    <a:lnTo>
                      <a:pt x="1110" y="587"/>
                    </a:lnTo>
                    <a:lnTo>
                      <a:pt x="1385" y="632"/>
                    </a:lnTo>
                    <a:lnTo>
                      <a:pt x="1516" y="655"/>
                    </a:lnTo>
                    <a:lnTo>
                      <a:pt x="1634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1"/>
                    </a:lnTo>
                    <a:lnTo>
                      <a:pt x="1958" y="814"/>
                    </a:lnTo>
                    <a:lnTo>
                      <a:pt x="1973" y="835"/>
                    </a:lnTo>
                    <a:lnTo>
                      <a:pt x="1992" y="866"/>
                    </a:lnTo>
                    <a:lnTo>
                      <a:pt x="2004" y="893"/>
                    </a:lnTo>
                    <a:lnTo>
                      <a:pt x="2004" y="932"/>
                    </a:lnTo>
                    <a:lnTo>
                      <a:pt x="1989" y="951"/>
                    </a:lnTo>
                    <a:lnTo>
                      <a:pt x="1975" y="963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6"/>
                    </a:lnTo>
                    <a:lnTo>
                      <a:pt x="1555" y="914"/>
                    </a:lnTo>
                    <a:lnTo>
                      <a:pt x="1418" y="887"/>
                    </a:lnTo>
                    <a:lnTo>
                      <a:pt x="1274" y="858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6"/>
                    </a:lnTo>
                    <a:lnTo>
                      <a:pt x="705" y="739"/>
                    </a:lnTo>
                    <a:lnTo>
                      <a:pt x="587" y="711"/>
                    </a:lnTo>
                    <a:lnTo>
                      <a:pt x="487" y="691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2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1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0"/>
                    </a:lnTo>
                    <a:lnTo>
                      <a:pt x="31" y="462"/>
                    </a:lnTo>
                    <a:lnTo>
                      <a:pt x="48" y="537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6"/>
                    </a:lnTo>
                    <a:lnTo>
                      <a:pt x="171" y="696"/>
                    </a:lnTo>
                    <a:lnTo>
                      <a:pt x="232" y="722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7"/>
                    </a:lnTo>
                    <a:lnTo>
                      <a:pt x="376" y="785"/>
                    </a:lnTo>
                    <a:lnTo>
                      <a:pt x="415" y="800"/>
                    </a:lnTo>
                    <a:lnTo>
                      <a:pt x="454" y="815"/>
                    </a:lnTo>
                    <a:lnTo>
                      <a:pt x="491" y="831"/>
                    </a:lnTo>
                    <a:lnTo>
                      <a:pt x="528" y="846"/>
                    </a:lnTo>
                    <a:lnTo>
                      <a:pt x="596" y="873"/>
                    </a:lnTo>
                    <a:lnTo>
                      <a:pt x="658" y="895"/>
                    </a:lnTo>
                    <a:lnTo>
                      <a:pt x="715" y="915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8"/>
                    </a:lnTo>
                    <a:lnTo>
                      <a:pt x="1456" y="1113"/>
                    </a:lnTo>
                    <a:lnTo>
                      <a:pt x="1559" y="1130"/>
                    </a:lnTo>
                    <a:lnTo>
                      <a:pt x="1677" y="1144"/>
                    </a:lnTo>
                    <a:lnTo>
                      <a:pt x="1790" y="1147"/>
                    </a:lnTo>
                    <a:lnTo>
                      <a:pt x="1892" y="1146"/>
                    </a:lnTo>
                    <a:lnTo>
                      <a:pt x="1983" y="1130"/>
                    </a:lnTo>
                    <a:lnTo>
                      <a:pt x="2052" y="1107"/>
                    </a:lnTo>
                    <a:lnTo>
                      <a:pt x="2101" y="1080"/>
                    </a:lnTo>
                    <a:lnTo>
                      <a:pt x="2125" y="1055"/>
                    </a:lnTo>
                    <a:lnTo>
                      <a:pt x="2141" y="1023"/>
                    </a:lnTo>
                    <a:lnTo>
                      <a:pt x="2148" y="987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3"/>
                    </a:lnTo>
                    <a:lnTo>
                      <a:pt x="2088" y="844"/>
                    </a:lnTo>
                    <a:lnTo>
                      <a:pt x="2058" y="812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8"/>
                    </a:lnTo>
                    <a:lnTo>
                      <a:pt x="1966" y="745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4" y="700"/>
                    </a:lnTo>
                    <a:lnTo>
                      <a:pt x="1834" y="685"/>
                    </a:lnTo>
                    <a:lnTo>
                      <a:pt x="1789" y="668"/>
                    </a:lnTo>
                    <a:lnTo>
                      <a:pt x="1732" y="651"/>
                    </a:lnTo>
                    <a:lnTo>
                      <a:pt x="1658" y="634"/>
                    </a:lnTo>
                    <a:lnTo>
                      <a:pt x="1570" y="616"/>
                    </a:lnTo>
                    <a:lnTo>
                      <a:pt x="1469" y="598"/>
                    </a:lnTo>
                    <a:lnTo>
                      <a:pt x="1244" y="561"/>
                    </a:lnTo>
                    <a:lnTo>
                      <a:pt x="1008" y="528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4997520" y="3600360"/>
                <a:ext cx="8388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7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100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0" y="427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6"/>
                    </a:lnTo>
                    <a:lnTo>
                      <a:pt x="276" y="157"/>
                    </a:lnTo>
                    <a:lnTo>
                      <a:pt x="263" y="140"/>
                    </a:lnTo>
                    <a:lnTo>
                      <a:pt x="247" y="127"/>
                    </a:lnTo>
                    <a:lnTo>
                      <a:pt x="232" y="119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30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5253120" y="3890880"/>
                <a:ext cx="54000" cy="47880"/>
              </a:xfrm>
              <a:custGeom>
                <a:avLst/>
                <a:gdLst/>
                <a:ahLst/>
                <a:rect l="l" t="t" r="r" b="b"/>
                <a:pathLst>
                  <a:path w="234" h="214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5"/>
                    </a:lnTo>
                    <a:lnTo>
                      <a:pt x="234" y="127"/>
                    </a:lnTo>
                    <a:lnTo>
                      <a:pt x="221" y="179"/>
                    </a:lnTo>
                    <a:lnTo>
                      <a:pt x="182" y="209"/>
                    </a:lnTo>
                    <a:lnTo>
                      <a:pt x="141" y="214"/>
                    </a:lnTo>
                    <a:lnTo>
                      <a:pt x="0" y="200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038560" y="3865680"/>
                <a:ext cx="92160" cy="3312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0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0"/>
                    </a:lnTo>
                    <a:lnTo>
                      <a:pt x="40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103720" y="3595680"/>
                <a:ext cx="8424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311800" y="3616200"/>
                <a:ext cx="54000" cy="5112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40"/>
                    </a:lnTo>
                    <a:lnTo>
                      <a:pt x="223" y="87"/>
                    </a:lnTo>
                    <a:lnTo>
                      <a:pt x="234" y="140"/>
                    </a:lnTo>
                    <a:lnTo>
                      <a:pt x="220" y="191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7" name=""/>
            <p:cNvGrpSpPr/>
            <p:nvPr/>
          </p:nvGrpSpPr>
          <p:grpSpPr>
            <a:xfrm>
              <a:off x="6122880" y="3602160"/>
              <a:ext cx="571680" cy="204840"/>
              <a:chOff x="6122880" y="3602160"/>
              <a:chExt cx="571680" cy="204840"/>
            </a:xfrm>
          </p:grpSpPr>
          <p:sp>
            <p:nvSpPr>
              <p:cNvPr id="1908" name=""/>
              <p:cNvSpPr/>
              <p:nvPr/>
            </p:nvSpPr>
            <p:spPr>
              <a:xfrm>
                <a:off x="6122880" y="360216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364440" y="3645000"/>
                <a:ext cx="60120" cy="3492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6273720" y="3635280"/>
                <a:ext cx="60480" cy="5112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6162480" y="3745080"/>
                <a:ext cx="279720" cy="6012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6122880" y="3629160"/>
                <a:ext cx="21276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6367320" y="3603600"/>
                <a:ext cx="32400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6157800" y="366552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6297480" y="3668760"/>
                <a:ext cx="82800" cy="540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6408720" y="4268880"/>
              <a:ext cx="571320" cy="204840"/>
              <a:chOff x="6408720" y="4268880"/>
              <a:chExt cx="571320" cy="204840"/>
            </a:xfrm>
          </p:grpSpPr>
          <p:sp>
            <p:nvSpPr>
              <p:cNvPr id="1917" name=""/>
              <p:cNvSpPr/>
              <p:nvPr/>
            </p:nvSpPr>
            <p:spPr>
              <a:xfrm>
                <a:off x="6408720" y="426888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6649920" y="431028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9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7" y="73"/>
                    </a:lnTo>
                    <a:lnTo>
                      <a:pt x="50" y="84"/>
                    </a:lnTo>
                    <a:lnTo>
                      <a:pt x="37" y="95"/>
                    </a:lnTo>
                    <a:lnTo>
                      <a:pt x="25" y="106"/>
                    </a:lnTo>
                    <a:lnTo>
                      <a:pt x="16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5" y="134"/>
                    </a:lnTo>
                    <a:lnTo>
                      <a:pt x="3" y="133"/>
                    </a:lnTo>
                    <a:lnTo>
                      <a:pt x="2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5" y="106"/>
                    </a:lnTo>
                    <a:lnTo>
                      <a:pt x="15" y="91"/>
                    </a:lnTo>
                    <a:lnTo>
                      <a:pt x="29" y="75"/>
                    </a:lnTo>
                    <a:lnTo>
                      <a:pt x="46" y="59"/>
                    </a:lnTo>
                    <a:lnTo>
                      <a:pt x="66" y="43"/>
                    </a:lnTo>
                    <a:lnTo>
                      <a:pt x="88" y="29"/>
                    </a:lnTo>
                    <a:lnTo>
                      <a:pt x="111" y="16"/>
                    </a:lnTo>
                    <a:lnTo>
                      <a:pt x="134" y="8"/>
                    </a:lnTo>
                    <a:lnTo>
                      <a:pt x="154" y="2"/>
                    </a:lnTo>
                    <a:lnTo>
                      <a:pt x="172" y="0"/>
                    </a:lnTo>
                    <a:lnTo>
                      <a:pt x="189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8" y="24"/>
                    </a:lnTo>
                    <a:lnTo>
                      <a:pt x="229" y="26"/>
                    </a:lnTo>
                    <a:lnTo>
                      <a:pt x="229" y="29"/>
                    </a:lnTo>
                    <a:lnTo>
                      <a:pt x="229" y="32"/>
                    </a:lnTo>
                    <a:lnTo>
                      <a:pt x="228" y="34"/>
                    </a:lnTo>
                    <a:lnTo>
                      <a:pt x="220" y="30"/>
                    </a:lnTo>
                    <a:lnTo>
                      <a:pt x="209" y="27"/>
                    </a:lnTo>
                    <a:lnTo>
                      <a:pt x="196" y="27"/>
                    </a:lnTo>
                    <a:lnTo>
                      <a:pt x="180" y="29"/>
                    </a:lnTo>
                    <a:lnTo>
                      <a:pt x="163" y="32"/>
                    </a:lnTo>
                    <a:lnTo>
                      <a:pt x="144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6559560" y="4300560"/>
                <a:ext cx="60120" cy="525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0" y="89"/>
                    </a:lnTo>
                    <a:lnTo>
                      <a:pt x="225" y="182"/>
                    </a:lnTo>
                    <a:lnTo>
                      <a:pt x="196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6448320" y="441180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5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2" y="221"/>
                    </a:lnTo>
                    <a:lnTo>
                      <a:pt x="4" y="219"/>
                    </a:lnTo>
                    <a:lnTo>
                      <a:pt x="9" y="216"/>
                    </a:lnTo>
                    <a:lnTo>
                      <a:pt x="14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69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5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0" y="99"/>
                    </a:lnTo>
                    <a:lnTo>
                      <a:pt x="256" y="95"/>
                    </a:lnTo>
                    <a:lnTo>
                      <a:pt x="272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8" y="78"/>
                    </a:lnTo>
                    <a:lnTo>
                      <a:pt x="347" y="75"/>
                    </a:lnTo>
                    <a:lnTo>
                      <a:pt x="365" y="72"/>
                    </a:lnTo>
                    <a:lnTo>
                      <a:pt x="381" y="68"/>
                    </a:lnTo>
                    <a:lnTo>
                      <a:pt x="398" y="65"/>
                    </a:lnTo>
                    <a:lnTo>
                      <a:pt x="411" y="63"/>
                    </a:lnTo>
                    <a:lnTo>
                      <a:pt x="422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0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4" y="135"/>
                    </a:lnTo>
                    <a:lnTo>
                      <a:pt x="328" y="132"/>
                    </a:lnTo>
                    <a:lnTo>
                      <a:pt x="355" y="128"/>
                    </a:lnTo>
                    <a:lnTo>
                      <a:pt x="381" y="124"/>
                    </a:lnTo>
                    <a:lnTo>
                      <a:pt x="410" y="120"/>
                    </a:lnTo>
                    <a:lnTo>
                      <a:pt x="439" y="116"/>
                    </a:lnTo>
                    <a:lnTo>
                      <a:pt x="468" y="111"/>
                    </a:lnTo>
                    <a:lnTo>
                      <a:pt x="499" y="106"/>
                    </a:lnTo>
                    <a:lnTo>
                      <a:pt x="530" y="101"/>
                    </a:lnTo>
                    <a:lnTo>
                      <a:pt x="562" y="96"/>
                    </a:lnTo>
                    <a:lnTo>
                      <a:pt x="593" y="90"/>
                    </a:lnTo>
                    <a:lnTo>
                      <a:pt x="625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2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0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7" y="4"/>
                    </a:lnTo>
                    <a:lnTo>
                      <a:pt x="1055" y="0"/>
                    </a:lnTo>
                    <a:lnTo>
                      <a:pt x="1034" y="8"/>
                    </a:lnTo>
                    <a:lnTo>
                      <a:pt x="1009" y="17"/>
                    </a:lnTo>
                    <a:lnTo>
                      <a:pt x="981" y="24"/>
                    </a:lnTo>
                    <a:lnTo>
                      <a:pt x="950" y="33"/>
                    </a:lnTo>
                    <a:lnTo>
                      <a:pt x="917" y="42"/>
                    </a:lnTo>
                    <a:lnTo>
                      <a:pt x="881" y="52"/>
                    </a:lnTo>
                    <a:lnTo>
                      <a:pt x="843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5" y="117"/>
                    </a:lnTo>
                    <a:lnTo>
                      <a:pt x="540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0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79" y="210"/>
                    </a:lnTo>
                    <a:lnTo>
                      <a:pt x="56" y="214"/>
                    </a:lnTo>
                    <a:lnTo>
                      <a:pt x="36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2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6408720" y="429408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4" y="133"/>
                    </a:lnTo>
                    <a:lnTo>
                      <a:pt x="412" y="133"/>
                    </a:lnTo>
                    <a:lnTo>
                      <a:pt x="405" y="135"/>
                    </a:lnTo>
                    <a:lnTo>
                      <a:pt x="396" y="137"/>
                    </a:lnTo>
                    <a:lnTo>
                      <a:pt x="383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0" y="152"/>
                    </a:lnTo>
                    <a:lnTo>
                      <a:pt x="309" y="157"/>
                    </a:lnTo>
                    <a:lnTo>
                      <a:pt x="287" y="163"/>
                    </a:lnTo>
                    <a:lnTo>
                      <a:pt x="265" y="168"/>
                    </a:lnTo>
                    <a:lnTo>
                      <a:pt x="243" y="174"/>
                    </a:lnTo>
                    <a:lnTo>
                      <a:pt x="221" y="180"/>
                    </a:lnTo>
                    <a:lnTo>
                      <a:pt x="201" y="186"/>
                    </a:lnTo>
                    <a:lnTo>
                      <a:pt x="181" y="191"/>
                    </a:lnTo>
                    <a:lnTo>
                      <a:pt x="165" y="198"/>
                    </a:lnTo>
                    <a:lnTo>
                      <a:pt x="149" y="203"/>
                    </a:lnTo>
                    <a:lnTo>
                      <a:pt x="122" y="214"/>
                    </a:lnTo>
                    <a:lnTo>
                      <a:pt x="95" y="226"/>
                    </a:lnTo>
                    <a:lnTo>
                      <a:pt x="70" y="237"/>
                    </a:lnTo>
                    <a:lnTo>
                      <a:pt x="47" y="248"/>
                    </a:lnTo>
                    <a:lnTo>
                      <a:pt x="28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7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8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3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59" y="185"/>
                    </a:lnTo>
                    <a:lnTo>
                      <a:pt x="179" y="178"/>
                    </a:lnTo>
                    <a:lnTo>
                      <a:pt x="200" y="172"/>
                    </a:lnTo>
                    <a:lnTo>
                      <a:pt x="221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7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1" y="141"/>
                    </a:lnTo>
                    <a:lnTo>
                      <a:pt x="324" y="141"/>
                    </a:lnTo>
                    <a:lnTo>
                      <a:pt x="328" y="136"/>
                    </a:lnTo>
                    <a:lnTo>
                      <a:pt x="340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6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0" y="35"/>
                    </a:lnTo>
                    <a:lnTo>
                      <a:pt x="503" y="38"/>
                    </a:lnTo>
                    <a:lnTo>
                      <a:pt x="514" y="44"/>
                    </a:lnTo>
                    <a:lnTo>
                      <a:pt x="523" y="50"/>
                    </a:lnTo>
                    <a:lnTo>
                      <a:pt x="529" y="57"/>
                    </a:lnTo>
                    <a:lnTo>
                      <a:pt x="533" y="62"/>
                    </a:lnTo>
                    <a:lnTo>
                      <a:pt x="535" y="67"/>
                    </a:lnTo>
                    <a:lnTo>
                      <a:pt x="536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6653160" y="4268880"/>
                <a:ext cx="32400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6" y="153"/>
                    </a:moveTo>
                    <a:lnTo>
                      <a:pt x="1157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5" y="80"/>
                    </a:lnTo>
                    <a:lnTo>
                      <a:pt x="1131" y="73"/>
                    </a:lnTo>
                    <a:lnTo>
                      <a:pt x="1114" y="69"/>
                    </a:lnTo>
                    <a:lnTo>
                      <a:pt x="1099" y="68"/>
                    </a:lnTo>
                    <a:lnTo>
                      <a:pt x="1081" y="68"/>
                    </a:lnTo>
                    <a:lnTo>
                      <a:pt x="1062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5" y="71"/>
                    </a:lnTo>
                    <a:lnTo>
                      <a:pt x="986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3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79" y="80"/>
                    </a:lnTo>
                    <a:lnTo>
                      <a:pt x="877" y="80"/>
                    </a:lnTo>
                    <a:lnTo>
                      <a:pt x="869" y="82"/>
                    </a:lnTo>
                    <a:lnTo>
                      <a:pt x="858" y="86"/>
                    </a:lnTo>
                    <a:lnTo>
                      <a:pt x="846" y="89"/>
                    </a:lnTo>
                    <a:lnTo>
                      <a:pt x="834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2" y="110"/>
                    </a:lnTo>
                    <a:lnTo>
                      <a:pt x="783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8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6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6" y="93"/>
                    </a:lnTo>
                    <a:lnTo>
                      <a:pt x="683" y="82"/>
                    </a:lnTo>
                    <a:lnTo>
                      <a:pt x="683" y="76"/>
                    </a:lnTo>
                    <a:lnTo>
                      <a:pt x="686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8" y="50"/>
                    </a:lnTo>
                    <a:lnTo>
                      <a:pt x="738" y="48"/>
                    </a:lnTo>
                    <a:lnTo>
                      <a:pt x="746" y="46"/>
                    </a:lnTo>
                    <a:lnTo>
                      <a:pt x="739" y="45"/>
                    </a:lnTo>
                    <a:lnTo>
                      <a:pt x="733" y="45"/>
                    </a:lnTo>
                    <a:lnTo>
                      <a:pt x="726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8" y="45"/>
                    </a:lnTo>
                    <a:lnTo>
                      <a:pt x="703" y="46"/>
                    </a:lnTo>
                    <a:lnTo>
                      <a:pt x="697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0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49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49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7" y="278"/>
                    </a:lnTo>
                    <a:lnTo>
                      <a:pt x="6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8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8" y="272"/>
                    </a:lnTo>
                    <a:lnTo>
                      <a:pt x="52" y="265"/>
                    </a:lnTo>
                    <a:lnTo>
                      <a:pt x="70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8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2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0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0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3" y="66"/>
                    </a:lnTo>
                    <a:lnTo>
                      <a:pt x="561" y="55"/>
                    </a:lnTo>
                    <a:lnTo>
                      <a:pt x="588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5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7" y="0"/>
                    </a:lnTo>
                    <a:lnTo>
                      <a:pt x="743" y="0"/>
                    </a:lnTo>
                    <a:lnTo>
                      <a:pt x="759" y="2"/>
                    </a:lnTo>
                    <a:lnTo>
                      <a:pt x="776" y="4"/>
                    </a:lnTo>
                    <a:lnTo>
                      <a:pt x="792" y="8"/>
                    </a:lnTo>
                    <a:lnTo>
                      <a:pt x="809" y="12"/>
                    </a:lnTo>
                    <a:lnTo>
                      <a:pt x="825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7" y="30"/>
                    </a:lnTo>
                    <a:lnTo>
                      <a:pt x="878" y="34"/>
                    </a:lnTo>
                    <a:lnTo>
                      <a:pt x="887" y="37"/>
                    </a:lnTo>
                    <a:lnTo>
                      <a:pt x="895" y="41"/>
                    </a:lnTo>
                    <a:lnTo>
                      <a:pt x="899" y="42"/>
                    </a:lnTo>
                    <a:lnTo>
                      <a:pt x="900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2" y="35"/>
                    </a:lnTo>
                    <a:lnTo>
                      <a:pt x="969" y="34"/>
                    </a:lnTo>
                    <a:lnTo>
                      <a:pt x="985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1" y="26"/>
                    </a:lnTo>
                    <a:lnTo>
                      <a:pt x="1060" y="25"/>
                    </a:lnTo>
                    <a:lnTo>
                      <a:pt x="1078" y="25"/>
                    </a:lnTo>
                    <a:lnTo>
                      <a:pt x="1095" y="25"/>
                    </a:lnTo>
                    <a:lnTo>
                      <a:pt x="1112" y="25"/>
                    </a:lnTo>
                    <a:lnTo>
                      <a:pt x="1127" y="26"/>
                    </a:lnTo>
                    <a:lnTo>
                      <a:pt x="1148" y="28"/>
                    </a:lnTo>
                    <a:lnTo>
                      <a:pt x="1166" y="32"/>
                    </a:lnTo>
                    <a:lnTo>
                      <a:pt x="1181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3" y="53"/>
                    </a:lnTo>
                    <a:lnTo>
                      <a:pt x="1220" y="59"/>
                    </a:lnTo>
                    <a:lnTo>
                      <a:pt x="1224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4" y="102"/>
                    </a:lnTo>
                    <a:lnTo>
                      <a:pt x="1220" y="111"/>
                    </a:lnTo>
                    <a:lnTo>
                      <a:pt x="1216" y="121"/>
                    </a:lnTo>
                    <a:lnTo>
                      <a:pt x="1209" y="131"/>
                    </a:lnTo>
                    <a:lnTo>
                      <a:pt x="1202" y="140"/>
                    </a:lnTo>
                    <a:lnTo>
                      <a:pt x="1196" y="147"/>
                    </a:lnTo>
                    <a:lnTo>
                      <a:pt x="1188" y="155"/>
                    </a:lnTo>
                    <a:lnTo>
                      <a:pt x="1181" y="163"/>
                    </a:lnTo>
                    <a:lnTo>
                      <a:pt x="1174" y="169"/>
                    </a:lnTo>
                    <a:lnTo>
                      <a:pt x="1167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8" y="193"/>
                    </a:lnTo>
                    <a:lnTo>
                      <a:pt x="1125" y="211"/>
                    </a:lnTo>
                    <a:lnTo>
                      <a:pt x="1099" y="229"/>
                    </a:lnTo>
                    <a:lnTo>
                      <a:pt x="1072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2" y="383"/>
                    </a:lnTo>
                    <a:lnTo>
                      <a:pt x="748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4" y="462"/>
                    </a:lnTo>
                    <a:lnTo>
                      <a:pt x="524" y="471"/>
                    </a:lnTo>
                    <a:lnTo>
                      <a:pt x="497" y="479"/>
                    </a:lnTo>
                    <a:lnTo>
                      <a:pt x="470" y="486"/>
                    </a:lnTo>
                    <a:lnTo>
                      <a:pt x="446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4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1" y="524"/>
                    </a:lnTo>
                    <a:lnTo>
                      <a:pt x="329" y="524"/>
                    </a:lnTo>
                    <a:lnTo>
                      <a:pt x="331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5" y="505"/>
                    </a:lnTo>
                    <a:lnTo>
                      <a:pt x="404" y="499"/>
                    </a:lnTo>
                    <a:lnTo>
                      <a:pt x="425" y="491"/>
                    </a:lnTo>
                    <a:lnTo>
                      <a:pt x="448" y="483"/>
                    </a:lnTo>
                    <a:lnTo>
                      <a:pt x="474" y="473"/>
                    </a:lnTo>
                    <a:lnTo>
                      <a:pt x="500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89" y="430"/>
                    </a:lnTo>
                    <a:lnTo>
                      <a:pt x="621" y="418"/>
                    </a:lnTo>
                    <a:lnTo>
                      <a:pt x="654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0" y="349"/>
                    </a:lnTo>
                    <a:lnTo>
                      <a:pt x="824" y="333"/>
                    </a:lnTo>
                    <a:lnTo>
                      <a:pt x="858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8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4" y="169"/>
                    </a:lnTo>
                    <a:lnTo>
                      <a:pt x="114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6443640" y="4332240"/>
                <a:ext cx="32220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7"/>
                    </a:moveTo>
                    <a:lnTo>
                      <a:pt x="0" y="102"/>
                    </a:lnTo>
                    <a:lnTo>
                      <a:pt x="389" y="0"/>
                    </a:lnTo>
                    <a:lnTo>
                      <a:pt x="387" y="2"/>
                    </a:lnTo>
                    <a:lnTo>
                      <a:pt x="380" y="5"/>
                    </a:lnTo>
                    <a:lnTo>
                      <a:pt x="370" y="10"/>
                    </a:lnTo>
                    <a:lnTo>
                      <a:pt x="360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7" y="48"/>
                    </a:lnTo>
                    <a:lnTo>
                      <a:pt x="336" y="59"/>
                    </a:lnTo>
                    <a:lnTo>
                      <a:pt x="343" y="74"/>
                    </a:lnTo>
                    <a:lnTo>
                      <a:pt x="358" y="95"/>
                    </a:lnTo>
                    <a:lnTo>
                      <a:pt x="379" y="118"/>
                    </a:lnTo>
                    <a:lnTo>
                      <a:pt x="402" y="144"/>
                    </a:lnTo>
                    <a:lnTo>
                      <a:pt x="426" y="167"/>
                    </a:lnTo>
                    <a:lnTo>
                      <a:pt x="445" y="187"/>
                    </a:lnTo>
                    <a:lnTo>
                      <a:pt x="459" y="200"/>
                    </a:lnTo>
                    <a:lnTo>
                      <a:pt x="464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0" y="187"/>
                    </a:lnTo>
                    <a:lnTo>
                      <a:pt x="515" y="191"/>
                    </a:lnTo>
                    <a:lnTo>
                      <a:pt x="508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6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6" y="289"/>
                    </a:lnTo>
                    <a:lnTo>
                      <a:pt x="516" y="293"/>
                    </a:lnTo>
                    <a:lnTo>
                      <a:pt x="540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5" y="300"/>
                    </a:lnTo>
                    <a:lnTo>
                      <a:pt x="631" y="300"/>
                    </a:lnTo>
                    <a:lnTo>
                      <a:pt x="647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3" y="270"/>
                    </a:lnTo>
                    <a:lnTo>
                      <a:pt x="724" y="262"/>
                    </a:lnTo>
                    <a:lnTo>
                      <a:pt x="745" y="256"/>
                    </a:lnTo>
                    <a:lnTo>
                      <a:pt x="767" y="248"/>
                    </a:lnTo>
                    <a:lnTo>
                      <a:pt x="788" y="242"/>
                    </a:lnTo>
                    <a:lnTo>
                      <a:pt x="820" y="232"/>
                    </a:lnTo>
                    <a:lnTo>
                      <a:pt x="853" y="223"/>
                    </a:lnTo>
                    <a:lnTo>
                      <a:pt x="885" y="215"/>
                    </a:lnTo>
                    <a:lnTo>
                      <a:pt x="917" y="207"/>
                    </a:lnTo>
                    <a:lnTo>
                      <a:pt x="949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7" y="187"/>
                    </a:lnTo>
                    <a:lnTo>
                      <a:pt x="1065" y="183"/>
                    </a:lnTo>
                    <a:lnTo>
                      <a:pt x="1090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5" y="182"/>
                    </a:lnTo>
                    <a:lnTo>
                      <a:pt x="1173" y="183"/>
                    </a:lnTo>
                    <a:lnTo>
                      <a:pt x="1187" y="187"/>
                    </a:lnTo>
                    <a:lnTo>
                      <a:pt x="1200" y="191"/>
                    </a:lnTo>
                    <a:lnTo>
                      <a:pt x="1207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8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4" y="242"/>
                    </a:lnTo>
                    <a:lnTo>
                      <a:pt x="1185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3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6" y="209"/>
                    </a:lnTo>
                    <a:lnTo>
                      <a:pt x="1009" y="212"/>
                    </a:lnTo>
                    <a:lnTo>
                      <a:pt x="980" y="216"/>
                    </a:lnTo>
                    <a:lnTo>
                      <a:pt x="950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3" y="272"/>
                    </a:lnTo>
                    <a:lnTo>
                      <a:pt x="727" y="277"/>
                    </a:lnTo>
                    <a:lnTo>
                      <a:pt x="711" y="282"/>
                    </a:lnTo>
                    <a:lnTo>
                      <a:pt x="695" y="287"/>
                    </a:lnTo>
                    <a:lnTo>
                      <a:pt x="679" y="291"/>
                    </a:lnTo>
                    <a:lnTo>
                      <a:pt x="665" y="296"/>
                    </a:lnTo>
                    <a:lnTo>
                      <a:pt x="650" y="300"/>
                    </a:lnTo>
                    <a:lnTo>
                      <a:pt x="637" y="303"/>
                    </a:lnTo>
                    <a:lnTo>
                      <a:pt x="625" y="308"/>
                    </a:lnTo>
                    <a:lnTo>
                      <a:pt x="614" y="310"/>
                    </a:lnTo>
                    <a:lnTo>
                      <a:pt x="605" y="313"/>
                    </a:lnTo>
                    <a:lnTo>
                      <a:pt x="596" y="315"/>
                    </a:lnTo>
                    <a:lnTo>
                      <a:pt x="590" y="318"/>
                    </a:lnTo>
                    <a:lnTo>
                      <a:pt x="585" y="319"/>
                    </a:lnTo>
                    <a:lnTo>
                      <a:pt x="582" y="320"/>
                    </a:lnTo>
                    <a:lnTo>
                      <a:pt x="581" y="320"/>
                    </a:lnTo>
                    <a:lnTo>
                      <a:pt x="575" y="320"/>
                    </a:lnTo>
                    <a:lnTo>
                      <a:pt x="562" y="320"/>
                    </a:lnTo>
                    <a:lnTo>
                      <a:pt x="541" y="320"/>
                    </a:lnTo>
                    <a:lnTo>
                      <a:pt x="517" y="319"/>
                    </a:lnTo>
                    <a:lnTo>
                      <a:pt x="492" y="316"/>
                    </a:lnTo>
                    <a:lnTo>
                      <a:pt x="466" y="313"/>
                    </a:lnTo>
                    <a:lnTo>
                      <a:pt x="445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2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0" y="248"/>
                    </a:lnTo>
                    <a:lnTo>
                      <a:pt x="412" y="240"/>
                    </a:lnTo>
                    <a:lnTo>
                      <a:pt x="413" y="236"/>
                    </a:lnTo>
                    <a:lnTo>
                      <a:pt x="415" y="234"/>
                    </a:lnTo>
                    <a:lnTo>
                      <a:pt x="254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6584760" y="4334040"/>
                <a:ext cx="810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6" y="129"/>
                    </a:lnTo>
                    <a:lnTo>
                      <a:pt x="17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1" y="52"/>
                    </a:lnTo>
                    <a:lnTo>
                      <a:pt x="128" y="39"/>
                    </a:lnTo>
                    <a:lnTo>
                      <a:pt x="155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1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3" y="5"/>
                    </a:lnTo>
                    <a:lnTo>
                      <a:pt x="269" y="8"/>
                    </a:lnTo>
                    <a:lnTo>
                      <a:pt x="276" y="12"/>
                    </a:lnTo>
                    <a:lnTo>
                      <a:pt x="282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6" y="36"/>
                    </a:lnTo>
                    <a:lnTo>
                      <a:pt x="299" y="44"/>
                    </a:lnTo>
                    <a:lnTo>
                      <a:pt x="303" y="53"/>
                    </a:lnTo>
                    <a:lnTo>
                      <a:pt x="306" y="63"/>
                    </a:lnTo>
                    <a:lnTo>
                      <a:pt x="310" y="89"/>
                    </a:lnTo>
                    <a:lnTo>
                      <a:pt x="308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2" y="143"/>
                    </a:lnTo>
                    <a:lnTo>
                      <a:pt x="276" y="143"/>
                    </a:lnTo>
                    <a:lnTo>
                      <a:pt x="269" y="142"/>
                    </a:lnTo>
                    <a:lnTo>
                      <a:pt x="264" y="140"/>
                    </a:lnTo>
                    <a:lnTo>
                      <a:pt x="258" y="136"/>
                    </a:lnTo>
                    <a:lnTo>
                      <a:pt x="254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2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5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2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40" y="53"/>
                    </a:lnTo>
                    <a:lnTo>
                      <a:pt x="235" y="56"/>
                    </a:lnTo>
                    <a:lnTo>
                      <a:pt x="232" y="61"/>
                    </a:lnTo>
                    <a:lnTo>
                      <a:pt x="229" y="67"/>
                    </a:lnTo>
                    <a:lnTo>
                      <a:pt x="228" y="75"/>
                    </a:lnTo>
                    <a:lnTo>
                      <a:pt x="226" y="62"/>
                    </a:lnTo>
                    <a:lnTo>
                      <a:pt x="228" y="51"/>
                    </a:lnTo>
                    <a:lnTo>
                      <a:pt x="229" y="40"/>
                    </a:lnTo>
                    <a:lnTo>
                      <a:pt x="232" y="30"/>
                    </a:lnTo>
                    <a:lnTo>
                      <a:pt x="226" y="31"/>
                    </a:lnTo>
                    <a:lnTo>
                      <a:pt x="221" y="33"/>
                    </a:lnTo>
                    <a:lnTo>
                      <a:pt x="214" y="34"/>
                    </a:lnTo>
                    <a:lnTo>
                      <a:pt x="207" y="36"/>
                    </a:lnTo>
                    <a:lnTo>
                      <a:pt x="201" y="49"/>
                    </a:lnTo>
                    <a:lnTo>
                      <a:pt x="199" y="63"/>
                    </a:lnTo>
                    <a:lnTo>
                      <a:pt x="199" y="78"/>
                    </a:lnTo>
                    <a:lnTo>
                      <a:pt x="201" y="95"/>
                    </a:lnTo>
                    <a:lnTo>
                      <a:pt x="208" y="114"/>
                    </a:lnTo>
                    <a:lnTo>
                      <a:pt x="215" y="128"/>
                    </a:lnTo>
                    <a:lnTo>
                      <a:pt x="222" y="139"/>
                    </a:lnTo>
                    <a:lnTo>
                      <a:pt x="230" y="147"/>
                    </a:lnTo>
                    <a:lnTo>
                      <a:pt x="235" y="152"/>
                    </a:lnTo>
                    <a:lnTo>
                      <a:pt x="241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3" y="157"/>
                    </a:lnTo>
                    <a:lnTo>
                      <a:pt x="239" y="157"/>
                    </a:lnTo>
                    <a:lnTo>
                      <a:pt x="231" y="155"/>
                    </a:lnTo>
                    <a:lnTo>
                      <a:pt x="221" y="151"/>
                    </a:lnTo>
                    <a:lnTo>
                      <a:pt x="211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8" y="42"/>
                    </a:lnTo>
                    <a:lnTo>
                      <a:pt x="182" y="44"/>
                    </a:lnTo>
                    <a:lnTo>
                      <a:pt x="177" y="46"/>
                    </a:lnTo>
                    <a:lnTo>
                      <a:pt x="171" y="49"/>
                    </a:lnTo>
                    <a:lnTo>
                      <a:pt x="166" y="51"/>
                    </a:lnTo>
                    <a:lnTo>
                      <a:pt x="159" y="54"/>
                    </a:lnTo>
                    <a:lnTo>
                      <a:pt x="154" y="56"/>
                    </a:lnTo>
                    <a:lnTo>
                      <a:pt x="148" y="60"/>
                    </a:lnTo>
                    <a:lnTo>
                      <a:pt x="142" y="63"/>
                    </a:lnTo>
                    <a:lnTo>
                      <a:pt x="121" y="73"/>
                    </a:lnTo>
                    <a:lnTo>
                      <a:pt x="103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1" y="106"/>
                    </a:lnTo>
                    <a:lnTo>
                      <a:pt x="52" y="115"/>
                    </a:lnTo>
                    <a:lnTo>
                      <a:pt x="47" y="126"/>
                    </a:lnTo>
                    <a:lnTo>
                      <a:pt x="43" y="139"/>
                    </a:lnTo>
                    <a:lnTo>
                      <a:pt x="46" y="162"/>
                    </a:lnTo>
                    <a:lnTo>
                      <a:pt x="58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3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2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6" y="206"/>
                    </a:lnTo>
                    <a:lnTo>
                      <a:pt x="20" y="197"/>
                    </a:lnTo>
                    <a:lnTo>
                      <a:pt x="4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25" name=""/>
            <p:cNvGrpSpPr/>
            <p:nvPr/>
          </p:nvGrpSpPr>
          <p:grpSpPr>
            <a:xfrm>
              <a:off x="5742000" y="5221440"/>
              <a:ext cx="571320" cy="204840"/>
              <a:chOff x="5742000" y="5221440"/>
              <a:chExt cx="571320" cy="204840"/>
            </a:xfrm>
          </p:grpSpPr>
          <p:sp>
            <p:nvSpPr>
              <p:cNvPr id="1926" name=""/>
              <p:cNvSpPr/>
              <p:nvPr/>
            </p:nvSpPr>
            <p:spPr>
              <a:xfrm>
                <a:off x="5742000" y="522144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983200" y="526104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2"/>
                    </a:moveTo>
                    <a:lnTo>
                      <a:pt x="84" y="62"/>
                    </a:lnTo>
                    <a:lnTo>
                      <a:pt x="66" y="72"/>
                    </a:lnTo>
                    <a:lnTo>
                      <a:pt x="50" y="83"/>
                    </a:lnTo>
                    <a:lnTo>
                      <a:pt x="36" y="94"/>
                    </a:lnTo>
                    <a:lnTo>
                      <a:pt x="24" y="105"/>
                    </a:lnTo>
                    <a:lnTo>
                      <a:pt x="15" y="116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8"/>
                    </a:lnTo>
                    <a:lnTo>
                      <a:pt x="0" y="119"/>
                    </a:lnTo>
                    <a:lnTo>
                      <a:pt x="4" y="105"/>
                    </a:lnTo>
                    <a:lnTo>
                      <a:pt x="14" y="91"/>
                    </a:lnTo>
                    <a:lnTo>
                      <a:pt x="29" y="74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7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8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29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892840" y="525312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2">
                    <a:moveTo>
                      <a:pt x="0" y="85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2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5781600" y="536256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2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4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2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1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0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7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7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5"/>
                    </a:lnTo>
                    <a:lnTo>
                      <a:pt x="469" y="111"/>
                    </a:lnTo>
                    <a:lnTo>
                      <a:pt x="500" y="105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1"/>
                    </a:lnTo>
                    <a:lnTo>
                      <a:pt x="783" y="56"/>
                    </a:lnTo>
                    <a:lnTo>
                      <a:pt x="814" y="50"/>
                    </a:lnTo>
                    <a:lnTo>
                      <a:pt x="843" y="45"/>
                    </a:lnTo>
                    <a:lnTo>
                      <a:pt x="871" y="39"/>
                    </a:lnTo>
                    <a:lnTo>
                      <a:pt x="899" y="34"/>
                    </a:lnTo>
                    <a:lnTo>
                      <a:pt x="925" y="28"/>
                    </a:lnTo>
                    <a:lnTo>
                      <a:pt x="951" y="23"/>
                    </a:lnTo>
                    <a:lnTo>
                      <a:pt x="975" y="18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7"/>
                    </a:lnTo>
                    <a:lnTo>
                      <a:pt x="1009" y="16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0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6"/>
                    </a:lnTo>
                    <a:lnTo>
                      <a:pt x="541" y="125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59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1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3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3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742000" y="524664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4"/>
                    </a:lnTo>
                    <a:lnTo>
                      <a:pt x="412" y="134"/>
                    </a:lnTo>
                    <a:lnTo>
                      <a:pt x="406" y="136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4"/>
                    </a:lnTo>
                    <a:lnTo>
                      <a:pt x="349" y="148"/>
                    </a:lnTo>
                    <a:lnTo>
                      <a:pt x="331" y="152"/>
                    </a:lnTo>
                    <a:lnTo>
                      <a:pt x="310" y="158"/>
                    </a:lnTo>
                    <a:lnTo>
                      <a:pt x="288" y="163"/>
                    </a:lnTo>
                    <a:lnTo>
                      <a:pt x="266" y="169"/>
                    </a:lnTo>
                    <a:lnTo>
                      <a:pt x="244" y="174"/>
                    </a:lnTo>
                    <a:lnTo>
                      <a:pt x="222" y="181"/>
                    </a:lnTo>
                    <a:lnTo>
                      <a:pt x="202" y="186"/>
                    </a:lnTo>
                    <a:lnTo>
                      <a:pt x="182" y="192"/>
                    </a:lnTo>
                    <a:lnTo>
                      <a:pt x="165" y="199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5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6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1"/>
                    </a:lnTo>
                    <a:lnTo>
                      <a:pt x="77" y="211"/>
                    </a:lnTo>
                    <a:lnTo>
                      <a:pt x="89" y="206"/>
                    </a:lnTo>
                    <a:lnTo>
                      <a:pt x="104" y="202"/>
                    </a:lnTo>
                    <a:lnTo>
                      <a:pt x="121" y="196"/>
                    </a:lnTo>
                    <a:lnTo>
                      <a:pt x="140" y="191"/>
                    </a:lnTo>
                    <a:lnTo>
                      <a:pt x="160" y="185"/>
                    </a:lnTo>
                    <a:lnTo>
                      <a:pt x="180" y="179"/>
                    </a:lnTo>
                    <a:lnTo>
                      <a:pt x="201" y="173"/>
                    </a:lnTo>
                    <a:lnTo>
                      <a:pt x="222" y="168"/>
                    </a:lnTo>
                    <a:lnTo>
                      <a:pt x="241" y="162"/>
                    </a:lnTo>
                    <a:lnTo>
                      <a:pt x="261" y="158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6"/>
                    </a:lnTo>
                    <a:lnTo>
                      <a:pt x="315" y="144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7"/>
                    </a:lnTo>
                    <a:lnTo>
                      <a:pt x="341" y="126"/>
                    </a:lnTo>
                    <a:lnTo>
                      <a:pt x="359" y="109"/>
                    </a:lnTo>
                    <a:lnTo>
                      <a:pt x="381" y="91"/>
                    </a:lnTo>
                    <a:lnTo>
                      <a:pt x="407" y="72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6"/>
                    </a:lnTo>
                    <a:lnTo>
                      <a:pt x="491" y="36"/>
                    </a:lnTo>
                    <a:lnTo>
                      <a:pt x="504" y="39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8"/>
                    </a:lnTo>
                    <a:lnTo>
                      <a:pt x="534" y="63"/>
                    </a:lnTo>
                    <a:lnTo>
                      <a:pt x="536" y="68"/>
                    </a:lnTo>
                    <a:lnTo>
                      <a:pt x="537" y="70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986440" y="5221440"/>
                <a:ext cx="32400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8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3"/>
                    </a:lnTo>
                    <a:lnTo>
                      <a:pt x="950" y="74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5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5"/>
                    </a:lnTo>
                    <a:lnTo>
                      <a:pt x="793" y="110"/>
                    </a:lnTo>
                    <a:lnTo>
                      <a:pt x="784" y="116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0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6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2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2"/>
                    </a:lnTo>
                    <a:lnTo>
                      <a:pt x="650" y="61"/>
                    </a:lnTo>
                    <a:lnTo>
                      <a:pt x="611" y="74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0"/>
                    </a:lnTo>
                    <a:lnTo>
                      <a:pt x="326" y="172"/>
                    </a:lnTo>
                    <a:lnTo>
                      <a:pt x="263" y="194"/>
                    </a:lnTo>
                    <a:lnTo>
                      <a:pt x="205" y="215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1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8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6"/>
                    </a:lnTo>
                    <a:lnTo>
                      <a:pt x="198" y="203"/>
                    </a:lnTo>
                    <a:lnTo>
                      <a:pt x="233" y="188"/>
                    </a:lnTo>
                    <a:lnTo>
                      <a:pt x="271" y="171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39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7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29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0"/>
                    </a:lnTo>
                    <a:lnTo>
                      <a:pt x="900" y="41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1"/>
                    </a:lnTo>
                    <a:lnTo>
                      <a:pt x="915" y="40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29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0"/>
                    </a:lnTo>
                    <a:lnTo>
                      <a:pt x="1205" y="46"/>
                    </a:lnTo>
                    <a:lnTo>
                      <a:pt x="1214" y="52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4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39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2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6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499"/>
                    </a:lnTo>
                    <a:lnTo>
                      <a:pt x="402" y="505"/>
                    </a:lnTo>
                    <a:lnTo>
                      <a:pt x="385" y="509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0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1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0"/>
                    </a:lnTo>
                    <a:lnTo>
                      <a:pt x="386" y="505"/>
                    </a:lnTo>
                    <a:lnTo>
                      <a:pt x="405" y="498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2"/>
                    </a:lnTo>
                    <a:lnTo>
                      <a:pt x="925" y="286"/>
                    </a:lnTo>
                    <a:lnTo>
                      <a:pt x="957" y="269"/>
                    </a:lnTo>
                    <a:lnTo>
                      <a:pt x="989" y="253"/>
                    </a:lnTo>
                    <a:lnTo>
                      <a:pt x="1019" y="236"/>
                    </a:lnTo>
                    <a:lnTo>
                      <a:pt x="1047" y="220"/>
                    </a:lnTo>
                    <a:lnTo>
                      <a:pt x="1075" y="203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776920" y="528336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7"/>
                    </a:lnTo>
                    <a:lnTo>
                      <a:pt x="501" y="204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5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7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5916600" y="528480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6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0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8"/>
                    </a:lnTo>
                    <a:lnTo>
                      <a:pt x="154" y="26"/>
                    </a:lnTo>
                    <a:lnTo>
                      <a:pt x="181" y="15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4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6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3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5"/>
                    </a:lnTo>
                    <a:lnTo>
                      <a:pt x="253" y="131"/>
                    </a:lnTo>
                    <a:lnTo>
                      <a:pt x="248" y="124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1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0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8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3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6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5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8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59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1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4"/>
                    </a:lnTo>
                    <a:lnTo>
                      <a:pt x="46" y="125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0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34" name=""/>
            <p:cNvGrpSpPr/>
            <p:nvPr/>
          </p:nvGrpSpPr>
          <p:grpSpPr>
            <a:xfrm>
              <a:off x="7837560" y="3792600"/>
              <a:ext cx="571320" cy="204840"/>
              <a:chOff x="7837560" y="3792600"/>
              <a:chExt cx="571320" cy="204840"/>
            </a:xfrm>
          </p:grpSpPr>
          <p:sp>
            <p:nvSpPr>
              <p:cNvPr id="1935" name=""/>
              <p:cNvSpPr/>
              <p:nvPr/>
            </p:nvSpPr>
            <p:spPr>
              <a:xfrm>
                <a:off x="7837560" y="379260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8078760" y="383400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988400" y="382608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877160" y="393552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7837560" y="3819600"/>
                <a:ext cx="21276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8082000" y="3794040"/>
                <a:ext cx="32364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7872480" y="385596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49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1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8012160" y="385776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43" name=""/>
            <p:cNvGrpSpPr/>
            <p:nvPr/>
          </p:nvGrpSpPr>
          <p:grpSpPr>
            <a:xfrm>
              <a:off x="4599000" y="4554720"/>
              <a:ext cx="571320" cy="204480"/>
              <a:chOff x="4599000" y="4554720"/>
              <a:chExt cx="571320" cy="204480"/>
            </a:xfrm>
          </p:grpSpPr>
          <p:sp>
            <p:nvSpPr>
              <p:cNvPr id="1944" name=""/>
              <p:cNvSpPr/>
              <p:nvPr/>
            </p:nvSpPr>
            <p:spPr>
              <a:xfrm>
                <a:off x="4599000" y="4554720"/>
                <a:ext cx="571320" cy="204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840200" y="459576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749840" y="458640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638600" y="469764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599000" y="457992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6"/>
                    </a:lnTo>
                    <a:lnTo>
                      <a:pt x="71" y="237"/>
                    </a:lnTo>
                    <a:lnTo>
                      <a:pt x="47" y="248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5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2"/>
                    </a:lnTo>
                    <a:lnTo>
                      <a:pt x="222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6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843440" y="4554720"/>
                <a:ext cx="32400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4633920" y="461808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6"/>
                    </a:moveTo>
                    <a:lnTo>
                      <a:pt x="0" y="102"/>
                    </a:lnTo>
                    <a:lnTo>
                      <a:pt x="390" y="0"/>
                    </a:lnTo>
                    <a:lnTo>
                      <a:pt x="387" y="2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4"/>
                    </a:lnTo>
                    <a:lnTo>
                      <a:pt x="426" y="167"/>
                    </a:lnTo>
                    <a:lnTo>
                      <a:pt x="446" y="186"/>
                    </a:lnTo>
                    <a:lnTo>
                      <a:pt x="459" y="200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2"/>
                    </a:lnTo>
                    <a:lnTo>
                      <a:pt x="821" y="232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5" y="242"/>
                    </a:lnTo>
                    <a:lnTo>
                      <a:pt x="1186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9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7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8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8"/>
                    </a:lnTo>
                    <a:lnTo>
                      <a:pt x="586" y="319"/>
                    </a:lnTo>
                    <a:lnTo>
                      <a:pt x="583" y="320"/>
                    </a:lnTo>
                    <a:lnTo>
                      <a:pt x="581" y="320"/>
                    </a:lnTo>
                    <a:lnTo>
                      <a:pt x="576" y="320"/>
                    </a:lnTo>
                    <a:lnTo>
                      <a:pt x="563" y="320"/>
                    </a:lnTo>
                    <a:lnTo>
                      <a:pt x="542" y="320"/>
                    </a:lnTo>
                    <a:lnTo>
                      <a:pt x="518" y="319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773600" y="4619520"/>
                <a:ext cx="82440" cy="558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2" name=""/>
            <p:cNvGrpSpPr/>
            <p:nvPr/>
          </p:nvGrpSpPr>
          <p:grpSpPr>
            <a:xfrm>
              <a:off x="7075440" y="2649600"/>
              <a:ext cx="571680" cy="204840"/>
              <a:chOff x="7075440" y="2649600"/>
              <a:chExt cx="571680" cy="204840"/>
            </a:xfrm>
          </p:grpSpPr>
          <p:sp>
            <p:nvSpPr>
              <p:cNvPr id="1953" name=""/>
              <p:cNvSpPr/>
              <p:nvPr/>
            </p:nvSpPr>
            <p:spPr>
              <a:xfrm>
                <a:off x="7075440" y="264960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316640" y="269244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7226280" y="268452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7115040" y="279396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4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4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5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7075440" y="267804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319880" y="2652840"/>
                <a:ext cx="32400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3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3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5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3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2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3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110360" y="271476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6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250040" y="2716200"/>
                <a:ext cx="82440" cy="55800"/>
              </a:xfrm>
              <a:custGeom>
                <a:avLst/>
                <a:gdLst/>
                <a:ahLst/>
                <a:rect l="l" t="t" r="r" b="b"/>
                <a:pathLst>
                  <a:path w="310" h="209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9"/>
                    </a:lnTo>
                    <a:lnTo>
                      <a:pt x="45" y="206"/>
                    </a:lnTo>
                    <a:lnTo>
                      <a:pt x="20" y="198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61" name=""/>
            <p:cNvGrpSpPr/>
            <p:nvPr/>
          </p:nvGrpSpPr>
          <p:grpSpPr>
            <a:xfrm>
              <a:off x="7361280" y="4363920"/>
              <a:ext cx="487440" cy="567000"/>
              <a:chOff x="7361280" y="4363920"/>
              <a:chExt cx="487440" cy="567000"/>
            </a:xfrm>
          </p:grpSpPr>
          <p:sp>
            <p:nvSpPr>
              <p:cNvPr id="1962" name=""/>
              <p:cNvSpPr/>
              <p:nvPr/>
            </p:nvSpPr>
            <p:spPr>
              <a:xfrm>
                <a:off x="7378560" y="4368960"/>
                <a:ext cx="447840" cy="54432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2"/>
                    </a:lnTo>
                    <a:lnTo>
                      <a:pt x="1957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375680" y="4486320"/>
                <a:ext cx="442800" cy="2030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8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731000" y="46371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3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7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7683480" y="46292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8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8"/>
                    </a:lnTo>
                    <a:lnTo>
                      <a:pt x="19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8" y="87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8"/>
                    </a:lnTo>
                    <a:lnTo>
                      <a:pt x="50" y="101"/>
                    </a:lnTo>
                    <a:lnTo>
                      <a:pt x="39" y="98"/>
                    </a:lnTo>
                    <a:lnTo>
                      <a:pt x="39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7637400" y="46213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0">
                    <a:moveTo>
                      <a:pt x="38" y="97"/>
                    </a:moveTo>
                    <a:lnTo>
                      <a:pt x="18" y="89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7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3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0"/>
                    </a:lnTo>
                    <a:lnTo>
                      <a:pt x="48" y="100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589880" y="46134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99">
                    <a:moveTo>
                      <a:pt x="39" y="96"/>
                    </a:moveTo>
                    <a:lnTo>
                      <a:pt x="20" y="88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7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1" y="99"/>
                    </a:lnTo>
                    <a:lnTo>
                      <a:pt x="51" y="98"/>
                    </a:lnTo>
                    <a:lnTo>
                      <a:pt x="39" y="96"/>
                    </a:lnTo>
                    <a:lnTo>
                      <a:pt x="39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542360" y="460548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496280" y="459756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9"/>
                    </a:moveTo>
                    <a:lnTo>
                      <a:pt x="19" y="90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6" y="12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4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9"/>
                    </a:lnTo>
                    <a:lnTo>
                      <a:pt x="38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448400" y="458964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7" y="8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5" y="44"/>
                    </a:lnTo>
                    <a:lnTo>
                      <a:pt x="103" y="65"/>
                    </a:lnTo>
                    <a:lnTo>
                      <a:pt x="95" y="82"/>
                    </a:lnTo>
                    <a:lnTo>
                      <a:pt x="88" y="89"/>
                    </a:lnTo>
                    <a:lnTo>
                      <a:pt x="78" y="94"/>
                    </a:lnTo>
                    <a:lnTo>
                      <a:pt x="69" y="99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561080" y="4363920"/>
                <a:ext cx="147960" cy="24156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3"/>
                    </a:lnTo>
                    <a:lnTo>
                      <a:pt x="189" y="254"/>
                    </a:lnTo>
                    <a:lnTo>
                      <a:pt x="207" y="215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4" y="5"/>
                    </a:lnTo>
                    <a:lnTo>
                      <a:pt x="489" y="0"/>
                    </a:lnTo>
                    <a:lnTo>
                      <a:pt x="561" y="19"/>
                    </a:lnTo>
                    <a:lnTo>
                      <a:pt x="591" y="44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4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8" y="41"/>
                    </a:lnTo>
                    <a:lnTo>
                      <a:pt x="421" y="47"/>
                    </a:lnTo>
                    <a:lnTo>
                      <a:pt x="475" y="170"/>
                    </a:lnTo>
                    <a:lnTo>
                      <a:pt x="373" y="215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502400" y="4645080"/>
                <a:ext cx="169920" cy="28584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4" y="871"/>
                    </a:lnTo>
                    <a:lnTo>
                      <a:pt x="0" y="967"/>
                    </a:lnTo>
                    <a:lnTo>
                      <a:pt x="5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5"/>
                    </a:lnTo>
                    <a:lnTo>
                      <a:pt x="452" y="1086"/>
                    </a:lnTo>
                    <a:lnTo>
                      <a:pt x="481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4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5" y="1076"/>
                    </a:lnTo>
                    <a:lnTo>
                      <a:pt x="333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6"/>
                    </a:lnTo>
                    <a:lnTo>
                      <a:pt x="515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361280" y="446256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7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4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6"/>
                    </a:lnTo>
                    <a:lnTo>
                      <a:pt x="1556" y="915"/>
                    </a:lnTo>
                    <a:lnTo>
                      <a:pt x="1418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2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1"/>
                    </a:lnTo>
                    <a:lnTo>
                      <a:pt x="31" y="463"/>
                    </a:lnTo>
                    <a:lnTo>
                      <a:pt x="48" y="537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6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5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6" y="1082"/>
                    </a:lnTo>
                    <a:lnTo>
                      <a:pt x="1372" y="1099"/>
                    </a:lnTo>
                    <a:lnTo>
                      <a:pt x="1456" y="1114"/>
                    </a:lnTo>
                    <a:lnTo>
                      <a:pt x="1559" y="1130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0"/>
                    </a:lnTo>
                    <a:lnTo>
                      <a:pt x="2053" y="1107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4" y="685"/>
                    </a:lnTo>
                    <a:lnTo>
                      <a:pt x="1789" y="669"/>
                    </a:lnTo>
                    <a:lnTo>
                      <a:pt x="1732" y="651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378560" y="4457880"/>
                <a:ext cx="84240" cy="11736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99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5"/>
                    </a:lnTo>
                    <a:lnTo>
                      <a:pt x="276" y="156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2" y="118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634160" y="474840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7419960" y="472284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1"/>
                    </a:lnTo>
                    <a:lnTo>
                      <a:pt x="40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7485120" y="4452840"/>
                <a:ext cx="8424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7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7"/>
                    </a:lnTo>
                    <a:lnTo>
                      <a:pt x="37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7692840" y="44737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39"/>
                    </a:lnTo>
                    <a:lnTo>
                      <a:pt x="223" y="86"/>
                    </a:lnTo>
                    <a:lnTo>
                      <a:pt x="234" y="140"/>
                    </a:lnTo>
                    <a:lnTo>
                      <a:pt x="220" y="190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9" name=""/>
            <p:cNvGrpSpPr/>
            <p:nvPr/>
          </p:nvGrpSpPr>
          <p:grpSpPr>
            <a:xfrm>
              <a:off x="5456160" y="4268880"/>
              <a:ext cx="487440" cy="565200"/>
              <a:chOff x="5456160" y="4268880"/>
              <a:chExt cx="487440" cy="565200"/>
            </a:xfrm>
          </p:grpSpPr>
          <p:sp>
            <p:nvSpPr>
              <p:cNvPr id="1980" name=""/>
              <p:cNvSpPr/>
              <p:nvPr/>
            </p:nvSpPr>
            <p:spPr>
              <a:xfrm>
                <a:off x="5473800" y="4273560"/>
                <a:ext cx="447480" cy="544680"/>
              </a:xfrm>
              <a:custGeom>
                <a:avLst/>
                <a:gdLst/>
                <a:ahLst/>
                <a:rect l="l" t="t" r="r" b="b"/>
                <a:pathLst>
                  <a:path w="1975" h="2402">
                    <a:moveTo>
                      <a:pt x="0" y="482"/>
                    </a:moveTo>
                    <a:lnTo>
                      <a:pt x="177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1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7"/>
                    </a:lnTo>
                    <a:lnTo>
                      <a:pt x="1882" y="1174"/>
                    </a:lnTo>
                    <a:lnTo>
                      <a:pt x="1975" y="1292"/>
                    </a:lnTo>
                    <a:lnTo>
                      <a:pt x="1957" y="1384"/>
                    </a:lnTo>
                    <a:lnTo>
                      <a:pt x="1849" y="1449"/>
                    </a:lnTo>
                    <a:lnTo>
                      <a:pt x="1265" y="1375"/>
                    </a:lnTo>
                    <a:lnTo>
                      <a:pt x="1059" y="2013"/>
                    </a:lnTo>
                    <a:lnTo>
                      <a:pt x="956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5470560" y="4389480"/>
                <a:ext cx="44280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9" y="898"/>
                    </a:lnTo>
                    <a:lnTo>
                      <a:pt x="1914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826240" y="45417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5778360" y="45338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732280" y="452592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6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6" y="44"/>
                    </a:lnTo>
                    <a:lnTo>
                      <a:pt x="104" y="63"/>
                    </a:lnTo>
                    <a:lnTo>
                      <a:pt x="95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60" y="101"/>
                    </a:lnTo>
                    <a:lnTo>
                      <a:pt x="49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5684760" y="45180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1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5637240" y="45100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6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8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6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5591160" y="45021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3"/>
                    </a:lnTo>
                    <a:lnTo>
                      <a:pt x="104" y="64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1" y="98"/>
                    </a:lnTo>
                    <a:lnTo>
                      <a:pt x="60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5543640" y="44928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5656320" y="426888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3" y="681"/>
                    </a:lnTo>
                    <a:lnTo>
                      <a:pt x="74" y="597"/>
                    </a:lnTo>
                    <a:lnTo>
                      <a:pt x="97" y="509"/>
                    </a:lnTo>
                    <a:lnTo>
                      <a:pt x="125" y="422"/>
                    </a:lnTo>
                    <a:lnTo>
                      <a:pt x="154" y="336"/>
                    </a:lnTo>
                    <a:lnTo>
                      <a:pt x="171" y="293"/>
                    </a:lnTo>
                    <a:lnTo>
                      <a:pt x="188" y="254"/>
                    </a:lnTo>
                    <a:lnTo>
                      <a:pt x="207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6" y="116"/>
                    </a:lnTo>
                    <a:lnTo>
                      <a:pt x="312" y="62"/>
                    </a:lnTo>
                    <a:lnTo>
                      <a:pt x="323" y="51"/>
                    </a:lnTo>
                    <a:lnTo>
                      <a:pt x="335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19"/>
                    </a:lnTo>
                    <a:lnTo>
                      <a:pt x="591" y="45"/>
                    </a:lnTo>
                    <a:lnTo>
                      <a:pt x="606" y="62"/>
                    </a:lnTo>
                    <a:lnTo>
                      <a:pt x="617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8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0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7" y="41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2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5597640" y="4549680"/>
                <a:ext cx="16956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5456160" y="436716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6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4" y="681"/>
                    </a:lnTo>
                    <a:lnTo>
                      <a:pt x="1736" y="705"/>
                    </a:lnTo>
                    <a:lnTo>
                      <a:pt x="1821" y="729"/>
                    </a:lnTo>
                    <a:lnTo>
                      <a:pt x="1895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3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4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7"/>
                    </a:lnTo>
                    <a:lnTo>
                      <a:pt x="1555" y="915"/>
                    </a:lnTo>
                    <a:lnTo>
                      <a:pt x="1418" y="887"/>
                    </a:lnTo>
                    <a:lnTo>
                      <a:pt x="1273" y="859"/>
                    </a:lnTo>
                    <a:lnTo>
                      <a:pt x="1126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8" y="239"/>
                    </a:lnTo>
                    <a:lnTo>
                      <a:pt x="307" y="232"/>
                    </a:lnTo>
                    <a:lnTo>
                      <a:pt x="109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8"/>
                    </a:lnTo>
                    <a:lnTo>
                      <a:pt x="14" y="381"/>
                    </a:lnTo>
                    <a:lnTo>
                      <a:pt x="30" y="463"/>
                    </a:lnTo>
                    <a:lnTo>
                      <a:pt x="48" y="538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7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1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4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7" y="847"/>
                    </a:lnTo>
                    <a:lnTo>
                      <a:pt x="595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5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9"/>
                    </a:lnTo>
                    <a:lnTo>
                      <a:pt x="1455" y="1114"/>
                    </a:lnTo>
                    <a:lnTo>
                      <a:pt x="1559" y="1131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1"/>
                    </a:lnTo>
                    <a:lnTo>
                      <a:pt x="2052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6" y="884"/>
                    </a:lnTo>
                    <a:lnTo>
                      <a:pt x="2087" y="844"/>
                    </a:lnTo>
                    <a:lnTo>
                      <a:pt x="2058" y="813"/>
                    </a:lnTo>
                    <a:lnTo>
                      <a:pt x="2043" y="800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3" y="701"/>
                    </a:lnTo>
                    <a:lnTo>
                      <a:pt x="1834" y="686"/>
                    </a:lnTo>
                    <a:lnTo>
                      <a:pt x="1789" y="669"/>
                    </a:lnTo>
                    <a:lnTo>
                      <a:pt x="1732" y="652"/>
                    </a:lnTo>
                    <a:lnTo>
                      <a:pt x="1657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5472000" y="436248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8" h="512">
                    <a:moveTo>
                      <a:pt x="0" y="46"/>
                    </a:moveTo>
                    <a:lnTo>
                      <a:pt x="62" y="6"/>
                    </a:lnTo>
                    <a:lnTo>
                      <a:pt x="116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8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8" y="512"/>
                    </a:lnTo>
                    <a:lnTo>
                      <a:pt x="320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4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3" y="103"/>
                    </a:lnTo>
                    <a:lnTo>
                      <a:pt x="127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5729400" y="465300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4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3" y="74"/>
                    </a:lnTo>
                    <a:lnTo>
                      <a:pt x="234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5514840" y="462744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5580000" y="4357800"/>
                <a:ext cx="84240" cy="2520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5788080" y="43783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2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97" name=""/>
            <p:cNvGrpSpPr/>
            <p:nvPr/>
          </p:nvGrpSpPr>
          <p:grpSpPr>
            <a:xfrm>
              <a:off x="5551560" y="2935440"/>
              <a:ext cx="571320" cy="204840"/>
              <a:chOff x="5551560" y="2935440"/>
              <a:chExt cx="571320" cy="204840"/>
            </a:xfrm>
          </p:grpSpPr>
          <p:sp>
            <p:nvSpPr>
              <p:cNvPr id="1998" name=""/>
              <p:cNvSpPr/>
              <p:nvPr/>
            </p:nvSpPr>
            <p:spPr>
              <a:xfrm>
                <a:off x="5551560" y="293544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792760" y="297828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5702400" y="297036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5591160" y="307980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5551560" y="296244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796000" y="2938680"/>
                <a:ext cx="32364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586480" y="300060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726160" y="300204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06" name=""/>
            <p:cNvGrpSpPr/>
            <p:nvPr/>
          </p:nvGrpSpPr>
          <p:grpSpPr>
            <a:xfrm>
              <a:off x="4336920" y="2382840"/>
              <a:ext cx="4353120" cy="3183120"/>
              <a:chOff x="4336920" y="2382840"/>
              <a:chExt cx="4353120" cy="3183120"/>
            </a:xfrm>
          </p:grpSpPr>
          <p:grpSp>
            <p:nvGrpSpPr>
              <p:cNvPr id="2007" name=""/>
              <p:cNvGrpSpPr/>
              <p:nvPr/>
            </p:nvGrpSpPr>
            <p:grpSpPr>
              <a:xfrm>
                <a:off x="4336920" y="2382840"/>
                <a:ext cx="4353120" cy="3183120"/>
                <a:chOff x="4336920" y="2382840"/>
                <a:chExt cx="4353120" cy="3183120"/>
              </a:xfrm>
            </p:grpSpPr>
            <p:sp>
              <p:nvSpPr>
                <p:cNvPr id="2008" name=""/>
                <p:cNvSpPr/>
                <p:nvPr/>
              </p:nvSpPr>
              <p:spPr>
                <a:xfrm>
                  <a:off x="6477120" y="23828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47" y="10"/>
                      </a:moveTo>
                      <a:lnTo>
                        <a:pt x="47" y="9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6421320" y="2384640"/>
                  <a:ext cx="3996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6365880" y="238608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1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45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6310440" y="238932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6254640" y="239076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4">
                      <a:moveTo>
                        <a:pt x="47" y="10"/>
                      </a:moveTo>
                      <a:lnTo>
                        <a:pt x="48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5" y="4"/>
                      </a:lnTo>
                      <a:lnTo>
                        <a:pt x="3" y="5"/>
                      </a:lnTo>
                      <a:lnTo>
                        <a:pt x="2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3" y="14"/>
                      </a:lnTo>
                      <a:lnTo>
                        <a:pt x="5" y="14"/>
                      </a:lnTo>
                      <a:lnTo>
                        <a:pt x="7" y="14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6199200" y="239724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47" y="10"/>
                      </a:moveTo>
                      <a:lnTo>
                        <a:pt x="48" y="10"/>
                      </a:lnTo>
                      <a:lnTo>
                        <a:pt x="50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3"/>
                      </a:lnTo>
                      <a:lnTo>
                        <a:pt x="3" y="5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5" y="13"/>
                      </a:lnTo>
                      <a:lnTo>
                        <a:pt x="7" y="13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6145200" y="240192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5" y="10"/>
                      </a:moveTo>
                      <a:lnTo>
                        <a:pt x="46" y="10"/>
                      </a:ln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8" y="3"/>
                      </a:lnTo>
                      <a:lnTo>
                        <a:pt x="46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5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3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6089760" y="240984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5" y="10"/>
                      </a:moveTo>
                      <a:lnTo>
                        <a:pt x="46" y="8"/>
                      </a:lnTo>
                      <a:lnTo>
                        <a:pt x="48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1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5"/>
                      </a:lnTo>
                      <a:lnTo>
                        <a:pt x="3" y="5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1" y="11"/>
                      </a:lnTo>
                      <a:lnTo>
                        <a:pt x="3" y="13"/>
                      </a:lnTo>
                      <a:lnTo>
                        <a:pt x="5" y="15"/>
                      </a:lnTo>
                      <a:lnTo>
                        <a:pt x="6" y="15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035760" y="241632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9" h="17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7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4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5979960" y="2425680"/>
                  <a:ext cx="39960" cy="12600"/>
                </a:xfrm>
                <a:custGeom>
                  <a:avLst/>
                  <a:gdLst/>
                  <a:ahLst/>
                  <a:rect l="l" t="t" r="r" b="b"/>
                  <a:pathLst>
                    <a:path w="50" h="16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9" y="3"/>
                      </a:lnTo>
                      <a:lnTo>
                        <a:pt x="47" y="1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6"/>
                      </a:lnTo>
                      <a:lnTo>
                        <a:pt x="5" y="16"/>
                      </a:lnTo>
                      <a:lnTo>
                        <a:pt x="7" y="16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5925960" y="243540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8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3" y="19"/>
                      </a:lnTo>
                      <a:lnTo>
                        <a:pt x="5" y="19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5870520" y="2446560"/>
                  <a:ext cx="39600" cy="140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45" y="10"/>
                      </a:moveTo>
                      <a:lnTo>
                        <a:pt x="46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9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7"/>
                      </a:lnTo>
                      <a:lnTo>
                        <a:pt x="3" y="19"/>
                      </a:lnTo>
                      <a:lnTo>
                        <a:pt x="5" y="19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5816520" y="2459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5" y="10"/>
                      </a:moveTo>
                      <a:lnTo>
                        <a:pt x="47" y="9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10"/>
                      </a:lnTo>
                      <a:lnTo>
                        <a:pt x="4" y="10"/>
                      </a:ln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4" y="19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5762520" y="247176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50" h="20">
                      <a:moveTo>
                        <a:pt x="45" y="10"/>
                      </a:moveTo>
                      <a:lnTo>
                        <a:pt x="47" y="8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5710320" y="2486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4" y="10"/>
                      </a:move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0"/>
                      </a:ln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2" y="20"/>
                      </a:lnTo>
                      <a:lnTo>
                        <a:pt x="4" y="20"/>
                      </a:lnTo>
                      <a:lnTo>
                        <a:pt x="5" y="20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5656320" y="2500200"/>
                  <a:ext cx="39600" cy="17640"/>
                </a:xfrm>
                <a:custGeom>
                  <a:avLst/>
                  <a:gdLst/>
                  <a:ahLst/>
                  <a:rect l="l" t="t" r="r" b="b"/>
                  <a:pathLst>
                    <a:path w="48" h="21">
                      <a:moveTo>
                        <a:pt x="43" y="10"/>
                      </a:move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6" y="3"/>
                      </a:lnTo>
                      <a:lnTo>
                        <a:pt x="45" y="1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11" y="8"/>
                      </a:lnTo>
                      <a:lnTo>
                        <a:pt x="3" y="11"/>
                      </a:ln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13" y="18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5603760" y="251784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47" h="22">
                      <a:moveTo>
                        <a:pt x="43" y="10"/>
                      </a:move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" y="12"/>
                      </a:lnTo>
                      <a:lnTo>
                        <a:pt x="2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5" y="22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5551560" y="25351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44" y="10"/>
                      </a:moveTo>
                      <a:lnTo>
                        <a:pt x="45" y="8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25" y="5"/>
                      </a:lnTo>
                      <a:lnTo>
                        <a:pt x="4" y="13"/>
                      </a:lnTo>
                      <a:lnTo>
                        <a:pt x="2" y="13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27" y="1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5499000" y="255420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4" y="10"/>
                      </a:moveTo>
                      <a:lnTo>
                        <a:pt x="45" y="10"/>
                      </a:lnTo>
                      <a:lnTo>
                        <a:pt x="47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5"/>
                      </a:lnTo>
                      <a:lnTo>
                        <a:pt x="2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2" y="24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5448240" y="2573280"/>
                  <a:ext cx="36720" cy="208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2" y="10"/>
                      </a:moveTo>
                      <a:lnTo>
                        <a:pt x="44" y="9"/>
                      </a:lnTo>
                      <a:lnTo>
                        <a:pt x="45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7" y="2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39" y="12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5396040" y="2595600"/>
                  <a:ext cx="3780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4" y="10"/>
                      </a:move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5346720" y="2617920"/>
                  <a:ext cx="34920" cy="2052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2" y="10"/>
                      </a:moveTo>
                      <a:lnTo>
                        <a:pt x="43" y="9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5" y="4"/>
                      </a:lnTo>
                      <a:lnTo>
                        <a:pt x="45" y="2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" y="17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3" y="27"/>
                      </a:lnTo>
                      <a:lnTo>
                        <a:pt x="5" y="27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5295960" y="2640240"/>
                  <a:ext cx="34920" cy="2196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41" y="10"/>
                      </a:moveTo>
                      <a:lnTo>
                        <a:pt x="43" y="10"/>
                      </a:lnTo>
                      <a:lnTo>
                        <a:pt x="45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" y="18"/>
                      </a:lnTo>
                      <a:lnTo>
                        <a:pt x="1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6"/>
                      </a:lnTo>
                      <a:lnTo>
                        <a:pt x="3" y="28"/>
                      </a:lnTo>
                      <a:lnTo>
                        <a:pt x="5" y="28"/>
                      </a:lnTo>
                      <a:lnTo>
                        <a:pt x="4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5245200" y="2665440"/>
                  <a:ext cx="38160" cy="2232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4" y="9"/>
                      </a:moveTo>
                      <a:lnTo>
                        <a:pt x="45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4" y="19"/>
                      </a:lnTo>
                      <a:lnTo>
                        <a:pt x="2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4" y="27"/>
                      </a:lnTo>
                      <a:lnTo>
                        <a:pt x="5" y="29"/>
                      </a:lnTo>
                      <a:lnTo>
                        <a:pt x="7" y="29"/>
                      </a:lnTo>
                      <a:lnTo>
                        <a:pt x="9" y="27"/>
                      </a:lnTo>
                      <a:lnTo>
                        <a:pt x="4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5195880" y="269100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43" y="10"/>
                      </a:moveTo>
                      <a:lnTo>
                        <a:pt x="45" y="8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2"/>
                      </a:lnTo>
                      <a:lnTo>
                        <a:pt x="18" y="12"/>
                      </a:lnTo>
                      <a:lnTo>
                        <a:pt x="3" y="20"/>
                      </a:lnTo>
                      <a:lnTo>
                        <a:pt x="1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7"/>
                      </a:lnTo>
                      <a:lnTo>
                        <a:pt x="3" y="28"/>
                      </a:lnTo>
                      <a:lnTo>
                        <a:pt x="5" y="30"/>
                      </a:lnTo>
                      <a:lnTo>
                        <a:pt x="6" y="30"/>
                      </a:lnTo>
                      <a:lnTo>
                        <a:pt x="8" y="28"/>
                      </a:lnTo>
                      <a:lnTo>
                        <a:pt x="23" y="20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5148360" y="271800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41" y="8"/>
                      </a:moveTo>
                      <a:lnTo>
                        <a:pt x="43" y="7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1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6" y="28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5100480" y="274644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0">
                      <a:moveTo>
                        <a:pt x="41" y="8"/>
                      </a:moveTo>
                      <a:lnTo>
                        <a:pt x="43" y="7"/>
                      </a:lnTo>
                      <a:lnTo>
                        <a:pt x="43" y="5"/>
                      </a:lnTo>
                      <a:lnTo>
                        <a:pt x="43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2"/>
                      </a:lnTo>
                      <a:lnTo>
                        <a:pt x="1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6" y="30"/>
                      </a:lnTo>
                      <a:lnTo>
                        <a:pt x="40" y="10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5052960" y="2774880"/>
                  <a:ext cx="36720" cy="25560"/>
                </a:xfrm>
                <a:custGeom>
                  <a:avLst/>
                  <a:gdLst/>
                  <a:ahLst/>
                  <a:rect l="l" t="t" r="r" b="b"/>
                  <a:pathLst>
                    <a:path w="45" h="31">
                      <a:moveTo>
                        <a:pt x="41" y="10"/>
                      </a:move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3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3" y="21"/>
                      </a:lnTo>
                      <a:lnTo>
                        <a:pt x="1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1" y="28"/>
                      </a:lnTo>
                      <a:lnTo>
                        <a:pt x="3" y="30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8" y="30"/>
                      </a:lnTo>
                      <a:lnTo>
                        <a:pt x="4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5008680" y="2805120"/>
                  <a:ext cx="34920" cy="27000"/>
                </a:xfrm>
                <a:custGeom>
                  <a:avLst/>
                  <a:gdLst/>
                  <a:ahLst/>
                  <a:rect l="l" t="t" r="r" b="b"/>
                  <a:pathLst>
                    <a:path w="43" h="33">
                      <a:moveTo>
                        <a:pt x="40" y="8"/>
                      </a:moveTo>
                      <a:lnTo>
                        <a:pt x="42" y="7"/>
                      </a:lnTo>
                      <a:lnTo>
                        <a:pt x="43" y="5"/>
                      </a:lnTo>
                      <a:lnTo>
                        <a:pt x="43" y="3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2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5" y="33"/>
                      </a:lnTo>
                      <a:lnTo>
                        <a:pt x="7" y="32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4964040" y="283680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40" y="8"/>
                      </a:moveTo>
                      <a:lnTo>
                        <a:pt x="42" y="7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14" y="15"/>
                      </a:lnTo>
                      <a:lnTo>
                        <a:pt x="2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19" y="23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4917960" y="28702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40" y="8"/>
                      </a:moveTo>
                      <a:lnTo>
                        <a:pt x="41" y="6"/>
                      </a:lnTo>
                      <a:lnTo>
                        <a:pt x="41" y="5"/>
                      </a:lnTo>
                      <a:lnTo>
                        <a:pt x="41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0"/>
                      </a:lnTo>
                      <a:lnTo>
                        <a:pt x="3" y="25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1" y="31"/>
                      </a:lnTo>
                      <a:lnTo>
                        <a:pt x="3" y="33"/>
                      </a:lnTo>
                      <a:lnTo>
                        <a:pt x="5" y="35"/>
                      </a:lnTo>
                      <a:lnTo>
                        <a:pt x="6" y="35"/>
                      </a:lnTo>
                      <a:lnTo>
                        <a:pt x="8" y="33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4876920" y="290520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9" y="8"/>
                      </a:move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40" y="2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2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5" y="35"/>
                      </a:lnTo>
                      <a:lnTo>
                        <a:pt x="7" y="33"/>
                      </a:lnTo>
                      <a:lnTo>
                        <a:pt x="3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4834080" y="294012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7" y="8"/>
                      </a:moveTo>
                      <a:lnTo>
                        <a:pt x="38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8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2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3"/>
                      </a:lnTo>
                      <a:lnTo>
                        <a:pt x="2" y="35"/>
                      </a:lnTo>
                      <a:lnTo>
                        <a:pt x="3" y="35"/>
                      </a:lnTo>
                      <a:lnTo>
                        <a:pt x="5" y="35"/>
                      </a:lnTo>
                      <a:lnTo>
                        <a:pt x="7" y="35"/>
                      </a:lnTo>
                      <a:lnTo>
                        <a:pt x="3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4792680" y="297648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7" y="10"/>
                      </a:moveTo>
                      <a:lnTo>
                        <a:pt x="39" y="8"/>
                      </a:lnTo>
                      <a:lnTo>
                        <a:pt x="39" y="7"/>
                      </a:lnTo>
                      <a:lnTo>
                        <a:pt x="39" y="5"/>
                      </a:lnTo>
                      <a:lnTo>
                        <a:pt x="39" y="3"/>
                      </a:lnTo>
                      <a:lnTo>
                        <a:pt x="37" y="2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2"/>
                      </a:ln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2" y="37"/>
                      </a:lnTo>
                      <a:lnTo>
                        <a:pt x="4" y="38"/>
                      </a:lnTo>
                      <a:lnTo>
                        <a:pt x="5" y="38"/>
                      </a:lnTo>
                      <a:lnTo>
                        <a:pt x="7" y="37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4753080" y="3014640"/>
                  <a:ext cx="29880" cy="3024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5" y="9"/>
                      </a:moveTo>
                      <a:lnTo>
                        <a:pt x="37" y="7"/>
                      </a:lnTo>
                      <a:lnTo>
                        <a:pt x="39" y="5"/>
                      </a:lnTo>
                      <a:lnTo>
                        <a:pt x="39" y="4"/>
                      </a:lnTo>
                      <a:lnTo>
                        <a:pt x="37" y="2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2" y="10"/>
                      </a:lnTo>
                      <a:lnTo>
                        <a:pt x="20" y="12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2" y="37"/>
                      </a:lnTo>
                      <a:lnTo>
                        <a:pt x="4" y="39"/>
                      </a:lnTo>
                      <a:lnTo>
                        <a:pt x="5" y="39"/>
                      </a:lnTo>
                      <a:lnTo>
                        <a:pt x="7" y="37"/>
                      </a:lnTo>
                      <a:lnTo>
                        <a:pt x="9" y="35"/>
                      </a:lnTo>
                      <a:lnTo>
                        <a:pt x="29" y="17"/>
                      </a:lnTo>
                      <a:lnTo>
                        <a:pt x="24" y="14"/>
                      </a:lnTo>
                      <a:lnTo>
                        <a:pt x="27" y="19"/>
                      </a:lnTo>
                      <a:lnTo>
                        <a:pt x="3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4713120" y="305424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9" y="7"/>
                      </a:moveTo>
                      <a:lnTo>
                        <a:pt x="39" y="5"/>
                      </a:lnTo>
                      <a:lnTo>
                        <a:pt x="39" y="4"/>
                      </a:lnTo>
                      <a:lnTo>
                        <a:pt x="39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2" y="30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2" y="35"/>
                      </a:lnTo>
                      <a:lnTo>
                        <a:pt x="4" y="37"/>
                      </a:lnTo>
                      <a:lnTo>
                        <a:pt x="5" y="39"/>
                      </a:lnTo>
                      <a:lnTo>
                        <a:pt x="7" y="39"/>
                      </a:lnTo>
                      <a:lnTo>
                        <a:pt x="9" y="37"/>
                      </a:lnTo>
                      <a:lnTo>
                        <a:pt x="10" y="35"/>
                      </a:lnTo>
                      <a:lnTo>
                        <a:pt x="3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4676760" y="30942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6" h="40">
                      <a:moveTo>
                        <a:pt x="36" y="9"/>
                      </a:moveTo>
                      <a:lnTo>
                        <a:pt x="36" y="7"/>
                      </a:lnTo>
                      <a:lnTo>
                        <a:pt x="36" y="5"/>
                      </a:lnTo>
                      <a:lnTo>
                        <a:pt x="36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2"/>
                      </a:lnTo>
                      <a:lnTo>
                        <a:pt x="28" y="4"/>
                      </a:lnTo>
                      <a:lnTo>
                        <a:pt x="1" y="34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1" y="39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6" y="40"/>
                      </a:lnTo>
                      <a:lnTo>
                        <a:pt x="8" y="40"/>
                      </a:lnTo>
                      <a:lnTo>
                        <a:pt x="10" y="39"/>
                      </a:lnTo>
                      <a:lnTo>
                        <a:pt x="3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4640400" y="3135240"/>
                  <a:ext cx="29880" cy="32040"/>
                </a:xfrm>
                <a:custGeom>
                  <a:avLst/>
                  <a:gdLst/>
                  <a:ahLst/>
                  <a:rect l="l" t="t" r="r" b="b"/>
                  <a:pathLst>
                    <a:path w="36" h="40">
                      <a:moveTo>
                        <a:pt x="35" y="6"/>
                      </a:moveTo>
                      <a:lnTo>
                        <a:pt x="36" y="5"/>
                      </a:lnTo>
                      <a:lnTo>
                        <a:pt x="36" y="3"/>
                      </a:lnTo>
                      <a:lnTo>
                        <a:pt x="35" y="1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6" y="1"/>
                      </a:lnTo>
                      <a:lnTo>
                        <a:pt x="13" y="16"/>
                      </a:lnTo>
                      <a:lnTo>
                        <a:pt x="1" y="33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1" y="38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6" y="40"/>
                      </a:lnTo>
                      <a:lnTo>
                        <a:pt x="8" y="40"/>
                      </a:lnTo>
                      <a:lnTo>
                        <a:pt x="10" y="38"/>
                      </a:lnTo>
                      <a:lnTo>
                        <a:pt x="21" y="21"/>
                      </a:lnTo>
                      <a:lnTo>
                        <a:pt x="3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4606920" y="3178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35" y="8"/>
                      </a:moveTo>
                      <a:lnTo>
                        <a:pt x="35" y="7"/>
                      </a:lnTo>
                      <a:lnTo>
                        <a:pt x="35" y="5"/>
                      </a:lnTo>
                      <a:lnTo>
                        <a:pt x="35" y="3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9" y="2"/>
                      </a:lnTo>
                      <a:lnTo>
                        <a:pt x="27" y="3"/>
                      </a:lnTo>
                      <a:lnTo>
                        <a:pt x="2" y="35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2" y="40"/>
                      </a:lnTo>
                      <a:lnTo>
                        <a:pt x="4" y="42"/>
                      </a:lnTo>
                      <a:lnTo>
                        <a:pt x="5" y="42"/>
                      </a:lnTo>
                      <a:lnTo>
                        <a:pt x="7" y="42"/>
                      </a:lnTo>
                      <a:lnTo>
                        <a:pt x="9" y="42"/>
                      </a:lnTo>
                      <a:lnTo>
                        <a:pt x="10" y="40"/>
                      </a:lnTo>
                      <a:lnTo>
                        <a:pt x="3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4575240" y="3222720"/>
                  <a:ext cx="25200" cy="33120"/>
                </a:xfrm>
                <a:custGeom>
                  <a:avLst/>
                  <a:gdLst/>
                  <a:ahLst/>
                  <a:rect l="l" t="t" r="r" b="b"/>
                  <a:pathLst>
                    <a:path w="32" h="41">
                      <a:moveTo>
                        <a:pt x="32" y="6"/>
                      </a:moveTo>
                      <a:lnTo>
                        <a:pt x="32" y="5"/>
                      </a:lnTo>
                      <a:lnTo>
                        <a:pt x="32" y="3"/>
                      </a:lnTo>
                      <a:lnTo>
                        <a:pt x="32" y="1"/>
                      </a:lnTo>
                      <a:lnTo>
                        <a:pt x="30" y="0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4" y="1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2" y="41"/>
                      </a:lnTo>
                      <a:lnTo>
                        <a:pt x="4" y="41"/>
                      </a:lnTo>
                      <a:lnTo>
                        <a:pt x="5" y="41"/>
                      </a:lnTo>
                      <a:lnTo>
                        <a:pt x="7" y="41"/>
                      </a:lnTo>
                      <a:lnTo>
                        <a:pt x="9" y="40"/>
                      </a:lnTo>
                      <a:lnTo>
                        <a:pt x="3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4543560" y="3268800"/>
                  <a:ext cx="25200" cy="331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32" y="9"/>
                      </a:moveTo>
                      <a:lnTo>
                        <a:pt x="32" y="7"/>
                      </a:lnTo>
                      <a:lnTo>
                        <a:pt x="32" y="5"/>
                      </a:lnTo>
                      <a:lnTo>
                        <a:pt x="32" y="4"/>
                      </a:lnTo>
                      <a:lnTo>
                        <a:pt x="30" y="2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4" y="4"/>
                      </a:lnTo>
                      <a:lnTo>
                        <a:pt x="10" y="20"/>
                      </a:lnTo>
                      <a:lnTo>
                        <a:pt x="2" y="37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4" y="44"/>
                      </a:lnTo>
                      <a:lnTo>
                        <a:pt x="5" y="44"/>
                      </a:lnTo>
                      <a:lnTo>
                        <a:pt x="7" y="44"/>
                      </a:lnTo>
                      <a:lnTo>
                        <a:pt x="9" y="44"/>
                      </a:lnTo>
                      <a:lnTo>
                        <a:pt x="10" y="42"/>
                      </a:lnTo>
                      <a:lnTo>
                        <a:pt x="19" y="25"/>
                      </a:lnTo>
                      <a:lnTo>
                        <a:pt x="3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4513320" y="3314880"/>
                  <a:ext cx="25200" cy="34920"/>
                </a:xfrm>
                <a:custGeom>
                  <a:avLst/>
                  <a:gdLst/>
                  <a:ahLst/>
                  <a:rect l="l" t="t" r="r" b="b"/>
                  <a:pathLst>
                    <a:path w="31" h="45">
                      <a:moveTo>
                        <a:pt x="30" y="8"/>
                      </a:move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0" y="3"/>
                      </a:lnTo>
                      <a:lnTo>
                        <a:pt x="28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3" y="1"/>
                      </a:lnTo>
                      <a:lnTo>
                        <a:pt x="21" y="3"/>
                      </a:lnTo>
                      <a:lnTo>
                        <a:pt x="1" y="36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1" y="41"/>
                      </a:lnTo>
                      <a:lnTo>
                        <a:pt x="3" y="43"/>
                      </a:lnTo>
                      <a:lnTo>
                        <a:pt x="5" y="45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3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4487760" y="3362400"/>
                  <a:ext cx="22320" cy="36360"/>
                </a:xfrm>
                <a:custGeom>
                  <a:avLst/>
                  <a:gdLst/>
                  <a:ahLst/>
                  <a:rect l="l" t="t" r="r" b="b"/>
                  <a:pathLst>
                    <a:path w="29" h="46">
                      <a:moveTo>
                        <a:pt x="29" y="8"/>
                      </a:moveTo>
                      <a:lnTo>
                        <a:pt x="29" y="6"/>
                      </a:lnTo>
                      <a:lnTo>
                        <a:pt x="29" y="5"/>
                      </a:lnTo>
                      <a:lnTo>
                        <a:pt x="29" y="3"/>
                      </a:lnTo>
                      <a:lnTo>
                        <a:pt x="27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1"/>
                      </a:lnTo>
                      <a:lnTo>
                        <a:pt x="20" y="3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4" y="46"/>
                      </a:lnTo>
                      <a:lnTo>
                        <a:pt x="5" y="46"/>
                      </a:lnTo>
                      <a:lnTo>
                        <a:pt x="7" y="45"/>
                      </a:lnTo>
                      <a:lnTo>
                        <a:pt x="9" y="43"/>
                      </a:lnTo>
                      <a:lnTo>
                        <a:pt x="2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4460760" y="3411720"/>
                  <a:ext cx="22320" cy="3636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9"/>
                      </a:moveTo>
                      <a:lnTo>
                        <a:pt x="28" y="7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7" y="2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2" y="2"/>
                      </a:lnTo>
                      <a:lnTo>
                        <a:pt x="20" y="4"/>
                      </a:lnTo>
                      <a:lnTo>
                        <a:pt x="10" y="20"/>
                      </a:lnTo>
                      <a:lnTo>
                        <a:pt x="10" y="22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2" y="44"/>
                      </a:lnTo>
                      <a:lnTo>
                        <a:pt x="3" y="45"/>
                      </a:lnTo>
                      <a:lnTo>
                        <a:pt x="5" y="47"/>
                      </a:lnTo>
                      <a:lnTo>
                        <a:pt x="7" y="47"/>
                      </a:lnTo>
                      <a:lnTo>
                        <a:pt x="8" y="45"/>
                      </a:lnTo>
                      <a:lnTo>
                        <a:pt x="10" y="44"/>
                      </a:lnTo>
                      <a:lnTo>
                        <a:pt x="10" y="42"/>
                      </a:lnTo>
                      <a:lnTo>
                        <a:pt x="20" y="24"/>
                      </a:lnTo>
                      <a:lnTo>
                        <a:pt x="15" y="22"/>
                      </a:lnTo>
                      <a:lnTo>
                        <a:pt x="18" y="25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4438800" y="3460680"/>
                  <a:ext cx="20520" cy="38160"/>
                </a:xfrm>
                <a:custGeom>
                  <a:avLst/>
                  <a:gdLst/>
                  <a:ahLst/>
                  <a:rect l="l" t="t" r="r" b="b"/>
                  <a:pathLst>
                    <a:path w="26" h="46">
                      <a:moveTo>
                        <a:pt x="26" y="6"/>
                      </a:moveTo>
                      <a:lnTo>
                        <a:pt x="26" y="5"/>
                      </a:lnTo>
                      <a:lnTo>
                        <a:pt x="25" y="3"/>
                      </a:lnTo>
                      <a:lnTo>
                        <a:pt x="23" y="1"/>
                      </a:lnTo>
                      <a:lnTo>
                        <a:pt x="21" y="0"/>
                      </a:lnTo>
                      <a:lnTo>
                        <a:pt x="20" y="0"/>
                      </a:lnTo>
                      <a:lnTo>
                        <a:pt x="18" y="1"/>
                      </a:lnTo>
                      <a:lnTo>
                        <a:pt x="16" y="3"/>
                      </a:lnTo>
                      <a:lnTo>
                        <a:pt x="16" y="5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1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4417920" y="3513240"/>
                  <a:ext cx="19080" cy="3636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25" y="5"/>
                      </a:moveTo>
                      <a:lnTo>
                        <a:pt x="25" y="3"/>
                      </a:lnTo>
                      <a:lnTo>
                        <a:pt x="23" y="1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5" y="3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2" y="43"/>
                      </a:lnTo>
                      <a:lnTo>
                        <a:pt x="3" y="45"/>
                      </a:lnTo>
                      <a:lnTo>
                        <a:pt x="5" y="46"/>
                      </a:lnTo>
                      <a:lnTo>
                        <a:pt x="7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0" y="41"/>
                      </a:lnTo>
                      <a:lnTo>
                        <a:pt x="2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4398840" y="3564000"/>
                  <a:ext cx="19080" cy="38160"/>
                </a:xfrm>
                <a:custGeom>
                  <a:avLst/>
                  <a:gdLst/>
                  <a:ahLst/>
                  <a:rect l="l" t="t" r="r" b="b"/>
                  <a:pathLst>
                    <a:path w="23" h="46">
                      <a:moveTo>
                        <a:pt x="23" y="5"/>
                      </a:moveTo>
                      <a:lnTo>
                        <a:pt x="23" y="3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8" y="16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1" y="46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8" y="18"/>
                      </a:lnTo>
                      <a:lnTo>
                        <a:pt x="2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4381560" y="3618000"/>
                  <a:ext cx="17280" cy="36360"/>
                </a:xfrm>
                <a:custGeom>
                  <a:avLst/>
                  <a:gdLst/>
                  <a:ahLst/>
                  <a:rect l="l" t="t" r="r" b="b"/>
                  <a:pathLst>
                    <a:path w="22" h="47">
                      <a:moveTo>
                        <a:pt x="22" y="5"/>
                      </a:moveTo>
                      <a:lnTo>
                        <a:pt x="22" y="4"/>
                      </a:lnTo>
                      <a:lnTo>
                        <a:pt x="22" y="2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3" y="2"/>
                      </a:lnTo>
                      <a:lnTo>
                        <a:pt x="12" y="4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2" y="45"/>
                      </a:lnTo>
                      <a:lnTo>
                        <a:pt x="3" y="47"/>
                      </a:lnTo>
                      <a:lnTo>
                        <a:pt x="5" y="47"/>
                      </a:lnTo>
                      <a:lnTo>
                        <a:pt x="7" y="47"/>
                      </a:lnTo>
                      <a:lnTo>
                        <a:pt x="8" y="47"/>
                      </a:lnTo>
                      <a:lnTo>
                        <a:pt x="10" y="45"/>
                      </a:lnTo>
                      <a:lnTo>
                        <a:pt x="10" y="44"/>
                      </a:lnTo>
                      <a:lnTo>
                        <a:pt x="2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4368960" y="3670200"/>
                  <a:ext cx="15840" cy="38160"/>
                </a:xfrm>
                <a:custGeom>
                  <a:avLst/>
                  <a:gdLst/>
                  <a:ahLst/>
                  <a:rect l="l" t="t" r="r" b="b"/>
                  <a:pathLst>
                    <a:path w="20" h="48">
                      <a:moveTo>
                        <a:pt x="20" y="5"/>
                      </a:moveTo>
                      <a:lnTo>
                        <a:pt x="20" y="3"/>
                      </a:lnTo>
                      <a:lnTo>
                        <a:pt x="19" y="2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4" y="28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4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9" y="47"/>
                      </a:lnTo>
                      <a:lnTo>
                        <a:pt x="10" y="45"/>
                      </a:lnTo>
                      <a:lnTo>
                        <a:pt x="14" y="30"/>
                      </a:lnTo>
                      <a:lnTo>
                        <a:pt x="2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4356000" y="372420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9" h="49">
                      <a:moveTo>
                        <a:pt x="19" y="5"/>
                      </a:moveTo>
                      <a:lnTo>
                        <a:pt x="19" y="4"/>
                      </a:lnTo>
                      <a:lnTo>
                        <a:pt x="17" y="2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7" y="10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9"/>
                      </a:lnTo>
                      <a:lnTo>
                        <a:pt x="5" y="49"/>
                      </a:lnTo>
                      <a:lnTo>
                        <a:pt x="7" y="49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7" y="12"/>
                      </a:lnTo>
                      <a:lnTo>
                        <a:pt x="1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4346640" y="3778200"/>
                  <a:ext cx="14040" cy="39960"/>
                </a:xfrm>
                <a:custGeom>
                  <a:avLst/>
                  <a:gdLst/>
                  <a:ahLst/>
                  <a:rect l="l" t="t" r="r" b="b"/>
                  <a:pathLst>
                    <a:path w="16" h="50">
                      <a:moveTo>
                        <a:pt x="16" y="5"/>
                      </a:moveTo>
                      <a:lnTo>
                        <a:pt x="16" y="3"/>
                      </a:lnTo>
                      <a:lnTo>
                        <a:pt x="16" y="1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6" y="3"/>
                      </a:lnTo>
                      <a:lnTo>
                        <a:pt x="1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1" y="46"/>
                      </a:lnTo>
                      <a:lnTo>
                        <a:pt x="3" y="48"/>
                      </a:lnTo>
                      <a:lnTo>
                        <a:pt x="5" y="50"/>
                      </a:lnTo>
                      <a:lnTo>
                        <a:pt x="6" y="50"/>
                      </a:lnTo>
                      <a:lnTo>
                        <a:pt x="8" y="48"/>
                      </a:lnTo>
                      <a:lnTo>
                        <a:pt x="10" y="46"/>
                      </a:lnTo>
                      <a:lnTo>
                        <a:pt x="10" y="45"/>
                      </a:lnTo>
                      <a:lnTo>
                        <a:pt x="11" y="43"/>
                      </a:lnTo>
                      <a:lnTo>
                        <a:pt x="1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4341960" y="3834000"/>
                  <a:ext cx="10800" cy="39600"/>
                </a:xfrm>
                <a:custGeom>
                  <a:avLst/>
                  <a:gdLst/>
                  <a:ahLst/>
                  <a:rect l="l" t="t" r="r" b="b"/>
                  <a:pathLst>
                    <a:path w="13" h="48">
                      <a:moveTo>
                        <a:pt x="13" y="5"/>
                      </a:moveTo>
                      <a:lnTo>
                        <a:pt x="13" y="3"/>
                      </a:ln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3" y="3"/>
                      </a:lnTo>
                      <a:lnTo>
                        <a:pt x="2" y="2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6"/>
                      </a:lnTo>
                      <a:lnTo>
                        <a:pt x="2" y="48"/>
                      </a:lnTo>
                      <a:lnTo>
                        <a:pt x="3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8" y="46"/>
                      </a:lnTo>
                      <a:lnTo>
                        <a:pt x="10" y="45"/>
                      </a:lnTo>
                      <a:lnTo>
                        <a:pt x="12" y="23"/>
                      </a:lnTo>
                      <a:lnTo>
                        <a:pt x="1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4338720" y="388944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2" h="50">
                      <a:moveTo>
                        <a:pt x="12" y="7"/>
                      </a:move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2" y="50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48"/>
                      </a:lnTo>
                      <a:lnTo>
                        <a:pt x="10" y="47"/>
                      </a:lnTo>
                      <a:lnTo>
                        <a:pt x="1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4336920" y="3944880"/>
                  <a:ext cx="7920" cy="3996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10" y="7"/>
                      </a:moveTo>
                      <a:lnTo>
                        <a:pt x="10" y="5"/>
                      </a:lnTo>
                      <a:lnTo>
                        <a:pt x="10" y="3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38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50"/>
                      </a:lnTo>
                      <a:lnTo>
                        <a:pt x="10" y="48"/>
                      </a:lnTo>
                      <a:lnTo>
                        <a:pt x="10" y="47"/>
                      </a:lnTo>
                      <a:lnTo>
                        <a:pt x="10" y="4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4338720" y="400068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10" y="7"/>
                      </a:moveTo>
                      <a:lnTo>
                        <a:pt x="10" y="5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50"/>
                      </a:lnTo>
                      <a:lnTo>
                        <a:pt x="10" y="48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0" y="20"/>
                      </a:lnTo>
                      <a:lnTo>
                        <a:pt x="5" y="20"/>
                      </a:lnTo>
                      <a:lnTo>
                        <a:pt x="10" y="22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4338720" y="4056120"/>
                  <a:ext cx="12600" cy="3960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10" y="5"/>
                      </a:move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5" y="47"/>
                      </a:lnTo>
                      <a:lnTo>
                        <a:pt x="5" y="48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50"/>
                      </a:lnTo>
                      <a:lnTo>
                        <a:pt x="11" y="50"/>
                      </a:lnTo>
                      <a:lnTo>
                        <a:pt x="13" y="48"/>
                      </a:lnTo>
                      <a:lnTo>
                        <a:pt x="15" y="47"/>
                      </a:lnTo>
                      <a:lnTo>
                        <a:pt x="15" y="45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4346640" y="4111560"/>
                  <a:ext cx="11160" cy="399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10" y="5"/>
                      </a:move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3" y="33"/>
                      </a:lnTo>
                      <a:lnTo>
                        <a:pt x="5" y="45"/>
                      </a:lnTo>
                      <a:lnTo>
                        <a:pt x="5" y="47"/>
                      </a:lnTo>
                      <a:lnTo>
                        <a:pt x="7" y="48"/>
                      </a:lnTo>
                      <a:lnTo>
                        <a:pt x="8" y="50"/>
                      </a:lnTo>
                      <a:lnTo>
                        <a:pt x="10" y="50"/>
                      </a:lnTo>
                      <a:lnTo>
                        <a:pt x="12" y="48"/>
                      </a:lnTo>
                      <a:lnTo>
                        <a:pt x="13" y="47"/>
                      </a:lnTo>
                      <a:lnTo>
                        <a:pt x="15" y="45"/>
                      </a:lnTo>
                      <a:lnTo>
                        <a:pt x="15" y="43"/>
                      </a:lnTo>
                      <a:lnTo>
                        <a:pt x="13" y="32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4352760" y="4167360"/>
                  <a:ext cx="14400" cy="37800"/>
                </a:xfrm>
                <a:custGeom>
                  <a:avLst/>
                  <a:gdLst/>
                  <a:ahLst/>
                  <a:rect l="l" t="t" r="r" b="b"/>
                  <a:pathLst>
                    <a:path w="19" h="48">
                      <a:moveTo>
                        <a:pt x="10" y="3"/>
                      </a:moveTo>
                      <a:lnTo>
                        <a:pt x="10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15"/>
                      </a:lnTo>
                      <a:lnTo>
                        <a:pt x="9" y="45"/>
                      </a:lnTo>
                      <a:lnTo>
                        <a:pt x="9" y="47"/>
                      </a:lnTo>
                      <a:lnTo>
                        <a:pt x="10" y="48"/>
                      </a:lnTo>
                      <a:lnTo>
                        <a:pt x="12" y="48"/>
                      </a:lnTo>
                      <a:lnTo>
                        <a:pt x="14" y="48"/>
                      </a:lnTo>
                      <a:lnTo>
                        <a:pt x="15" y="48"/>
                      </a:lnTo>
                      <a:lnTo>
                        <a:pt x="17" y="47"/>
                      </a:lnTo>
                      <a:lnTo>
                        <a:pt x="19" y="45"/>
                      </a:lnTo>
                      <a:lnTo>
                        <a:pt x="19" y="43"/>
                      </a:lnTo>
                      <a:lnTo>
                        <a:pt x="12" y="13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4362480" y="4221360"/>
                  <a:ext cx="15840" cy="37800"/>
                </a:xfrm>
                <a:custGeom>
                  <a:avLst/>
                  <a:gdLst/>
                  <a:ahLst/>
                  <a:rect l="l" t="t" r="r" b="b"/>
                  <a:pathLst>
                    <a:path w="20" h="49">
                      <a:moveTo>
                        <a:pt x="10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0" y="45"/>
                      </a:lnTo>
                      <a:lnTo>
                        <a:pt x="10" y="47"/>
                      </a:lnTo>
                      <a:lnTo>
                        <a:pt x="11" y="49"/>
                      </a:lnTo>
                      <a:lnTo>
                        <a:pt x="13" y="49"/>
                      </a:lnTo>
                      <a:lnTo>
                        <a:pt x="15" y="49"/>
                      </a:lnTo>
                      <a:lnTo>
                        <a:pt x="16" y="49"/>
                      </a:lnTo>
                      <a:lnTo>
                        <a:pt x="18" y="47"/>
                      </a:lnTo>
                      <a:lnTo>
                        <a:pt x="20" y="45"/>
                      </a:lnTo>
                      <a:lnTo>
                        <a:pt x="20" y="4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4376880" y="4275360"/>
                  <a:ext cx="17280" cy="37800"/>
                </a:xfrm>
                <a:custGeom>
                  <a:avLst/>
                  <a:gdLst/>
                  <a:ahLst/>
                  <a:rect l="l" t="t" r="r" b="b"/>
                  <a:pathLst>
                    <a:path w="22" h="48">
                      <a:moveTo>
                        <a:pt x="10" y="3"/>
                      </a:move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5" y="26"/>
                      </a:lnTo>
                      <a:lnTo>
                        <a:pt x="12" y="43"/>
                      </a:lnTo>
                      <a:lnTo>
                        <a:pt x="12" y="45"/>
                      </a:lnTo>
                      <a:lnTo>
                        <a:pt x="14" y="46"/>
                      </a:lnTo>
                      <a:lnTo>
                        <a:pt x="15" y="48"/>
                      </a:lnTo>
                      <a:lnTo>
                        <a:pt x="17" y="48"/>
                      </a:lnTo>
                      <a:lnTo>
                        <a:pt x="19" y="46"/>
                      </a:lnTo>
                      <a:lnTo>
                        <a:pt x="20" y="45"/>
                      </a:lnTo>
                      <a:lnTo>
                        <a:pt x="22" y="43"/>
                      </a:lnTo>
                      <a:lnTo>
                        <a:pt x="22" y="41"/>
                      </a:lnTo>
                      <a:lnTo>
                        <a:pt x="15" y="25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4392720" y="432756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4" h="49">
                      <a:moveTo>
                        <a:pt x="10" y="4"/>
                      </a:moveTo>
                      <a:lnTo>
                        <a:pt x="10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4" y="44"/>
                      </a:lnTo>
                      <a:lnTo>
                        <a:pt x="14" y="45"/>
                      </a:lnTo>
                      <a:lnTo>
                        <a:pt x="15" y="47"/>
                      </a:lnTo>
                      <a:lnTo>
                        <a:pt x="17" y="49"/>
                      </a:lnTo>
                      <a:lnTo>
                        <a:pt x="19" y="49"/>
                      </a:lnTo>
                      <a:lnTo>
                        <a:pt x="20" y="47"/>
                      </a:lnTo>
                      <a:lnTo>
                        <a:pt x="22" y="45"/>
                      </a:lnTo>
                      <a:lnTo>
                        <a:pt x="24" y="44"/>
                      </a:lnTo>
                      <a:lnTo>
                        <a:pt x="24" y="42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4410000" y="4381560"/>
                  <a:ext cx="19080" cy="36360"/>
                </a:xfrm>
                <a:custGeom>
                  <a:avLst/>
                  <a:gdLst/>
                  <a:ahLst/>
                  <a:rect l="l" t="t" r="r" b="b"/>
                  <a:pathLst>
                    <a:path w="23" h="47">
                      <a:moveTo>
                        <a:pt x="10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3" y="43"/>
                      </a:lnTo>
                      <a:lnTo>
                        <a:pt x="15" y="45"/>
                      </a:lnTo>
                      <a:lnTo>
                        <a:pt x="16" y="47"/>
                      </a:lnTo>
                      <a:lnTo>
                        <a:pt x="18" y="47"/>
                      </a:lnTo>
                      <a:lnTo>
                        <a:pt x="20" y="47"/>
                      </a:lnTo>
                      <a:lnTo>
                        <a:pt x="21" y="47"/>
                      </a:lnTo>
                      <a:lnTo>
                        <a:pt x="23" y="45"/>
                      </a:lnTo>
                      <a:lnTo>
                        <a:pt x="23" y="43"/>
                      </a:lnTo>
                      <a:lnTo>
                        <a:pt x="23" y="42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4430520" y="4432320"/>
                  <a:ext cx="19080" cy="3672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10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5" y="20"/>
                      </a:lnTo>
                      <a:lnTo>
                        <a:pt x="15" y="42"/>
                      </a:lnTo>
                      <a:lnTo>
                        <a:pt x="16" y="43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1" y="47"/>
                      </a:lnTo>
                      <a:lnTo>
                        <a:pt x="23" y="45"/>
                      </a:lnTo>
                      <a:lnTo>
                        <a:pt x="25" y="43"/>
                      </a:lnTo>
                      <a:lnTo>
                        <a:pt x="25" y="42"/>
                      </a:lnTo>
                      <a:lnTo>
                        <a:pt x="25" y="40"/>
                      </a:lnTo>
                      <a:lnTo>
                        <a:pt x="15" y="18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4452840" y="4483080"/>
                  <a:ext cx="20880" cy="3672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0" y="5"/>
                      </a:move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7" y="42"/>
                      </a:lnTo>
                      <a:lnTo>
                        <a:pt x="17" y="44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5"/>
                      </a:lnTo>
                      <a:lnTo>
                        <a:pt x="25" y="44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4476600" y="4532400"/>
                  <a:ext cx="24120" cy="36360"/>
                </a:xfrm>
                <a:custGeom>
                  <a:avLst/>
                  <a:gdLst/>
                  <a:ahLst/>
                  <a:rect l="l" t="t" r="r" b="b"/>
                  <a:pathLst>
                    <a:path w="30" h="45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20" y="43"/>
                      </a:lnTo>
                      <a:lnTo>
                        <a:pt x="22" y="45"/>
                      </a:ln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7" y="45"/>
                      </a:lnTo>
                      <a:lnTo>
                        <a:pt x="28" y="43"/>
                      </a:lnTo>
                      <a:lnTo>
                        <a:pt x="30" y="41"/>
                      </a:lnTo>
                      <a:lnTo>
                        <a:pt x="30" y="40"/>
                      </a:lnTo>
                      <a:lnTo>
                        <a:pt x="28" y="38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4503600" y="4581720"/>
                  <a:ext cx="2556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10" y="2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7" y="17"/>
                      </a:lnTo>
                      <a:lnTo>
                        <a:pt x="22" y="42"/>
                      </a:lnTo>
                      <a:lnTo>
                        <a:pt x="24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9" y="44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2" y="39"/>
                      </a:lnTo>
                      <a:lnTo>
                        <a:pt x="30" y="37"/>
                      </a:lnTo>
                      <a:lnTo>
                        <a:pt x="15" y="12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4532400" y="4629240"/>
                  <a:ext cx="2520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8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2" y="42"/>
                      </a:lnTo>
                      <a:lnTo>
                        <a:pt x="23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8" y="44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2" y="39"/>
                      </a:lnTo>
                      <a:lnTo>
                        <a:pt x="30" y="37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4562280" y="4675320"/>
                  <a:ext cx="27000" cy="34920"/>
                </a:xfrm>
                <a:custGeom>
                  <a:avLst/>
                  <a:gdLst/>
                  <a:ahLst/>
                  <a:rect l="l" t="t" r="r" b="b"/>
                  <a:pathLst>
                    <a:path w="34" h="43">
                      <a:moveTo>
                        <a:pt x="9" y="3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4" y="40"/>
                      </a:lnTo>
                      <a:lnTo>
                        <a:pt x="25" y="41"/>
                      </a:lnTo>
                      <a:lnTo>
                        <a:pt x="27" y="43"/>
                      </a:lnTo>
                      <a:lnTo>
                        <a:pt x="29" y="43"/>
                      </a:lnTo>
                      <a:lnTo>
                        <a:pt x="30" y="41"/>
                      </a:lnTo>
                      <a:lnTo>
                        <a:pt x="32" y="40"/>
                      </a:lnTo>
                      <a:lnTo>
                        <a:pt x="34" y="38"/>
                      </a:lnTo>
                      <a:lnTo>
                        <a:pt x="34" y="36"/>
                      </a:lnTo>
                      <a:lnTo>
                        <a:pt x="32" y="35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4594320" y="472140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4" h="42">
                      <a:moveTo>
                        <a:pt x="9" y="4"/>
                      </a:move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7" y="17"/>
                      </a:lnTo>
                      <a:lnTo>
                        <a:pt x="25" y="40"/>
                      </a:lnTo>
                      <a:lnTo>
                        <a:pt x="27" y="42"/>
                      </a:lnTo>
                      <a:lnTo>
                        <a:pt x="29" y="42"/>
                      </a:lnTo>
                      <a:lnTo>
                        <a:pt x="30" y="42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4" y="39"/>
                      </a:lnTo>
                      <a:lnTo>
                        <a:pt x="34" y="37"/>
                      </a:lnTo>
                      <a:lnTo>
                        <a:pt x="34" y="35"/>
                      </a:lnTo>
                      <a:lnTo>
                        <a:pt x="15" y="12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4629240" y="47656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3" h="42">
                      <a:moveTo>
                        <a:pt x="8" y="2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5" y="38"/>
                      </a:lnTo>
                      <a:lnTo>
                        <a:pt x="26" y="40"/>
                      </a:lnTo>
                      <a:lnTo>
                        <a:pt x="28" y="42"/>
                      </a:lnTo>
                      <a:lnTo>
                        <a:pt x="30" y="42"/>
                      </a:lnTo>
                      <a:lnTo>
                        <a:pt x="31" y="40"/>
                      </a:lnTo>
                      <a:lnTo>
                        <a:pt x="33" y="38"/>
                      </a:lnTo>
                      <a:lnTo>
                        <a:pt x="33" y="37"/>
                      </a:lnTo>
                      <a:lnTo>
                        <a:pt x="33" y="35"/>
                      </a:lnTo>
                      <a:lnTo>
                        <a:pt x="33" y="33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4664160" y="48085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10" y="4"/>
                      </a:move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7" y="39"/>
                      </a:lnTo>
                      <a:lnTo>
                        <a:pt x="28" y="40"/>
                      </a:lnTo>
                      <a:lnTo>
                        <a:pt x="30" y="40"/>
                      </a:lnTo>
                      <a:lnTo>
                        <a:pt x="32" y="40"/>
                      </a:lnTo>
                      <a:lnTo>
                        <a:pt x="33" y="40"/>
                      </a:lnTo>
                      <a:lnTo>
                        <a:pt x="35" y="39"/>
                      </a:lnTo>
                      <a:lnTo>
                        <a:pt x="37" y="37"/>
                      </a:lnTo>
                      <a:lnTo>
                        <a:pt x="37" y="35"/>
                      </a:lnTo>
                      <a:lnTo>
                        <a:pt x="35" y="3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4700520" y="4849920"/>
                  <a:ext cx="28800" cy="31680"/>
                </a:xfrm>
                <a:custGeom>
                  <a:avLst/>
                  <a:gdLst/>
                  <a:ahLst/>
                  <a:rect l="l" t="t" r="r" b="b"/>
                  <a:pathLst>
                    <a:path w="36" h="38">
                      <a:moveTo>
                        <a:pt x="8" y="1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0" y="18"/>
                      </a:lnTo>
                      <a:lnTo>
                        <a:pt x="28" y="36"/>
                      </a:lnTo>
                      <a:lnTo>
                        <a:pt x="30" y="38"/>
                      </a:lnTo>
                      <a:lnTo>
                        <a:pt x="31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6" y="36"/>
                      </a:lnTo>
                      <a:lnTo>
                        <a:pt x="36" y="35"/>
                      </a:lnTo>
                      <a:lnTo>
                        <a:pt x="36" y="33"/>
                      </a:lnTo>
                      <a:lnTo>
                        <a:pt x="36" y="31"/>
                      </a:lnTo>
                      <a:lnTo>
                        <a:pt x="18" y="13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4738680" y="4889520"/>
                  <a:ext cx="30240" cy="3168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8" y="3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8" y="36"/>
                      </a:lnTo>
                      <a:lnTo>
                        <a:pt x="30" y="38"/>
                      </a:lnTo>
                      <a:lnTo>
                        <a:pt x="32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7" y="36"/>
                      </a:lnTo>
                      <a:lnTo>
                        <a:pt x="38" y="35"/>
                      </a:lnTo>
                      <a:lnTo>
                        <a:pt x="38" y="33"/>
                      </a:lnTo>
                      <a:lnTo>
                        <a:pt x="37" y="31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4776840" y="4929120"/>
                  <a:ext cx="31680" cy="30240"/>
                </a:xfrm>
                <a:custGeom>
                  <a:avLst/>
                  <a:gdLst/>
                  <a:ahLst/>
                  <a:rect l="l" t="t" r="r" b="b"/>
                  <a:pathLst>
                    <a:path w="40" h="36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34" y="36"/>
                      </a:lnTo>
                      <a:lnTo>
                        <a:pt x="35" y="36"/>
                      </a:lnTo>
                      <a:lnTo>
                        <a:pt x="37" y="36"/>
                      </a:lnTo>
                      <a:lnTo>
                        <a:pt x="39" y="36"/>
                      </a:lnTo>
                      <a:lnTo>
                        <a:pt x="40" y="35"/>
                      </a:lnTo>
                      <a:lnTo>
                        <a:pt x="40" y="33"/>
                      </a:lnTo>
                      <a:lnTo>
                        <a:pt x="40" y="31"/>
                      </a:lnTo>
                      <a:lnTo>
                        <a:pt x="40" y="30"/>
                      </a:lnTo>
                      <a:lnTo>
                        <a:pt x="39" y="2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4817880" y="4967280"/>
                  <a:ext cx="3204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8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22" y="27"/>
                      </a:lnTo>
                      <a:lnTo>
                        <a:pt x="33" y="37"/>
                      </a:lnTo>
                      <a:lnTo>
                        <a:pt x="35" y="37"/>
                      </a:lnTo>
                      <a:lnTo>
                        <a:pt x="37" y="37"/>
                      </a:lnTo>
                      <a:lnTo>
                        <a:pt x="38" y="37"/>
                      </a:lnTo>
                      <a:lnTo>
                        <a:pt x="40" y="35"/>
                      </a:lnTo>
                      <a:lnTo>
                        <a:pt x="40" y="34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38" y="29"/>
                      </a:lnTo>
                      <a:lnTo>
                        <a:pt x="27" y="19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4861080" y="500400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4" y="35"/>
                      </a:lnTo>
                      <a:lnTo>
                        <a:pt x="35" y="37"/>
                      </a:lnTo>
                      <a:lnTo>
                        <a:pt x="37" y="37"/>
                      </a:lnTo>
                      <a:lnTo>
                        <a:pt x="39" y="35"/>
                      </a:lnTo>
                      <a:lnTo>
                        <a:pt x="40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40" y="28"/>
                      </a:lnTo>
                      <a:lnTo>
                        <a:pt x="39" y="27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4902120" y="504036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8" y="2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35" y="33"/>
                      </a:lnTo>
                      <a:lnTo>
                        <a:pt x="36" y="35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1" y="32"/>
                      </a:lnTo>
                      <a:lnTo>
                        <a:pt x="41" y="30"/>
                      </a:lnTo>
                      <a:lnTo>
                        <a:pt x="41" y="28"/>
                      </a:lnTo>
                      <a:lnTo>
                        <a:pt x="41" y="27"/>
                      </a:lnTo>
                      <a:lnTo>
                        <a:pt x="40" y="25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4946760" y="50738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1" h="34">
                      <a:moveTo>
                        <a:pt x="8" y="0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35" y="34"/>
                      </a:lnTo>
                      <a:lnTo>
                        <a:pt x="36" y="34"/>
                      </a:lnTo>
                      <a:lnTo>
                        <a:pt x="38" y="34"/>
                      </a:lnTo>
                      <a:lnTo>
                        <a:pt x="40" y="34"/>
                      </a:lnTo>
                      <a:lnTo>
                        <a:pt x="41" y="32"/>
                      </a:lnTo>
                      <a:lnTo>
                        <a:pt x="41" y="30"/>
                      </a:lnTo>
                      <a:lnTo>
                        <a:pt x="41" y="29"/>
                      </a:lnTo>
                      <a:lnTo>
                        <a:pt x="41" y="27"/>
                      </a:lnTo>
                      <a:lnTo>
                        <a:pt x="40" y="2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4991040" y="510696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35" y="32"/>
                      </a:lnTo>
                      <a:lnTo>
                        <a:pt x="37" y="32"/>
                      </a:lnTo>
                      <a:lnTo>
                        <a:pt x="39" y="32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4" y="28"/>
                      </a:lnTo>
                      <a:lnTo>
                        <a:pt x="44" y="27"/>
                      </a:lnTo>
                      <a:lnTo>
                        <a:pt x="42" y="25"/>
                      </a:lnTo>
                      <a:lnTo>
                        <a:pt x="40" y="2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5037120" y="513864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15" y="18"/>
                      </a:lnTo>
                      <a:lnTo>
                        <a:pt x="35" y="30"/>
                      </a:lnTo>
                      <a:lnTo>
                        <a:pt x="36" y="32"/>
                      </a:lnTo>
                      <a:lnTo>
                        <a:pt x="38" y="32"/>
                      </a:lnTo>
                      <a:lnTo>
                        <a:pt x="40" y="30"/>
                      </a:lnTo>
                      <a:lnTo>
                        <a:pt x="41" y="28"/>
                      </a:lnTo>
                      <a:lnTo>
                        <a:pt x="43" y="27"/>
                      </a:lnTo>
                      <a:lnTo>
                        <a:pt x="43" y="25"/>
                      </a:lnTo>
                      <a:lnTo>
                        <a:pt x="41" y="23"/>
                      </a:lnTo>
                      <a:lnTo>
                        <a:pt x="40" y="22"/>
                      </a:lnTo>
                      <a:lnTo>
                        <a:pt x="20" y="1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5084640" y="5167440"/>
                  <a:ext cx="33480" cy="2520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7" y="1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7" y="31"/>
                      </a:lnTo>
                      <a:lnTo>
                        <a:pt x="38" y="31"/>
                      </a:lnTo>
                      <a:lnTo>
                        <a:pt x="40" y="31"/>
                      </a:lnTo>
                      <a:lnTo>
                        <a:pt x="42" y="31"/>
                      </a:lnTo>
                      <a:lnTo>
                        <a:pt x="43" y="30"/>
                      </a:lnTo>
                      <a:lnTo>
                        <a:pt x="43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2" y="23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5130720" y="519912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39" y="28"/>
                      </a:ln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4" y="28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5180040" y="522612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7" y="28"/>
                      </a:lnTo>
                      <a:lnTo>
                        <a:pt x="38" y="30"/>
                      </a:lnTo>
                      <a:lnTo>
                        <a:pt x="40" y="30"/>
                      </a:lnTo>
                      <a:lnTo>
                        <a:pt x="42" y="28"/>
                      </a:ln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3" y="22"/>
                      </a:lnTo>
                      <a:lnTo>
                        <a:pt x="42" y="2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5227560" y="5253120"/>
                  <a:ext cx="36720" cy="22320"/>
                </a:xfrm>
                <a:custGeom>
                  <a:avLst/>
                  <a:gdLst/>
                  <a:ahLst/>
                  <a:rect l="l" t="t" r="r" b="b"/>
                  <a:pathLst>
                    <a:path w="45" h="29">
                      <a:moveTo>
                        <a:pt x="6" y="2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6" y="29"/>
                      </a:lnTo>
                      <a:lnTo>
                        <a:pt x="38" y="29"/>
                      </a:lnTo>
                      <a:lnTo>
                        <a:pt x="40" y="29"/>
                      </a:lnTo>
                      <a:lnTo>
                        <a:pt x="41" y="29"/>
                      </a:ln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5" y="24"/>
                      </a:lnTo>
                      <a:lnTo>
                        <a:pt x="43" y="22"/>
                      </a:lnTo>
                      <a:lnTo>
                        <a:pt x="41" y="20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5276880" y="5278320"/>
                  <a:ext cx="36360" cy="2232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24" y="22"/>
                      </a:lnTo>
                      <a:lnTo>
                        <a:pt x="25" y="22"/>
                      </a:lnTo>
                      <a:lnTo>
                        <a:pt x="40" y="28"/>
                      </a:lnTo>
                      <a:lnTo>
                        <a:pt x="42" y="28"/>
                      </a:lnTo>
                      <a:lnTo>
                        <a:pt x="44" y="28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42" y="18"/>
                      </a:lnTo>
                      <a:lnTo>
                        <a:pt x="27" y="12"/>
                      </a:lnTo>
                      <a:lnTo>
                        <a:pt x="27" y="17"/>
                      </a:lnTo>
                      <a:lnTo>
                        <a:pt x="29" y="13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5327640" y="5302440"/>
                  <a:ext cx="34920" cy="21960"/>
                </a:xfrm>
                <a:custGeom>
                  <a:avLst/>
                  <a:gdLst/>
                  <a:ahLst/>
                  <a:rect l="l" t="t" r="r" b="b"/>
                  <a:pathLst>
                    <a:path w="45" h="26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40" y="26"/>
                      </a:lnTo>
                      <a:lnTo>
                        <a:pt x="41" y="26"/>
                      </a:lnTo>
                      <a:lnTo>
                        <a:pt x="43" y="25"/>
                      </a:lnTo>
                      <a:lnTo>
                        <a:pt x="45" y="23"/>
                      </a:lnTo>
                      <a:lnTo>
                        <a:pt x="45" y="21"/>
                      </a:lnTo>
                      <a:lnTo>
                        <a:pt x="45" y="20"/>
                      </a:lnTo>
                      <a:lnTo>
                        <a:pt x="45" y="18"/>
                      </a:lnTo>
                      <a:lnTo>
                        <a:pt x="43" y="16"/>
                      </a:lnTo>
                      <a:lnTo>
                        <a:pt x="41" y="16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5378400" y="532620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10" y="11"/>
                      </a:lnTo>
                      <a:lnTo>
                        <a:pt x="40" y="25"/>
                      </a:lnTo>
                      <a:lnTo>
                        <a:pt x="42" y="25"/>
                      </a:lnTo>
                      <a:lnTo>
                        <a:pt x="43" y="25"/>
                      </a:lnTo>
                      <a:lnTo>
                        <a:pt x="45" y="23"/>
                      </a:lnTo>
                      <a:lnTo>
                        <a:pt x="47" y="21"/>
                      </a:lnTo>
                      <a:lnTo>
                        <a:pt x="47" y="20"/>
                      </a:lnTo>
                      <a:lnTo>
                        <a:pt x="45" y="18"/>
                      </a:lnTo>
                      <a:lnTo>
                        <a:pt x="43" y="16"/>
                      </a:lnTo>
                      <a:lnTo>
                        <a:pt x="42" y="15"/>
                      </a:lnTo>
                      <a:lnTo>
                        <a:pt x="12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5427720" y="534816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42" y="25"/>
                      </a:lnTo>
                      <a:lnTo>
                        <a:pt x="44" y="25"/>
                      </a:lnTo>
                      <a:lnTo>
                        <a:pt x="45" y="25"/>
                      </a:lnTo>
                      <a:lnTo>
                        <a:pt x="47" y="24"/>
                      </a:lnTo>
                      <a:lnTo>
                        <a:pt x="47" y="22"/>
                      </a:lnTo>
                      <a:lnTo>
                        <a:pt x="47" y="20"/>
                      </a:lnTo>
                      <a:lnTo>
                        <a:pt x="47" y="19"/>
                      </a:lnTo>
                      <a:lnTo>
                        <a:pt x="45" y="17"/>
                      </a:lnTo>
                      <a:lnTo>
                        <a:pt x="44" y="1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5479920" y="536904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2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7"/>
                      </a:lnTo>
                      <a:lnTo>
                        <a:pt x="45" y="15"/>
                      </a:lnTo>
                      <a:lnTo>
                        <a:pt x="44" y="1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5530680" y="5389560"/>
                  <a:ext cx="38160" cy="1764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42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2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7"/>
                      </a:lnTo>
                      <a:lnTo>
                        <a:pt x="45" y="15"/>
                      </a:lnTo>
                      <a:lnTo>
                        <a:pt x="44" y="1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5584680" y="540720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42" y="24"/>
                      </a:lnTo>
                      <a:lnTo>
                        <a:pt x="43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8" y="19"/>
                      </a:lnTo>
                      <a:lnTo>
                        <a:pt x="48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3" y="1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5637240" y="542448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36" y="22"/>
                      </a:lnTo>
                      <a:lnTo>
                        <a:pt x="41" y="23"/>
                      </a:lnTo>
                      <a:lnTo>
                        <a:pt x="43" y="23"/>
                      </a:lnTo>
                      <a:lnTo>
                        <a:pt x="45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6" y="15"/>
                      </a:lnTo>
                      <a:lnTo>
                        <a:pt x="45" y="13"/>
                      </a:lnTo>
                      <a:lnTo>
                        <a:pt x="43" y="13"/>
                      </a:lnTo>
                      <a:lnTo>
                        <a:pt x="38" y="1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5689440" y="544212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42" y="20"/>
                      </a:ln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8"/>
                      </a:lnTo>
                      <a:lnTo>
                        <a:pt x="49" y="16"/>
                      </a:lnTo>
                      <a:lnTo>
                        <a:pt x="49" y="15"/>
                      </a:lnTo>
                      <a:lnTo>
                        <a:pt x="47" y="13"/>
                      </a:lnTo>
                      <a:lnTo>
                        <a:pt x="45" y="11"/>
                      </a:lnTo>
                      <a:lnTo>
                        <a:pt x="44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5743440" y="5456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28" y="17"/>
                      </a:lnTo>
                      <a:lnTo>
                        <a:pt x="43" y="20"/>
                      </a:lnTo>
                      <a:lnTo>
                        <a:pt x="45" y="20"/>
                      </a:lnTo>
                      <a:lnTo>
                        <a:pt x="47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7" y="12"/>
                      </a:lnTo>
                      <a:lnTo>
                        <a:pt x="45" y="10"/>
                      </a:lnTo>
                      <a:lnTo>
                        <a:pt x="3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5797440" y="54705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9"/>
                      </a:lnTo>
                      <a:lnTo>
                        <a:pt x="49" y="17"/>
                      </a:lnTo>
                      <a:lnTo>
                        <a:pt x="49" y="15"/>
                      </a:lnTo>
                      <a:lnTo>
                        <a:pt x="49" y="14"/>
                      </a:lnTo>
                      <a:lnTo>
                        <a:pt x="49" y="12"/>
                      </a:lnTo>
                      <a:lnTo>
                        <a:pt x="47" y="10"/>
                      </a:lnTo>
                      <a:lnTo>
                        <a:pt x="45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5851440" y="548496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8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18" y="13"/>
                      </a:lnTo>
                      <a:lnTo>
                        <a:pt x="43" y="18"/>
                      </a:lnTo>
                      <a:lnTo>
                        <a:pt x="45" y="18"/>
                      </a:lnTo>
                      <a:lnTo>
                        <a:pt x="46" y="18"/>
                      </a:lnTo>
                      <a:lnTo>
                        <a:pt x="48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8" y="12"/>
                      </a:lnTo>
                      <a:lnTo>
                        <a:pt x="46" y="10"/>
                      </a:lnTo>
                      <a:lnTo>
                        <a:pt x="45" y="8"/>
                      </a:lnTo>
                      <a:lnTo>
                        <a:pt x="20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5905440" y="549612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8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43" y="18"/>
                      </a:lnTo>
                      <a:lnTo>
                        <a:pt x="45" y="18"/>
                      </a:lnTo>
                      <a:lnTo>
                        <a:pt x="47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8" y="12"/>
                      </a:lnTo>
                      <a:lnTo>
                        <a:pt x="48" y="10"/>
                      </a:lnTo>
                      <a:lnTo>
                        <a:pt x="47" y="8"/>
                      </a:lnTo>
                      <a:lnTo>
                        <a:pt x="45" y="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5959440" y="5506920"/>
                  <a:ext cx="38160" cy="12960"/>
                </a:xfrm>
                <a:custGeom>
                  <a:avLst/>
                  <a:gdLst/>
                  <a:ahLst/>
                  <a:rect l="l" t="t" r="r" b="b"/>
                  <a:pathLst>
                    <a:path w="49" h="17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12" y="12"/>
                      </a:lnTo>
                      <a:lnTo>
                        <a:pt x="44" y="17"/>
                      </a:lnTo>
                      <a:lnTo>
                        <a:pt x="45" y="17"/>
                      </a:lnTo>
                      <a:lnTo>
                        <a:pt x="47" y="17"/>
                      </a:lnTo>
                      <a:lnTo>
                        <a:pt x="49" y="15"/>
                      </a:lnTo>
                      <a:lnTo>
                        <a:pt x="49" y="14"/>
                      </a:lnTo>
                      <a:lnTo>
                        <a:pt x="49" y="12"/>
                      </a:lnTo>
                      <a:lnTo>
                        <a:pt x="49" y="10"/>
                      </a:lnTo>
                      <a:lnTo>
                        <a:pt x="47" y="9"/>
                      </a:lnTo>
                      <a:lnTo>
                        <a:pt x="45" y="7"/>
                      </a:lnTo>
                      <a:lnTo>
                        <a:pt x="14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6013440" y="551664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7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43" y="17"/>
                      </a:lnTo>
                      <a:lnTo>
                        <a:pt x="45" y="17"/>
                      </a:lnTo>
                      <a:lnTo>
                        <a:pt x="46" y="17"/>
                      </a:lnTo>
                      <a:lnTo>
                        <a:pt x="48" y="15"/>
                      </a:lnTo>
                      <a:lnTo>
                        <a:pt x="50" y="13"/>
                      </a:lnTo>
                      <a:lnTo>
                        <a:pt x="50" y="12"/>
                      </a:lnTo>
                      <a:lnTo>
                        <a:pt x="48" y="10"/>
                      </a:lnTo>
                      <a:lnTo>
                        <a:pt x="46" y="8"/>
                      </a:lnTo>
                      <a:lnTo>
                        <a:pt x="45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6068880" y="5524560"/>
                  <a:ext cx="39960" cy="14400"/>
                </a:xfrm>
                <a:custGeom>
                  <a:avLst/>
                  <a:gdLst/>
                  <a:ahLst/>
                  <a:rect l="l" t="t" r="r" b="b"/>
                  <a:pathLst>
                    <a:path w="48" h="16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6" y="11"/>
                      </a:lnTo>
                      <a:lnTo>
                        <a:pt x="43" y="16"/>
                      </a:lnTo>
                      <a:lnTo>
                        <a:pt x="45" y="16"/>
                      </a:lnTo>
                      <a:lnTo>
                        <a:pt x="46" y="15"/>
                      </a:lnTo>
                      <a:lnTo>
                        <a:pt x="48" y="13"/>
                      </a:lnTo>
                      <a:lnTo>
                        <a:pt x="48" y="11"/>
                      </a:lnTo>
                      <a:lnTo>
                        <a:pt x="48" y="10"/>
                      </a:lnTo>
                      <a:lnTo>
                        <a:pt x="48" y="8"/>
                      </a:lnTo>
                      <a:lnTo>
                        <a:pt x="46" y="6"/>
                      </a:lnTo>
                      <a:lnTo>
                        <a:pt x="45" y="6"/>
                      </a:lnTo>
                      <a:lnTo>
                        <a:pt x="8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6124680" y="553248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45" y="15"/>
                      </a:lnTo>
                      <a:lnTo>
                        <a:pt x="47" y="15"/>
                      </a:lnTo>
                      <a:lnTo>
                        <a:pt x="48" y="15"/>
                      </a:lnTo>
                      <a:lnTo>
                        <a:pt x="50" y="13"/>
                      </a:lnTo>
                      <a:lnTo>
                        <a:pt x="50" y="11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6"/>
                      </a:lnTo>
                      <a:lnTo>
                        <a:pt x="47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6180120" y="554040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5"/>
                      </a:lnTo>
                      <a:lnTo>
                        <a:pt x="45" y="15"/>
                      </a:lnTo>
                      <a:lnTo>
                        <a:pt x="47" y="13"/>
                      </a:lnTo>
                      <a:lnTo>
                        <a:pt x="48" y="12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7"/>
                      </a:lnTo>
                      <a:lnTo>
                        <a:pt x="47" y="5"/>
                      </a:lnTo>
                      <a:lnTo>
                        <a:pt x="45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6235560" y="5545080"/>
                  <a:ext cx="39960" cy="1116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3"/>
                      </a:lnTo>
                      <a:lnTo>
                        <a:pt x="45" y="13"/>
                      </a:lnTo>
                      <a:lnTo>
                        <a:pt x="47" y="13"/>
                      </a:lnTo>
                      <a:lnTo>
                        <a:pt x="48" y="11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6"/>
                      </a:lnTo>
                      <a:lnTo>
                        <a:pt x="47" y="5"/>
                      </a:lnTo>
                      <a:lnTo>
                        <a:pt x="4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6291360" y="555012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2"/>
                      </a:lnTo>
                      <a:lnTo>
                        <a:pt x="45" y="12"/>
                      </a:lnTo>
                      <a:lnTo>
                        <a:pt x="47" y="12"/>
                      </a:lnTo>
                      <a:lnTo>
                        <a:pt x="48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48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6346800" y="5553000"/>
                  <a:ext cx="38160" cy="11160"/>
                </a:xfrm>
                <a:custGeom>
                  <a:avLst/>
                  <a:gdLst/>
                  <a:ahLst/>
                  <a:rect l="l" t="t" r="r" b="b"/>
                  <a:pathLst>
                    <a:path w="48" h="1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3"/>
                      </a:lnTo>
                      <a:lnTo>
                        <a:pt x="45" y="13"/>
                      </a:lnTo>
                      <a:lnTo>
                        <a:pt x="47" y="11"/>
                      </a:lnTo>
                      <a:lnTo>
                        <a:pt x="48" y="10"/>
                      </a:lnTo>
                      <a:lnTo>
                        <a:pt x="48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6400800" y="55562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6456240" y="5556240"/>
                  <a:ext cx="39960" cy="9720"/>
                </a:xfrm>
                <a:custGeom>
                  <a:avLst/>
                  <a:gdLst/>
                  <a:ahLst/>
                  <a:rect l="l" t="t" r="r" b="b"/>
                  <a:pathLst>
                    <a:path w="50" h="11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5" y="11"/>
                      </a:lnTo>
                      <a:lnTo>
                        <a:pt x="47" y="11"/>
                      </a:lnTo>
                      <a:lnTo>
                        <a:pt x="49" y="10"/>
                      </a:lnTo>
                      <a:lnTo>
                        <a:pt x="50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9" y="1"/>
                      </a:lnTo>
                      <a:lnTo>
                        <a:pt x="47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6512040" y="55580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5" y="0"/>
                      </a:move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lnTo>
                        <a:pt x="49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6567480" y="55562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5" y="0"/>
                      </a:move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6622920" y="5554800"/>
                  <a:ext cx="3996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2"/>
                      </a:move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lnTo>
                        <a:pt x="49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6678720" y="555156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2"/>
                      </a:move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6734160" y="5548320"/>
                  <a:ext cx="39600" cy="972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5" y="3"/>
                      </a:move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3"/>
                      </a:lnTo>
                      <a:lnTo>
                        <a:pt x="7" y="13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6789600" y="5541840"/>
                  <a:ext cx="39960" cy="11160"/>
                </a:xfrm>
                <a:custGeom>
                  <a:avLst/>
                  <a:gdLst/>
                  <a:ahLst/>
                  <a:rect l="l" t="t" r="r" b="b"/>
                  <a:pathLst>
                    <a:path w="50" h="14">
                      <a:moveTo>
                        <a:pt x="5" y="4"/>
                      </a:move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4"/>
                      </a:lnTo>
                      <a:lnTo>
                        <a:pt x="7" y="14"/>
                      </a:lnTo>
                      <a:lnTo>
                        <a:pt x="47" y="10"/>
                      </a:lnTo>
                      <a:lnTo>
                        <a:pt x="49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6845400" y="553572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" y="5"/>
                      </a:move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2" y="13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9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6900840" y="552780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9" h="15">
                      <a:moveTo>
                        <a:pt x="4" y="5"/>
                      </a:move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6954840" y="551988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7">
                      <a:moveTo>
                        <a:pt x="5" y="7"/>
                      </a:moveTo>
                      <a:lnTo>
                        <a:pt x="3" y="7"/>
                      </a:lnTo>
                      <a:lnTo>
                        <a:pt x="1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1" y="13"/>
                      </a:lnTo>
                      <a:lnTo>
                        <a:pt x="3" y="15"/>
                      </a:lnTo>
                      <a:lnTo>
                        <a:pt x="5" y="17"/>
                      </a:lnTo>
                      <a:lnTo>
                        <a:pt x="6" y="17"/>
                      </a:ln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7010280" y="5510160"/>
                  <a:ext cx="38160" cy="14400"/>
                </a:xfrm>
                <a:custGeom>
                  <a:avLst/>
                  <a:gdLst/>
                  <a:ahLst/>
                  <a:rect l="l" t="t" r="r" b="b"/>
                  <a:pathLst>
                    <a:path w="48" h="17">
                      <a:moveTo>
                        <a:pt x="3" y="7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3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lnTo>
                        <a:pt x="46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7064280" y="550080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8" h="17">
                      <a:moveTo>
                        <a:pt x="3" y="7"/>
                      </a:move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7118280" y="5488200"/>
                  <a:ext cx="39600" cy="14040"/>
                </a:xfrm>
                <a:custGeom>
                  <a:avLst/>
                  <a:gdLst/>
                  <a:ahLst/>
                  <a:rect l="l" t="t" r="r" b="b"/>
                  <a:pathLst>
                    <a:path w="50" h="18">
                      <a:moveTo>
                        <a:pt x="5" y="8"/>
                      </a:move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7"/>
                      </a:lnTo>
                      <a:lnTo>
                        <a:pt x="5" y="18"/>
                      </a:lnTo>
                      <a:lnTo>
                        <a:pt x="7" y="18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7172280" y="547524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5" y="10"/>
                      </a:move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7"/>
                      </a:lnTo>
                      <a:lnTo>
                        <a:pt x="3" y="19"/>
                      </a:lnTo>
                      <a:lnTo>
                        <a:pt x="5" y="20"/>
                      </a:lnTo>
                      <a:lnTo>
                        <a:pt x="6" y="20"/>
                      </a:lnTo>
                      <a:lnTo>
                        <a:pt x="45" y="10"/>
                      </a:lnTo>
                      <a:lnTo>
                        <a:pt x="46" y="10"/>
                      </a:lnTo>
                      <a:lnTo>
                        <a:pt x="48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6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7227720" y="546120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3" y="10"/>
                      </a:moveTo>
                      <a:lnTo>
                        <a:pt x="2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2" y="18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43" y="10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8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8" y="3"/>
                      </a:lnTo>
                      <a:lnTo>
                        <a:pt x="47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7280280" y="5445000"/>
                  <a:ext cx="39600" cy="17640"/>
                </a:xfrm>
                <a:custGeom>
                  <a:avLst/>
                  <a:gdLst/>
                  <a:ahLst/>
                  <a:rect l="l" t="t" r="r" b="b"/>
                  <a:pathLst>
                    <a:path w="50" h="21">
                      <a:moveTo>
                        <a:pt x="5" y="11"/>
                      </a:moveTo>
                      <a:lnTo>
                        <a:pt x="3" y="13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20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6" y="21"/>
                      </a:lnTo>
                      <a:lnTo>
                        <a:pt x="45" y="10"/>
                      </a:lnTo>
                      <a:lnTo>
                        <a:pt x="46" y="10"/>
                      </a:ln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8" y="3"/>
                      </a:lnTo>
                      <a:lnTo>
                        <a:pt x="46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7334280" y="54309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3" y="10"/>
                      </a:move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2" y="20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32" y="14"/>
                      </a:lnTo>
                      <a:lnTo>
                        <a:pt x="43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0" y="4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7386480" y="5413320"/>
                  <a:ext cx="39960" cy="1764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3" y="13"/>
                      </a:move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2"/>
                      </a:lnTo>
                      <a:lnTo>
                        <a:pt x="3" y="23"/>
                      </a:lnTo>
                      <a:lnTo>
                        <a:pt x="5" y="23"/>
                      </a:lnTo>
                      <a:lnTo>
                        <a:pt x="43" y="10"/>
                      </a:ln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6" y="3"/>
                      </a:lnTo>
                      <a:lnTo>
                        <a:pt x="45" y="2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7440480" y="539604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47" h="24">
                      <a:moveTo>
                        <a:pt x="4" y="14"/>
                      </a:moveTo>
                      <a:lnTo>
                        <a:pt x="2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20" y="19"/>
                      </a:lnTo>
                      <a:lnTo>
                        <a:pt x="44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19" y="9"/>
                      </a:lnTo>
                      <a:lnTo>
                        <a:pt x="4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7491240" y="537516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4">
                      <a:moveTo>
                        <a:pt x="5" y="14"/>
                      </a:move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7" y="24"/>
                      </a:lnTo>
                      <a:lnTo>
                        <a:pt x="44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7545240" y="535464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3" y="16"/>
                      </a:moveTo>
                      <a:lnTo>
                        <a:pt x="2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7" y="25"/>
                      </a:lnTo>
                      <a:lnTo>
                        <a:pt x="42" y="10"/>
                      </a:lnTo>
                      <a:lnTo>
                        <a:pt x="43" y="10"/>
                      </a:lnTo>
                      <a:lnTo>
                        <a:pt x="45" y="8"/>
                      </a:lnTo>
                      <a:lnTo>
                        <a:pt x="47" y="6"/>
                      </a:lnTo>
                      <a:lnTo>
                        <a:pt x="47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5" y="15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7594560" y="53341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5" y="15"/>
                      </a:moveTo>
                      <a:lnTo>
                        <a:pt x="4" y="17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2" y="23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7" y="25"/>
                      </a:lnTo>
                      <a:lnTo>
                        <a:pt x="44" y="10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7647120" y="5310360"/>
                  <a:ext cx="36360" cy="2196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4" y="16"/>
                      </a:moveTo>
                      <a:lnTo>
                        <a:pt x="2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4" y="26"/>
                      </a:lnTo>
                      <a:lnTo>
                        <a:pt x="5" y="26"/>
                      </a:lnTo>
                      <a:lnTo>
                        <a:pt x="42" y="10"/>
                      </a:lnTo>
                      <a:lnTo>
                        <a:pt x="44" y="8"/>
                      </a:lnTo>
                      <a:lnTo>
                        <a:pt x="45" y="6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1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7696080" y="5286600"/>
                  <a:ext cx="38160" cy="21960"/>
                </a:xfrm>
                <a:custGeom>
                  <a:avLst/>
                  <a:gdLst/>
                  <a:ahLst/>
                  <a:rect l="l" t="t" r="r" b="b"/>
                  <a:pathLst>
                    <a:path w="46" h="26">
                      <a:moveTo>
                        <a:pt x="3" y="16"/>
                      </a:moveTo>
                      <a:lnTo>
                        <a:pt x="1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6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40" y="10"/>
                      </a:lnTo>
                      <a:lnTo>
                        <a:pt x="41" y="10"/>
                      </a:ln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6" y="5"/>
                      </a:lnTo>
                      <a:lnTo>
                        <a:pt x="46" y="3"/>
                      </a:lnTo>
                      <a:lnTo>
                        <a:pt x="45" y="1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40" y="5"/>
                      </a:lnTo>
                      <a:lnTo>
                        <a:pt x="38" y="0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7746840" y="5261040"/>
                  <a:ext cx="367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2" y="20"/>
                      </a:move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7" y="29"/>
                      </a:lnTo>
                      <a:lnTo>
                        <a:pt x="42" y="10"/>
                      </a:lnTo>
                      <a:lnTo>
                        <a:pt x="43" y="9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3" y="4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7" y="2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7796160" y="5235480"/>
                  <a:ext cx="34920" cy="2232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1" y="20"/>
                      </a:move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1" y="28"/>
                      </a:lnTo>
                      <a:lnTo>
                        <a:pt x="3" y="28"/>
                      </a:lnTo>
                      <a:lnTo>
                        <a:pt x="5" y="28"/>
                      </a:lnTo>
                      <a:lnTo>
                        <a:pt x="6" y="28"/>
                      </a:lnTo>
                      <a:lnTo>
                        <a:pt x="25" y="18"/>
                      </a:lnTo>
                      <a:lnTo>
                        <a:pt x="41" y="8"/>
                      </a:lnTo>
                      <a:lnTo>
                        <a:pt x="43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20" y="10"/>
                      </a:lnTo>
                      <a:lnTo>
                        <a:pt x="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7845480" y="5207040"/>
                  <a:ext cx="33120" cy="23760"/>
                </a:xfrm>
                <a:custGeom>
                  <a:avLst/>
                  <a:gdLst/>
                  <a:ahLst/>
                  <a:rect l="l" t="t" r="r" b="b"/>
                  <a:pathLst>
                    <a:path w="44" h="30">
                      <a:moveTo>
                        <a:pt x="2" y="20"/>
                      </a:move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2" y="28"/>
                      </a:lnTo>
                      <a:lnTo>
                        <a:pt x="4" y="30"/>
                      </a:lnTo>
                      <a:lnTo>
                        <a:pt x="5" y="30"/>
                      </a:lnTo>
                      <a:lnTo>
                        <a:pt x="7" y="28"/>
                      </a:lnTo>
                      <a:lnTo>
                        <a:pt x="42" y="8"/>
                      </a:lnTo>
                      <a:lnTo>
                        <a:pt x="44" y="6"/>
                      </a:lnTo>
                      <a:lnTo>
                        <a:pt x="44" y="5"/>
                      </a:lnTo>
                      <a:lnTo>
                        <a:pt x="44" y="3"/>
                      </a:lnTo>
                      <a:lnTo>
                        <a:pt x="44" y="1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7893000" y="5178600"/>
                  <a:ext cx="33480" cy="252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2" y="22"/>
                      </a:move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2" y="30"/>
                      </a:lnTo>
                      <a:lnTo>
                        <a:pt x="4" y="32"/>
                      </a:lnTo>
                      <a:lnTo>
                        <a:pt x="5" y="32"/>
                      </a:lnTo>
                      <a:lnTo>
                        <a:pt x="7" y="30"/>
                      </a:lnTo>
                      <a:lnTo>
                        <a:pt x="42" y="8"/>
                      </a:lnTo>
                      <a:lnTo>
                        <a:pt x="44" y="7"/>
                      </a:lnTo>
                      <a:lnTo>
                        <a:pt x="44" y="5"/>
                      </a:lnTo>
                      <a:lnTo>
                        <a:pt x="44" y="3"/>
                      </a:lnTo>
                      <a:lnTo>
                        <a:pt x="44" y="2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2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7939080" y="5148360"/>
                  <a:ext cx="34920" cy="25200"/>
                </a:xfrm>
                <a:custGeom>
                  <a:avLst/>
                  <a:gdLst/>
                  <a:ahLst/>
                  <a:rect l="l" t="t" r="r" b="b"/>
                  <a:pathLst>
                    <a:path w="45" h="31">
                      <a:moveTo>
                        <a:pt x="3" y="23"/>
                      </a:moveTo>
                      <a:lnTo>
                        <a:pt x="1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3" y="31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8" y="31"/>
                      </a:lnTo>
                      <a:lnTo>
                        <a:pt x="41" y="10"/>
                      </a:ln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3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3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7986600" y="5118120"/>
                  <a:ext cx="33480" cy="25560"/>
                </a:xfrm>
                <a:custGeom>
                  <a:avLst/>
                  <a:gdLst/>
                  <a:ahLst/>
                  <a:rect l="l" t="t" r="r" b="b"/>
                  <a:pathLst>
                    <a:path w="41" h="32">
                      <a:moveTo>
                        <a:pt x="1" y="24"/>
                      </a:move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0" y="30"/>
                      </a:lnTo>
                      <a:lnTo>
                        <a:pt x="1" y="32"/>
                      </a:lnTo>
                      <a:lnTo>
                        <a:pt x="3" y="32"/>
                      </a:lnTo>
                      <a:lnTo>
                        <a:pt x="5" y="32"/>
                      </a:lnTo>
                      <a:lnTo>
                        <a:pt x="6" y="32"/>
                      </a:lnTo>
                      <a:lnTo>
                        <a:pt x="40" y="9"/>
                      </a:lnTo>
                      <a:lnTo>
                        <a:pt x="41" y="7"/>
                      </a:lnTo>
                      <a:lnTo>
                        <a:pt x="41" y="5"/>
                      </a:lnTo>
                      <a:lnTo>
                        <a:pt x="41" y="4"/>
                      </a:lnTo>
                      <a:lnTo>
                        <a:pt x="41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0"/>
                      </a:lnTo>
                      <a:lnTo>
                        <a:pt x="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8031240" y="50846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4" y="25"/>
                      </a:moveTo>
                      <a:lnTo>
                        <a:pt x="2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2" y="31"/>
                      </a:lnTo>
                      <a:lnTo>
                        <a:pt x="4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9" y="33"/>
                      </a:lnTo>
                      <a:lnTo>
                        <a:pt x="27" y="20"/>
                      </a:lnTo>
                      <a:lnTo>
                        <a:pt x="40" y="10"/>
                      </a:lnTo>
                      <a:lnTo>
                        <a:pt x="42" y="8"/>
                      </a:lnTo>
                      <a:lnTo>
                        <a:pt x="42" y="6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0" y="1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1"/>
                      </a:lnTo>
                      <a:lnTo>
                        <a:pt x="22" y="11"/>
                      </a:lnTo>
                      <a:lnTo>
                        <a:pt x="4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8077320" y="505152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2" y="25"/>
                      </a:move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3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38" y="8"/>
                      </a:lnTo>
                      <a:lnTo>
                        <a:pt x="40" y="7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0" y="2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8120160" y="501660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3" y="27"/>
                      </a:move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3" y="35"/>
                      </a:lnTo>
                      <a:lnTo>
                        <a:pt x="5" y="37"/>
                      </a:lnTo>
                      <a:lnTo>
                        <a:pt x="7" y="37"/>
                      </a:lnTo>
                      <a:lnTo>
                        <a:pt x="8" y="35"/>
                      </a:lnTo>
                      <a:lnTo>
                        <a:pt x="38" y="10"/>
                      </a:lnTo>
                      <a:lnTo>
                        <a:pt x="40" y="8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8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2"/>
                      </a:lnTo>
                      <a:lnTo>
                        <a:pt x="3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8163000" y="4979880"/>
                  <a:ext cx="3168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4" y="27"/>
                      </a:move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5" y="37"/>
                      </a:lnTo>
                      <a:lnTo>
                        <a:pt x="7" y="37"/>
                      </a:lnTo>
                      <a:lnTo>
                        <a:pt x="9" y="35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40" y="8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9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4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8204040" y="4942080"/>
                  <a:ext cx="32040" cy="2988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1" y="28"/>
                      </a:moveTo>
                      <a:lnTo>
                        <a:pt x="0" y="30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1" y="36"/>
                      </a:lnTo>
                      <a:lnTo>
                        <a:pt x="3" y="38"/>
                      </a:lnTo>
                      <a:lnTo>
                        <a:pt x="5" y="38"/>
                      </a:lnTo>
                      <a:lnTo>
                        <a:pt x="6" y="36"/>
                      </a:lnTo>
                      <a:lnTo>
                        <a:pt x="36" y="10"/>
                      </a:lnTo>
                      <a:lnTo>
                        <a:pt x="38" y="8"/>
                      </a:lnTo>
                      <a:lnTo>
                        <a:pt x="38" y="6"/>
                      </a:lnTo>
                      <a:lnTo>
                        <a:pt x="38" y="5"/>
                      </a:lnTo>
                      <a:lnTo>
                        <a:pt x="38" y="3"/>
                      </a:lnTo>
                      <a:lnTo>
                        <a:pt x="36" y="1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1" y="1"/>
                      </a:lnTo>
                      <a:lnTo>
                        <a:pt x="1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8244000" y="4903920"/>
                  <a:ext cx="31680" cy="3024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3" y="30"/>
                      </a:moveTo>
                      <a:lnTo>
                        <a:pt x="1" y="32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1" y="37"/>
                      </a:lnTo>
                      <a:lnTo>
                        <a:pt x="3" y="39"/>
                      </a:lnTo>
                      <a:lnTo>
                        <a:pt x="5" y="39"/>
                      </a:lnTo>
                      <a:lnTo>
                        <a:pt x="6" y="39"/>
                      </a:lnTo>
                      <a:lnTo>
                        <a:pt x="8" y="39"/>
                      </a:lnTo>
                      <a:lnTo>
                        <a:pt x="15" y="32"/>
                      </a:lnTo>
                      <a:lnTo>
                        <a:pt x="16" y="30"/>
                      </a:lnTo>
                      <a:lnTo>
                        <a:pt x="38" y="9"/>
                      </a:lnTo>
                      <a:lnTo>
                        <a:pt x="38" y="7"/>
                      </a:lnTo>
                      <a:lnTo>
                        <a:pt x="38" y="5"/>
                      </a:lnTo>
                      <a:lnTo>
                        <a:pt x="38" y="4"/>
                      </a:lnTo>
                      <a:lnTo>
                        <a:pt x="36" y="2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1" y="2"/>
                      </a:lnTo>
                      <a:lnTo>
                        <a:pt x="30" y="4"/>
                      </a:lnTo>
                      <a:lnTo>
                        <a:pt x="8" y="25"/>
                      </a:lnTo>
                      <a:lnTo>
                        <a:pt x="13" y="27"/>
                      </a:lnTo>
                      <a:lnTo>
                        <a:pt x="10" y="24"/>
                      </a:lnTo>
                      <a:lnTo>
                        <a:pt x="3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8283600" y="4864320"/>
                  <a:ext cx="31680" cy="2988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0" y="32"/>
                      </a:move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1" y="39"/>
                      </a:lnTo>
                      <a:lnTo>
                        <a:pt x="3" y="39"/>
                      </a:lnTo>
                      <a:lnTo>
                        <a:pt x="5" y="39"/>
                      </a:lnTo>
                      <a:lnTo>
                        <a:pt x="6" y="39"/>
                      </a:lnTo>
                      <a:lnTo>
                        <a:pt x="8" y="37"/>
                      </a:lnTo>
                      <a:lnTo>
                        <a:pt x="36" y="9"/>
                      </a:lnTo>
                      <a:lnTo>
                        <a:pt x="38" y="7"/>
                      </a:lnTo>
                      <a:lnTo>
                        <a:pt x="38" y="5"/>
                      </a:lnTo>
                      <a:lnTo>
                        <a:pt x="36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2"/>
                      </a:lnTo>
                      <a:lnTo>
                        <a:pt x="28" y="4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8323200" y="4822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0" y="31"/>
                      </a:move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2" y="38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7" y="38"/>
                      </a:lnTo>
                      <a:lnTo>
                        <a:pt x="8" y="36"/>
                      </a:lnTo>
                      <a:lnTo>
                        <a:pt x="35" y="6"/>
                      </a:lnTo>
                      <a:lnTo>
                        <a:pt x="37" y="5"/>
                      </a:lnTo>
                      <a:lnTo>
                        <a:pt x="37" y="3"/>
                      </a:lnTo>
                      <a:lnTo>
                        <a:pt x="35" y="1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8358120" y="4780080"/>
                  <a:ext cx="2880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2" y="34"/>
                      </a:move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2" y="39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7" y="40"/>
                      </a:lnTo>
                      <a:lnTo>
                        <a:pt x="8" y="40"/>
                      </a:lnTo>
                      <a:lnTo>
                        <a:pt x="10" y="39"/>
                      </a:lnTo>
                      <a:lnTo>
                        <a:pt x="22" y="25"/>
                      </a:lnTo>
                      <a:lnTo>
                        <a:pt x="35" y="7"/>
                      </a:lnTo>
                      <a:lnTo>
                        <a:pt x="37" y="5"/>
                      </a:lnTo>
                      <a:lnTo>
                        <a:pt x="37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2"/>
                      </a:lnTo>
                      <a:lnTo>
                        <a:pt x="13" y="20"/>
                      </a:lnTo>
                      <a:lnTo>
                        <a:pt x="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8394840" y="473724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0" y="34"/>
                      </a:move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2" y="40"/>
                      </a:lnTo>
                      <a:lnTo>
                        <a:pt x="3" y="42"/>
                      </a:lnTo>
                      <a:lnTo>
                        <a:pt x="5" y="42"/>
                      </a:lnTo>
                      <a:lnTo>
                        <a:pt x="7" y="40"/>
                      </a:lnTo>
                      <a:lnTo>
                        <a:pt x="8" y="39"/>
                      </a:lnTo>
                      <a:lnTo>
                        <a:pt x="33" y="7"/>
                      </a:lnTo>
                      <a:lnTo>
                        <a:pt x="35" y="5"/>
                      </a:lnTo>
                      <a:lnTo>
                        <a:pt x="35" y="4"/>
                      </a:lnTo>
                      <a:lnTo>
                        <a:pt x="33" y="2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8426520" y="469116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3" h="41">
                      <a:moveTo>
                        <a:pt x="1" y="35"/>
                      </a:moveTo>
                      <a:lnTo>
                        <a:pt x="0" y="36"/>
                      </a:lnTo>
                      <a:lnTo>
                        <a:pt x="0" y="38"/>
                      </a:lnTo>
                      <a:lnTo>
                        <a:pt x="1" y="40"/>
                      </a:lnTo>
                      <a:lnTo>
                        <a:pt x="3" y="41"/>
                      </a:lnTo>
                      <a:lnTo>
                        <a:pt x="5" y="41"/>
                      </a:lnTo>
                      <a:lnTo>
                        <a:pt x="6" y="41"/>
                      </a:lnTo>
                      <a:lnTo>
                        <a:pt x="8" y="41"/>
                      </a:lnTo>
                      <a:lnTo>
                        <a:pt x="10" y="40"/>
                      </a:lnTo>
                      <a:lnTo>
                        <a:pt x="33" y="6"/>
                      </a:lnTo>
                      <a:lnTo>
                        <a:pt x="33" y="5"/>
                      </a:lnTo>
                      <a:lnTo>
                        <a:pt x="33" y="3"/>
                      </a:lnTo>
                      <a:lnTo>
                        <a:pt x="33" y="1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6" y="0"/>
                      </a:lnTo>
                      <a:lnTo>
                        <a:pt x="25" y="1"/>
                      </a:lnTo>
                      <a:lnTo>
                        <a:pt x="1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8459640" y="4645080"/>
                  <a:ext cx="2556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0" y="35"/>
                      </a:move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4" y="44"/>
                      </a:lnTo>
                      <a:lnTo>
                        <a:pt x="5" y="44"/>
                      </a:lnTo>
                      <a:lnTo>
                        <a:pt x="7" y="42"/>
                      </a:lnTo>
                      <a:lnTo>
                        <a:pt x="9" y="40"/>
                      </a:lnTo>
                      <a:lnTo>
                        <a:pt x="20" y="25"/>
                      </a:lnTo>
                      <a:lnTo>
                        <a:pt x="30" y="7"/>
                      </a:lnTo>
                      <a:lnTo>
                        <a:pt x="32" y="5"/>
                      </a:lnTo>
                      <a:lnTo>
                        <a:pt x="32" y="4"/>
                      </a:lnTo>
                      <a:lnTo>
                        <a:pt x="30" y="2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2"/>
                      </a:lnTo>
                      <a:lnTo>
                        <a:pt x="12" y="20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8489880" y="4597560"/>
                  <a:ext cx="23760" cy="36360"/>
                </a:xfrm>
                <a:custGeom>
                  <a:avLst/>
                  <a:gdLst/>
                  <a:ahLst/>
                  <a:rect l="l" t="t" r="r" b="b"/>
                  <a:pathLst>
                    <a:path w="32" h="45">
                      <a:moveTo>
                        <a:pt x="2" y="37"/>
                      </a:move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3" y="44"/>
                      </a:lnTo>
                      <a:lnTo>
                        <a:pt x="5" y="45"/>
                      </a:lnTo>
                      <a:lnTo>
                        <a:pt x="7" y="45"/>
                      </a:lnTo>
                      <a:lnTo>
                        <a:pt x="8" y="44"/>
                      </a:lnTo>
                      <a:lnTo>
                        <a:pt x="10" y="42"/>
                      </a:lnTo>
                      <a:lnTo>
                        <a:pt x="30" y="9"/>
                      </a:lnTo>
                      <a:lnTo>
                        <a:pt x="32" y="7"/>
                      </a:lnTo>
                      <a:lnTo>
                        <a:pt x="32" y="5"/>
                      </a:lnTo>
                      <a:lnTo>
                        <a:pt x="30" y="4"/>
                      </a:lnTo>
                      <a:lnTo>
                        <a:pt x="28" y="2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3" y="2"/>
                      </a:lnTo>
                      <a:lnTo>
                        <a:pt x="22" y="4"/>
                      </a:lnTo>
                      <a:lnTo>
                        <a:pt x="2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8518680" y="4548240"/>
                  <a:ext cx="21960" cy="38160"/>
                </a:xfrm>
                <a:custGeom>
                  <a:avLst/>
                  <a:gdLst/>
                  <a:ahLst/>
                  <a:rect l="l" t="t" r="r" b="b"/>
                  <a:pathLst>
                    <a:path w="28" h="46">
                      <a:moveTo>
                        <a:pt x="0" y="38"/>
                      </a:move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1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28" y="8"/>
                      </a:lnTo>
                      <a:lnTo>
                        <a:pt x="28" y="6"/>
                      </a:lnTo>
                      <a:lnTo>
                        <a:pt x="28" y="5"/>
                      </a:lnTo>
                      <a:lnTo>
                        <a:pt x="28" y="3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1" y="1"/>
                      </a:lnTo>
                      <a:lnTo>
                        <a:pt x="20" y="3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8545320" y="4500720"/>
                  <a:ext cx="20880" cy="3636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0" y="38"/>
                      </a:move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3" y="47"/>
                      </a:lnTo>
                      <a:lnTo>
                        <a:pt x="5" y="47"/>
                      </a:lnTo>
                      <a:lnTo>
                        <a:pt x="7" y="45"/>
                      </a:lnTo>
                      <a:lnTo>
                        <a:pt x="8" y="43"/>
                      </a:lnTo>
                      <a:lnTo>
                        <a:pt x="17" y="28"/>
                      </a:lnTo>
                      <a:lnTo>
                        <a:pt x="17" y="27"/>
                      </a:lnTo>
                      <a:lnTo>
                        <a:pt x="27" y="7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5" y="2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0" y="2"/>
                      </a:lnTo>
                      <a:lnTo>
                        <a:pt x="18" y="3"/>
                      </a:lnTo>
                      <a:lnTo>
                        <a:pt x="17" y="5"/>
                      </a:lnTo>
                      <a:lnTo>
                        <a:pt x="7" y="25"/>
                      </a:lnTo>
                      <a:lnTo>
                        <a:pt x="12" y="27"/>
                      </a:lnTo>
                      <a:lnTo>
                        <a:pt x="8" y="23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8569440" y="4449960"/>
                  <a:ext cx="20520" cy="36360"/>
                </a:xfrm>
                <a:custGeom>
                  <a:avLst/>
                  <a:gdLst/>
                  <a:ahLst/>
                  <a:rect l="l" t="t" r="r" b="b"/>
                  <a:pathLst>
                    <a:path w="27" h="46">
                      <a:moveTo>
                        <a:pt x="0" y="40"/>
                      </a:move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7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1"/>
                      </a:lnTo>
                      <a:lnTo>
                        <a:pt x="17" y="3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8591400" y="4397400"/>
                  <a:ext cx="17640" cy="38160"/>
                </a:xfrm>
                <a:custGeom>
                  <a:avLst/>
                  <a:gdLst/>
                  <a:ahLst/>
                  <a:rect l="l" t="t" r="r" b="b"/>
                  <a:pathLst>
                    <a:path w="24" h="46">
                      <a:moveTo>
                        <a:pt x="0" y="41"/>
                      </a:move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2" y="46"/>
                      </a:lnTo>
                      <a:lnTo>
                        <a:pt x="4" y="46"/>
                      </a:lnTo>
                      <a:lnTo>
                        <a:pt x="5" y="46"/>
                      </a:lnTo>
                      <a:lnTo>
                        <a:pt x="7" y="46"/>
                      </a:lnTo>
                      <a:lnTo>
                        <a:pt x="9" y="45"/>
                      </a:lnTo>
                      <a:lnTo>
                        <a:pt x="10" y="43"/>
                      </a:lnTo>
                      <a:lnTo>
                        <a:pt x="24" y="5"/>
                      </a:lnTo>
                      <a:lnTo>
                        <a:pt x="24" y="3"/>
                      </a:lnTo>
                      <a:lnTo>
                        <a:pt x="24" y="1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4" y="3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8610480" y="4345200"/>
                  <a:ext cx="19080" cy="3780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0" y="43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9" y="48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4" y="35"/>
                      </a:lnTo>
                      <a:lnTo>
                        <a:pt x="24" y="7"/>
                      </a:lnTo>
                      <a:lnTo>
                        <a:pt x="24" y="5"/>
                      </a:lnTo>
                      <a:lnTo>
                        <a:pt x="22" y="3"/>
                      </a:lnTo>
                      <a:lnTo>
                        <a:pt x="20" y="2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5" y="2"/>
                      </a:lnTo>
                      <a:lnTo>
                        <a:pt x="14" y="3"/>
                      </a:lnTo>
                      <a:lnTo>
                        <a:pt x="14" y="5"/>
                      </a:lnTo>
                      <a:lnTo>
                        <a:pt x="4" y="33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8628120" y="429264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2" h="49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3" y="49"/>
                      </a:lnTo>
                      <a:lnTo>
                        <a:pt x="5" y="49"/>
                      </a:lnTo>
                      <a:lnTo>
                        <a:pt x="7" y="49"/>
                      </a:lnTo>
                      <a:lnTo>
                        <a:pt x="8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22" y="7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20" y="2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2"/>
                      </a:lnTo>
                      <a:lnTo>
                        <a:pt x="13" y="4"/>
                      </a:lnTo>
                      <a:lnTo>
                        <a:pt x="12" y="5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8643960" y="4238640"/>
                  <a:ext cx="15840" cy="39600"/>
                </a:xfrm>
                <a:custGeom>
                  <a:avLst/>
                  <a:gdLst/>
                  <a:ahLst/>
                  <a:rect l="l" t="t" r="r" b="b"/>
                  <a:pathLst>
                    <a:path w="20" h="48">
                      <a:moveTo>
                        <a:pt x="0" y="41"/>
                      </a:move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2" y="46"/>
                      </a:lnTo>
                      <a:lnTo>
                        <a:pt x="3" y="48"/>
                      </a:lnTo>
                      <a:lnTo>
                        <a:pt x="5" y="48"/>
                      </a:lnTo>
                      <a:lnTo>
                        <a:pt x="7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5" y="21"/>
                      </a:lnTo>
                      <a:lnTo>
                        <a:pt x="20" y="5"/>
                      </a:lnTo>
                      <a:lnTo>
                        <a:pt x="20" y="3"/>
                      </a:lnTo>
                      <a:lnTo>
                        <a:pt x="18" y="1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0" y="1"/>
                      </a:lnTo>
                      <a:lnTo>
                        <a:pt x="10" y="3"/>
                      </a:lnTo>
                      <a:lnTo>
                        <a:pt x="5" y="20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8656560" y="418464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6" h="49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1" y="49"/>
                      </a:lnTo>
                      <a:lnTo>
                        <a:pt x="3" y="49"/>
                      </a:lnTo>
                      <a:lnTo>
                        <a:pt x="5" y="49"/>
                      </a:lnTo>
                      <a:lnTo>
                        <a:pt x="6" y="49"/>
                      </a:lnTo>
                      <a:lnTo>
                        <a:pt x="8" y="47"/>
                      </a:lnTo>
                      <a:lnTo>
                        <a:pt x="10" y="45"/>
                      </a:lnTo>
                      <a:lnTo>
                        <a:pt x="10" y="40"/>
                      </a:lnTo>
                      <a:lnTo>
                        <a:pt x="16" y="5"/>
                      </a:lnTo>
                      <a:lnTo>
                        <a:pt x="16" y="4"/>
                      </a:lnTo>
                      <a:lnTo>
                        <a:pt x="16" y="2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2"/>
                      </a:lnTo>
                      <a:lnTo>
                        <a:pt x="6" y="4"/>
                      </a:lnTo>
                      <a:lnTo>
                        <a:pt x="0" y="39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8666280" y="4129200"/>
                  <a:ext cx="14040" cy="39600"/>
                </a:xfrm>
                <a:custGeom>
                  <a:avLst/>
                  <a:gdLst/>
                  <a:ahLst/>
                  <a:rect l="l" t="t" r="r" b="b"/>
                  <a:pathLst>
                    <a:path w="17" h="50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9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7" y="10"/>
                      </a:lnTo>
                      <a:lnTo>
                        <a:pt x="17" y="7"/>
                      </a:lnTo>
                      <a:lnTo>
                        <a:pt x="17" y="5"/>
                      </a:lnTo>
                      <a:lnTo>
                        <a:pt x="15" y="4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9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8674200" y="4073400"/>
                  <a:ext cx="11160" cy="39960"/>
                </a:xfrm>
                <a:custGeom>
                  <a:avLst/>
                  <a:gdLst/>
                  <a:ahLst/>
                  <a:rect l="l" t="t" r="r" b="b"/>
                  <a:pathLst>
                    <a:path w="14" h="50">
                      <a:moveTo>
                        <a:pt x="0" y="45"/>
                      </a:moveTo>
                      <a:lnTo>
                        <a:pt x="0" y="47"/>
                      </a:lnTo>
                      <a:lnTo>
                        <a:pt x="2" y="49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50"/>
                      </a:lnTo>
                      <a:lnTo>
                        <a:pt x="10" y="49"/>
                      </a:lnTo>
                      <a:lnTo>
                        <a:pt x="10" y="47"/>
                      </a:lnTo>
                      <a:lnTo>
                        <a:pt x="12" y="30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2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2" y="29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8680320" y="401796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2" h="50">
                      <a:moveTo>
                        <a:pt x="0" y="45"/>
                      </a:moveTo>
                      <a:lnTo>
                        <a:pt x="0" y="47"/>
                      </a:lnTo>
                      <a:lnTo>
                        <a:pt x="2" y="49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50"/>
                      </a:lnTo>
                      <a:lnTo>
                        <a:pt x="10" y="49"/>
                      </a:lnTo>
                      <a:lnTo>
                        <a:pt x="10" y="47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3" y="4"/>
                      </a:lnTo>
                      <a:lnTo>
                        <a:pt x="2" y="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8682120" y="396252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0" y="47"/>
                      </a:moveTo>
                      <a:lnTo>
                        <a:pt x="0" y="49"/>
                      </a:lnTo>
                      <a:lnTo>
                        <a:pt x="2" y="50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0" y="15"/>
                      </a:lnTo>
                      <a:lnTo>
                        <a:pt x="10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17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8680320" y="3906720"/>
                  <a:ext cx="9720" cy="39960"/>
                </a:xfrm>
                <a:custGeom>
                  <a:avLst/>
                  <a:gdLst/>
                  <a:ahLst/>
                  <a:rect l="l" t="t" r="r" b="b"/>
                  <a:pathLst>
                    <a:path w="11" h="50">
                      <a:moveTo>
                        <a:pt x="1" y="47"/>
                      </a:moveTo>
                      <a:lnTo>
                        <a:pt x="1" y="49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49"/>
                      </a:lnTo>
                      <a:lnTo>
                        <a:pt x="11" y="47"/>
                      </a:lnTo>
                      <a:lnTo>
                        <a:pt x="11" y="45"/>
                      </a:lnTo>
                      <a:lnTo>
                        <a:pt x="11" y="34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35"/>
                      </a:lnTo>
                      <a:lnTo>
                        <a:pt x="1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8677080" y="3853080"/>
                  <a:ext cx="11160" cy="39600"/>
                </a:xfrm>
                <a:custGeom>
                  <a:avLst/>
                  <a:gdLst/>
                  <a:ahLst/>
                  <a:rect l="l" t="t" r="r" b="b"/>
                  <a:pathLst>
                    <a:path w="13" h="50">
                      <a:moveTo>
                        <a:pt x="3" y="45"/>
                      </a:moveTo>
                      <a:lnTo>
                        <a:pt x="3" y="47"/>
                      </a:lnTo>
                      <a:lnTo>
                        <a:pt x="5" y="48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48"/>
                      </a:lnTo>
                      <a:lnTo>
                        <a:pt x="11" y="47"/>
                      </a:lnTo>
                      <a:lnTo>
                        <a:pt x="13" y="45"/>
                      </a:lnTo>
                      <a:lnTo>
                        <a:pt x="13" y="43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3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8669160" y="3797280"/>
                  <a:ext cx="11160" cy="3960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5" y="45"/>
                      </a:moveTo>
                      <a:lnTo>
                        <a:pt x="6" y="47"/>
                      </a:lnTo>
                      <a:lnTo>
                        <a:pt x="8" y="48"/>
                      </a:lnTo>
                      <a:lnTo>
                        <a:pt x="10" y="50"/>
                      </a:lnTo>
                      <a:lnTo>
                        <a:pt x="11" y="50"/>
                      </a:lnTo>
                      <a:lnTo>
                        <a:pt x="13" y="48"/>
                      </a:lnTo>
                      <a:lnTo>
                        <a:pt x="15" y="47"/>
                      </a:lnTo>
                      <a:lnTo>
                        <a:pt x="15" y="45"/>
                      </a:lnTo>
                      <a:lnTo>
                        <a:pt x="15" y="43"/>
                      </a:lnTo>
                      <a:lnTo>
                        <a:pt x="13" y="18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3" y="20"/>
                      </a:lnTo>
                      <a:lnTo>
                        <a:pt x="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8659800" y="374328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8" h="48">
                      <a:moveTo>
                        <a:pt x="8" y="45"/>
                      </a:moveTo>
                      <a:lnTo>
                        <a:pt x="8" y="46"/>
                      </a:lnTo>
                      <a:lnTo>
                        <a:pt x="10" y="48"/>
                      </a:lnTo>
                      <a:lnTo>
                        <a:pt x="12" y="48"/>
                      </a:lnTo>
                      <a:lnTo>
                        <a:pt x="13" y="48"/>
                      </a:lnTo>
                      <a:lnTo>
                        <a:pt x="15" y="48"/>
                      </a:lnTo>
                      <a:lnTo>
                        <a:pt x="17" y="46"/>
                      </a:lnTo>
                      <a:lnTo>
                        <a:pt x="18" y="45"/>
                      </a:lnTo>
                      <a:lnTo>
                        <a:pt x="18" y="43"/>
                      </a:lnTo>
                      <a:lnTo>
                        <a:pt x="17" y="36"/>
                      </a:lnTo>
                      <a:lnTo>
                        <a:pt x="10" y="3"/>
                      </a:ln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7" y="38"/>
                      </a:lnTo>
                      <a:lnTo>
                        <a:pt x="8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8648640" y="3689280"/>
                  <a:ext cx="15840" cy="38160"/>
                </a:xfrm>
                <a:custGeom>
                  <a:avLst/>
                  <a:gdLst/>
                  <a:ahLst/>
                  <a:rect l="l" t="t" r="r" b="b"/>
                  <a:pathLst>
                    <a:path w="20" h="49">
                      <a:moveTo>
                        <a:pt x="10" y="44"/>
                      </a:moveTo>
                      <a:lnTo>
                        <a:pt x="10" y="45"/>
                      </a:lnTo>
                      <a:lnTo>
                        <a:pt x="12" y="47"/>
                      </a:lnTo>
                      <a:lnTo>
                        <a:pt x="13" y="49"/>
                      </a:lnTo>
                      <a:lnTo>
                        <a:pt x="15" y="49"/>
                      </a:lnTo>
                      <a:lnTo>
                        <a:pt x="17" y="47"/>
                      </a:lnTo>
                      <a:lnTo>
                        <a:pt x="18" y="45"/>
                      </a:lnTo>
                      <a:lnTo>
                        <a:pt x="20" y="44"/>
                      </a:lnTo>
                      <a:lnTo>
                        <a:pt x="20" y="42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8632800" y="3635280"/>
                  <a:ext cx="17640" cy="38160"/>
                </a:xfrm>
                <a:custGeom>
                  <a:avLst/>
                  <a:gdLst/>
                  <a:ahLst/>
                  <a:rect l="l" t="t" r="r" b="b"/>
                  <a:pathLst>
                    <a:path w="21" h="48">
                      <a:moveTo>
                        <a:pt x="11" y="45"/>
                      </a:moveTo>
                      <a:lnTo>
                        <a:pt x="11" y="47"/>
                      </a:lnTo>
                      <a:lnTo>
                        <a:pt x="13" y="48"/>
                      </a:lnTo>
                      <a:lnTo>
                        <a:pt x="15" y="48"/>
                      </a:lnTo>
                      <a:lnTo>
                        <a:pt x="16" y="48"/>
                      </a:lnTo>
                      <a:lnTo>
                        <a:pt x="18" y="48"/>
                      </a:lnTo>
                      <a:lnTo>
                        <a:pt x="20" y="47"/>
                      </a:lnTo>
                      <a:lnTo>
                        <a:pt x="21" y="45"/>
                      </a:lnTo>
                      <a:lnTo>
                        <a:pt x="21" y="43"/>
                      </a:lnTo>
                      <a:lnTo>
                        <a:pt x="16" y="25"/>
                      </a:lnTo>
                      <a:lnTo>
                        <a:pt x="10" y="5"/>
                      </a:lnTo>
                      <a:lnTo>
                        <a:pt x="8" y="3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6" y="27"/>
                      </a:lnTo>
                      <a:lnTo>
                        <a:pt x="11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8616960" y="358128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3" h="49">
                      <a:moveTo>
                        <a:pt x="13" y="44"/>
                      </a:moveTo>
                      <a:lnTo>
                        <a:pt x="13" y="45"/>
                      </a:lnTo>
                      <a:lnTo>
                        <a:pt x="15" y="47"/>
                      </a:lnTo>
                      <a:lnTo>
                        <a:pt x="17" y="49"/>
                      </a:lnTo>
                      <a:lnTo>
                        <a:pt x="18" y="49"/>
                      </a:lnTo>
                      <a:lnTo>
                        <a:pt x="20" y="47"/>
                      </a:lnTo>
                      <a:lnTo>
                        <a:pt x="22" y="45"/>
                      </a:lnTo>
                      <a:lnTo>
                        <a:pt x="23" y="44"/>
                      </a:lnTo>
                      <a:lnTo>
                        <a:pt x="23" y="42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3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8596440" y="3530520"/>
                  <a:ext cx="20520" cy="3672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15" y="44"/>
                      </a:moveTo>
                      <a:lnTo>
                        <a:pt x="17" y="45"/>
                      </a:lnTo>
                      <a:lnTo>
                        <a:pt x="18" y="47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7"/>
                      </a:lnTo>
                      <a:lnTo>
                        <a:pt x="25" y="45"/>
                      </a:lnTo>
                      <a:lnTo>
                        <a:pt x="25" y="44"/>
                      </a:lnTo>
                      <a:lnTo>
                        <a:pt x="25" y="42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5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8575560" y="3478320"/>
                  <a:ext cx="20880" cy="3816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7" y="42"/>
                      </a:moveTo>
                      <a:lnTo>
                        <a:pt x="17" y="44"/>
                      </a:lnTo>
                      <a:lnTo>
                        <a:pt x="19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4" y="45"/>
                      </a:lnTo>
                      <a:lnTo>
                        <a:pt x="25" y="44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22" y="30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2" y="32"/>
                      </a:lnTo>
                      <a:lnTo>
                        <a:pt x="17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8553600" y="3429000"/>
                  <a:ext cx="20520" cy="3672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7" y="42"/>
                      </a:moveTo>
                      <a:lnTo>
                        <a:pt x="17" y="43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5"/>
                      </a:lnTo>
                      <a:lnTo>
                        <a:pt x="25" y="43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7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8526600" y="3379680"/>
                  <a:ext cx="21960" cy="34920"/>
                </a:xfrm>
                <a:custGeom>
                  <a:avLst/>
                  <a:gdLst/>
                  <a:ahLst/>
                  <a:rect l="l" t="t" r="r" b="b"/>
                  <a:pathLst>
                    <a:path w="28" h="45">
                      <a:moveTo>
                        <a:pt x="20" y="42"/>
                      </a:moveTo>
                      <a:lnTo>
                        <a:pt x="21" y="44"/>
                      </a:ln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6" y="44"/>
                      </a:lnTo>
                      <a:lnTo>
                        <a:pt x="28" y="42"/>
                      </a:lnTo>
                      <a:lnTo>
                        <a:pt x="28" y="40"/>
                      </a:lnTo>
                      <a:lnTo>
                        <a:pt x="28" y="39"/>
                      </a:lnTo>
                      <a:lnTo>
                        <a:pt x="28" y="37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8497800" y="3330720"/>
                  <a:ext cx="23760" cy="34920"/>
                </a:xfrm>
                <a:custGeom>
                  <a:avLst/>
                  <a:gdLst/>
                  <a:ahLst/>
                  <a:rect l="l" t="t" r="r" b="b"/>
                  <a:pathLst>
                    <a:path w="30" h="45">
                      <a:moveTo>
                        <a:pt x="21" y="43"/>
                      </a:move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6" y="45"/>
                      </a:lnTo>
                      <a:lnTo>
                        <a:pt x="28" y="45"/>
                      </a:lnTo>
                      <a:lnTo>
                        <a:pt x="30" y="43"/>
                      </a:lnTo>
                      <a:lnTo>
                        <a:pt x="30" y="41"/>
                      </a:lnTo>
                      <a:lnTo>
                        <a:pt x="30" y="40"/>
                      </a:lnTo>
                      <a:lnTo>
                        <a:pt x="30" y="38"/>
                      </a:lnTo>
                      <a:lnTo>
                        <a:pt x="26" y="30"/>
                      </a:lnTo>
                      <a:lnTo>
                        <a:pt x="8" y="3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8" y="35"/>
                      </a:lnTo>
                      <a:lnTo>
                        <a:pt x="2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8469360" y="3284640"/>
                  <a:ext cx="23760" cy="33120"/>
                </a:xfrm>
                <a:custGeom>
                  <a:avLst/>
                  <a:gdLst/>
                  <a:ahLst/>
                  <a:rect l="l" t="t" r="r" b="b"/>
                  <a:pathLst>
                    <a:path w="30" h="44">
                      <a:moveTo>
                        <a:pt x="22" y="42"/>
                      </a:moveTo>
                      <a:lnTo>
                        <a:pt x="23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8" y="44"/>
                      </a:lnTo>
                      <a:lnTo>
                        <a:pt x="30" y="42"/>
                      </a:lnTo>
                      <a:lnTo>
                        <a:pt x="30" y="40"/>
                      </a:lnTo>
                      <a:lnTo>
                        <a:pt x="30" y="39"/>
                      </a:lnTo>
                      <a:lnTo>
                        <a:pt x="30" y="37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2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8437680" y="323856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3" h="43">
                      <a:moveTo>
                        <a:pt x="23" y="40"/>
                      </a:moveTo>
                      <a:lnTo>
                        <a:pt x="25" y="42"/>
                      </a:lnTo>
                      <a:lnTo>
                        <a:pt x="27" y="43"/>
                      </a:lnTo>
                      <a:lnTo>
                        <a:pt x="28" y="43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3" y="38"/>
                      </a:lnTo>
                      <a:lnTo>
                        <a:pt x="33" y="37"/>
                      </a:lnTo>
                      <a:lnTo>
                        <a:pt x="32" y="35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3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8404200" y="319392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4" h="42">
                      <a:moveTo>
                        <a:pt x="25" y="38"/>
                      </a:moveTo>
                      <a:lnTo>
                        <a:pt x="27" y="40"/>
                      </a:lnTo>
                      <a:lnTo>
                        <a:pt x="29" y="42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4" y="38"/>
                      </a:lnTo>
                      <a:lnTo>
                        <a:pt x="34" y="37"/>
                      </a:lnTo>
                      <a:lnTo>
                        <a:pt x="34" y="35"/>
                      </a:lnTo>
                      <a:lnTo>
                        <a:pt x="34" y="33"/>
                      </a:lnTo>
                      <a:lnTo>
                        <a:pt x="29" y="28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33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8370720" y="3151080"/>
                  <a:ext cx="27000" cy="32040"/>
                </a:xfrm>
                <a:custGeom>
                  <a:avLst/>
                  <a:gdLst/>
                  <a:ahLst/>
                  <a:rect l="l" t="t" r="r" b="b"/>
                  <a:pathLst>
                    <a:path w="35" h="40">
                      <a:moveTo>
                        <a:pt x="25" y="38"/>
                      </a:moveTo>
                      <a:lnTo>
                        <a:pt x="27" y="40"/>
                      </a:lnTo>
                      <a:lnTo>
                        <a:pt x="28" y="40"/>
                      </a:lnTo>
                      <a:lnTo>
                        <a:pt x="30" y="40"/>
                      </a:lnTo>
                      <a:lnTo>
                        <a:pt x="32" y="40"/>
                      </a:lnTo>
                      <a:lnTo>
                        <a:pt x="33" y="38"/>
                      </a:lnTo>
                      <a:lnTo>
                        <a:pt x="35" y="37"/>
                      </a:lnTo>
                      <a:lnTo>
                        <a:pt x="35" y="35"/>
                      </a:lnTo>
                      <a:lnTo>
                        <a:pt x="33" y="33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8332920" y="3108240"/>
                  <a:ext cx="29880" cy="3204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29" y="36"/>
                      </a:moveTo>
                      <a:lnTo>
                        <a:pt x="30" y="38"/>
                      </a:lnTo>
                      <a:lnTo>
                        <a:pt x="32" y="40"/>
                      </a:lnTo>
                      <a:lnTo>
                        <a:pt x="34" y="40"/>
                      </a:lnTo>
                      <a:lnTo>
                        <a:pt x="35" y="38"/>
                      </a:lnTo>
                      <a:lnTo>
                        <a:pt x="37" y="36"/>
                      </a:lnTo>
                      <a:lnTo>
                        <a:pt x="37" y="35"/>
                      </a:lnTo>
                      <a:lnTo>
                        <a:pt x="37" y="33"/>
                      </a:lnTo>
                      <a:lnTo>
                        <a:pt x="37" y="31"/>
                      </a:ln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29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8296200" y="3067200"/>
                  <a:ext cx="28800" cy="30240"/>
                </a:xfrm>
                <a:custGeom>
                  <a:avLst/>
                  <a:gdLst/>
                  <a:ahLst/>
                  <a:rect l="l" t="t" r="r" b="b"/>
                  <a:pathLst>
                    <a:path w="36" h="38">
                      <a:moveTo>
                        <a:pt x="28" y="37"/>
                      </a:moveTo>
                      <a:lnTo>
                        <a:pt x="30" y="38"/>
                      </a:lnTo>
                      <a:lnTo>
                        <a:pt x="31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6" y="37"/>
                      </a:lnTo>
                      <a:lnTo>
                        <a:pt x="36" y="35"/>
                      </a:lnTo>
                      <a:lnTo>
                        <a:pt x="36" y="33"/>
                      </a:lnTo>
                      <a:lnTo>
                        <a:pt x="36" y="32"/>
                      </a:lnTo>
                      <a:lnTo>
                        <a:pt x="28" y="2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28"/>
                      </a:lnTo>
                      <a:lnTo>
                        <a:pt x="28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8258040" y="3027240"/>
                  <a:ext cx="28800" cy="3024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29" y="37"/>
                      </a:moveTo>
                      <a:lnTo>
                        <a:pt x="30" y="38"/>
                      </a:lnTo>
                      <a:lnTo>
                        <a:pt x="32" y="38"/>
                      </a:lnTo>
                      <a:lnTo>
                        <a:pt x="34" y="38"/>
                      </a:lnTo>
                      <a:lnTo>
                        <a:pt x="35" y="38"/>
                      </a:lnTo>
                      <a:lnTo>
                        <a:pt x="37" y="37"/>
                      </a:lnTo>
                      <a:lnTo>
                        <a:pt x="37" y="35"/>
                      </a:lnTo>
                      <a:lnTo>
                        <a:pt x="37" y="33"/>
                      </a:lnTo>
                      <a:lnTo>
                        <a:pt x="37" y="32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9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8217000" y="298944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6">
                      <a:moveTo>
                        <a:pt x="31" y="36"/>
                      </a:moveTo>
                      <a:lnTo>
                        <a:pt x="33" y="36"/>
                      </a:lnTo>
                      <a:lnTo>
                        <a:pt x="35" y="36"/>
                      </a:lnTo>
                      <a:lnTo>
                        <a:pt x="36" y="36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0" y="31"/>
                      </a:lnTo>
                      <a:lnTo>
                        <a:pt x="38" y="30"/>
                      </a:lnTo>
                      <a:lnTo>
                        <a:pt x="36" y="28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31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8175600" y="2952720"/>
                  <a:ext cx="3168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32" y="35"/>
                      </a:moveTo>
                      <a:lnTo>
                        <a:pt x="33" y="37"/>
                      </a:lnTo>
                      <a:lnTo>
                        <a:pt x="35" y="37"/>
                      </a:lnTo>
                      <a:lnTo>
                        <a:pt x="37" y="35"/>
                      </a:lnTo>
                      <a:lnTo>
                        <a:pt x="38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38" y="28"/>
                      </a:lnTo>
                      <a:lnTo>
                        <a:pt x="37" y="27"/>
                      </a:lnTo>
                      <a:lnTo>
                        <a:pt x="22" y="1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17" y="20"/>
                      </a:lnTo>
                      <a:lnTo>
                        <a:pt x="32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8132760" y="291636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3" y="35"/>
                      </a:moveTo>
                      <a:lnTo>
                        <a:pt x="35" y="35"/>
                      </a:lnTo>
                      <a:lnTo>
                        <a:pt x="36" y="35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40" y="28"/>
                      </a:lnTo>
                      <a:lnTo>
                        <a:pt x="38" y="27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3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8089920" y="28814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1" h="33">
                      <a:moveTo>
                        <a:pt x="33" y="33"/>
                      </a:moveTo>
                      <a:lnTo>
                        <a:pt x="35" y="33"/>
                      </a:lnTo>
                      <a:lnTo>
                        <a:pt x="36" y="33"/>
                      </a:lnTo>
                      <a:lnTo>
                        <a:pt x="38" y="33"/>
                      </a:lnTo>
                      <a:lnTo>
                        <a:pt x="40" y="31"/>
                      </a:lnTo>
                      <a:lnTo>
                        <a:pt x="41" y="30"/>
                      </a:lnTo>
                      <a:lnTo>
                        <a:pt x="41" y="28"/>
                      </a:lnTo>
                      <a:lnTo>
                        <a:pt x="40" y="26"/>
                      </a:lnTo>
                      <a:lnTo>
                        <a:pt x="38" y="25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8045280" y="284796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33" y="34"/>
                      </a:moveTo>
                      <a:lnTo>
                        <a:pt x="35" y="35"/>
                      </a:lnTo>
                      <a:lnTo>
                        <a:pt x="36" y="35"/>
                      </a:lnTo>
                      <a:lnTo>
                        <a:pt x="38" y="34"/>
                      </a:lnTo>
                      <a:lnTo>
                        <a:pt x="40" y="32"/>
                      </a:lnTo>
                      <a:lnTo>
                        <a:pt x="41" y="30"/>
                      </a:lnTo>
                      <a:lnTo>
                        <a:pt x="41" y="29"/>
                      </a:lnTo>
                      <a:lnTo>
                        <a:pt x="40" y="27"/>
                      </a:lnTo>
                      <a:lnTo>
                        <a:pt x="38" y="25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3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7999560" y="281628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4" h="34">
                      <a:moveTo>
                        <a:pt x="35" y="32"/>
                      </a:moveTo>
                      <a:lnTo>
                        <a:pt x="37" y="34"/>
                      </a:lnTo>
                      <a:lnTo>
                        <a:pt x="39" y="34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4" y="29"/>
                      </a:lnTo>
                      <a:lnTo>
                        <a:pt x="44" y="27"/>
                      </a:lnTo>
                      <a:lnTo>
                        <a:pt x="42" y="25"/>
                      </a:lnTo>
                      <a:lnTo>
                        <a:pt x="40" y="24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35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7953480" y="278604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37" y="30"/>
                      </a:moveTo>
                      <a:lnTo>
                        <a:pt x="38" y="32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3" y="28"/>
                      </a:lnTo>
                      <a:lnTo>
                        <a:pt x="43" y="27"/>
                      </a:lnTo>
                      <a:lnTo>
                        <a:pt x="43" y="25"/>
                      </a:lnTo>
                      <a:lnTo>
                        <a:pt x="43" y="23"/>
                      </a:lnTo>
                      <a:lnTo>
                        <a:pt x="42" y="22"/>
                      </a:lnTo>
                      <a:lnTo>
                        <a:pt x="30" y="13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25" y="22"/>
                      </a:lnTo>
                      <a:lnTo>
                        <a:pt x="37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7907400" y="275436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36" y="31"/>
                      </a:moveTo>
                      <a:lnTo>
                        <a:pt x="38" y="31"/>
                      </a:lnTo>
                      <a:lnTo>
                        <a:pt x="40" y="31"/>
                      </a:lnTo>
                      <a:lnTo>
                        <a:pt x="41" y="31"/>
                      </a:lnTo>
                      <a:lnTo>
                        <a:pt x="43" y="30"/>
                      </a:lnTo>
                      <a:lnTo>
                        <a:pt x="43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1" y="23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7859520" y="27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0">
                      <a:moveTo>
                        <a:pt x="36" y="28"/>
                      </a:moveTo>
                      <a:lnTo>
                        <a:pt x="38" y="30"/>
                      </a:lnTo>
                      <a:lnTo>
                        <a:pt x="40" y="30"/>
                      </a:lnTo>
                      <a:lnTo>
                        <a:pt x="41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3" y="23"/>
                      </a:lnTo>
                      <a:lnTo>
                        <a:pt x="43" y="21"/>
                      </a:lnTo>
                      <a:lnTo>
                        <a:pt x="41" y="2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6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7810560" y="269892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38" y="28"/>
                      </a:move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3" y="28"/>
                      </a:lnTo>
                      <a:lnTo>
                        <a:pt x="45" y="26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1"/>
                      </a:lnTo>
                      <a:lnTo>
                        <a:pt x="43" y="2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38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7761240" y="2673360"/>
                  <a:ext cx="367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39" y="29"/>
                      </a:move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4" y="29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4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7711920" y="264960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36" y="27"/>
                      </a:moveTo>
                      <a:lnTo>
                        <a:pt x="38" y="27"/>
                      </a:lnTo>
                      <a:lnTo>
                        <a:pt x="40" y="27"/>
                      </a:lnTo>
                      <a:lnTo>
                        <a:pt x="41" y="27"/>
                      </a:lnTo>
                      <a:lnTo>
                        <a:pt x="43" y="25"/>
                      </a:lnTo>
                      <a:lnTo>
                        <a:pt x="45" y="24"/>
                      </a:lnTo>
                      <a:lnTo>
                        <a:pt x="45" y="22"/>
                      </a:lnTo>
                      <a:lnTo>
                        <a:pt x="43" y="20"/>
                      </a:lnTo>
                      <a:lnTo>
                        <a:pt x="41" y="19"/>
                      </a:lnTo>
                      <a:lnTo>
                        <a:pt x="21" y="7"/>
                      </a:lnTo>
                      <a:lnTo>
                        <a:pt x="20" y="7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18" y="17"/>
                      </a:lnTo>
                      <a:lnTo>
                        <a:pt x="20" y="12"/>
                      </a:lnTo>
                      <a:lnTo>
                        <a:pt x="16" y="15"/>
                      </a:lnTo>
                      <a:lnTo>
                        <a:pt x="36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7661160" y="262584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6" h="27">
                      <a:moveTo>
                        <a:pt x="41" y="27"/>
                      </a:move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6" y="24"/>
                      </a:lnTo>
                      <a:lnTo>
                        <a:pt x="46" y="22"/>
                      </a:lnTo>
                      <a:lnTo>
                        <a:pt x="46" y="20"/>
                      </a:lnTo>
                      <a:lnTo>
                        <a:pt x="46" y="19"/>
                      </a:lnTo>
                      <a:lnTo>
                        <a:pt x="45" y="17"/>
                      </a:lnTo>
                      <a:lnTo>
                        <a:pt x="43" y="17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4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7610400" y="26035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2" y="25"/>
                      </a:moveTo>
                      <a:lnTo>
                        <a:pt x="44" y="25"/>
                      </a:lnTo>
                      <a:lnTo>
                        <a:pt x="45" y="25"/>
                      </a:lnTo>
                      <a:lnTo>
                        <a:pt x="47" y="23"/>
                      </a:lnTo>
                      <a:lnTo>
                        <a:pt x="47" y="22"/>
                      </a:lnTo>
                      <a:lnTo>
                        <a:pt x="47" y="20"/>
                      </a:lnTo>
                      <a:lnTo>
                        <a:pt x="47" y="18"/>
                      </a:lnTo>
                      <a:lnTo>
                        <a:pt x="45" y="17"/>
                      </a:lnTo>
                      <a:lnTo>
                        <a:pt x="44" y="15"/>
                      </a:lnTo>
                      <a:lnTo>
                        <a:pt x="39" y="13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37" y="23"/>
                      </a:lnTo>
                      <a:lnTo>
                        <a:pt x="4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7559640" y="2579760"/>
                  <a:ext cx="36360" cy="2232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42" y="26"/>
                      </a:moveTo>
                      <a:lnTo>
                        <a:pt x="44" y="26"/>
                      </a:lnTo>
                      <a:lnTo>
                        <a:pt x="45" y="25"/>
                      </a:lnTo>
                      <a:lnTo>
                        <a:pt x="47" y="23"/>
                      </a:lnTo>
                      <a:lnTo>
                        <a:pt x="47" y="21"/>
                      </a:lnTo>
                      <a:lnTo>
                        <a:pt x="47" y="20"/>
                      </a:lnTo>
                      <a:lnTo>
                        <a:pt x="47" y="18"/>
                      </a:lnTo>
                      <a:lnTo>
                        <a:pt x="45" y="16"/>
                      </a:lnTo>
                      <a:lnTo>
                        <a:pt x="44" y="16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7507440" y="2560680"/>
                  <a:ext cx="37800" cy="19080"/>
                </a:xfrm>
                <a:custGeom>
                  <a:avLst/>
                  <a:gdLst/>
                  <a:ahLst/>
                  <a:rect l="l" t="t" r="r" b="b"/>
                  <a:pathLst>
                    <a:path w="49" h="25">
                      <a:moveTo>
                        <a:pt x="42" y="25"/>
                      </a:moveTo>
                      <a:lnTo>
                        <a:pt x="44" y="25"/>
                      </a:lnTo>
                      <a:lnTo>
                        <a:pt x="45" y="23"/>
                      </a:lnTo>
                      <a:lnTo>
                        <a:pt x="47" y="21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6"/>
                      </a:lnTo>
                      <a:lnTo>
                        <a:pt x="45" y="15"/>
                      </a:lnTo>
                      <a:lnTo>
                        <a:pt x="44" y="15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7456320" y="2541600"/>
                  <a:ext cx="36720" cy="19080"/>
                </a:xfrm>
                <a:custGeom>
                  <a:avLst/>
                  <a:gdLst/>
                  <a:ahLst/>
                  <a:rect l="l" t="t" r="r" b="b"/>
                  <a:pathLst>
                    <a:path w="47" h="24">
                      <a:moveTo>
                        <a:pt x="42" y="24"/>
                      </a:moveTo>
                      <a:lnTo>
                        <a:pt x="44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7" y="19"/>
                      </a:lnTo>
                      <a:lnTo>
                        <a:pt x="47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4" y="14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4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7402320" y="2524320"/>
                  <a:ext cx="39960" cy="1728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41" y="23"/>
                      </a:moveTo>
                      <a:lnTo>
                        <a:pt x="43" y="23"/>
                      </a:lnTo>
                      <a:lnTo>
                        <a:pt x="45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6" y="15"/>
                      </a:lnTo>
                      <a:lnTo>
                        <a:pt x="45" y="13"/>
                      </a:lnTo>
                      <a:lnTo>
                        <a:pt x="43" y="13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41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7350120" y="2506680"/>
                  <a:ext cx="38160" cy="1764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42" y="24"/>
                      </a:moveTo>
                      <a:lnTo>
                        <a:pt x="43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8" y="19"/>
                      </a:lnTo>
                      <a:lnTo>
                        <a:pt x="48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3" y="14"/>
                      </a:lnTo>
                      <a:lnTo>
                        <a:pt x="12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10" y="12"/>
                      </a:lnTo>
                      <a:lnTo>
                        <a:pt x="4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7297560" y="249228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2" y="20"/>
                      </a:move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8"/>
                      </a:lnTo>
                      <a:lnTo>
                        <a:pt x="49" y="17"/>
                      </a:lnTo>
                      <a:lnTo>
                        <a:pt x="49" y="15"/>
                      </a:lnTo>
                      <a:lnTo>
                        <a:pt x="47" y="13"/>
                      </a:lnTo>
                      <a:lnTo>
                        <a:pt x="45" y="12"/>
                      </a:lnTo>
                      <a:lnTo>
                        <a:pt x="44" y="1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4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8" name=""/>
              <p:cNvSpPr/>
              <p:nvPr/>
            </p:nvSpPr>
            <p:spPr>
              <a:xfrm>
                <a:off x="7243920" y="247644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3" y="22"/>
                    </a:move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23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5"/>
                    </a:lnTo>
                    <a:lnTo>
                      <a:pt x="4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7188120" y="246240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3" y="20"/>
                    </a:moveTo>
                    <a:lnTo>
                      <a:pt x="45" y="20"/>
                    </a:lnTo>
                    <a:lnTo>
                      <a:pt x="46" y="20"/>
                    </a:lnTo>
                    <a:lnTo>
                      <a:pt x="48" y="19"/>
                    </a:lnTo>
                    <a:lnTo>
                      <a:pt x="50" y="17"/>
                    </a:lnTo>
                    <a:lnTo>
                      <a:pt x="50" y="15"/>
                    </a:lnTo>
                    <a:lnTo>
                      <a:pt x="48" y="14"/>
                    </a:lnTo>
                    <a:lnTo>
                      <a:pt x="46" y="12"/>
                    </a:lnTo>
                    <a:lnTo>
                      <a:pt x="45" y="1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7135920" y="2451240"/>
                <a:ext cx="37800" cy="140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43" y="19"/>
                    </a:moveTo>
                    <a:lnTo>
                      <a:pt x="43" y="19"/>
                    </a:lnTo>
                    <a:lnTo>
                      <a:pt x="45" y="17"/>
                    </a:lnTo>
                    <a:lnTo>
                      <a:pt x="47" y="15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5" y="10"/>
                    </a:lnTo>
                    <a:lnTo>
                      <a:pt x="45" y="9"/>
                    </a:lnTo>
                    <a:lnTo>
                      <a:pt x="30" y="5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28" y="15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7080120" y="243828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7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7" y="10"/>
                    </a:lnTo>
                    <a:lnTo>
                      <a:pt x="45" y="9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7026120" y="24289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6">
                    <a:moveTo>
                      <a:pt x="43" y="16"/>
                    </a:moveTo>
                    <a:lnTo>
                      <a:pt x="45" y="16"/>
                    </a:lnTo>
                    <a:lnTo>
                      <a:pt x="46" y="15"/>
                    </a:lnTo>
                    <a:lnTo>
                      <a:pt x="48" y="13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48" y="8"/>
                    </a:lnTo>
                    <a:lnTo>
                      <a:pt x="46" y="6"/>
                    </a:lnTo>
                    <a:lnTo>
                      <a:pt x="45" y="6"/>
                    </a:lnTo>
                    <a:lnTo>
                      <a:pt x="38" y="5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36" y="15"/>
                    </a:lnTo>
                    <a:lnTo>
                      <a:pt x="4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972120" y="24210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4" y="17"/>
                    </a:moveTo>
                    <a:lnTo>
                      <a:pt x="45" y="17"/>
                    </a:lnTo>
                    <a:lnTo>
                      <a:pt x="47" y="15"/>
                    </a:lnTo>
                    <a:lnTo>
                      <a:pt x="49" y="13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4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916680" y="241164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45" y="17"/>
                    </a:moveTo>
                    <a:lnTo>
                      <a:pt x="47" y="17"/>
                    </a:lnTo>
                    <a:lnTo>
                      <a:pt x="49" y="15"/>
                    </a:lnTo>
                    <a:lnTo>
                      <a:pt x="50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49" y="7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15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862680" y="24051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8" h="15">
                    <a:moveTo>
                      <a:pt x="43" y="15"/>
                    </a:moveTo>
                    <a:lnTo>
                      <a:pt x="45" y="15"/>
                    </a:lnTo>
                    <a:lnTo>
                      <a:pt x="47" y="15"/>
                    </a:lnTo>
                    <a:lnTo>
                      <a:pt x="48" y="13"/>
                    </a:lnTo>
                    <a:lnTo>
                      <a:pt x="48" y="12"/>
                    </a:lnTo>
                    <a:lnTo>
                      <a:pt x="48" y="10"/>
                    </a:lnTo>
                    <a:lnTo>
                      <a:pt x="48" y="8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4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807240" y="23986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43" y="14"/>
                    </a:moveTo>
                    <a:lnTo>
                      <a:pt x="45" y="14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45" y="4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751440" y="23940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1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696000" y="2389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45" y="11"/>
                    </a:moveTo>
                    <a:lnTo>
                      <a:pt x="47" y="11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640560" y="23860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5" y="13"/>
                    </a:moveTo>
                    <a:lnTo>
                      <a:pt x="47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584760" y="238464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2"/>
                    </a:move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529320" y="23828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2"/>
                    </a:move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22" name=""/>
            <p:cNvSpPr/>
            <p:nvPr/>
          </p:nvSpPr>
          <p:spPr>
            <a:xfrm>
              <a:off x="4281480" y="232416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243400" y="3781440"/>
              <a:ext cx="42408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7338960" y="3405240"/>
              <a:ext cx="33012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5" name=""/>
            <p:cNvGrpSpPr/>
            <p:nvPr/>
          </p:nvGrpSpPr>
          <p:grpSpPr>
            <a:xfrm>
              <a:off x="4873680" y="3787920"/>
              <a:ext cx="401400" cy="866520"/>
              <a:chOff x="4873680" y="3787920"/>
              <a:chExt cx="401400" cy="866520"/>
            </a:xfrm>
          </p:grpSpPr>
          <p:sp>
            <p:nvSpPr>
              <p:cNvPr id="2226" name=""/>
              <p:cNvSpPr/>
              <p:nvPr/>
            </p:nvSpPr>
            <p:spPr>
              <a:xfrm>
                <a:off x="4873680" y="447048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4979880" y="4230720"/>
                <a:ext cx="9864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086440" y="399276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5192640" y="3787920"/>
                <a:ext cx="8244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30" name=""/>
            <p:cNvGrpSpPr/>
            <p:nvPr/>
          </p:nvGrpSpPr>
          <p:grpSpPr>
            <a:xfrm>
              <a:off x="6405480" y="3405240"/>
              <a:ext cx="941400" cy="303120"/>
              <a:chOff x="6405480" y="3405240"/>
              <a:chExt cx="941400" cy="303120"/>
            </a:xfrm>
          </p:grpSpPr>
          <p:sp>
            <p:nvSpPr>
              <p:cNvPr id="2231" name=""/>
              <p:cNvSpPr/>
              <p:nvPr/>
            </p:nvSpPr>
            <p:spPr>
              <a:xfrm>
                <a:off x="6405480" y="3630600"/>
                <a:ext cx="18756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656400" y="355608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907320" y="3479760"/>
                <a:ext cx="1886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7156440" y="340524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35" name=""/>
            <p:cNvGrpSpPr/>
            <p:nvPr/>
          </p:nvGrpSpPr>
          <p:grpSpPr>
            <a:xfrm>
              <a:off x="6589800" y="2738520"/>
              <a:ext cx="685800" cy="871560"/>
              <a:chOff x="6589800" y="2738520"/>
              <a:chExt cx="685800" cy="871560"/>
            </a:xfrm>
          </p:grpSpPr>
          <p:sp>
            <p:nvSpPr>
              <p:cNvPr id="2236" name=""/>
              <p:cNvSpPr/>
              <p:nvPr/>
            </p:nvSpPr>
            <p:spPr>
              <a:xfrm>
                <a:off x="6589800" y="344484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751440" y="323856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910200" y="3030480"/>
                <a:ext cx="13680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072200" y="282420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232760" y="27385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41" name=""/>
            <p:cNvGrpSpPr/>
            <p:nvPr/>
          </p:nvGrpSpPr>
          <p:grpSpPr>
            <a:xfrm>
              <a:off x="5748480" y="4619520"/>
              <a:ext cx="195120" cy="698760"/>
              <a:chOff x="5748480" y="4619520"/>
              <a:chExt cx="195120" cy="698760"/>
            </a:xfrm>
          </p:grpSpPr>
          <p:sp>
            <p:nvSpPr>
              <p:cNvPr id="2242" name=""/>
              <p:cNvSpPr/>
              <p:nvPr/>
            </p:nvSpPr>
            <p:spPr>
              <a:xfrm>
                <a:off x="5875200" y="5127840"/>
                <a:ext cx="6840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5811840" y="487368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748480" y="461952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45" name=""/>
            <p:cNvGrpSpPr/>
            <p:nvPr/>
          </p:nvGrpSpPr>
          <p:grpSpPr>
            <a:xfrm>
              <a:off x="7635960" y="3882960"/>
              <a:ext cx="401400" cy="866880"/>
              <a:chOff x="7635960" y="3882960"/>
              <a:chExt cx="401400" cy="866880"/>
            </a:xfrm>
          </p:grpSpPr>
          <p:sp>
            <p:nvSpPr>
              <p:cNvPr id="2246" name=""/>
              <p:cNvSpPr/>
              <p:nvPr/>
            </p:nvSpPr>
            <p:spPr>
              <a:xfrm>
                <a:off x="7635960" y="456552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742160" y="432612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848720" y="408780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954920" y="388296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0" name=""/>
            <p:cNvGrpSpPr/>
            <p:nvPr/>
          </p:nvGrpSpPr>
          <p:grpSpPr>
            <a:xfrm>
              <a:off x="6873840" y="3406680"/>
              <a:ext cx="401760" cy="866880"/>
              <a:chOff x="6873840" y="3406680"/>
              <a:chExt cx="401760" cy="866880"/>
            </a:xfrm>
          </p:grpSpPr>
          <p:sp>
            <p:nvSpPr>
              <p:cNvPr id="2251" name=""/>
              <p:cNvSpPr/>
              <p:nvPr/>
            </p:nvSpPr>
            <p:spPr>
              <a:xfrm>
                <a:off x="6873840" y="408960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6980040" y="38498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086600" y="361152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192800" y="3406680"/>
                <a:ext cx="8280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5" name=""/>
            <p:cNvGrpSpPr/>
            <p:nvPr/>
          </p:nvGrpSpPr>
          <p:grpSpPr>
            <a:xfrm>
              <a:off x="5734080" y="3716280"/>
              <a:ext cx="658800" cy="750960"/>
              <a:chOff x="5734080" y="3716280"/>
              <a:chExt cx="658800" cy="750960"/>
            </a:xfrm>
          </p:grpSpPr>
          <p:sp>
            <p:nvSpPr>
              <p:cNvPr id="2256" name=""/>
              <p:cNvSpPr/>
              <p:nvPr/>
            </p:nvSpPr>
            <p:spPr>
              <a:xfrm>
                <a:off x="5734080" y="430848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5905440" y="411156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6076800" y="39132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6251400" y="371628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0" name=""/>
            <p:cNvGrpSpPr/>
            <p:nvPr/>
          </p:nvGrpSpPr>
          <p:grpSpPr>
            <a:xfrm>
              <a:off x="5257800" y="3022560"/>
              <a:ext cx="588960" cy="682560"/>
              <a:chOff x="5257800" y="3022560"/>
              <a:chExt cx="588960" cy="682560"/>
            </a:xfrm>
          </p:grpSpPr>
          <p:sp>
            <p:nvSpPr>
              <p:cNvPr id="2261" name=""/>
              <p:cNvSpPr/>
              <p:nvPr/>
            </p:nvSpPr>
            <p:spPr>
              <a:xfrm>
                <a:off x="5257800" y="354492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5425920" y="334476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5597640" y="3146400"/>
                <a:ext cx="14112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5767200" y="3022560"/>
                <a:ext cx="7956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5" name=""/>
            <p:cNvGrpSpPr/>
            <p:nvPr/>
          </p:nvGrpSpPr>
          <p:grpSpPr>
            <a:xfrm>
              <a:off x="6118200" y="4638600"/>
              <a:ext cx="1533600" cy="687600"/>
              <a:chOff x="6118200" y="4638600"/>
              <a:chExt cx="1533600" cy="687600"/>
            </a:xfrm>
          </p:grpSpPr>
          <p:sp>
            <p:nvSpPr>
              <p:cNvPr id="2266" name=""/>
              <p:cNvSpPr/>
              <p:nvPr/>
            </p:nvSpPr>
            <p:spPr>
              <a:xfrm>
                <a:off x="6118200" y="522936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357960" y="5124600"/>
                <a:ext cx="18396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597720" y="5019840"/>
                <a:ext cx="18396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6838920" y="491328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7076880" y="481032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7316640" y="4703760"/>
                <a:ext cx="1843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7558200" y="463860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73" name=""/>
            <p:cNvGrpSpPr/>
            <p:nvPr/>
          </p:nvGrpSpPr>
          <p:grpSpPr>
            <a:xfrm>
              <a:off x="4336920" y="2382840"/>
              <a:ext cx="4353120" cy="3183120"/>
              <a:chOff x="4336920" y="2382840"/>
              <a:chExt cx="4353120" cy="3183120"/>
            </a:xfrm>
          </p:grpSpPr>
          <p:grpSp>
            <p:nvGrpSpPr>
              <p:cNvPr id="2274" name=""/>
              <p:cNvGrpSpPr/>
              <p:nvPr/>
            </p:nvGrpSpPr>
            <p:grpSpPr>
              <a:xfrm>
                <a:off x="4336920" y="2382840"/>
                <a:ext cx="4353120" cy="3183120"/>
                <a:chOff x="4336920" y="2382840"/>
                <a:chExt cx="4353120" cy="3183120"/>
              </a:xfrm>
            </p:grpSpPr>
            <p:sp>
              <p:nvSpPr>
                <p:cNvPr id="2275" name=""/>
                <p:cNvSpPr/>
                <p:nvPr/>
              </p:nvSpPr>
              <p:spPr>
                <a:xfrm>
                  <a:off x="6477120" y="23828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47" y="10"/>
                      </a:moveTo>
                      <a:lnTo>
                        <a:pt x="47" y="9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6421320" y="2384640"/>
                  <a:ext cx="3996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6365880" y="238608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1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45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6310440" y="238932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6254640" y="239076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4">
                      <a:moveTo>
                        <a:pt x="47" y="10"/>
                      </a:moveTo>
                      <a:lnTo>
                        <a:pt x="48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5" y="4"/>
                      </a:lnTo>
                      <a:lnTo>
                        <a:pt x="3" y="5"/>
                      </a:lnTo>
                      <a:lnTo>
                        <a:pt x="2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3" y="14"/>
                      </a:lnTo>
                      <a:lnTo>
                        <a:pt x="5" y="14"/>
                      </a:lnTo>
                      <a:lnTo>
                        <a:pt x="7" y="14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6199200" y="239724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47" y="10"/>
                      </a:moveTo>
                      <a:lnTo>
                        <a:pt x="48" y="10"/>
                      </a:lnTo>
                      <a:lnTo>
                        <a:pt x="50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3"/>
                      </a:lnTo>
                      <a:lnTo>
                        <a:pt x="3" y="5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5" y="13"/>
                      </a:lnTo>
                      <a:lnTo>
                        <a:pt x="7" y="13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6145200" y="240192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5" y="10"/>
                      </a:moveTo>
                      <a:lnTo>
                        <a:pt x="46" y="10"/>
                      </a:ln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8" y="3"/>
                      </a:lnTo>
                      <a:lnTo>
                        <a:pt x="46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5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3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6089760" y="240984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5" y="10"/>
                      </a:moveTo>
                      <a:lnTo>
                        <a:pt x="46" y="8"/>
                      </a:lnTo>
                      <a:lnTo>
                        <a:pt x="48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1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5"/>
                      </a:lnTo>
                      <a:lnTo>
                        <a:pt x="3" y="5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1" y="11"/>
                      </a:lnTo>
                      <a:lnTo>
                        <a:pt x="3" y="13"/>
                      </a:lnTo>
                      <a:lnTo>
                        <a:pt x="5" y="15"/>
                      </a:lnTo>
                      <a:lnTo>
                        <a:pt x="6" y="15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6035760" y="241632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9" h="17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7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4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5979960" y="2425680"/>
                  <a:ext cx="39960" cy="12600"/>
                </a:xfrm>
                <a:custGeom>
                  <a:avLst/>
                  <a:gdLst/>
                  <a:ahLst/>
                  <a:rect l="l" t="t" r="r" b="b"/>
                  <a:pathLst>
                    <a:path w="50" h="16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9" y="3"/>
                      </a:lnTo>
                      <a:lnTo>
                        <a:pt x="47" y="1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6"/>
                      </a:lnTo>
                      <a:lnTo>
                        <a:pt x="5" y="16"/>
                      </a:lnTo>
                      <a:lnTo>
                        <a:pt x="7" y="16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5925960" y="243540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8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3" y="19"/>
                      </a:lnTo>
                      <a:lnTo>
                        <a:pt x="5" y="19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5870520" y="2446560"/>
                  <a:ext cx="39600" cy="140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45" y="10"/>
                      </a:moveTo>
                      <a:lnTo>
                        <a:pt x="46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9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7"/>
                      </a:lnTo>
                      <a:lnTo>
                        <a:pt x="3" y="19"/>
                      </a:lnTo>
                      <a:lnTo>
                        <a:pt x="5" y="19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5816520" y="2459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5" y="10"/>
                      </a:moveTo>
                      <a:lnTo>
                        <a:pt x="47" y="9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10"/>
                      </a:lnTo>
                      <a:lnTo>
                        <a:pt x="4" y="10"/>
                      </a:ln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4" y="19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5762520" y="247176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50" h="20">
                      <a:moveTo>
                        <a:pt x="45" y="10"/>
                      </a:moveTo>
                      <a:lnTo>
                        <a:pt x="47" y="8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5710320" y="2486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4" y="10"/>
                      </a:move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0"/>
                      </a:ln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2" y="20"/>
                      </a:lnTo>
                      <a:lnTo>
                        <a:pt x="4" y="20"/>
                      </a:lnTo>
                      <a:lnTo>
                        <a:pt x="5" y="20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5656320" y="2500200"/>
                  <a:ext cx="39600" cy="17640"/>
                </a:xfrm>
                <a:custGeom>
                  <a:avLst/>
                  <a:gdLst/>
                  <a:ahLst/>
                  <a:rect l="l" t="t" r="r" b="b"/>
                  <a:pathLst>
                    <a:path w="48" h="21">
                      <a:moveTo>
                        <a:pt x="43" y="10"/>
                      </a:move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6" y="3"/>
                      </a:lnTo>
                      <a:lnTo>
                        <a:pt x="45" y="1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11" y="8"/>
                      </a:lnTo>
                      <a:lnTo>
                        <a:pt x="3" y="11"/>
                      </a:ln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13" y="18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5603760" y="251784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47" h="22">
                      <a:moveTo>
                        <a:pt x="43" y="10"/>
                      </a:move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" y="12"/>
                      </a:lnTo>
                      <a:lnTo>
                        <a:pt x="2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5" y="22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5551560" y="25351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44" y="10"/>
                      </a:moveTo>
                      <a:lnTo>
                        <a:pt x="45" y="8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25" y="5"/>
                      </a:lnTo>
                      <a:lnTo>
                        <a:pt x="4" y="13"/>
                      </a:lnTo>
                      <a:lnTo>
                        <a:pt x="2" y="13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27" y="1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5499000" y="255420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4" y="10"/>
                      </a:moveTo>
                      <a:lnTo>
                        <a:pt x="45" y="10"/>
                      </a:lnTo>
                      <a:lnTo>
                        <a:pt x="47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5"/>
                      </a:lnTo>
                      <a:lnTo>
                        <a:pt x="2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2" y="24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5448240" y="2573280"/>
                  <a:ext cx="36720" cy="208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2" y="10"/>
                      </a:moveTo>
                      <a:lnTo>
                        <a:pt x="44" y="9"/>
                      </a:lnTo>
                      <a:lnTo>
                        <a:pt x="45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7" y="2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39" y="12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5396040" y="2595600"/>
                  <a:ext cx="3780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4" y="10"/>
                      </a:move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5346720" y="2617920"/>
                  <a:ext cx="34920" cy="2052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2" y="10"/>
                      </a:moveTo>
                      <a:lnTo>
                        <a:pt x="43" y="9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5" y="4"/>
                      </a:lnTo>
                      <a:lnTo>
                        <a:pt x="45" y="2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" y="17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3" y="27"/>
                      </a:lnTo>
                      <a:lnTo>
                        <a:pt x="5" y="27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5295960" y="2640240"/>
                  <a:ext cx="34920" cy="2196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41" y="10"/>
                      </a:moveTo>
                      <a:lnTo>
                        <a:pt x="43" y="10"/>
                      </a:lnTo>
                      <a:lnTo>
                        <a:pt x="45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" y="18"/>
                      </a:lnTo>
                      <a:lnTo>
                        <a:pt x="1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6"/>
                      </a:lnTo>
                      <a:lnTo>
                        <a:pt x="3" y="28"/>
                      </a:lnTo>
                      <a:lnTo>
                        <a:pt x="5" y="28"/>
                      </a:lnTo>
                      <a:lnTo>
                        <a:pt x="4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5245200" y="2665440"/>
                  <a:ext cx="38160" cy="2232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4" y="9"/>
                      </a:moveTo>
                      <a:lnTo>
                        <a:pt x="45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4" y="19"/>
                      </a:lnTo>
                      <a:lnTo>
                        <a:pt x="2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4" y="27"/>
                      </a:lnTo>
                      <a:lnTo>
                        <a:pt x="5" y="29"/>
                      </a:lnTo>
                      <a:lnTo>
                        <a:pt x="7" y="29"/>
                      </a:lnTo>
                      <a:lnTo>
                        <a:pt x="9" y="27"/>
                      </a:lnTo>
                      <a:lnTo>
                        <a:pt x="4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5195880" y="269100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43" y="10"/>
                      </a:moveTo>
                      <a:lnTo>
                        <a:pt x="45" y="8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2"/>
                      </a:lnTo>
                      <a:lnTo>
                        <a:pt x="18" y="12"/>
                      </a:lnTo>
                      <a:lnTo>
                        <a:pt x="3" y="20"/>
                      </a:lnTo>
                      <a:lnTo>
                        <a:pt x="1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7"/>
                      </a:lnTo>
                      <a:lnTo>
                        <a:pt x="3" y="28"/>
                      </a:lnTo>
                      <a:lnTo>
                        <a:pt x="5" y="30"/>
                      </a:lnTo>
                      <a:lnTo>
                        <a:pt x="6" y="30"/>
                      </a:lnTo>
                      <a:lnTo>
                        <a:pt x="8" y="28"/>
                      </a:lnTo>
                      <a:lnTo>
                        <a:pt x="23" y="20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5148360" y="271800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41" y="8"/>
                      </a:moveTo>
                      <a:lnTo>
                        <a:pt x="43" y="7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1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6" y="28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5100480" y="274644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0">
                      <a:moveTo>
                        <a:pt x="41" y="8"/>
                      </a:moveTo>
                      <a:lnTo>
                        <a:pt x="43" y="7"/>
                      </a:lnTo>
                      <a:lnTo>
                        <a:pt x="43" y="5"/>
                      </a:lnTo>
                      <a:lnTo>
                        <a:pt x="43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2"/>
                      </a:lnTo>
                      <a:lnTo>
                        <a:pt x="1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6" y="30"/>
                      </a:lnTo>
                      <a:lnTo>
                        <a:pt x="40" y="10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5052960" y="2774880"/>
                  <a:ext cx="36720" cy="25560"/>
                </a:xfrm>
                <a:custGeom>
                  <a:avLst/>
                  <a:gdLst/>
                  <a:ahLst/>
                  <a:rect l="l" t="t" r="r" b="b"/>
                  <a:pathLst>
                    <a:path w="45" h="31">
                      <a:moveTo>
                        <a:pt x="41" y="10"/>
                      </a:move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3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3" y="21"/>
                      </a:lnTo>
                      <a:lnTo>
                        <a:pt x="1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1" y="28"/>
                      </a:lnTo>
                      <a:lnTo>
                        <a:pt x="3" y="30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8" y="30"/>
                      </a:lnTo>
                      <a:lnTo>
                        <a:pt x="4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5008680" y="2805120"/>
                  <a:ext cx="34920" cy="27000"/>
                </a:xfrm>
                <a:custGeom>
                  <a:avLst/>
                  <a:gdLst/>
                  <a:ahLst/>
                  <a:rect l="l" t="t" r="r" b="b"/>
                  <a:pathLst>
                    <a:path w="43" h="33">
                      <a:moveTo>
                        <a:pt x="40" y="8"/>
                      </a:moveTo>
                      <a:lnTo>
                        <a:pt x="42" y="7"/>
                      </a:lnTo>
                      <a:lnTo>
                        <a:pt x="43" y="5"/>
                      </a:lnTo>
                      <a:lnTo>
                        <a:pt x="43" y="3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2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5" y="33"/>
                      </a:lnTo>
                      <a:lnTo>
                        <a:pt x="7" y="32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4964040" y="283680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40" y="8"/>
                      </a:moveTo>
                      <a:lnTo>
                        <a:pt x="42" y="7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14" y="15"/>
                      </a:lnTo>
                      <a:lnTo>
                        <a:pt x="2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19" y="23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4917960" y="28702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40" y="8"/>
                      </a:moveTo>
                      <a:lnTo>
                        <a:pt x="41" y="6"/>
                      </a:lnTo>
                      <a:lnTo>
                        <a:pt x="41" y="5"/>
                      </a:lnTo>
                      <a:lnTo>
                        <a:pt x="41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0"/>
                      </a:lnTo>
                      <a:lnTo>
                        <a:pt x="3" y="25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1" y="31"/>
                      </a:lnTo>
                      <a:lnTo>
                        <a:pt x="3" y="33"/>
                      </a:lnTo>
                      <a:lnTo>
                        <a:pt x="5" y="35"/>
                      </a:lnTo>
                      <a:lnTo>
                        <a:pt x="6" y="35"/>
                      </a:lnTo>
                      <a:lnTo>
                        <a:pt x="8" y="33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4876920" y="290520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9" y="8"/>
                      </a:move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40" y="2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2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5" y="35"/>
                      </a:lnTo>
                      <a:lnTo>
                        <a:pt x="7" y="33"/>
                      </a:lnTo>
                      <a:lnTo>
                        <a:pt x="3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4834080" y="294012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7" y="8"/>
                      </a:moveTo>
                      <a:lnTo>
                        <a:pt x="38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8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2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3"/>
                      </a:lnTo>
                      <a:lnTo>
                        <a:pt x="2" y="35"/>
                      </a:lnTo>
                      <a:lnTo>
                        <a:pt x="3" y="35"/>
                      </a:lnTo>
                      <a:lnTo>
                        <a:pt x="5" y="35"/>
                      </a:lnTo>
                      <a:lnTo>
                        <a:pt x="7" y="35"/>
                      </a:lnTo>
                      <a:lnTo>
                        <a:pt x="3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4792680" y="297648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7" y="10"/>
                      </a:moveTo>
                      <a:lnTo>
                        <a:pt x="39" y="8"/>
                      </a:lnTo>
                      <a:lnTo>
                        <a:pt x="39" y="7"/>
                      </a:lnTo>
                      <a:lnTo>
                        <a:pt x="39" y="5"/>
                      </a:lnTo>
                      <a:lnTo>
                        <a:pt x="39" y="3"/>
                      </a:lnTo>
                      <a:lnTo>
                        <a:pt x="37" y="2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2"/>
                      </a:ln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2" y="37"/>
                      </a:lnTo>
                      <a:lnTo>
                        <a:pt x="4" y="38"/>
                      </a:lnTo>
                      <a:lnTo>
                        <a:pt x="5" y="38"/>
                      </a:lnTo>
                      <a:lnTo>
                        <a:pt x="7" y="37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4753080" y="3014640"/>
                  <a:ext cx="29880" cy="3024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5" y="9"/>
                      </a:moveTo>
                      <a:lnTo>
                        <a:pt x="37" y="7"/>
                      </a:lnTo>
                      <a:lnTo>
                        <a:pt x="39" y="5"/>
                      </a:lnTo>
                      <a:lnTo>
                        <a:pt x="39" y="4"/>
                      </a:lnTo>
                      <a:lnTo>
                        <a:pt x="37" y="2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2" y="10"/>
                      </a:lnTo>
                      <a:lnTo>
                        <a:pt x="20" y="12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2" y="37"/>
                      </a:lnTo>
                      <a:lnTo>
                        <a:pt x="4" y="39"/>
                      </a:lnTo>
                      <a:lnTo>
                        <a:pt x="5" y="39"/>
                      </a:lnTo>
                      <a:lnTo>
                        <a:pt x="7" y="37"/>
                      </a:lnTo>
                      <a:lnTo>
                        <a:pt x="9" y="35"/>
                      </a:lnTo>
                      <a:lnTo>
                        <a:pt x="29" y="17"/>
                      </a:lnTo>
                      <a:lnTo>
                        <a:pt x="24" y="14"/>
                      </a:lnTo>
                      <a:lnTo>
                        <a:pt x="27" y="19"/>
                      </a:lnTo>
                      <a:lnTo>
                        <a:pt x="3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4713120" y="305424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9" y="7"/>
                      </a:moveTo>
                      <a:lnTo>
                        <a:pt x="39" y="5"/>
                      </a:lnTo>
                      <a:lnTo>
                        <a:pt x="39" y="4"/>
                      </a:lnTo>
                      <a:lnTo>
                        <a:pt x="39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2" y="30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2" y="35"/>
                      </a:lnTo>
                      <a:lnTo>
                        <a:pt x="4" y="37"/>
                      </a:lnTo>
                      <a:lnTo>
                        <a:pt x="5" y="39"/>
                      </a:lnTo>
                      <a:lnTo>
                        <a:pt x="7" y="39"/>
                      </a:lnTo>
                      <a:lnTo>
                        <a:pt x="9" y="37"/>
                      </a:lnTo>
                      <a:lnTo>
                        <a:pt x="10" y="35"/>
                      </a:lnTo>
                      <a:lnTo>
                        <a:pt x="3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4676760" y="30942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6" h="40">
                      <a:moveTo>
                        <a:pt x="36" y="9"/>
                      </a:moveTo>
                      <a:lnTo>
                        <a:pt x="36" y="7"/>
                      </a:lnTo>
                      <a:lnTo>
                        <a:pt x="36" y="5"/>
                      </a:lnTo>
                      <a:lnTo>
                        <a:pt x="36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2"/>
                      </a:lnTo>
                      <a:lnTo>
                        <a:pt x="28" y="4"/>
                      </a:lnTo>
                      <a:lnTo>
                        <a:pt x="1" y="34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1" y="39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6" y="40"/>
                      </a:lnTo>
                      <a:lnTo>
                        <a:pt x="8" y="40"/>
                      </a:lnTo>
                      <a:lnTo>
                        <a:pt x="10" y="39"/>
                      </a:lnTo>
                      <a:lnTo>
                        <a:pt x="3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4640400" y="3135240"/>
                  <a:ext cx="29880" cy="32040"/>
                </a:xfrm>
                <a:custGeom>
                  <a:avLst/>
                  <a:gdLst/>
                  <a:ahLst/>
                  <a:rect l="l" t="t" r="r" b="b"/>
                  <a:pathLst>
                    <a:path w="36" h="40">
                      <a:moveTo>
                        <a:pt x="35" y="6"/>
                      </a:moveTo>
                      <a:lnTo>
                        <a:pt x="36" y="5"/>
                      </a:lnTo>
                      <a:lnTo>
                        <a:pt x="36" y="3"/>
                      </a:lnTo>
                      <a:lnTo>
                        <a:pt x="35" y="1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6" y="1"/>
                      </a:lnTo>
                      <a:lnTo>
                        <a:pt x="13" y="16"/>
                      </a:lnTo>
                      <a:lnTo>
                        <a:pt x="1" y="33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1" y="38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6" y="40"/>
                      </a:lnTo>
                      <a:lnTo>
                        <a:pt x="8" y="40"/>
                      </a:lnTo>
                      <a:lnTo>
                        <a:pt x="10" y="38"/>
                      </a:lnTo>
                      <a:lnTo>
                        <a:pt x="21" y="21"/>
                      </a:lnTo>
                      <a:lnTo>
                        <a:pt x="3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4606920" y="3178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35" y="8"/>
                      </a:moveTo>
                      <a:lnTo>
                        <a:pt x="35" y="7"/>
                      </a:lnTo>
                      <a:lnTo>
                        <a:pt x="35" y="5"/>
                      </a:lnTo>
                      <a:lnTo>
                        <a:pt x="35" y="3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9" y="2"/>
                      </a:lnTo>
                      <a:lnTo>
                        <a:pt x="27" y="3"/>
                      </a:lnTo>
                      <a:lnTo>
                        <a:pt x="2" y="35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2" y="40"/>
                      </a:lnTo>
                      <a:lnTo>
                        <a:pt x="4" y="42"/>
                      </a:lnTo>
                      <a:lnTo>
                        <a:pt x="5" y="42"/>
                      </a:lnTo>
                      <a:lnTo>
                        <a:pt x="7" y="42"/>
                      </a:lnTo>
                      <a:lnTo>
                        <a:pt x="9" y="42"/>
                      </a:lnTo>
                      <a:lnTo>
                        <a:pt x="10" y="40"/>
                      </a:lnTo>
                      <a:lnTo>
                        <a:pt x="3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4575240" y="3222720"/>
                  <a:ext cx="25200" cy="33120"/>
                </a:xfrm>
                <a:custGeom>
                  <a:avLst/>
                  <a:gdLst/>
                  <a:ahLst/>
                  <a:rect l="l" t="t" r="r" b="b"/>
                  <a:pathLst>
                    <a:path w="32" h="41">
                      <a:moveTo>
                        <a:pt x="32" y="6"/>
                      </a:moveTo>
                      <a:lnTo>
                        <a:pt x="32" y="5"/>
                      </a:lnTo>
                      <a:lnTo>
                        <a:pt x="32" y="3"/>
                      </a:lnTo>
                      <a:lnTo>
                        <a:pt x="32" y="1"/>
                      </a:lnTo>
                      <a:lnTo>
                        <a:pt x="30" y="0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4" y="1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2" y="41"/>
                      </a:lnTo>
                      <a:lnTo>
                        <a:pt x="4" y="41"/>
                      </a:lnTo>
                      <a:lnTo>
                        <a:pt x="5" y="41"/>
                      </a:lnTo>
                      <a:lnTo>
                        <a:pt x="7" y="41"/>
                      </a:lnTo>
                      <a:lnTo>
                        <a:pt x="9" y="40"/>
                      </a:lnTo>
                      <a:lnTo>
                        <a:pt x="3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4543560" y="3268800"/>
                  <a:ext cx="25200" cy="331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32" y="9"/>
                      </a:moveTo>
                      <a:lnTo>
                        <a:pt x="32" y="7"/>
                      </a:lnTo>
                      <a:lnTo>
                        <a:pt x="32" y="5"/>
                      </a:lnTo>
                      <a:lnTo>
                        <a:pt x="32" y="4"/>
                      </a:lnTo>
                      <a:lnTo>
                        <a:pt x="30" y="2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4" y="4"/>
                      </a:lnTo>
                      <a:lnTo>
                        <a:pt x="10" y="20"/>
                      </a:lnTo>
                      <a:lnTo>
                        <a:pt x="2" y="37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4" y="44"/>
                      </a:lnTo>
                      <a:lnTo>
                        <a:pt x="5" y="44"/>
                      </a:lnTo>
                      <a:lnTo>
                        <a:pt x="7" y="44"/>
                      </a:lnTo>
                      <a:lnTo>
                        <a:pt x="9" y="44"/>
                      </a:lnTo>
                      <a:lnTo>
                        <a:pt x="10" y="42"/>
                      </a:lnTo>
                      <a:lnTo>
                        <a:pt x="19" y="25"/>
                      </a:lnTo>
                      <a:lnTo>
                        <a:pt x="3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4513320" y="3314880"/>
                  <a:ext cx="25200" cy="34920"/>
                </a:xfrm>
                <a:custGeom>
                  <a:avLst/>
                  <a:gdLst/>
                  <a:ahLst/>
                  <a:rect l="l" t="t" r="r" b="b"/>
                  <a:pathLst>
                    <a:path w="31" h="45">
                      <a:moveTo>
                        <a:pt x="30" y="8"/>
                      </a:move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0" y="3"/>
                      </a:lnTo>
                      <a:lnTo>
                        <a:pt x="28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3" y="1"/>
                      </a:lnTo>
                      <a:lnTo>
                        <a:pt x="21" y="3"/>
                      </a:lnTo>
                      <a:lnTo>
                        <a:pt x="1" y="36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1" y="41"/>
                      </a:lnTo>
                      <a:lnTo>
                        <a:pt x="3" y="43"/>
                      </a:lnTo>
                      <a:lnTo>
                        <a:pt x="5" y="45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3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4487760" y="3362400"/>
                  <a:ext cx="22320" cy="36360"/>
                </a:xfrm>
                <a:custGeom>
                  <a:avLst/>
                  <a:gdLst/>
                  <a:ahLst/>
                  <a:rect l="l" t="t" r="r" b="b"/>
                  <a:pathLst>
                    <a:path w="29" h="46">
                      <a:moveTo>
                        <a:pt x="29" y="8"/>
                      </a:moveTo>
                      <a:lnTo>
                        <a:pt x="29" y="6"/>
                      </a:lnTo>
                      <a:lnTo>
                        <a:pt x="29" y="5"/>
                      </a:lnTo>
                      <a:lnTo>
                        <a:pt x="29" y="3"/>
                      </a:lnTo>
                      <a:lnTo>
                        <a:pt x="27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1"/>
                      </a:lnTo>
                      <a:lnTo>
                        <a:pt x="20" y="3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4" y="46"/>
                      </a:lnTo>
                      <a:lnTo>
                        <a:pt x="5" y="46"/>
                      </a:lnTo>
                      <a:lnTo>
                        <a:pt x="7" y="45"/>
                      </a:lnTo>
                      <a:lnTo>
                        <a:pt x="9" y="43"/>
                      </a:lnTo>
                      <a:lnTo>
                        <a:pt x="2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4460760" y="3411720"/>
                  <a:ext cx="22320" cy="3636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9"/>
                      </a:moveTo>
                      <a:lnTo>
                        <a:pt x="28" y="7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7" y="2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2" y="2"/>
                      </a:lnTo>
                      <a:lnTo>
                        <a:pt x="20" y="4"/>
                      </a:lnTo>
                      <a:lnTo>
                        <a:pt x="10" y="20"/>
                      </a:lnTo>
                      <a:lnTo>
                        <a:pt x="10" y="22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2" y="44"/>
                      </a:lnTo>
                      <a:lnTo>
                        <a:pt x="3" y="45"/>
                      </a:lnTo>
                      <a:lnTo>
                        <a:pt x="5" y="47"/>
                      </a:lnTo>
                      <a:lnTo>
                        <a:pt x="7" y="47"/>
                      </a:lnTo>
                      <a:lnTo>
                        <a:pt x="8" y="45"/>
                      </a:lnTo>
                      <a:lnTo>
                        <a:pt x="10" y="44"/>
                      </a:lnTo>
                      <a:lnTo>
                        <a:pt x="10" y="42"/>
                      </a:lnTo>
                      <a:lnTo>
                        <a:pt x="20" y="24"/>
                      </a:lnTo>
                      <a:lnTo>
                        <a:pt x="15" y="22"/>
                      </a:lnTo>
                      <a:lnTo>
                        <a:pt x="18" y="25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4438800" y="3460680"/>
                  <a:ext cx="20520" cy="38160"/>
                </a:xfrm>
                <a:custGeom>
                  <a:avLst/>
                  <a:gdLst/>
                  <a:ahLst/>
                  <a:rect l="l" t="t" r="r" b="b"/>
                  <a:pathLst>
                    <a:path w="26" h="46">
                      <a:moveTo>
                        <a:pt x="26" y="6"/>
                      </a:moveTo>
                      <a:lnTo>
                        <a:pt x="26" y="5"/>
                      </a:lnTo>
                      <a:lnTo>
                        <a:pt x="25" y="3"/>
                      </a:lnTo>
                      <a:lnTo>
                        <a:pt x="23" y="1"/>
                      </a:lnTo>
                      <a:lnTo>
                        <a:pt x="21" y="0"/>
                      </a:lnTo>
                      <a:lnTo>
                        <a:pt x="20" y="0"/>
                      </a:lnTo>
                      <a:lnTo>
                        <a:pt x="18" y="1"/>
                      </a:lnTo>
                      <a:lnTo>
                        <a:pt x="16" y="3"/>
                      </a:lnTo>
                      <a:lnTo>
                        <a:pt x="16" y="5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1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4417920" y="3513240"/>
                  <a:ext cx="19080" cy="3636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25" y="5"/>
                      </a:moveTo>
                      <a:lnTo>
                        <a:pt x="25" y="3"/>
                      </a:lnTo>
                      <a:lnTo>
                        <a:pt x="23" y="1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5" y="3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2" y="43"/>
                      </a:lnTo>
                      <a:lnTo>
                        <a:pt x="3" y="45"/>
                      </a:lnTo>
                      <a:lnTo>
                        <a:pt x="5" y="46"/>
                      </a:lnTo>
                      <a:lnTo>
                        <a:pt x="7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0" y="41"/>
                      </a:lnTo>
                      <a:lnTo>
                        <a:pt x="2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4398840" y="3564000"/>
                  <a:ext cx="19080" cy="38160"/>
                </a:xfrm>
                <a:custGeom>
                  <a:avLst/>
                  <a:gdLst/>
                  <a:ahLst/>
                  <a:rect l="l" t="t" r="r" b="b"/>
                  <a:pathLst>
                    <a:path w="23" h="46">
                      <a:moveTo>
                        <a:pt x="23" y="5"/>
                      </a:moveTo>
                      <a:lnTo>
                        <a:pt x="23" y="3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8" y="16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1" y="46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8" y="18"/>
                      </a:lnTo>
                      <a:lnTo>
                        <a:pt x="2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4381560" y="3618000"/>
                  <a:ext cx="17280" cy="36360"/>
                </a:xfrm>
                <a:custGeom>
                  <a:avLst/>
                  <a:gdLst/>
                  <a:ahLst/>
                  <a:rect l="l" t="t" r="r" b="b"/>
                  <a:pathLst>
                    <a:path w="22" h="47">
                      <a:moveTo>
                        <a:pt x="22" y="5"/>
                      </a:moveTo>
                      <a:lnTo>
                        <a:pt x="22" y="4"/>
                      </a:lnTo>
                      <a:lnTo>
                        <a:pt x="22" y="2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3" y="2"/>
                      </a:lnTo>
                      <a:lnTo>
                        <a:pt x="12" y="4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2" y="45"/>
                      </a:lnTo>
                      <a:lnTo>
                        <a:pt x="3" y="47"/>
                      </a:lnTo>
                      <a:lnTo>
                        <a:pt x="5" y="47"/>
                      </a:lnTo>
                      <a:lnTo>
                        <a:pt x="7" y="47"/>
                      </a:lnTo>
                      <a:lnTo>
                        <a:pt x="8" y="47"/>
                      </a:lnTo>
                      <a:lnTo>
                        <a:pt x="10" y="45"/>
                      </a:lnTo>
                      <a:lnTo>
                        <a:pt x="10" y="44"/>
                      </a:lnTo>
                      <a:lnTo>
                        <a:pt x="2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4368960" y="3670200"/>
                  <a:ext cx="15840" cy="38160"/>
                </a:xfrm>
                <a:custGeom>
                  <a:avLst/>
                  <a:gdLst/>
                  <a:ahLst/>
                  <a:rect l="l" t="t" r="r" b="b"/>
                  <a:pathLst>
                    <a:path w="20" h="48">
                      <a:moveTo>
                        <a:pt x="20" y="5"/>
                      </a:moveTo>
                      <a:lnTo>
                        <a:pt x="20" y="3"/>
                      </a:lnTo>
                      <a:lnTo>
                        <a:pt x="19" y="2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4" y="28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4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9" y="47"/>
                      </a:lnTo>
                      <a:lnTo>
                        <a:pt x="10" y="45"/>
                      </a:lnTo>
                      <a:lnTo>
                        <a:pt x="14" y="30"/>
                      </a:lnTo>
                      <a:lnTo>
                        <a:pt x="2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4356000" y="372420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9" h="49">
                      <a:moveTo>
                        <a:pt x="19" y="5"/>
                      </a:moveTo>
                      <a:lnTo>
                        <a:pt x="19" y="4"/>
                      </a:lnTo>
                      <a:lnTo>
                        <a:pt x="17" y="2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7" y="10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9"/>
                      </a:lnTo>
                      <a:lnTo>
                        <a:pt x="5" y="49"/>
                      </a:lnTo>
                      <a:lnTo>
                        <a:pt x="7" y="49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7" y="12"/>
                      </a:lnTo>
                      <a:lnTo>
                        <a:pt x="1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4346640" y="3778200"/>
                  <a:ext cx="14040" cy="39960"/>
                </a:xfrm>
                <a:custGeom>
                  <a:avLst/>
                  <a:gdLst/>
                  <a:ahLst/>
                  <a:rect l="l" t="t" r="r" b="b"/>
                  <a:pathLst>
                    <a:path w="16" h="50">
                      <a:moveTo>
                        <a:pt x="16" y="5"/>
                      </a:moveTo>
                      <a:lnTo>
                        <a:pt x="16" y="3"/>
                      </a:lnTo>
                      <a:lnTo>
                        <a:pt x="16" y="1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6" y="3"/>
                      </a:lnTo>
                      <a:lnTo>
                        <a:pt x="1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1" y="46"/>
                      </a:lnTo>
                      <a:lnTo>
                        <a:pt x="3" y="48"/>
                      </a:lnTo>
                      <a:lnTo>
                        <a:pt x="5" y="50"/>
                      </a:lnTo>
                      <a:lnTo>
                        <a:pt x="6" y="50"/>
                      </a:lnTo>
                      <a:lnTo>
                        <a:pt x="8" y="48"/>
                      </a:lnTo>
                      <a:lnTo>
                        <a:pt x="10" y="46"/>
                      </a:lnTo>
                      <a:lnTo>
                        <a:pt x="10" y="45"/>
                      </a:lnTo>
                      <a:lnTo>
                        <a:pt x="11" y="43"/>
                      </a:lnTo>
                      <a:lnTo>
                        <a:pt x="1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4341960" y="3834000"/>
                  <a:ext cx="10800" cy="39600"/>
                </a:xfrm>
                <a:custGeom>
                  <a:avLst/>
                  <a:gdLst/>
                  <a:ahLst/>
                  <a:rect l="l" t="t" r="r" b="b"/>
                  <a:pathLst>
                    <a:path w="13" h="48">
                      <a:moveTo>
                        <a:pt x="13" y="5"/>
                      </a:moveTo>
                      <a:lnTo>
                        <a:pt x="13" y="3"/>
                      </a:ln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3" y="3"/>
                      </a:lnTo>
                      <a:lnTo>
                        <a:pt x="2" y="2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6"/>
                      </a:lnTo>
                      <a:lnTo>
                        <a:pt x="2" y="48"/>
                      </a:lnTo>
                      <a:lnTo>
                        <a:pt x="3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8" y="46"/>
                      </a:lnTo>
                      <a:lnTo>
                        <a:pt x="10" y="45"/>
                      </a:lnTo>
                      <a:lnTo>
                        <a:pt x="12" y="23"/>
                      </a:lnTo>
                      <a:lnTo>
                        <a:pt x="1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4338720" y="388944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2" h="50">
                      <a:moveTo>
                        <a:pt x="12" y="7"/>
                      </a:move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2" y="50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48"/>
                      </a:lnTo>
                      <a:lnTo>
                        <a:pt x="10" y="47"/>
                      </a:lnTo>
                      <a:lnTo>
                        <a:pt x="1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4336920" y="3944880"/>
                  <a:ext cx="7920" cy="3996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10" y="7"/>
                      </a:moveTo>
                      <a:lnTo>
                        <a:pt x="10" y="5"/>
                      </a:lnTo>
                      <a:lnTo>
                        <a:pt x="10" y="3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38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50"/>
                      </a:lnTo>
                      <a:lnTo>
                        <a:pt x="10" y="48"/>
                      </a:lnTo>
                      <a:lnTo>
                        <a:pt x="10" y="47"/>
                      </a:lnTo>
                      <a:lnTo>
                        <a:pt x="10" y="4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4338720" y="400068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10" y="7"/>
                      </a:moveTo>
                      <a:lnTo>
                        <a:pt x="10" y="5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50"/>
                      </a:lnTo>
                      <a:lnTo>
                        <a:pt x="10" y="48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0" y="20"/>
                      </a:lnTo>
                      <a:lnTo>
                        <a:pt x="5" y="20"/>
                      </a:lnTo>
                      <a:lnTo>
                        <a:pt x="10" y="22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4338720" y="4056120"/>
                  <a:ext cx="12600" cy="3960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10" y="5"/>
                      </a:move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5" y="47"/>
                      </a:lnTo>
                      <a:lnTo>
                        <a:pt x="5" y="48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50"/>
                      </a:lnTo>
                      <a:lnTo>
                        <a:pt x="11" y="50"/>
                      </a:lnTo>
                      <a:lnTo>
                        <a:pt x="13" y="48"/>
                      </a:lnTo>
                      <a:lnTo>
                        <a:pt x="15" y="47"/>
                      </a:lnTo>
                      <a:lnTo>
                        <a:pt x="15" y="45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4346640" y="4111560"/>
                  <a:ext cx="11160" cy="399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10" y="5"/>
                      </a:move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3" y="33"/>
                      </a:lnTo>
                      <a:lnTo>
                        <a:pt x="5" y="45"/>
                      </a:lnTo>
                      <a:lnTo>
                        <a:pt x="5" y="47"/>
                      </a:lnTo>
                      <a:lnTo>
                        <a:pt x="7" y="48"/>
                      </a:lnTo>
                      <a:lnTo>
                        <a:pt x="8" y="50"/>
                      </a:lnTo>
                      <a:lnTo>
                        <a:pt x="10" y="50"/>
                      </a:lnTo>
                      <a:lnTo>
                        <a:pt x="12" y="48"/>
                      </a:lnTo>
                      <a:lnTo>
                        <a:pt x="13" y="47"/>
                      </a:lnTo>
                      <a:lnTo>
                        <a:pt x="15" y="45"/>
                      </a:lnTo>
                      <a:lnTo>
                        <a:pt x="15" y="43"/>
                      </a:lnTo>
                      <a:lnTo>
                        <a:pt x="13" y="32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4352760" y="4167360"/>
                  <a:ext cx="14400" cy="37800"/>
                </a:xfrm>
                <a:custGeom>
                  <a:avLst/>
                  <a:gdLst/>
                  <a:ahLst/>
                  <a:rect l="l" t="t" r="r" b="b"/>
                  <a:pathLst>
                    <a:path w="19" h="48">
                      <a:moveTo>
                        <a:pt x="10" y="3"/>
                      </a:moveTo>
                      <a:lnTo>
                        <a:pt x="10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15"/>
                      </a:lnTo>
                      <a:lnTo>
                        <a:pt x="9" y="45"/>
                      </a:lnTo>
                      <a:lnTo>
                        <a:pt x="9" y="47"/>
                      </a:lnTo>
                      <a:lnTo>
                        <a:pt x="10" y="48"/>
                      </a:lnTo>
                      <a:lnTo>
                        <a:pt x="12" y="48"/>
                      </a:lnTo>
                      <a:lnTo>
                        <a:pt x="14" y="48"/>
                      </a:lnTo>
                      <a:lnTo>
                        <a:pt x="15" y="48"/>
                      </a:lnTo>
                      <a:lnTo>
                        <a:pt x="17" y="47"/>
                      </a:lnTo>
                      <a:lnTo>
                        <a:pt x="19" y="45"/>
                      </a:lnTo>
                      <a:lnTo>
                        <a:pt x="19" y="43"/>
                      </a:lnTo>
                      <a:lnTo>
                        <a:pt x="12" y="13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4362480" y="4221360"/>
                  <a:ext cx="15840" cy="37800"/>
                </a:xfrm>
                <a:custGeom>
                  <a:avLst/>
                  <a:gdLst/>
                  <a:ahLst/>
                  <a:rect l="l" t="t" r="r" b="b"/>
                  <a:pathLst>
                    <a:path w="20" h="49">
                      <a:moveTo>
                        <a:pt x="10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0" y="45"/>
                      </a:lnTo>
                      <a:lnTo>
                        <a:pt x="10" y="47"/>
                      </a:lnTo>
                      <a:lnTo>
                        <a:pt x="11" y="49"/>
                      </a:lnTo>
                      <a:lnTo>
                        <a:pt x="13" y="49"/>
                      </a:lnTo>
                      <a:lnTo>
                        <a:pt x="15" y="49"/>
                      </a:lnTo>
                      <a:lnTo>
                        <a:pt x="16" y="49"/>
                      </a:lnTo>
                      <a:lnTo>
                        <a:pt x="18" y="47"/>
                      </a:lnTo>
                      <a:lnTo>
                        <a:pt x="20" y="45"/>
                      </a:lnTo>
                      <a:lnTo>
                        <a:pt x="20" y="4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4376880" y="4275360"/>
                  <a:ext cx="17280" cy="37800"/>
                </a:xfrm>
                <a:custGeom>
                  <a:avLst/>
                  <a:gdLst/>
                  <a:ahLst/>
                  <a:rect l="l" t="t" r="r" b="b"/>
                  <a:pathLst>
                    <a:path w="22" h="48">
                      <a:moveTo>
                        <a:pt x="10" y="3"/>
                      </a:move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5" y="26"/>
                      </a:lnTo>
                      <a:lnTo>
                        <a:pt x="12" y="43"/>
                      </a:lnTo>
                      <a:lnTo>
                        <a:pt x="12" y="45"/>
                      </a:lnTo>
                      <a:lnTo>
                        <a:pt x="14" y="46"/>
                      </a:lnTo>
                      <a:lnTo>
                        <a:pt x="15" y="48"/>
                      </a:lnTo>
                      <a:lnTo>
                        <a:pt x="17" y="48"/>
                      </a:lnTo>
                      <a:lnTo>
                        <a:pt x="19" y="46"/>
                      </a:lnTo>
                      <a:lnTo>
                        <a:pt x="20" y="45"/>
                      </a:lnTo>
                      <a:lnTo>
                        <a:pt x="22" y="43"/>
                      </a:lnTo>
                      <a:lnTo>
                        <a:pt x="22" y="41"/>
                      </a:lnTo>
                      <a:lnTo>
                        <a:pt x="15" y="25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4392720" y="432756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4" h="49">
                      <a:moveTo>
                        <a:pt x="10" y="4"/>
                      </a:moveTo>
                      <a:lnTo>
                        <a:pt x="10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4" y="44"/>
                      </a:lnTo>
                      <a:lnTo>
                        <a:pt x="14" y="45"/>
                      </a:lnTo>
                      <a:lnTo>
                        <a:pt x="15" y="47"/>
                      </a:lnTo>
                      <a:lnTo>
                        <a:pt x="17" y="49"/>
                      </a:lnTo>
                      <a:lnTo>
                        <a:pt x="19" y="49"/>
                      </a:lnTo>
                      <a:lnTo>
                        <a:pt x="20" y="47"/>
                      </a:lnTo>
                      <a:lnTo>
                        <a:pt x="22" y="45"/>
                      </a:lnTo>
                      <a:lnTo>
                        <a:pt x="24" y="44"/>
                      </a:lnTo>
                      <a:lnTo>
                        <a:pt x="24" y="42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4410000" y="4381560"/>
                  <a:ext cx="19080" cy="36360"/>
                </a:xfrm>
                <a:custGeom>
                  <a:avLst/>
                  <a:gdLst/>
                  <a:ahLst/>
                  <a:rect l="l" t="t" r="r" b="b"/>
                  <a:pathLst>
                    <a:path w="23" h="47">
                      <a:moveTo>
                        <a:pt x="10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3" y="43"/>
                      </a:lnTo>
                      <a:lnTo>
                        <a:pt x="15" y="45"/>
                      </a:lnTo>
                      <a:lnTo>
                        <a:pt x="16" y="47"/>
                      </a:lnTo>
                      <a:lnTo>
                        <a:pt x="18" y="47"/>
                      </a:lnTo>
                      <a:lnTo>
                        <a:pt x="20" y="47"/>
                      </a:lnTo>
                      <a:lnTo>
                        <a:pt x="21" y="47"/>
                      </a:lnTo>
                      <a:lnTo>
                        <a:pt x="23" y="45"/>
                      </a:lnTo>
                      <a:lnTo>
                        <a:pt x="23" y="43"/>
                      </a:lnTo>
                      <a:lnTo>
                        <a:pt x="23" y="42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4430520" y="4432320"/>
                  <a:ext cx="19080" cy="3672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10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5" y="20"/>
                      </a:lnTo>
                      <a:lnTo>
                        <a:pt x="15" y="42"/>
                      </a:lnTo>
                      <a:lnTo>
                        <a:pt x="16" y="43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1" y="47"/>
                      </a:lnTo>
                      <a:lnTo>
                        <a:pt x="23" y="45"/>
                      </a:lnTo>
                      <a:lnTo>
                        <a:pt x="25" y="43"/>
                      </a:lnTo>
                      <a:lnTo>
                        <a:pt x="25" y="42"/>
                      </a:lnTo>
                      <a:lnTo>
                        <a:pt x="25" y="40"/>
                      </a:lnTo>
                      <a:lnTo>
                        <a:pt x="15" y="18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4452840" y="4483080"/>
                  <a:ext cx="20880" cy="3672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0" y="5"/>
                      </a:move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7" y="42"/>
                      </a:lnTo>
                      <a:lnTo>
                        <a:pt x="17" y="44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5"/>
                      </a:lnTo>
                      <a:lnTo>
                        <a:pt x="25" y="44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4476600" y="4532400"/>
                  <a:ext cx="24120" cy="36360"/>
                </a:xfrm>
                <a:custGeom>
                  <a:avLst/>
                  <a:gdLst/>
                  <a:ahLst/>
                  <a:rect l="l" t="t" r="r" b="b"/>
                  <a:pathLst>
                    <a:path w="30" h="45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20" y="43"/>
                      </a:lnTo>
                      <a:lnTo>
                        <a:pt x="22" y="45"/>
                      </a:ln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7" y="45"/>
                      </a:lnTo>
                      <a:lnTo>
                        <a:pt x="28" y="43"/>
                      </a:lnTo>
                      <a:lnTo>
                        <a:pt x="30" y="41"/>
                      </a:lnTo>
                      <a:lnTo>
                        <a:pt x="30" y="40"/>
                      </a:lnTo>
                      <a:lnTo>
                        <a:pt x="28" y="38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4503600" y="4581720"/>
                  <a:ext cx="2556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10" y="2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7" y="17"/>
                      </a:lnTo>
                      <a:lnTo>
                        <a:pt x="22" y="42"/>
                      </a:lnTo>
                      <a:lnTo>
                        <a:pt x="24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9" y="44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2" y="39"/>
                      </a:lnTo>
                      <a:lnTo>
                        <a:pt x="30" y="37"/>
                      </a:lnTo>
                      <a:lnTo>
                        <a:pt x="15" y="12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4532400" y="4629240"/>
                  <a:ext cx="2520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8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2" y="42"/>
                      </a:lnTo>
                      <a:lnTo>
                        <a:pt x="23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8" y="44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2" y="39"/>
                      </a:lnTo>
                      <a:lnTo>
                        <a:pt x="30" y="37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4562280" y="4675320"/>
                  <a:ext cx="27000" cy="34920"/>
                </a:xfrm>
                <a:custGeom>
                  <a:avLst/>
                  <a:gdLst/>
                  <a:ahLst/>
                  <a:rect l="l" t="t" r="r" b="b"/>
                  <a:pathLst>
                    <a:path w="34" h="43">
                      <a:moveTo>
                        <a:pt x="9" y="3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4" y="40"/>
                      </a:lnTo>
                      <a:lnTo>
                        <a:pt x="25" y="41"/>
                      </a:lnTo>
                      <a:lnTo>
                        <a:pt x="27" y="43"/>
                      </a:lnTo>
                      <a:lnTo>
                        <a:pt x="29" y="43"/>
                      </a:lnTo>
                      <a:lnTo>
                        <a:pt x="30" y="41"/>
                      </a:lnTo>
                      <a:lnTo>
                        <a:pt x="32" y="40"/>
                      </a:lnTo>
                      <a:lnTo>
                        <a:pt x="34" y="38"/>
                      </a:lnTo>
                      <a:lnTo>
                        <a:pt x="34" y="36"/>
                      </a:lnTo>
                      <a:lnTo>
                        <a:pt x="32" y="35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4594320" y="472140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4" h="42">
                      <a:moveTo>
                        <a:pt x="9" y="4"/>
                      </a:move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7" y="17"/>
                      </a:lnTo>
                      <a:lnTo>
                        <a:pt x="25" y="40"/>
                      </a:lnTo>
                      <a:lnTo>
                        <a:pt x="27" y="42"/>
                      </a:lnTo>
                      <a:lnTo>
                        <a:pt x="29" y="42"/>
                      </a:lnTo>
                      <a:lnTo>
                        <a:pt x="30" y="42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4" y="39"/>
                      </a:lnTo>
                      <a:lnTo>
                        <a:pt x="34" y="37"/>
                      </a:lnTo>
                      <a:lnTo>
                        <a:pt x="34" y="35"/>
                      </a:lnTo>
                      <a:lnTo>
                        <a:pt x="15" y="12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4629240" y="47656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3" h="42">
                      <a:moveTo>
                        <a:pt x="8" y="2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5" y="38"/>
                      </a:lnTo>
                      <a:lnTo>
                        <a:pt x="26" y="40"/>
                      </a:lnTo>
                      <a:lnTo>
                        <a:pt x="28" y="42"/>
                      </a:lnTo>
                      <a:lnTo>
                        <a:pt x="30" y="42"/>
                      </a:lnTo>
                      <a:lnTo>
                        <a:pt x="31" y="40"/>
                      </a:lnTo>
                      <a:lnTo>
                        <a:pt x="33" y="38"/>
                      </a:lnTo>
                      <a:lnTo>
                        <a:pt x="33" y="37"/>
                      </a:lnTo>
                      <a:lnTo>
                        <a:pt x="33" y="35"/>
                      </a:lnTo>
                      <a:lnTo>
                        <a:pt x="33" y="33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4664160" y="48085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10" y="4"/>
                      </a:move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7" y="39"/>
                      </a:lnTo>
                      <a:lnTo>
                        <a:pt x="28" y="40"/>
                      </a:lnTo>
                      <a:lnTo>
                        <a:pt x="30" y="40"/>
                      </a:lnTo>
                      <a:lnTo>
                        <a:pt x="32" y="40"/>
                      </a:lnTo>
                      <a:lnTo>
                        <a:pt x="33" y="40"/>
                      </a:lnTo>
                      <a:lnTo>
                        <a:pt x="35" y="39"/>
                      </a:lnTo>
                      <a:lnTo>
                        <a:pt x="37" y="37"/>
                      </a:lnTo>
                      <a:lnTo>
                        <a:pt x="37" y="35"/>
                      </a:lnTo>
                      <a:lnTo>
                        <a:pt x="35" y="3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4700520" y="4849920"/>
                  <a:ext cx="28800" cy="31680"/>
                </a:xfrm>
                <a:custGeom>
                  <a:avLst/>
                  <a:gdLst/>
                  <a:ahLst/>
                  <a:rect l="l" t="t" r="r" b="b"/>
                  <a:pathLst>
                    <a:path w="36" h="38">
                      <a:moveTo>
                        <a:pt x="8" y="1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0" y="18"/>
                      </a:lnTo>
                      <a:lnTo>
                        <a:pt x="28" y="36"/>
                      </a:lnTo>
                      <a:lnTo>
                        <a:pt x="30" y="38"/>
                      </a:lnTo>
                      <a:lnTo>
                        <a:pt x="31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6" y="36"/>
                      </a:lnTo>
                      <a:lnTo>
                        <a:pt x="36" y="35"/>
                      </a:lnTo>
                      <a:lnTo>
                        <a:pt x="36" y="33"/>
                      </a:lnTo>
                      <a:lnTo>
                        <a:pt x="36" y="31"/>
                      </a:lnTo>
                      <a:lnTo>
                        <a:pt x="18" y="13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4738680" y="4889520"/>
                  <a:ext cx="30240" cy="3168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8" y="3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8" y="36"/>
                      </a:lnTo>
                      <a:lnTo>
                        <a:pt x="30" y="38"/>
                      </a:lnTo>
                      <a:lnTo>
                        <a:pt x="32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7" y="36"/>
                      </a:lnTo>
                      <a:lnTo>
                        <a:pt x="38" y="35"/>
                      </a:lnTo>
                      <a:lnTo>
                        <a:pt x="38" y="33"/>
                      </a:lnTo>
                      <a:lnTo>
                        <a:pt x="37" y="31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4776840" y="4929120"/>
                  <a:ext cx="31680" cy="30240"/>
                </a:xfrm>
                <a:custGeom>
                  <a:avLst/>
                  <a:gdLst/>
                  <a:ahLst/>
                  <a:rect l="l" t="t" r="r" b="b"/>
                  <a:pathLst>
                    <a:path w="40" h="36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34" y="36"/>
                      </a:lnTo>
                      <a:lnTo>
                        <a:pt x="35" y="36"/>
                      </a:lnTo>
                      <a:lnTo>
                        <a:pt x="37" y="36"/>
                      </a:lnTo>
                      <a:lnTo>
                        <a:pt x="39" y="36"/>
                      </a:lnTo>
                      <a:lnTo>
                        <a:pt x="40" y="35"/>
                      </a:lnTo>
                      <a:lnTo>
                        <a:pt x="40" y="33"/>
                      </a:lnTo>
                      <a:lnTo>
                        <a:pt x="40" y="31"/>
                      </a:lnTo>
                      <a:lnTo>
                        <a:pt x="40" y="30"/>
                      </a:lnTo>
                      <a:lnTo>
                        <a:pt x="39" y="2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4817880" y="4967280"/>
                  <a:ext cx="3204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8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22" y="27"/>
                      </a:lnTo>
                      <a:lnTo>
                        <a:pt x="33" y="37"/>
                      </a:lnTo>
                      <a:lnTo>
                        <a:pt x="35" y="37"/>
                      </a:lnTo>
                      <a:lnTo>
                        <a:pt x="37" y="37"/>
                      </a:lnTo>
                      <a:lnTo>
                        <a:pt x="38" y="37"/>
                      </a:lnTo>
                      <a:lnTo>
                        <a:pt x="40" y="35"/>
                      </a:lnTo>
                      <a:lnTo>
                        <a:pt x="40" y="34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38" y="29"/>
                      </a:lnTo>
                      <a:lnTo>
                        <a:pt x="27" y="19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4861080" y="500400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4" y="35"/>
                      </a:lnTo>
                      <a:lnTo>
                        <a:pt x="35" y="37"/>
                      </a:lnTo>
                      <a:lnTo>
                        <a:pt x="37" y="37"/>
                      </a:lnTo>
                      <a:lnTo>
                        <a:pt x="39" y="35"/>
                      </a:lnTo>
                      <a:lnTo>
                        <a:pt x="40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40" y="28"/>
                      </a:lnTo>
                      <a:lnTo>
                        <a:pt x="39" y="27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4902120" y="504036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8" y="2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35" y="33"/>
                      </a:lnTo>
                      <a:lnTo>
                        <a:pt x="36" y="35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1" y="32"/>
                      </a:lnTo>
                      <a:lnTo>
                        <a:pt x="41" y="30"/>
                      </a:lnTo>
                      <a:lnTo>
                        <a:pt x="41" y="28"/>
                      </a:lnTo>
                      <a:lnTo>
                        <a:pt x="41" y="27"/>
                      </a:lnTo>
                      <a:lnTo>
                        <a:pt x="40" y="25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4946760" y="50738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1" h="34">
                      <a:moveTo>
                        <a:pt x="8" y="0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35" y="34"/>
                      </a:lnTo>
                      <a:lnTo>
                        <a:pt x="36" y="34"/>
                      </a:lnTo>
                      <a:lnTo>
                        <a:pt x="38" y="34"/>
                      </a:lnTo>
                      <a:lnTo>
                        <a:pt x="40" y="34"/>
                      </a:lnTo>
                      <a:lnTo>
                        <a:pt x="41" y="32"/>
                      </a:lnTo>
                      <a:lnTo>
                        <a:pt x="41" y="30"/>
                      </a:lnTo>
                      <a:lnTo>
                        <a:pt x="41" y="29"/>
                      </a:lnTo>
                      <a:lnTo>
                        <a:pt x="41" y="27"/>
                      </a:lnTo>
                      <a:lnTo>
                        <a:pt x="40" y="2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4991040" y="510696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35" y="32"/>
                      </a:lnTo>
                      <a:lnTo>
                        <a:pt x="37" y="32"/>
                      </a:lnTo>
                      <a:lnTo>
                        <a:pt x="39" y="32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4" y="28"/>
                      </a:lnTo>
                      <a:lnTo>
                        <a:pt x="44" y="27"/>
                      </a:lnTo>
                      <a:lnTo>
                        <a:pt x="42" y="25"/>
                      </a:lnTo>
                      <a:lnTo>
                        <a:pt x="40" y="2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5037120" y="513864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15" y="18"/>
                      </a:lnTo>
                      <a:lnTo>
                        <a:pt x="35" y="30"/>
                      </a:lnTo>
                      <a:lnTo>
                        <a:pt x="36" y="32"/>
                      </a:lnTo>
                      <a:lnTo>
                        <a:pt x="38" y="32"/>
                      </a:lnTo>
                      <a:lnTo>
                        <a:pt x="40" y="30"/>
                      </a:lnTo>
                      <a:lnTo>
                        <a:pt x="41" y="28"/>
                      </a:lnTo>
                      <a:lnTo>
                        <a:pt x="43" y="27"/>
                      </a:lnTo>
                      <a:lnTo>
                        <a:pt x="43" y="25"/>
                      </a:lnTo>
                      <a:lnTo>
                        <a:pt x="41" y="23"/>
                      </a:lnTo>
                      <a:lnTo>
                        <a:pt x="40" y="22"/>
                      </a:lnTo>
                      <a:lnTo>
                        <a:pt x="20" y="1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5084640" y="5167440"/>
                  <a:ext cx="33480" cy="2520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7" y="1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7" y="31"/>
                      </a:lnTo>
                      <a:lnTo>
                        <a:pt x="38" y="31"/>
                      </a:lnTo>
                      <a:lnTo>
                        <a:pt x="40" y="31"/>
                      </a:lnTo>
                      <a:lnTo>
                        <a:pt x="42" y="31"/>
                      </a:lnTo>
                      <a:lnTo>
                        <a:pt x="43" y="30"/>
                      </a:lnTo>
                      <a:lnTo>
                        <a:pt x="43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2" y="23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5130720" y="519912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39" y="28"/>
                      </a:ln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4" y="28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5180040" y="522612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7" y="28"/>
                      </a:lnTo>
                      <a:lnTo>
                        <a:pt x="38" y="30"/>
                      </a:lnTo>
                      <a:lnTo>
                        <a:pt x="40" y="30"/>
                      </a:lnTo>
                      <a:lnTo>
                        <a:pt x="42" y="28"/>
                      </a:ln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3" y="22"/>
                      </a:lnTo>
                      <a:lnTo>
                        <a:pt x="42" y="2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5227560" y="5253120"/>
                  <a:ext cx="36720" cy="22320"/>
                </a:xfrm>
                <a:custGeom>
                  <a:avLst/>
                  <a:gdLst/>
                  <a:ahLst/>
                  <a:rect l="l" t="t" r="r" b="b"/>
                  <a:pathLst>
                    <a:path w="45" h="29">
                      <a:moveTo>
                        <a:pt x="6" y="2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6" y="29"/>
                      </a:lnTo>
                      <a:lnTo>
                        <a:pt x="38" y="29"/>
                      </a:lnTo>
                      <a:lnTo>
                        <a:pt x="40" y="29"/>
                      </a:lnTo>
                      <a:lnTo>
                        <a:pt x="41" y="29"/>
                      </a:ln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5" y="24"/>
                      </a:lnTo>
                      <a:lnTo>
                        <a:pt x="43" y="22"/>
                      </a:lnTo>
                      <a:lnTo>
                        <a:pt x="41" y="20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5276880" y="5278320"/>
                  <a:ext cx="36360" cy="2232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24" y="22"/>
                      </a:lnTo>
                      <a:lnTo>
                        <a:pt x="25" y="22"/>
                      </a:lnTo>
                      <a:lnTo>
                        <a:pt x="40" y="28"/>
                      </a:lnTo>
                      <a:lnTo>
                        <a:pt x="42" y="28"/>
                      </a:lnTo>
                      <a:lnTo>
                        <a:pt x="44" y="28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42" y="18"/>
                      </a:lnTo>
                      <a:lnTo>
                        <a:pt x="27" y="12"/>
                      </a:lnTo>
                      <a:lnTo>
                        <a:pt x="27" y="17"/>
                      </a:lnTo>
                      <a:lnTo>
                        <a:pt x="29" y="13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5327640" y="5302440"/>
                  <a:ext cx="34920" cy="21960"/>
                </a:xfrm>
                <a:custGeom>
                  <a:avLst/>
                  <a:gdLst/>
                  <a:ahLst/>
                  <a:rect l="l" t="t" r="r" b="b"/>
                  <a:pathLst>
                    <a:path w="45" h="26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40" y="26"/>
                      </a:lnTo>
                      <a:lnTo>
                        <a:pt x="41" y="26"/>
                      </a:lnTo>
                      <a:lnTo>
                        <a:pt x="43" y="25"/>
                      </a:lnTo>
                      <a:lnTo>
                        <a:pt x="45" y="23"/>
                      </a:lnTo>
                      <a:lnTo>
                        <a:pt x="45" y="21"/>
                      </a:lnTo>
                      <a:lnTo>
                        <a:pt x="45" y="20"/>
                      </a:lnTo>
                      <a:lnTo>
                        <a:pt x="45" y="18"/>
                      </a:lnTo>
                      <a:lnTo>
                        <a:pt x="43" y="16"/>
                      </a:lnTo>
                      <a:lnTo>
                        <a:pt x="41" y="16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5378400" y="532620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10" y="11"/>
                      </a:lnTo>
                      <a:lnTo>
                        <a:pt x="40" y="25"/>
                      </a:lnTo>
                      <a:lnTo>
                        <a:pt x="42" y="25"/>
                      </a:lnTo>
                      <a:lnTo>
                        <a:pt x="43" y="25"/>
                      </a:lnTo>
                      <a:lnTo>
                        <a:pt x="45" y="23"/>
                      </a:lnTo>
                      <a:lnTo>
                        <a:pt x="47" y="21"/>
                      </a:lnTo>
                      <a:lnTo>
                        <a:pt x="47" y="20"/>
                      </a:lnTo>
                      <a:lnTo>
                        <a:pt x="45" y="18"/>
                      </a:lnTo>
                      <a:lnTo>
                        <a:pt x="43" y="16"/>
                      </a:lnTo>
                      <a:lnTo>
                        <a:pt x="42" y="15"/>
                      </a:lnTo>
                      <a:lnTo>
                        <a:pt x="12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5427720" y="534816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42" y="25"/>
                      </a:lnTo>
                      <a:lnTo>
                        <a:pt x="44" y="25"/>
                      </a:lnTo>
                      <a:lnTo>
                        <a:pt x="45" y="25"/>
                      </a:lnTo>
                      <a:lnTo>
                        <a:pt x="47" y="24"/>
                      </a:lnTo>
                      <a:lnTo>
                        <a:pt x="47" y="22"/>
                      </a:lnTo>
                      <a:lnTo>
                        <a:pt x="47" y="20"/>
                      </a:lnTo>
                      <a:lnTo>
                        <a:pt x="47" y="19"/>
                      </a:lnTo>
                      <a:lnTo>
                        <a:pt x="45" y="17"/>
                      </a:lnTo>
                      <a:lnTo>
                        <a:pt x="44" y="1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5479920" y="536904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2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7"/>
                      </a:lnTo>
                      <a:lnTo>
                        <a:pt x="45" y="15"/>
                      </a:lnTo>
                      <a:lnTo>
                        <a:pt x="44" y="1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5530680" y="5389560"/>
                  <a:ext cx="38160" cy="1764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42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2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7"/>
                      </a:lnTo>
                      <a:lnTo>
                        <a:pt x="45" y="15"/>
                      </a:lnTo>
                      <a:lnTo>
                        <a:pt x="44" y="1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5584680" y="540720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42" y="24"/>
                      </a:lnTo>
                      <a:lnTo>
                        <a:pt x="43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8" y="19"/>
                      </a:lnTo>
                      <a:lnTo>
                        <a:pt x="48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3" y="1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5637240" y="542448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36" y="22"/>
                      </a:lnTo>
                      <a:lnTo>
                        <a:pt x="41" y="23"/>
                      </a:lnTo>
                      <a:lnTo>
                        <a:pt x="43" y="23"/>
                      </a:lnTo>
                      <a:lnTo>
                        <a:pt x="45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6" y="15"/>
                      </a:lnTo>
                      <a:lnTo>
                        <a:pt x="45" y="13"/>
                      </a:lnTo>
                      <a:lnTo>
                        <a:pt x="43" y="13"/>
                      </a:lnTo>
                      <a:lnTo>
                        <a:pt x="38" y="1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5689440" y="544212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42" y="20"/>
                      </a:ln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8"/>
                      </a:lnTo>
                      <a:lnTo>
                        <a:pt x="49" y="16"/>
                      </a:lnTo>
                      <a:lnTo>
                        <a:pt x="49" y="15"/>
                      </a:lnTo>
                      <a:lnTo>
                        <a:pt x="47" y="13"/>
                      </a:lnTo>
                      <a:lnTo>
                        <a:pt x="45" y="11"/>
                      </a:lnTo>
                      <a:lnTo>
                        <a:pt x="44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5743440" y="5456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28" y="17"/>
                      </a:lnTo>
                      <a:lnTo>
                        <a:pt x="43" y="20"/>
                      </a:lnTo>
                      <a:lnTo>
                        <a:pt x="45" y="20"/>
                      </a:lnTo>
                      <a:lnTo>
                        <a:pt x="47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7" y="12"/>
                      </a:lnTo>
                      <a:lnTo>
                        <a:pt x="45" y="10"/>
                      </a:lnTo>
                      <a:lnTo>
                        <a:pt x="3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5797440" y="54705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9"/>
                      </a:lnTo>
                      <a:lnTo>
                        <a:pt x="49" y="17"/>
                      </a:lnTo>
                      <a:lnTo>
                        <a:pt x="49" y="15"/>
                      </a:lnTo>
                      <a:lnTo>
                        <a:pt x="49" y="14"/>
                      </a:lnTo>
                      <a:lnTo>
                        <a:pt x="49" y="12"/>
                      </a:lnTo>
                      <a:lnTo>
                        <a:pt x="47" y="10"/>
                      </a:lnTo>
                      <a:lnTo>
                        <a:pt x="45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5851440" y="548496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8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18" y="13"/>
                      </a:lnTo>
                      <a:lnTo>
                        <a:pt x="43" y="18"/>
                      </a:lnTo>
                      <a:lnTo>
                        <a:pt x="45" y="18"/>
                      </a:lnTo>
                      <a:lnTo>
                        <a:pt x="46" y="18"/>
                      </a:lnTo>
                      <a:lnTo>
                        <a:pt x="48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8" y="12"/>
                      </a:lnTo>
                      <a:lnTo>
                        <a:pt x="46" y="10"/>
                      </a:lnTo>
                      <a:lnTo>
                        <a:pt x="45" y="8"/>
                      </a:lnTo>
                      <a:lnTo>
                        <a:pt x="20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5905440" y="549612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8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43" y="18"/>
                      </a:lnTo>
                      <a:lnTo>
                        <a:pt x="45" y="18"/>
                      </a:lnTo>
                      <a:lnTo>
                        <a:pt x="47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8" y="12"/>
                      </a:lnTo>
                      <a:lnTo>
                        <a:pt x="48" y="10"/>
                      </a:lnTo>
                      <a:lnTo>
                        <a:pt x="47" y="8"/>
                      </a:lnTo>
                      <a:lnTo>
                        <a:pt x="45" y="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5959440" y="5506920"/>
                  <a:ext cx="38160" cy="12960"/>
                </a:xfrm>
                <a:custGeom>
                  <a:avLst/>
                  <a:gdLst/>
                  <a:ahLst/>
                  <a:rect l="l" t="t" r="r" b="b"/>
                  <a:pathLst>
                    <a:path w="49" h="17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12" y="12"/>
                      </a:lnTo>
                      <a:lnTo>
                        <a:pt x="44" y="17"/>
                      </a:lnTo>
                      <a:lnTo>
                        <a:pt x="45" y="17"/>
                      </a:lnTo>
                      <a:lnTo>
                        <a:pt x="47" y="17"/>
                      </a:lnTo>
                      <a:lnTo>
                        <a:pt x="49" y="15"/>
                      </a:lnTo>
                      <a:lnTo>
                        <a:pt x="49" y="14"/>
                      </a:lnTo>
                      <a:lnTo>
                        <a:pt x="49" y="12"/>
                      </a:lnTo>
                      <a:lnTo>
                        <a:pt x="49" y="10"/>
                      </a:lnTo>
                      <a:lnTo>
                        <a:pt x="47" y="9"/>
                      </a:lnTo>
                      <a:lnTo>
                        <a:pt x="45" y="7"/>
                      </a:lnTo>
                      <a:lnTo>
                        <a:pt x="14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6013440" y="551664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7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43" y="17"/>
                      </a:lnTo>
                      <a:lnTo>
                        <a:pt x="45" y="17"/>
                      </a:lnTo>
                      <a:lnTo>
                        <a:pt x="46" y="17"/>
                      </a:lnTo>
                      <a:lnTo>
                        <a:pt x="48" y="15"/>
                      </a:lnTo>
                      <a:lnTo>
                        <a:pt x="50" y="13"/>
                      </a:lnTo>
                      <a:lnTo>
                        <a:pt x="50" y="12"/>
                      </a:lnTo>
                      <a:lnTo>
                        <a:pt x="48" y="10"/>
                      </a:lnTo>
                      <a:lnTo>
                        <a:pt x="46" y="8"/>
                      </a:lnTo>
                      <a:lnTo>
                        <a:pt x="45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6068880" y="5524560"/>
                  <a:ext cx="39960" cy="14400"/>
                </a:xfrm>
                <a:custGeom>
                  <a:avLst/>
                  <a:gdLst/>
                  <a:ahLst/>
                  <a:rect l="l" t="t" r="r" b="b"/>
                  <a:pathLst>
                    <a:path w="48" h="16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6" y="11"/>
                      </a:lnTo>
                      <a:lnTo>
                        <a:pt x="43" y="16"/>
                      </a:lnTo>
                      <a:lnTo>
                        <a:pt x="45" y="16"/>
                      </a:lnTo>
                      <a:lnTo>
                        <a:pt x="46" y="15"/>
                      </a:lnTo>
                      <a:lnTo>
                        <a:pt x="48" y="13"/>
                      </a:lnTo>
                      <a:lnTo>
                        <a:pt x="48" y="11"/>
                      </a:lnTo>
                      <a:lnTo>
                        <a:pt x="48" y="10"/>
                      </a:lnTo>
                      <a:lnTo>
                        <a:pt x="48" y="8"/>
                      </a:lnTo>
                      <a:lnTo>
                        <a:pt x="46" y="6"/>
                      </a:lnTo>
                      <a:lnTo>
                        <a:pt x="45" y="6"/>
                      </a:lnTo>
                      <a:lnTo>
                        <a:pt x="8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6124680" y="553248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45" y="15"/>
                      </a:lnTo>
                      <a:lnTo>
                        <a:pt x="47" y="15"/>
                      </a:lnTo>
                      <a:lnTo>
                        <a:pt x="48" y="15"/>
                      </a:lnTo>
                      <a:lnTo>
                        <a:pt x="50" y="13"/>
                      </a:lnTo>
                      <a:lnTo>
                        <a:pt x="50" y="11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6"/>
                      </a:lnTo>
                      <a:lnTo>
                        <a:pt x="47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6180120" y="554040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5"/>
                      </a:lnTo>
                      <a:lnTo>
                        <a:pt x="45" y="15"/>
                      </a:lnTo>
                      <a:lnTo>
                        <a:pt x="47" y="13"/>
                      </a:lnTo>
                      <a:lnTo>
                        <a:pt x="48" y="12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7"/>
                      </a:lnTo>
                      <a:lnTo>
                        <a:pt x="47" y="5"/>
                      </a:lnTo>
                      <a:lnTo>
                        <a:pt x="45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6235560" y="5545080"/>
                  <a:ext cx="39960" cy="1116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3"/>
                      </a:lnTo>
                      <a:lnTo>
                        <a:pt x="45" y="13"/>
                      </a:lnTo>
                      <a:lnTo>
                        <a:pt x="47" y="13"/>
                      </a:lnTo>
                      <a:lnTo>
                        <a:pt x="48" y="11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6"/>
                      </a:lnTo>
                      <a:lnTo>
                        <a:pt x="47" y="5"/>
                      </a:lnTo>
                      <a:lnTo>
                        <a:pt x="4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6291360" y="555012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2"/>
                      </a:lnTo>
                      <a:lnTo>
                        <a:pt x="45" y="12"/>
                      </a:lnTo>
                      <a:lnTo>
                        <a:pt x="47" y="12"/>
                      </a:lnTo>
                      <a:lnTo>
                        <a:pt x="48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48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6346800" y="5553000"/>
                  <a:ext cx="38160" cy="11160"/>
                </a:xfrm>
                <a:custGeom>
                  <a:avLst/>
                  <a:gdLst/>
                  <a:ahLst/>
                  <a:rect l="l" t="t" r="r" b="b"/>
                  <a:pathLst>
                    <a:path w="48" h="1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3"/>
                      </a:lnTo>
                      <a:lnTo>
                        <a:pt x="45" y="13"/>
                      </a:lnTo>
                      <a:lnTo>
                        <a:pt x="47" y="11"/>
                      </a:lnTo>
                      <a:lnTo>
                        <a:pt x="48" y="10"/>
                      </a:lnTo>
                      <a:lnTo>
                        <a:pt x="48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6400800" y="55562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6456240" y="5556240"/>
                  <a:ext cx="39960" cy="9720"/>
                </a:xfrm>
                <a:custGeom>
                  <a:avLst/>
                  <a:gdLst/>
                  <a:ahLst/>
                  <a:rect l="l" t="t" r="r" b="b"/>
                  <a:pathLst>
                    <a:path w="50" h="11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5" y="11"/>
                      </a:lnTo>
                      <a:lnTo>
                        <a:pt x="47" y="11"/>
                      </a:lnTo>
                      <a:lnTo>
                        <a:pt x="49" y="10"/>
                      </a:lnTo>
                      <a:lnTo>
                        <a:pt x="50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9" y="1"/>
                      </a:lnTo>
                      <a:lnTo>
                        <a:pt x="47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6512040" y="55580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5" y="0"/>
                      </a:move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lnTo>
                        <a:pt x="49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6567480" y="55562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5" y="0"/>
                      </a:move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6622920" y="5554800"/>
                  <a:ext cx="3996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2"/>
                      </a:move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lnTo>
                        <a:pt x="49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6678720" y="555156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2"/>
                      </a:move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6734160" y="5548320"/>
                  <a:ext cx="39600" cy="972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5" y="3"/>
                      </a:move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3"/>
                      </a:lnTo>
                      <a:lnTo>
                        <a:pt x="7" y="13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6789600" y="5541840"/>
                  <a:ext cx="39960" cy="11160"/>
                </a:xfrm>
                <a:custGeom>
                  <a:avLst/>
                  <a:gdLst/>
                  <a:ahLst/>
                  <a:rect l="l" t="t" r="r" b="b"/>
                  <a:pathLst>
                    <a:path w="50" h="14">
                      <a:moveTo>
                        <a:pt x="5" y="4"/>
                      </a:move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4"/>
                      </a:lnTo>
                      <a:lnTo>
                        <a:pt x="7" y="14"/>
                      </a:lnTo>
                      <a:lnTo>
                        <a:pt x="47" y="10"/>
                      </a:lnTo>
                      <a:lnTo>
                        <a:pt x="49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6845400" y="553572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" y="5"/>
                      </a:move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2" y="13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9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6900840" y="552780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9" h="15">
                      <a:moveTo>
                        <a:pt x="4" y="5"/>
                      </a:move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6954840" y="551988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7">
                      <a:moveTo>
                        <a:pt x="5" y="7"/>
                      </a:moveTo>
                      <a:lnTo>
                        <a:pt x="3" y="7"/>
                      </a:lnTo>
                      <a:lnTo>
                        <a:pt x="1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1" y="13"/>
                      </a:lnTo>
                      <a:lnTo>
                        <a:pt x="3" y="15"/>
                      </a:lnTo>
                      <a:lnTo>
                        <a:pt x="5" y="17"/>
                      </a:lnTo>
                      <a:lnTo>
                        <a:pt x="6" y="17"/>
                      </a:ln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7010280" y="5510160"/>
                  <a:ext cx="38160" cy="14400"/>
                </a:xfrm>
                <a:custGeom>
                  <a:avLst/>
                  <a:gdLst/>
                  <a:ahLst/>
                  <a:rect l="l" t="t" r="r" b="b"/>
                  <a:pathLst>
                    <a:path w="48" h="17">
                      <a:moveTo>
                        <a:pt x="3" y="7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3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lnTo>
                        <a:pt x="46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7064280" y="550080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8" h="17">
                      <a:moveTo>
                        <a:pt x="3" y="7"/>
                      </a:move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7118280" y="5488200"/>
                  <a:ext cx="39600" cy="14040"/>
                </a:xfrm>
                <a:custGeom>
                  <a:avLst/>
                  <a:gdLst/>
                  <a:ahLst/>
                  <a:rect l="l" t="t" r="r" b="b"/>
                  <a:pathLst>
                    <a:path w="50" h="18">
                      <a:moveTo>
                        <a:pt x="5" y="8"/>
                      </a:move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7"/>
                      </a:lnTo>
                      <a:lnTo>
                        <a:pt x="5" y="18"/>
                      </a:lnTo>
                      <a:lnTo>
                        <a:pt x="7" y="18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7172280" y="547524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5" y="10"/>
                      </a:move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7"/>
                      </a:lnTo>
                      <a:lnTo>
                        <a:pt x="3" y="19"/>
                      </a:lnTo>
                      <a:lnTo>
                        <a:pt x="5" y="20"/>
                      </a:lnTo>
                      <a:lnTo>
                        <a:pt x="6" y="20"/>
                      </a:lnTo>
                      <a:lnTo>
                        <a:pt x="45" y="10"/>
                      </a:lnTo>
                      <a:lnTo>
                        <a:pt x="46" y="10"/>
                      </a:lnTo>
                      <a:lnTo>
                        <a:pt x="48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6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7227720" y="546120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3" y="10"/>
                      </a:moveTo>
                      <a:lnTo>
                        <a:pt x="2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2" y="18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43" y="10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8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8" y="3"/>
                      </a:lnTo>
                      <a:lnTo>
                        <a:pt x="47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7280280" y="5445000"/>
                  <a:ext cx="39600" cy="17640"/>
                </a:xfrm>
                <a:custGeom>
                  <a:avLst/>
                  <a:gdLst/>
                  <a:ahLst/>
                  <a:rect l="l" t="t" r="r" b="b"/>
                  <a:pathLst>
                    <a:path w="50" h="21">
                      <a:moveTo>
                        <a:pt x="5" y="11"/>
                      </a:moveTo>
                      <a:lnTo>
                        <a:pt x="3" y="13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20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6" y="21"/>
                      </a:lnTo>
                      <a:lnTo>
                        <a:pt x="45" y="10"/>
                      </a:lnTo>
                      <a:lnTo>
                        <a:pt x="46" y="10"/>
                      </a:ln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8" y="3"/>
                      </a:lnTo>
                      <a:lnTo>
                        <a:pt x="46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7334280" y="54309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3" y="10"/>
                      </a:move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2" y="20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32" y="14"/>
                      </a:lnTo>
                      <a:lnTo>
                        <a:pt x="43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0" y="4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7386480" y="5413320"/>
                  <a:ext cx="39960" cy="1764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3" y="13"/>
                      </a:move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2"/>
                      </a:lnTo>
                      <a:lnTo>
                        <a:pt x="3" y="23"/>
                      </a:lnTo>
                      <a:lnTo>
                        <a:pt x="5" y="23"/>
                      </a:lnTo>
                      <a:lnTo>
                        <a:pt x="43" y="10"/>
                      </a:ln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6" y="3"/>
                      </a:lnTo>
                      <a:lnTo>
                        <a:pt x="45" y="2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7440480" y="539604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47" h="24">
                      <a:moveTo>
                        <a:pt x="4" y="14"/>
                      </a:moveTo>
                      <a:lnTo>
                        <a:pt x="2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20" y="19"/>
                      </a:lnTo>
                      <a:lnTo>
                        <a:pt x="44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19" y="9"/>
                      </a:lnTo>
                      <a:lnTo>
                        <a:pt x="4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7491240" y="537516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4">
                      <a:moveTo>
                        <a:pt x="5" y="14"/>
                      </a:move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7" y="24"/>
                      </a:lnTo>
                      <a:lnTo>
                        <a:pt x="44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7545240" y="535464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3" y="16"/>
                      </a:moveTo>
                      <a:lnTo>
                        <a:pt x="2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7" y="25"/>
                      </a:lnTo>
                      <a:lnTo>
                        <a:pt x="42" y="10"/>
                      </a:lnTo>
                      <a:lnTo>
                        <a:pt x="43" y="10"/>
                      </a:lnTo>
                      <a:lnTo>
                        <a:pt x="45" y="8"/>
                      </a:lnTo>
                      <a:lnTo>
                        <a:pt x="47" y="6"/>
                      </a:lnTo>
                      <a:lnTo>
                        <a:pt x="47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5" y="15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7594560" y="53341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5" y="15"/>
                      </a:moveTo>
                      <a:lnTo>
                        <a:pt x="4" y="17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2" y="23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7" y="25"/>
                      </a:lnTo>
                      <a:lnTo>
                        <a:pt x="44" y="10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7647120" y="5310360"/>
                  <a:ext cx="36360" cy="2196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4" y="16"/>
                      </a:moveTo>
                      <a:lnTo>
                        <a:pt x="2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4" y="26"/>
                      </a:lnTo>
                      <a:lnTo>
                        <a:pt x="5" y="26"/>
                      </a:lnTo>
                      <a:lnTo>
                        <a:pt x="42" y="10"/>
                      </a:lnTo>
                      <a:lnTo>
                        <a:pt x="44" y="8"/>
                      </a:lnTo>
                      <a:lnTo>
                        <a:pt x="45" y="6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1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7696080" y="5286600"/>
                  <a:ext cx="38160" cy="21960"/>
                </a:xfrm>
                <a:custGeom>
                  <a:avLst/>
                  <a:gdLst/>
                  <a:ahLst/>
                  <a:rect l="l" t="t" r="r" b="b"/>
                  <a:pathLst>
                    <a:path w="46" h="26">
                      <a:moveTo>
                        <a:pt x="3" y="16"/>
                      </a:moveTo>
                      <a:lnTo>
                        <a:pt x="1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6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40" y="10"/>
                      </a:lnTo>
                      <a:lnTo>
                        <a:pt x="41" y="10"/>
                      </a:ln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6" y="5"/>
                      </a:lnTo>
                      <a:lnTo>
                        <a:pt x="46" y="3"/>
                      </a:lnTo>
                      <a:lnTo>
                        <a:pt x="45" y="1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40" y="5"/>
                      </a:lnTo>
                      <a:lnTo>
                        <a:pt x="38" y="0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7746840" y="5261040"/>
                  <a:ext cx="367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2" y="20"/>
                      </a:move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7" y="29"/>
                      </a:lnTo>
                      <a:lnTo>
                        <a:pt x="42" y="10"/>
                      </a:lnTo>
                      <a:lnTo>
                        <a:pt x="43" y="9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3" y="4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7" y="2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7796160" y="5235480"/>
                  <a:ext cx="34920" cy="2232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1" y="20"/>
                      </a:move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1" y="28"/>
                      </a:lnTo>
                      <a:lnTo>
                        <a:pt x="3" y="28"/>
                      </a:lnTo>
                      <a:lnTo>
                        <a:pt x="5" y="28"/>
                      </a:lnTo>
                      <a:lnTo>
                        <a:pt x="6" y="28"/>
                      </a:lnTo>
                      <a:lnTo>
                        <a:pt x="25" y="18"/>
                      </a:lnTo>
                      <a:lnTo>
                        <a:pt x="41" y="8"/>
                      </a:lnTo>
                      <a:lnTo>
                        <a:pt x="43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20" y="10"/>
                      </a:lnTo>
                      <a:lnTo>
                        <a:pt x="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7845480" y="5207040"/>
                  <a:ext cx="33120" cy="23760"/>
                </a:xfrm>
                <a:custGeom>
                  <a:avLst/>
                  <a:gdLst/>
                  <a:ahLst/>
                  <a:rect l="l" t="t" r="r" b="b"/>
                  <a:pathLst>
                    <a:path w="44" h="30">
                      <a:moveTo>
                        <a:pt x="2" y="20"/>
                      </a:move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2" y="28"/>
                      </a:lnTo>
                      <a:lnTo>
                        <a:pt x="4" y="30"/>
                      </a:lnTo>
                      <a:lnTo>
                        <a:pt x="5" y="30"/>
                      </a:lnTo>
                      <a:lnTo>
                        <a:pt x="7" y="28"/>
                      </a:lnTo>
                      <a:lnTo>
                        <a:pt x="42" y="8"/>
                      </a:lnTo>
                      <a:lnTo>
                        <a:pt x="44" y="6"/>
                      </a:lnTo>
                      <a:lnTo>
                        <a:pt x="44" y="5"/>
                      </a:lnTo>
                      <a:lnTo>
                        <a:pt x="44" y="3"/>
                      </a:lnTo>
                      <a:lnTo>
                        <a:pt x="44" y="1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7893000" y="5178600"/>
                  <a:ext cx="33480" cy="252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2" y="22"/>
                      </a:move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2" y="30"/>
                      </a:lnTo>
                      <a:lnTo>
                        <a:pt x="4" y="32"/>
                      </a:lnTo>
                      <a:lnTo>
                        <a:pt x="5" y="32"/>
                      </a:lnTo>
                      <a:lnTo>
                        <a:pt x="7" y="30"/>
                      </a:lnTo>
                      <a:lnTo>
                        <a:pt x="42" y="8"/>
                      </a:lnTo>
                      <a:lnTo>
                        <a:pt x="44" y="7"/>
                      </a:lnTo>
                      <a:lnTo>
                        <a:pt x="44" y="5"/>
                      </a:lnTo>
                      <a:lnTo>
                        <a:pt x="44" y="3"/>
                      </a:lnTo>
                      <a:lnTo>
                        <a:pt x="44" y="2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2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7939080" y="5148360"/>
                  <a:ext cx="34920" cy="25200"/>
                </a:xfrm>
                <a:custGeom>
                  <a:avLst/>
                  <a:gdLst/>
                  <a:ahLst/>
                  <a:rect l="l" t="t" r="r" b="b"/>
                  <a:pathLst>
                    <a:path w="45" h="31">
                      <a:moveTo>
                        <a:pt x="3" y="23"/>
                      </a:moveTo>
                      <a:lnTo>
                        <a:pt x="1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3" y="31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8" y="31"/>
                      </a:lnTo>
                      <a:lnTo>
                        <a:pt x="41" y="10"/>
                      </a:ln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3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3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7986600" y="5118120"/>
                  <a:ext cx="33480" cy="25560"/>
                </a:xfrm>
                <a:custGeom>
                  <a:avLst/>
                  <a:gdLst/>
                  <a:ahLst/>
                  <a:rect l="l" t="t" r="r" b="b"/>
                  <a:pathLst>
                    <a:path w="41" h="32">
                      <a:moveTo>
                        <a:pt x="1" y="24"/>
                      </a:move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0" y="30"/>
                      </a:lnTo>
                      <a:lnTo>
                        <a:pt x="1" y="32"/>
                      </a:lnTo>
                      <a:lnTo>
                        <a:pt x="3" y="32"/>
                      </a:lnTo>
                      <a:lnTo>
                        <a:pt x="5" y="32"/>
                      </a:lnTo>
                      <a:lnTo>
                        <a:pt x="6" y="32"/>
                      </a:lnTo>
                      <a:lnTo>
                        <a:pt x="40" y="9"/>
                      </a:lnTo>
                      <a:lnTo>
                        <a:pt x="41" y="7"/>
                      </a:lnTo>
                      <a:lnTo>
                        <a:pt x="41" y="5"/>
                      </a:lnTo>
                      <a:lnTo>
                        <a:pt x="41" y="4"/>
                      </a:lnTo>
                      <a:lnTo>
                        <a:pt x="41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0"/>
                      </a:lnTo>
                      <a:lnTo>
                        <a:pt x="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8031240" y="50846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4" y="25"/>
                      </a:moveTo>
                      <a:lnTo>
                        <a:pt x="2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2" y="31"/>
                      </a:lnTo>
                      <a:lnTo>
                        <a:pt x="4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9" y="33"/>
                      </a:lnTo>
                      <a:lnTo>
                        <a:pt x="27" y="20"/>
                      </a:lnTo>
                      <a:lnTo>
                        <a:pt x="40" y="10"/>
                      </a:lnTo>
                      <a:lnTo>
                        <a:pt x="42" y="8"/>
                      </a:lnTo>
                      <a:lnTo>
                        <a:pt x="42" y="6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0" y="1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1"/>
                      </a:lnTo>
                      <a:lnTo>
                        <a:pt x="22" y="11"/>
                      </a:lnTo>
                      <a:lnTo>
                        <a:pt x="4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8077320" y="505152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2" y="25"/>
                      </a:move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3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38" y="8"/>
                      </a:lnTo>
                      <a:lnTo>
                        <a:pt x="40" y="7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0" y="2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8120160" y="501660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3" y="27"/>
                      </a:move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3" y="35"/>
                      </a:lnTo>
                      <a:lnTo>
                        <a:pt x="5" y="37"/>
                      </a:lnTo>
                      <a:lnTo>
                        <a:pt x="7" y="37"/>
                      </a:lnTo>
                      <a:lnTo>
                        <a:pt x="8" y="35"/>
                      </a:lnTo>
                      <a:lnTo>
                        <a:pt x="38" y="10"/>
                      </a:lnTo>
                      <a:lnTo>
                        <a:pt x="40" y="8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8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2"/>
                      </a:lnTo>
                      <a:lnTo>
                        <a:pt x="3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8163000" y="4979880"/>
                  <a:ext cx="3168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4" y="27"/>
                      </a:move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5" y="37"/>
                      </a:lnTo>
                      <a:lnTo>
                        <a:pt x="7" y="37"/>
                      </a:lnTo>
                      <a:lnTo>
                        <a:pt x="9" y="35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40" y="8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9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4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8204040" y="4942080"/>
                  <a:ext cx="32040" cy="2988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1" y="28"/>
                      </a:moveTo>
                      <a:lnTo>
                        <a:pt x="0" y="30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1" y="36"/>
                      </a:lnTo>
                      <a:lnTo>
                        <a:pt x="3" y="38"/>
                      </a:lnTo>
                      <a:lnTo>
                        <a:pt x="5" y="38"/>
                      </a:lnTo>
                      <a:lnTo>
                        <a:pt x="6" y="36"/>
                      </a:lnTo>
                      <a:lnTo>
                        <a:pt x="36" y="10"/>
                      </a:lnTo>
                      <a:lnTo>
                        <a:pt x="38" y="8"/>
                      </a:lnTo>
                      <a:lnTo>
                        <a:pt x="38" y="6"/>
                      </a:lnTo>
                      <a:lnTo>
                        <a:pt x="38" y="5"/>
                      </a:lnTo>
                      <a:lnTo>
                        <a:pt x="38" y="3"/>
                      </a:lnTo>
                      <a:lnTo>
                        <a:pt x="36" y="1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1" y="1"/>
                      </a:lnTo>
                      <a:lnTo>
                        <a:pt x="1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8244000" y="4903920"/>
                  <a:ext cx="31680" cy="3024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3" y="30"/>
                      </a:moveTo>
                      <a:lnTo>
                        <a:pt x="1" y="32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1" y="37"/>
                      </a:lnTo>
                      <a:lnTo>
                        <a:pt x="3" y="39"/>
                      </a:lnTo>
                      <a:lnTo>
                        <a:pt x="5" y="39"/>
                      </a:lnTo>
                      <a:lnTo>
                        <a:pt x="6" y="39"/>
                      </a:lnTo>
                      <a:lnTo>
                        <a:pt x="8" y="39"/>
                      </a:lnTo>
                      <a:lnTo>
                        <a:pt x="15" y="32"/>
                      </a:lnTo>
                      <a:lnTo>
                        <a:pt x="16" y="30"/>
                      </a:lnTo>
                      <a:lnTo>
                        <a:pt x="38" y="9"/>
                      </a:lnTo>
                      <a:lnTo>
                        <a:pt x="38" y="7"/>
                      </a:lnTo>
                      <a:lnTo>
                        <a:pt x="38" y="5"/>
                      </a:lnTo>
                      <a:lnTo>
                        <a:pt x="38" y="4"/>
                      </a:lnTo>
                      <a:lnTo>
                        <a:pt x="36" y="2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1" y="2"/>
                      </a:lnTo>
                      <a:lnTo>
                        <a:pt x="30" y="4"/>
                      </a:lnTo>
                      <a:lnTo>
                        <a:pt x="8" y="25"/>
                      </a:lnTo>
                      <a:lnTo>
                        <a:pt x="13" y="27"/>
                      </a:lnTo>
                      <a:lnTo>
                        <a:pt x="10" y="24"/>
                      </a:lnTo>
                      <a:lnTo>
                        <a:pt x="3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8283600" y="4864320"/>
                  <a:ext cx="31680" cy="2988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0" y="32"/>
                      </a:move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1" y="39"/>
                      </a:lnTo>
                      <a:lnTo>
                        <a:pt x="3" y="39"/>
                      </a:lnTo>
                      <a:lnTo>
                        <a:pt x="5" y="39"/>
                      </a:lnTo>
                      <a:lnTo>
                        <a:pt x="6" y="39"/>
                      </a:lnTo>
                      <a:lnTo>
                        <a:pt x="8" y="37"/>
                      </a:lnTo>
                      <a:lnTo>
                        <a:pt x="36" y="9"/>
                      </a:lnTo>
                      <a:lnTo>
                        <a:pt x="38" y="7"/>
                      </a:lnTo>
                      <a:lnTo>
                        <a:pt x="38" y="5"/>
                      </a:lnTo>
                      <a:lnTo>
                        <a:pt x="36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2"/>
                      </a:lnTo>
                      <a:lnTo>
                        <a:pt x="28" y="4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8323200" y="4822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0" y="31"/>
                      </a:move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2" y="38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7" y="38"/>
                      </a:lnTo>
                      <a:lnTo>
                        <a:pt x="8" y="36"/>
                      </a:lnTo>
                      <a:lnTo>
                        <a:pt x="35" y="6"/>
                      </a:lnTo>
                      <a:lnTo>
                        <a:pt x="37" y="5"/>
                      </a:lnTo>
                      <a:lnTo>
                        <a:pt x="37" y="3"/>
                      </a:lnTo>
                      <a:lnTo>
                        <a:pt x="35" y="1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8358120" y="4780080"/>
                  <a:ext cx="2880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2" y="34"/>
                      </a:move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2" y="39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7" y="40"/>
                      </a:lnTo>
                      <a:lnTo>
                        <a:pt x="8" y="40"/>
                      </a:lnTo>
                      <a:lnTo>
                        <a:pt x="10" y="39"/>
                      </a:lnTo>
                      <a:lnTo>
                        <a:pt x="22" y="25"/>
                      </a:lnTo>
                      <a:lnTo>
                        <a:pt x="35" y="7"/>
                      </a:lnTo>
                      <a:lnTo>
                        <a:pt x="37" y="5"/>
                      </a:lnTo>
                      <a:lnTo>
                        <a:pt x="37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2"/>
                      </a:lnTo>
                      <a:lnTo>
                        <a:pt x="13" y="20"/>
                      </a:lnTo>
                      <a:lnTo>
                        <a:pt x="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8394840" y="473724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0" y="34"/>
                      </a:move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2" y="40"/>
                      </a:lnTo>
                      <a:lnTo>
                        <a:pt x="3" y="42"/>
                      </a:lnTo>
                      <a:lnTo>
                        <a:pt x="5" y="42"/>
                      </a:lnTo>
                      <a:lnTo>
                        <a:pt x="7" y="40"/>
                      </a:lnTo>
                      <a:lnTo>
                        <a:pt x="8" y="39"/>
                      </a:lnTo>
                      <a:lnTo>
                        <a:pt x="33" y="7"/>
                      </a:lnTo>
                      <a:lnTo>
                        <a:pt x="35" y="5"/>
                      </a:lnTo>
                      <a:lnTo>
                        <a:pt x="35" y="4"/>
                      </a:lnTo>
                      <a:lnTo>
                        <a:pt x="33" y="2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8426520" y="469116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3" h="41">
                      <a:moveTo>
                        <a:pt x="1" y="35"/>
                      </a:moveTo>
                      <a:lnTo>
                        <a:pt x="0" y="36"/>
                      </a:lnTo>
                      <a:lnTo>
                        <a:pt x="0" y="38"/>
                      </a:lnTo>
                      <a:lnTo>
                        <a:pt x="1" y="40"/>
                      </a:lnTo>
                      <a:lnTo>
                        <a:pt x="3" y="41"/>
                      </a:lnTo>
                      <a:lnTo>
                        <a:pt x="5" y="41"/>
                      </a:lnTo>
                      <a:lnTo>
                        <a:pt x="6" y="41"/>
                      </a:lnTo>
                      <a:lnTo>
                        <a:pt x="8" y="41"/>
                      </a:lnTo>
                      <a:lnTo>
                        <a:pt x="10" y="40"/>
                      </a:lnTo>
                      <a:lnTo>
                        <a:pt x="33" y="6"/>
                      </a:lnTo>
                      <a:lnTo>
                        <a:pt x="33" y="5"/>
                      </a:lnTo>
                      <a:lnTo>
                        <a:pt x="33" y="3"/>
                      </a:lnTo>
                      <a:lnTo>
                        <a:pt x="33" y="1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6" y="0"/>
                      </a:lnTo>
                      <a:lnTo>
                        <a:pt x="25" y="1"/>
                      </a:lnTo>
                      <a:lnTo>
                        <a:pt x="1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8459640" y="4645080"/>
                  <a:ext cx="2556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0" y="35"/>
                      </a:move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4" y="44"/>
                      </a:lnTo>
                      <a:lnTo>
                        <a:pt x="5" y="44"/>
                      </a:lnTo>
                      <a:lnTo>
                        <a:pt x="7" y="42"/>
                      </a:lnTo>
                      <a:lnTo>
                        <a:pt x="9" y="40"/>
                      </a:lnTo>
                      <a:lnTo>
                        <a:pt x="20" y="25"/>
                      </a:lnTo>
                      <a:lnTo>
                        <a:pt x="30" y="7"/>
                      </a:lnTo>
                      <a:lnTo>
                        <a:pt x="32" y="5"/>
                      </a:lnTo>
                      <a:lnTo>
                        <a:pt x="32" y="4"/>
                      </a:lnTo>
                      <a:lnTo>
                        <a:pt x="30" y="2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2"/>
                      </a:lnTo>
                      <a:lnTo>
                        <a:pt x="12" y="20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8489880" y="4597560"/>
                  <a:ext cx="23760" cy="36360"/>
                </a:xfrm>
                <a:custGeom>
                  <a:avLst/>
                  <a:gdLst/>
                  <a:ahLst/>
                  <a:rect l="l" t="t" r="r" b="b"/>
                  <a:pathLst>
                    <a:path w="32" h="45">
                      <a:moveTo>
                        <a:pt x="2" y="37"/>
                      </a:move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3" y="44"/>
                      </a:lnTo>
                      <a:lnTo>
                        <a:pt x="5" y="45"/>
                      </a:lnTo>
                      <a:lnTo>
                        <a:pt x="7" y="45"/>
                      </a:lnTo>
                      <a:lnTo>
                        <a:pt x="8" y="44"/>
                      </a:lnTo>
                      <a:lnTo>
                        <a:pt x="10" y="42"/>
                      </a:lnTo>
                      <a:lnTo>
                        <a:pt x="30" y="9"/>
                      </a:lnTo>
                      <a:lnTo>
                        <a:pt x="32" y="7"/>
                      </a:lnTo>
                      <a:lnTo>
                        <a:pt x="32" y="5"/>
                      </a:lnTo>
                      <a:lnTo>
                        <a:pt x="30" y="4"/>
                      </a:lnTo>
                      <a:lnTo>
                        <a:pt x="28" y="2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3" y="2"/>
                      </a:lnTo>
                      <a:lnTo>
                        <a:pt x="22" y="4"/>
                      </a:lnTo>
                      <a:lnTo>
                        <a:pt x="2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8518680" y="4548240"/>
                  <a:ext cx="21960" cy="38160"/>
                </a:xfrm>
                <a:custGeom>
                  <a:avLst/>
                  <a:gdLst/>
                  <a:ahLst/>
                  <a:rect l="l" t="t" r="r" b="b"/>
                  <a:pathLst>
                    <a:path w="28" h="46">
                      <a:moveTo>
                        <a:pt x="0" y="38"/>
                      </a:move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1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28" y="8"/>
                      </a:lnTo>
                      <a:lnTo>
                        <a:pt x="28" y="6"/>
                      </a:lnTo>
                      <a:lnTo>
                        <a:pt x="28" y="5"/>
                      </a:lnTo>
                      <a:lnTo>
                        <a:pt x="28" y="3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1" y="1"/>
                      </a:lnTo>
                      <a:lnTo>
                        <a:pt x="20" y="3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8545320" y="4500720"/>
                  <a:ext cx="20880" cy="3636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0" y="38"/>
                      </a:move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3" y="47"/>
                      </a:lnTo>
                      <a:lnTo>
                        <a:pt x="5" y="47"/>
                      </a:lnTo>
                      <a:lnTo>
                        <a:pt x="7" y="45"/>
                      </a:lnTo>
                      <a:lnTo>
                        <a:pt x="8" y="43"/>
                      </a:lnTo>
                      <a:lnTo>
                        <a:pt x="17" y="28"/>
                      </a:lnTo>
                      <a:lnTo>
                        <a:pt x="17" y="27"/>
                      </a:lnTo>
                      <a:lnTo>
                        <a:pt x="27" y="7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5" y="2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0" y="2"/>
                      </a:lnTo>
                      <a:lnTo>
                        <a:pt x="18" y="3"/>
                      </a:lnTo>
                      <a:lnTo>
                        <a:pt x="17" y="5"/>
                      </a:lnTo>
                      <a:lnTo>
                        <a:pt x="7" y="25"/>
                      </a:lnTo>
                      <a:lnTo>
                        <a:pt x="12" y="27"/>
                      </a:lnTo>
                      <a:lnTo>
                        <a:pt x="8" y="23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8569440" y="4449960"/>
                  <a:ext cx="20520" cy="36360"/>
                </a:xfrm>
                <a:custGeom>
                  <a:avLst/>
                  <a:gdLst/>
                  <a:ahLst/>
                  <a:rect l="l" t="t" r="r" b="b"/>
                  <a:pathLst>
                    <a:path w="27" h="46">
                      <a:moveTo>
                        <a:pt x="0" y="40"/>
                      </a:move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7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1"/>
                      </a:lnTo>
                      <a:lnTo>
                        <a:pt x="17" y="3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8591400" y="4397400"/>
                  <a:ext cx="17640" cy="38160"/>
                </a:xfrm>
                <a:custGeom>
                  <a:avLst/>
                  <a:gdLst/>
                  <a:ahLst/>
                  <a:rect l="l" t="t" r="r" b="b"/>
                  <a:pathLst>
                    <a:path w="24" h="46">
                      <a:moveTo>
                        <a:pt x="0" y="41"/>
                      </a:move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2" y="46"/>
                      </a:lnTo>
                      <a:lnTo>
                        <a:pt x="4" y="46"/>
                      </a:lnTo>
                      <a:lnTo>
                        <a:pt x="5" y="46"/>
                      </a:lnTo>
                      <a:lnTo>
                        <a:pt x="7" y="46"/>
                      </a:lnTo>
                      <a:lnTo>
                        <a:pt x="9" y="45"/>
                      </a:lnTo>
                      <a:lnTo>
                        <a:pt x="10" y="43"/>
                      </a:lnTo>
                      <a:lnTo>
                        <a:pt x="24" y="5"/>
                      </a:lnTo>
                      <a:lnTo>
                        <a:pt x="24" y="3"/>
                      </a:lnTo>
                      <a:lnTo>
                        <a:pt x="24" y="1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4" y="3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8610480" y="4345200"/>
                  <a:ext cx="19080" cy="3780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0" y="43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9" y="48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4" y="35"/>
                      </a:lnTo>
                      <a:lnTo>
                        <a:pt x="24" y="7"/>
                      </a:lnTo>
                      <a:lnTo>
                        <a:pt x="24" y="5"/>
                      </a:lnTo>
                      <a:lnTo>
                        <a:pt x="22" y="3"/>
                      </a:lnTo>
                      <a:lnTo>
                        <a:pt x="20" y="2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5" y="2"/>
                      </a:lnTo>
                      <a:lnTo>
                        <a:pt x="14" y="3"/>
                      </a:lnTo>
                      <a:lnTo>
                        <a:pt x="14" y="5"/>
                      </a:lnTo>
                      <a:lnTo>
                        <a:pt x="4" y="33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8628120" y="429264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2" h="49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3" y="49"/>
                      </a:lnTo>
                      <a:lnTo>
                        <a:pt x="5" y="49"/>
                      </a:lnTo>
                      <a:lnTo>
                        <a:pt x="7" y="49"/>
                      </a:lnTo>
                      <a:lnTo>
                        <a:pt x="8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22" y="7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20" y="2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2"/>
                      </a:lnTo>
                      <a:lnTo>
                        <a:pt x="13" y="4"/>
                      </a:lnTo>
                      <a:lnTo>
                        <a:pt x="12" y="5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8643960" y="4238640"/>
                  <a:ext cx="15840" cy="39600"/>
                </a:xfrm>
                <a:custGeom>
                  <a:avLst/>
                  <a:gdLst/>
                  <a:ahLst/>
                  <a:rect l="l" t="t" r="r" b="b"/>
                  <a:pathLst>
                    <a:path w="20" h="48">
                      <a:moveTo>
                        <a:pt x="0" y="41"/>
                      </a:move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2" y="46"/>
                      </a:lnTo>
                      <a:lnTo>
                        <a:pt x="3" y="48"/>
                      </a:lnTo>
                      <a:lnTo>
                        <a:pt x="5" y="48"/>
                      </a:lnTo>
                      <a:lnTo>
                        <a:pt x="7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5" y="21"/>
                      </a:lnTo>
                      <a:lnTo>
                        <a:pt x="20" y="5"/>
                      </a:lnTo>
                      <a:lnTo>
                        <a:pt x="20" y="3"/>
                      </a:lnTo>
                      <a:lnTo>
                        <a:pt x="18" y="1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0" y="1"/>
                      </a:lnTo>
                      <a:lnTo>
                        <a:pt x="10" y="3"/>
                      </a:lnTo>
                      <a:lnTo>
                        <a:pt x="5" y="20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8656560" y="418464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6" h="49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1" y="49"/>
                      </a:lnTo>
                      <a:lnTo>
                        <a:pt x="3" y="49"/>
                      </a:lnTo>
                      <a:lnTo>
                        <a:pt x="5" y="49"/>
                      </a:lnTo>
                      <a:lnTo>
                        <a:pt x="6" y="49"/>
                      </a:lnTo>
                      <a:lnTo>
                        <a:pt x="8" y="47"/>
                      </a:lnTo>
                      <a:lnTo>
                        <a:pt x="10" y="45"/>
                      </a:lnTo>
                      <a:lnTo>
                        <a:pt x="10" y="40"/>
                      </a:lnTo>
                      <a:lnTo>
                        <a:pt x="16" y="5"/>
                      </a:lnTo>
                      <a:lnTo>
                        <a:pt x="16" y="4"/>
                      </a:lnTo>
                      <a:lnTo>
                        <a:pt x="16" y="2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2"/>
                      </a:lnTo>
                      <a:lnTo>
                        <a:pt x="6" y="4"/>
                      </a:lnTo>
                      <a:lnTo>
                        <a:pt x="0" y="39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8666280" y="4129200"/>
                  <a:ext cx="14040" cy="39600"/>
                </a:xfrm>
                <a:custGeom>
                  <a:avLst/>
                  <a:gdLst/>
                  <a:ahLst/>
                  <a:rect l="l" t="t" r="r" b="b"/>
                  <a:pathLst>
                    <a:path w="17" h="50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9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7" y="10"/>
                      </a:lnTo>
                      <a:lnTo>
                        <a:pt x="17" y="7"/>
                      </a:lnTo>
                      <a:lnTo>
                        <a:pt x="17" y="5"/>
                      </a:lnTo>
                      <a:lnTo>
                        <a:pt x="15" y="4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9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8674200" y="4073400"/>
                  <a:ext cx="11160" cy="39960"/>
                </a:xfrm>
                <a:custGeom>
                  <a:avLst/>
                  <a:gdLst/>
                  <a:ahLst/>
                  <a:rect l="l" t="t" r="r" b="b"/>
                  <a:pathLst>
                    <a:path w="14" h="50">
                      <a:moveTo>
                        <a:pt x="0" y="45"/>
                      </a:moveTo>
                      <a:lnTo>
                        <a:pt x="0" y="47"/>
                      </a:lnTo>
                      <a:lnTo>
                        <a:pt x="2" y="49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50"/>
                      </a:lnTo>
                      <a:lnTo>
                        <a:pt x="10" y="49"/>
                      </a:lnTo>
                      <a:lnTo>
                        <a:pt x="10" y="47"/>
                      </a:lnTo>
                      <a:lnTo>
                        <a:pt x="12" y="30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2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2" y="29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8680320" y="401796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2" h="50">
                      <a:moveTo>
                        <a:pt x="0" y="45"/>
                      </a:moveTo>
                      <a:lnTo>
                        <a:pt x="0" y="47"/>
                      </a:lnTo>
                      <a:lnTo>
                        <a:pt x="2" y="49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50"/>
                      </a:lnTo>
                      <a:lnTo>
                        <a:pt x="10" y="49"/>
                      </a:lnTo>
                      <a:lnTo>
                        <a:pt x="10" y="47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3" y="4"/>
                      </a:lnTo>
                      <a:lnTo>
                        <a:pt x="2" y="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8682120" y="396252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0" y="47"/>
                      </a:moveTo>
                      <a:lnTo>
                        <a:pt x="0" y="49"/>
                      </a:lnTo>
                      <a:lnTo>
                        <a:pt x="2" y="50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0" y="15"/>
                      </a:lnTo>
                      <a:lnTo>
                        <a:pt x="10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17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8680320" y="3906720"/>
                  <a:ext cx="9720" cy="39960"/>
                </a:xfrm>
                <a:custGeom>
                  <a:avLst/>
                  <a:gdLst/>
                  <a:ahLst/>
                  <a:rect l="l" t="t" r="r" b="b"/>
                  <a:pathLst>
                    <a:path w="11" h="50">
                      <a:moveTo>
                        <a:pt x="1" y="47"/>
                      </a:moveTo>
                      <a:lnTo>
                        <a:pt x="1" y="49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49"/>
                      </a:lnTo>
                      <a:lnTo>
                        <a:pt x="11" y="47"/>
                      </a:lnTo>
                      <a:lnTo>
                        <a:pt x="11" y="45"/>
                      </a:lnTo>
                      <a:lnTo>
                        <a:pt x="11" y="34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35"/>
                      </a:lnTo>
                      <a:lnTo>
                        <a:pt x="1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8677080" y="3853080"/>
                  <a:ext cx="11160" cy="39600"/>
                </a:xfrm>
                <a:custGeom>
                  <a:avLst/>
                  <a:gdLst/>
                  <a:ahLst/>
                  <a:rect l="l" t="t" r="r" b="b"/>
                  <a:pathLst>
                    <a:path w="13" h="50">
                      <a:moveTo>
                        <a:pt x="3" y="45"/>
                      </a:moveTo>
                      <a:lnTo>
                        <a:pt x="3" y="47"/>
                      </a:lnTo>
                      <a:lnTo>
                        <a:pt x="5" y="48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48"/>
                      </a:lnTo>
                      <a:lnTo>
                        <a:pt x="11" y="47"/>
                      </a:lnTo>
                      <a:lnTo>
                        <a:pt x="13" y="45"/>
                      </a:lnTo>
                      <a:lnTo>
                        <a:pt x="13" y="43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3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8669160" y="3797280"/>
                  <a:ext cx="11160" cy="3960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5" y="45"/>
                      </a:moveTo>
                      <a:lnTo>
                        <a:pt x="6" y="47"/>
                      </a:lnTo>
                      <a:lnTo>
                        <a:pt x="8" y="48"/>
                      </a:lnTo>
                      <a:lnTo>
                        <a:pt x="10" y="50"/>
                      </a:lnTo>
                      <a:lnTo>
                        <a:pt x="11" y="50"/>
                      </a:lnTo>
                      <a:lnTo>
                        <a:pt x="13" y="48"/>
                      </a:lnTo>
                      <a:lnTo>
                        <a:pt x="15" y="47"/>
                      </a:lnTo>
                      <a:lnTo>
                        <a:pt x="15" y="45"/>
                      </a:lnTo>
                      <a:lnTo>
                        <a:pt x="15" y="43"/>
                      </a:lnTo>
                      <a:lnTo>
                        <a:pt x="13" y="18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3" y="20"/>
                      </a:lnTo>
                      <a:lnTo>
                        <a:pt x="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8659800" y="374328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8" h="48">
                      <a:moveTo>
                        <a:pt x="8" y="45"/>
                      </a:moveTo>
                      <a:lnTo>
                        <a:pt x="8" y="46"/>
                      </a:lnTo>
                      <a:lnTo>
                        <a:pt x="10" y="48"/>
                      </a:lnTo>
                      <a:lnTo>
                        <a:pt x="12" y="48"/>
                      </a:lnTo>
                      <a:lnTo>
                        <a:pt x="13" y="48"/>
                      </a:lnTo>
                      <a:lnTo>
                        <a:pt x="15" y="48"/>
                      </a:lnTo>
                      <a:lnTo>
                        <a:pt x="17" y="46"/>
                      </a:lnTo>
                      <a:lnTo>
                        <a:pt x="18" y="45"/>
                      </a:lnTo>
                      <a:lnTo>
                        <a:pt x="18" y="43"/>
                      </a:lnTo>
                      <a:lnTo>
                        <a:pt x="17" y="36"/>
                      </a:lnTo>
                      <a:lnTo>
                        <a:pt x="10" y="3"/>
                      </a:ln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7" y="38"/>
                      </a:lnTo>
                      <a:lnTo>
                        <a:pt x="8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8648640" y="3689280"/>
                  <a:ext cx="15840" cy="38160"/>
                </a:xfrm>
                <a:custGeom>
                  <a:avLst/>
                  <a:gdLst/>
                  <a:ahLst/>
                  <a:rect l="l" t="t" r="r" b="b"/>
                  <a:pathLst>
                    <a:path w="20" h="49">
                      <a:moveTo>
                        <a:pt x="10" y="44"/>
                      </a:moveTo>
                      <a:lnTo>
                        <a:pt x="10" y="45"/>
                      </a:lnTo>
                      <a:lnTo>
                        <a:pt x="12" y="47"/>
                      </a:lnTo>
                      <a:lnTo>
                        <a:pt x="13" y="49"/>
                      </a:lnTo>
                      <a:lnTo>
                        <a:pt x="15" y="49"/>
                      </a:lnTo>
                      <a:lnTo>
                        <a:pt x="17" y="47"/>
                      </a:lnTo>
                      <a:lnTo>
                        <a:pt x="18" y="45"/>
                      </a:lnTo>
                      <a:lnTo>
                        <a:pt x="20" y="44"/>
                      </a:lnTo>
                      <a:lnTo>
                        <a:pt x="20" y="42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8632800" y="3635280"/>
                  <a:ext cx="17640" cy="38160"/>
                </a:xfrm>
                <a:custGeom>
                  <a:avLst/>
                  <a:gdLst/>
                  <a:ahLst/>
                  <a:rect l="l" t="t" r="r" b="b"/>
                  <a:pathLst>
                    <a:path w="21" h="48">
                      <a:moveTo>
                        <a:pt x="11" y="45"/>
                      </a:moveTo>
                      <a:lnTo>
                        <a:pt x="11" y="47"/>
                      </a:lnTo>
                      <a:lnTo>
                        <a:pt x="13" y="48"/>
                      </a:lnTo>
                      <a:lnTo>
                        <a:pt x="15" y="48"/>
                      </a:lnTo>
                      <a:lnTo>
                        <a:pt x="16" y="48"/>
                      </a:lnTo>
                      <a:lnTo>
                        <a:pt x="18" y="48"/>
                      </a:lnTo>
                      <a:lnTo>
                        <a:pt x="20" y="47"/>
                      </a:lnTo>
                      <a:lnTo>
                        <a:pt x="21" y="45"/>
                      </a:lnTo>
                      <a:lnTo>
                        <a:pt x="21" y="43"/>
                      </a:lnTo>
                      <a:lnTo>
                        <a:pt x="16" y="25"/>
                      </a:lnTo>
                      <a:lnTo>
                        <a:pt x="10" y="5"/>
                      </a:lnTo>
                      <a:lnTo>
                        <a:pt x="8" y="3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6" y="27"/>
                      </a:lnTo>
                      <a:lnTo>
                        <a:pt x="11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8616960" y="358128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3" h="49">
                      <a:moveTo>
                        <a:pt x="13" y="44"/>
                      </a:moveTo>
                      <a:lnTo>
                        <a:pt x="13" y="45"/>
                      </a:lnTo>
                      <a:lnTo>
                        <a:pt x="15" y="47"/>
                      </a:lnTo>
                      <a:lnTo>
                        <a:pt x="17" y="49"/>
                      </a:lnTo>
                      <a:lnTo>
                        <a:pt x="18" y="49"/>
                      </a:lnTo>
                      <a:lnTo>
                        <a:pt x="20" y="47"/>
                      </a:lnTo>
                      <a:lnTo>
                        <a:pt x="22" y="45"/>
                      </a:lnTo>
                      <a:lnTo>
                        <a:pt x="23" y="44"/>
                      </a:lnTo>
                      <a:lnTo>
                        <a:pt x="23" y="42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3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8596440" y="3530520"/>
                  <a:ext cx="20520" cy="3672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15" y="44"/>
                      </a:moveTo>
                      <a:lnTo>
                        <a:pt x="17" y="45"/>
                      </a:lnTo>
                      <a:lnTo>
                        <a:pt x="18" y="47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7"/>
                      </a:lnTo>
                      <a:lnTo>
                        <a:pt x="25" y="45"/>
                      </a:lnTo>
                      <a:lnTo>
                        <a:pt x="25" y="44"/>
                      </a:lnTo>
                      <a:lnTo>
                        <a:pt x="25" y="42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5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8575560" y="3478320"/>
                  <a:ext cx="20880" cy="3816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7" y="42"/>
                      </a:moveTo>
                      <a:lnTo>
                        <a:pt x="17" y="44"/>
                      </a:lnTo>
                      <a:lnTo>
                        <a:pt x="19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4" y="45"/>
                      </a:lnTo>
                      <a:lnTo>
                        <a:pt x="25" y="44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22" y="30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2" y="32"/>
                      </a:lnTo>
                      <a:lnTo>
                        <a:pt x="17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8553600" y="3429000"/>
                  <a:ext cx="20520" cy="3672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7" y="42"/>
                      </a:moveTo>
                      <a:lnTo>
                        <a:pt x="17" y="43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5"/>
                      </a:lnTo>
                      <a:lnTo>
                        <a:pt x="25" y="43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7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8526600" y="3379680"/>
                  <a:ext cx="21960" cy="34920"/>
                </a:xfrm>
                <a:custGeom>
                  <a:avLst/>
                  <a:gdLst/>
                  <a:ahLst/>
                  <a:rect l="l" t="t" r="r" b="b"/>
                  <a:pathLst>
                    <a:path w="28" h="45">
                      <a:moveTo>
                        <a:pt x="20" y="42"/>
                      </a:moveTo>
                      <a:lnTo>
                        <a:pt x="21" y="44"/>
                      </a:ln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6" y="44"/>
                      </a:lnTo>
                      <a:lnTo>
                        <a:pt x="28" y="42"/>
                      </a:lnTo>
                      <a:lnTo>
                        <a:pt x="28" y="40"/>
                      </a:lnTo>
                      <a:lnTo>
                        <a:pt x="28" y="39"/>
                      </a:lnTo>
                      <a:lnTo>
                        <a:pt x="28" y="37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8497800" y="3330720"/>
                  <a:ext cx="23760" cy="34920"/>
                </a:xfrm>
                <a:custGeom>
                  <a:avLst/>
                  <a:gdLst/>
                  <a:ahLst/>
                  <a:rect l="l" t="t" r="r" b="b"/>
                  <a:pathLst>
                    <a:path w="30" h="45">
                      <a:moveTo>
                        <a:pt x="21" y="43"/>
                      </a:move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6" y="45"/>
                      </a:lnTo>
                      <a:lnTo>
                        <a:pt x="28" y="45"/>
                      </a:lnTo>
                      <a:lnTo>
                        <a:pt x="30" y="43"/>
                      </a:lnTo>
                      <a:lnTo>
                        <a:pt x="30" y="41"/>
                      </a:lnTo>
                      <a:lnTo>
                        <a:pt x="30" y="40"/>
                      </a:lnTo>
                      <a:lnTo>
                        <a:pt x="30" y="38"/>
                      </a:lnTo>
                      <a:lnTo>
                        <a:pt x="26" y="30"/>
                      </a:lnTo>
                      <a:lnTo>
                        <a:pt x="8" y="3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8" y="35"/>
                      </a:lnTo>
                      <a:lnTo>
                        <a:pt x="2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8469360" y="3284640"/>
                  <a:ext cx="23760" cy="33120"/>
                </a:xfrm>
                <a:custGeom>
                  <a:avLst/>
                  <a:gdLst/>
                  <a:ahLst/>
                  <a:rect l="l" t="t" r="r" b="b"/>
                  <a:pathLst>
                    <a:path w="30" h="44">
                      <a:moveTo>
                        <a:pt x="22" y="42"/>
                      </a:moveTo>
                      <a:lnTo>
                        <a:pt x="23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8" y="44"/>
                      </a:lnTo>
                      <a:lnTo>
                        <a:pt x="30" y="42"/>
                      </a:lnTo>
                      <a:lnTo>
                        <a:pt x="30" y="40"/>
                      </a:lnTo>
                      <a:lnTo>
                        <a:pt x="30" y="39"/>
                      </a:lnTo>
                      <a:lnTo>
                        <a:pt x="30" y="37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2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8437680" y="323856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3" h="43">
                      <a:moveTo>
                        <a:pt x="23" y="40"/>
                      </a:moveTo>
                      <a:lnTo>
                        <a:pt x="25" y="42"/>
                      </a:lnTo>
                      <a:lnTo>
                        <a:pt x="27" y="43"/>
                      </a:lnTo>
                      <a:lnTo>
                        <a:pt x="28" y="43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3" y="38"/>
                      </a:lnTo>
                      <a:lnTo>
                        <a:pt x="33" y="37"/>
                      </a:lnTo>
                      <a:lnTo>
                        <a:pt x="32" y="35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3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8404200" y="319392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4" h="42">
                      <a:moveTo>
                        <a:pt x="25" y="38"/>
                      </a:moveTo>
                      <a:lnTo>
                        <a:pt x="27" y="40"/>
                      </a:lnTo>
                      <a:lnTo>
                        <a:pt x="29" y="42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4" y="38"/>
                      </a:lnTo>
                      <a:lnTo>
                        <a:pt x="34" y="37"/>
                      </a:lnTo>
                      <a:lnTo>
                        <a:pt x="34" y="35"/>
                      </a:lnTo>
                      <a:lnTo>
                        <a:pt x="34" y="33"/>
                      </a:lnTo>
                      <a:lnTo>
                        <a:pt x="29" y="28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33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8370720" y="3151080"/>
                  <a:ext cx="27000" cy="32040"/>
                </a:xfrm>
                <a:custGeom>
                  <a:avLst/>
                  <a:gdLst/>
                  <a:ahLst/>
                  <a:rect l="l" t="t" r="r" b="b"/>
                  <a:pathLst>
                    <a:path w="35" h="40">
                      <a:moveTo>
                        <a:pt x="25" y="38"/>
                      </a:moveTo>
                      <a:lnTo>
                        <a:pt x="27" y="40"/>
                      </a:lnTo>
                      <a:lnTo>
                        <a:pt x="28" y="40"/>
                      </a:lnTo>
                      <a:lnTo>
                        <a:pt x="30" y="40"/>
                      </a:lnTo>
                      <a:lnTo>
                        <a:pt x="32" y="40"/>
                      </a:lnTo>
                      <a:lnTo>
                        <a:pt x="33" y="38"/>
                      </a:lnTo>
                      <a:lnTo>
                        <a:pt x="35" y="37"/>
                      </a:lnTo>
                      <a:lnTo>
                        <a:pt x="35" y="35"/>
                      </a:lnTo>
                      <a:lnTo>
                        <a:pt x="33" y="33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8332920" y="3108240"/>
                  <a:ext cx="29880" cy="3204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29" y="36"/>
                      </a:moveTo>
                      <a:lnTo>
                        <a:pt x="30" y="38"/>
                      </a:lnTo>
                      <a:lnTo>
                        <a:pt x="32" y="40"/>
                      </a:lnTo>
                      <a:lnTo>
                        <a:pt x="34" y="40"/>
                      </a:lnTo>
                      <a:lnTo>
                        <a:pt x="35" y="38"/>
                      </a:lnTo>
                      <a:lnTo>
                        <a:pt x="37" y="36"/>
                      </a:lnTo>
                      <a:lnTo>
                        <a:pt x="37" y="35"/>
                      </a:lnTo>
                      <a:lnTo>
                        <a:pt x="37" y="33"/>
                      </a:lnTo>
                      <a:lnTo>
                        <a:pt x="37" y="31"/>
                      </a:ln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29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8296200" y="3067200"/>
                  <a:ext cx="28800" cy="30240"/>
                </a:xfrm>
                <a:custGeom>
                  <a:avLst/>
                  <a:gdLst/>
                  <a:ahLst/>
                  <a:rect l="l" t="t" r="r" b="b"/>
                  <a:pathLst>
                    <a:path w="36" h="38">
                      <a:moveTo>
                        <a:pt x="28" y="37"/>
                      </a:moveTo>
                      <a:lnTo>
                        <a:pt x="30" y="38"/>
                      </a:lnTo>
                      <a:lnTo>
                        <a:pt x="31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6" y="37"/>
                      </a:lnTo>
                      <a:lnTo>
                        <a:pt x="36" y="35"/>
                      </a:lnTo>
                      <a:lnTo>
                        <a:pt x="36" y="33"/>
                      </a:lnTo>
                      <a:lnTo>
                        <a:pt x="36" y="32"/>
                      </a:lnTo>
                      <a:lnTo>
                        <a:pt x="28" y="2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28"/>
                      </a:lnTo>
                      <a:lnTo>
                        <a:pt x="28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8258040" y="3027240"/>
                  <a:ext cx="28800" cy="3024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29" y="37"/>
                      </a:moveTo>
                      <a:lnTo>
                        <a:pt x="30" y="38"/>
                      </a:lnTo>
                      <a:lnTo>
                        <a:pt x="32" y="38"/>
                      </a:lnTo>
                      <a:lnTo>
                        <a:pt x="34" y="38"/>
                      </a:lnTo>
                      <a:lnTo>
                        <a:pt x="35" y="38"/>
                      </a:lnTo>
                      <a:lnTo>
                        <a:pt x="37" y="37"/>
                      </a:lnTo>
                      <a:lnTo>
                        <a:pt x="37" y="35"/>
                      </a:lnTo>
                      <a:lnTo>
                        <a:pt x="37" y="33"/>
                      </a:lnTo>
                      <a:lnTo>
                        <a:pt x="37" y="32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9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8217000" y="298944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6">
                      <a:moveTo>
                        <a:pt x="31" y="36"/>
                      </a:moveTo>
                      <a:lnTo>
                        <a:pt x="33" y="36"/>
                      </a:lnTo>
                      <a:lnTo>
                        <a:pt x="35" y="36"/>
                      </a:lnTo>
                      <a:lnTo>
                        <a:pt x="36" y="36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0" y="31"/>
                      </a:lnTo>
                      <a:lnTo>
                        <a:pt x="38" y="30"/>
                      </a:lnTo>
                      <a:lnTo>
                        <a:pt x="36" y="28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31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8175600" y="2952720"/>
                  <a:ext cx="3168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32" y="35"/>
                      </a:moveTo>
                      <a:lnTo>
                        <a:pt x="33" y="37"/>
                      </a:lnTo>
                      <a:lnTo>
                        <a:pt x="35" y="37"/>
                      </a:lnTo>
                      <a:lnTo>
                        <a:pt x="37" y="35"/>
                      </a:lnTo>
                      <a:lnTo>
                        <a:pt x="38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38" y="28"/>
                      </a:lnTo>
                      <a:lnTo>
                        <a:pt x="37" y="27"/>
                      </a:lnTo>
                      <a:lnTo>
                        <a:pt x="22" y="1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17" y="20"/>
                      </a:lnTo>
                      <a:lnTo>
                        <a:pt x="32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8132760" y="291636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3" y="35"/>
                      </a:moveTo>
                      <a:lnTo>
                        <a:pt x="35" y="35"/>
                      </a:lnTo>
                      <a:lnTo>
                        <a:pt x="36" y="35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40" y="28"/>
                      </a:lnTo>
                      <a:lnTo>
                        <a:pt x="38" y="27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3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8089920" y="28814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1" h="33">
                      <a:moveTo>
                        <a:pt x="33" y="33"/>
                      </a:moveTo>
                      <a:lnTo>
                        <a:pt x="35" y="33"/>
                      </a:lnTo>
                      <a:lnTo>
                        <a:pt x="36" y="33"/>
                      </a:lnTo>
                      <a:lnTo>
                        <a:pt x="38" y="33"/>
                      </a:lnTo>
                      <a:lnTo>
                        <a:pt x="40" y="31"/>
                      </a:lnTo>
                      <a:lnTo>
                        <a:pt x="41" y="30"/>
                      </a:lnTo>
                      <a:lnTo>
                        <a:pt x="41" y="28"/>
                      </a:lnTo>
                      <a:lnTo>
                        <a:pt x="40" y="26"/>
                      </a:lnTo>
                      <a:lnTo>
                        <a:pt x="38" y="25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8045280" y="284796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33" y="34"/>
                      </a:moveTo>
                      <a:lnTo>
                        <a:pt x="35" y="35"/>
                      </a:lnTo>
                      <a:lnTo>
                        <a:pt x="36" y="35"/>
                      </a:lnTo>
                      <a:lnTo>
                        <a:pt x="38" y="34"/>
                      </a:lnTo>
                      <a:lnTo>
                        <a:pt x="40" y="32"/>
                      </a:lnTo>
                      <a:lnTo>
                        <a:pt x="41" y="30"/>
                      </a:lnTo>
                      <a:lnTo>
                        <a:pt x="41" y="29"/>
                      </a:lnTo>
                      <a:lnTo>
                        <a:pt x="40" y="27"/>
                      </a:lnTo>
                      <a:lnTo>
                        <a:pt x="38" y="25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3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7999560" y="281628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4" h="34">
                      <a:moveTo>
                        <a:pt x="35" y="32"/>
                      </a:moveTo>
                      <a:lnTo>
                        <a:pt x="37" y="34"/>
                      </a:lnTo>
                      <a:lnTo>
                        <a:pt x="39" y="34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4" y="29"/>
                      </a:lnTo>
                      <a:lnTo>
                        <a:pt x="44" y="27"/>
                      </a:lnTo>
                      <a:lnTo>
                        <a:pt x="42" y="25"/>
                      </a:lnTo>
                      <a:lnTo>
                        <a:pt x="40" y="24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35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7953480" y="278604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37" y="30"/>
                      </a:moveTo>
                      <a:lnTo>
                        <a:pt x="38" y="32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3" y="28"/>
                      </a:lnTo>
                      <a:lnTo>
                        <a:pt x="43" y="27"/>
                      </a:lnTo>
                      <a:lnTo>
                        <a:pt x="43" y="25"/>
                      </a:lnTo>
                      <a:lnTo>
                        <a:pt x="43" y="23"/>
                      </a:lnTo>
                      <a:lnTo>
                        <a:pt x="42" y="22"/>
                      </a:lnTo>
                      <a:lnTo>
                        <a:pt x="30" y="13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25" y="22"/>
                      </a:lnTo>
                      <a:lnTo>
                        <a:pt x="37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7907400" y="275436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36" y="31"/>
                      </a:moveTo>
                      <a:lnTo>
                        <a:pt x="38" y="31"/>
                      </a:lnTo>
                      <a:lnTo>
                        <a:pt x="40" y="31"/>
                      </a:lnTo>
                      <a:lnTo>
                        <a:pt x="41" y="31"/>
                      </a:lnTo>
                      <a:lnTo>
                        <a:pt x="43" y="30"/>
                      </a:lnTo>
                      <a:lnTo>
                        <a:pt x="43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1" y="23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7859520" y="27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0">
                      <a:moveTo>
                        <a:pt x="36" y="28"/>
                      </a:moveTo>
                      <a:lnTo>
                        <a:pt x="38" y="30"/>
                      </a:lnTo>
                      <a:lnTo>
                        <a:pt x="40" y="30"/>
                      </a:lnTo>
                      <a:lnTo>
                        <a:pt x="41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3" y="23"/>
                      </a:lnTo>
                      <a:lnTo>
                        <a:pt x="43" y="21"/>
                      </a:lnTo>
                      <a:lnTo>
                        <a:pt x="41" y="2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6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7810560" y="269892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38" y="28"/>
                      </a:move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3" y="28"/>
                      </a:lnTo>
                      <a:lnTo>
                        <a:pt x="45" y="26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1"/>
                      </a:lnTo>
                      <a:lnTo>
                        <a:pt x="43" y="2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38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7761240" y="2673360"/>
                  <a:ext cx="367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39" y="29"/>
                      </a:move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4" y="29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4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7711920" y="264960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36" y="27"/>
                      </a:moveTo>
                      <a:lnTo>
                        <a:pt x="38" y="27"/>
                      </a:lnTo>
                      <a:lnTo>
                        <a:pt x="40" y="27"/>
                      </a:lnTo>
                      <a:lnTo>
                        <a:pt x="41" y="27"/>
                      </a:lnTo>
                      <a:lnTo>
                        <a:pt x="43" y="25"/>
                      </a:lnTo>
                      <a:lnTo>
                        <a:pt x="45" y="24"/>
                      </a:lnTo>
                      <a:lnTo>
                        <a:pt x="45" y="22"/>
                      </a:lnTo>
                      <a:lnTo>
                        <a:pt x="43" y="20"/>
                      </a:lnTo>
                      <a:lnTo>
                        <a:pt x="41" y="19"/>
                      </a:lnTo>
                      <a:lnTo>
                        <a:pt x="21" y="7"/>
                      </a:lnTo>
                      <a:lnTo>
                        <a:pt x="20" y="7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18" y="17"/>
                      </a:lnTo>
                      <a:lnTo>
                        <a:pt x="20" y="12"/>
                      </a:lnTo>
                      <a:lnTo>
                        <a:pt x="16" y="15"/>
                      </a:lnTo>
                      <a:lnTo>
                        <a:pt x="36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7661160" y="262584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6" h="27">
                      <a:moveTo>
                        <a:pt x="41" y="27"/>
                      </a:move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6" y="24"/>
                      </a:lnTo>
                      <a:lnTo>
                        <a:pt x="46" y="22"/>
                      </a:lnTo>
                      <a:lnTo>
                        <a:pt x="46" y="20"/>
                      </a:lnTo>
                      <a:lnTo>
                        <a:pt x="46" y="19"/>
                      </a:lnTo>
                      <a:lnTo>
                        <a:pt x="45" y="17"/>
                      </a:lnTo>
                      <a:lnTo>
                        <a:pt x="43" y="17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4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7610400" y="26035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2" y="25"/>
                      </a:moveTo>
                      <a:lnTo>
                        <a:pt x="44" y="25"/>
                      </a:lnTo>
                      <a:lnTo>
                        <a:pt x="45" y="25"/>
                      </a:lnTo>
                      <a:lnTo>
                        <a:pt x="47" y="23"/>
                      </a:lnTo>
                      <a:lnTo>
                        <a:pt x="47" y="22"/>
                      </a:lnTo>
                      <a:lnTo>
                        <a:pt x="47" y="20"/>
                      </a:lnTo>
                      <a:lnTo>
                        <a:pt x="47" y="18"/>
                      </a:lnTo>
                      <a:lnTo>
                        <a:pt x="45" y="17"/>
                      </a:lnTo>
                      <a:lnTo>
                        <a:pt x="44" y="15"/>
                      </a:lnTo>
                      <a:lnTo>
                        <a:pt x="39" y="13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37" y="23"/>
                      </a:lnTo>
                      <a:lnTo>
                        <a:pt x="4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7559640" y="2579760"/>
                  <a:ext cx="36360" cy="2232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42" y="26"/>
                      </a:moveTo>
                      <a:lnTo>
                        <a:pt x="44" y="26"/>
                      </a:lnTo>
                      <a:lnTo>
                        <a:pt x="45" y="25"/>
                      </a:lnTo>
                      <a:lnTo>
                        <a:pt x="47" y="23"/>
                      </a:lnTo>
                      <a:lnTo>
                        <a:pt x="47" y="21"/>
                      </a:lnTo>
                      <a:lnTo>
                        <a:pt x="47" y="20"/>
                      </a:lnTo>
                      <a:lnTo>
                        <a:pt x="47" y="18"/>
                      </a:lnTo>
                      <a:lnTo>
                        <a:pt x="45" y="16"/>
                      </a:lnTo>
                      <a:lnTo>
                        <a:pt x="44" y="16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7507440" y="2560680"/>
                  <a:ext cx="37800" cy="19080"/>
                </a:xfrm>
                <a:custGeom>
                  <a:avLst/>
                  <a:gdLst/>
                  <a:ahLst/>
                  <a:rect l="l" t="t" r="r" b="b"/>
                  <a:pathLst>
                    <a:path w="49" h="25">
                      <a:moveTo>
                        <a:pt x="42" y="25"/>
                      </a:moveTo>
                      <a:lnTo>
                        <a:pt x="44" y="25"/>
                      </a:lnTo>
                      <a:lnTo>
                        <a:pt x="45" y="23"/>
                      </a:lnTo>
                      <a:lnTo>
                        <a:pt x="47" y="21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6"/>
                      </a:lnTo>
                      <a:lnTo>
                        <a:pt x="45" y="15"/>
                      </a:lnTo>
                      <a:lnTo>
                        <a:pt x="44" y="15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7456320" y="2541600"/>
                  <a:ext cx="36720" cy="19080"/>
                </a:xfrm>
                <a:custGeom>
                  <a:avLst/>
                  <a:gdLst/>
                  <a:ahLst/>
                  <a:rect l="l" t="t" r="r" b="b"/>
                  <a:pathLst>
                    <a:path w="47" h="24">
                      <a:moveTo>
                        <a:pt x="42" y="24"/>
                      </a:moveTo>
                      <a:lnTo>
                        <a:pt x="44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7" y="19"/>
                      </a:lnTo>
                      <a:lnTo>
                        <a:pt x="47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4" y="14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4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7402320" y="2524320"/>
                  <a:ext cx="39960" cy="1728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41" y="23"/>
                      </a:moveTo>
                      <a:lnTo>
                        <a:pt x="43" y="23"/>
                      </a:lnTo>
                      <a:lnTo>
                        <a:pt x="45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6" y="15"/>
                      </a:lnTo>
                      <a:lnTo>
                        <a:pt x="45" y="13"/>
                      </a:lnTo>
                      <a:lnTo>
                        <a:pt x="43" y="13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41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7350120" y="2506680"/>
                  <a:ext cx="38160" cy="1764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42" y="24"/>
                      </a:moveTo>
                      <a:lnTo>
                        <a:pt x="43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8" y="19"/>
                      </a:lnTo>
                      <a:lnTo>
                        <a:pt x="48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3" y="14"/>
                      </a:lnTo>
                      <a:lnTo>
                        <a:pt x="12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10" y="12"/>
                      </a:lnTo>
                      <a:lnTo>
                        <a:pt x="4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7297560" y="249228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2" y="20"/>
                      </a:move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8"/>
                      </a:lnTo>
                      <a:lnTo>
                        <a:pt x="49" y="17"/>
                      </a:lnTo>
                      <a:lnTo>
                        <a:pt x="49" y="15"/>
                      </a:lnTo>
                      <a:lnTo>
                        <a:pt x="47" y="13"/>
                      </a:lnTo>
                      <a:lnTo>
                        <a:pt x="45" y="12"/>
                      </a:lnTo>
                      <a:lnTo>
                        <a:pt x="44" y="1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4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5" name=""/>
              <p:cNvSpPr/>
              <p:nvPr/>
            </p:nvSpPr>
            <p:spPr>
              <a:xfrm>
                <a:off x="7243920" y="247644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3" y="22"/>
                    </a:move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23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5"/>
                    </a:lnTo>
                    <a:lnTo>
                      <a:pt x="4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188120" y="246240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3" y="20"/>
                    </a:moveTo>
                    <a:lnTo>
                      <a:pt x="45" y="20"/>
                    </a:lnTo>
                    <a:lnTo>
                      <a:pt x="46" y="20"/>
                    </a:lnTo>
                    <a:lnTo>
                      <a:pt x="48" y="19"/>
                    </a:lnTo>
                    <a:lnTo>
                      <a:pt x="50" y="17"/>
                    </a:lnTo>
                    <a:lnTo>
                      <a:pt x="50" y="15"/>
                    </a:lnTo>
                    <a:lnTo>
                      <a:pt x="48" y="14"/>
                    </a:lnTo>
                    <a:lnTo>
                      <a:pt x="46" y="12"/>
                    </a:lnTo>
                    <a:lnTo>
                      <a:pt x="45" y="1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7135920" y="2451240"/>
                <a:ext cx="37800" cy="140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43" y="19"/>
                    </a:moveTo>
                    <a:lnTo>
                      <a:pt x="43" y="19"/>
                    </a:lnTo>
                    <a:lnTo>
                      <a:pt x="45" y="17"/>
                    </a:lnTo>
                    <a:lnTo>
                      <a:pt x="47" y="15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5" y="10"/>
                    </a:lnTo>
                    <a:lnTo>
                      <a:pt x="45" y="9"/>
                    </a:lnTo>
                    <a:lnTo>
                      <a:pt x="30" y="5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28" y="15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7080120" y="243828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7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7" y="10"/>
                    </a:lnTo>
                    <a:lnTo>
                      <a:pt x="45" y="9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7026120" y="24289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6">
                    <a:moveTo>
                      <a:pt x="43" y="16"/>
                    </a:moveTo>
                    <a:lnTo>
                      <a:pt x="45" y="16"/>
                    </a:lnTo>
                    <a:lnTo>
                      <a:pt x="46" y="15"/>
                    </a:lnTo>
                    <a:lnTo>
                      <a:pt x="48" y="13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48" y="8"/>
                    </a:lnTo>
                    <a:lnTo>
                      <a:pt x="46" y="6"/>
                    </a:lnTo>
                    <a:lnTo>
                      <a:pt x="45" y="6"/>
                    </a:lnTo>
                    <a:lnTo>
                      <a:pt x="38" y="5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36" y="15"/>
                    </a:lnTo>
                    <a:lnTo>
                      <a:pt x="4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6972120" y="24210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4" y="17"/>
                    </a:moveTo>
                    <a:lnTo>
                      <a:pt x="45" y="17"/>
                    </a:lnTo>
                    <a:lnTo>
                      <a:pt x="47" y="15"/>
                    </a:lnTo>
                    <a:lnTo>
                      <a:pt x="49" y="13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4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6916680" y="241164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45" y="17"/>
                    </a:moveTo>
                    <a:lnTo>
                      <a:pt x="47" y="17"/>
                    </a:lnTo>
                    <a:lnTo>
                      <a:pt x="49" y="15"/>
                    </a:lnTo>
                    <a:lnTo>
                      <a:pt x="50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49" y="7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15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6862680" y="24051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8" h="15">
                    <a:moveTo>
                      <a:pt x="43" y="15"/>
                    </a:moveTo>
                    <a:lnTo>
                      <a:pt x="45" y="15"/>
                    </a:lnTo>
                    <a:lnTo>
                      <a:pt x="47" y="15"/>
                    </a:lnTo>
                    <a:lnTo>
                      <a:pt x="48" y="13"/>
                    </a:lnTo>
                    <a:lnTo>
                      <a:pt x="48" y="12"/>
                    </a:lnTo>
                    <a:lnTo>
                      <a:pt x="48" y="10"/>
                    </a:lnTo>
                    <a:lnTo>
                      <a:pt x="48" y="8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4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6807240" y="23986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43" y="14"/>
                    </a:moveTo>
                    <a:lnTo>
                      <a:pt x="45" y="14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45" y="4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751440" y="23940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1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6696000" y="2389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45" y="11"/>
                    </a:moveTo>
                    <a:lnTo>
                      <a:pt x="47" y="11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6640560" y="23860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5" y="13"/>
                    </a:moveTo>
                    <a:lnTo>
                      <a:pt x="47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584760" y="238464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2"/>
                    </a:move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529320" y="23828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2"/>
                    </a:move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89" name=""/>
            <p:cNvGrpSpPr/>
            <p:nvPr/>
          </p:nvGrpSpPr>
          <p:grpSpPr>
            <a:xfrm>
              <a:off x="4940280" y="3516480"/>
              <a:ext cx="609480" cy="457200"/>
              <a:chOff x="4940280" y="3516480"/>
              <a:chExt cx="609480" cy="457200"/>
            </a:xfrm>
          </p:grpSpPr>
          <p:sp>
            <p:nvSpPr>
              <p:cNvPr id="2490" name=""/>
              <p:cNvSpPr/>
              <p:nvPr/>
            </p:nvSpPr>
            <p:spPr>
              <a:xfrm>
                <a:off x="4964760" y="37616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91" name=""/>
              <p:cNvGrpSpPr/>
              <p:nvPr/>
            </p:nvGrpSpPr>
            <p:grpSpPr>
              <a:xfrm>
                <a:off x="4940280" y="3516480"/>
                <a:ext cx="609480" cy="457200"/>
                <a:chOff x="4940280" y="3516480"/>
                <a:chExt cx="609480" cy="457200"/>
              </a:xfrm>
            </p:grpSpPr>
            <p:sp>
              <p:nvSpPr>
                <p:cNvPr id="2492" name=""/>
                <p:cNvSpPr/>
                <p:nvPr/>
              </p:nvSpPr>
              <p:spPr>
                <a:xfrm>
                  <a:off x="5148360" y="35701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5148360" y="36237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5148360" y="38394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5148360" y="38930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4947840" y="37047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5181840" y="35164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5181840" y="37854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4981320" y="36237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 flipV="1">
                  <a:off x="4981320" y="37854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 flipH="1">
                  <a:off x="4940280" y="37137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2" name=""/>
            <p:cNvGrpSpPr/>
            <p:nvPr/>
          </p:nvGrpSpPr>
          <p:grpSpPr>
            <a:xfrm>
              <a:off x="5397480" y="4278240"/>
              <a:ext cx="609480" cy="457200"/>
              <a:chOff x="5397480" y="4278240"/>
              <a:chExt cx="609480" cy="457200"/>
            </a:xfrm>
          </p:grpSpPr>
          <p:sp>
            <p:nvSpPr>
              <p:cNvPr id="2503" name=""/>
              <p:cNvSpPr/>
              <p:nvPr/>
            </p:nvSpPr>
            <p:spPr>
              <a:xfrm>
                <a:off x="5421960" y="452340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04" name=""/>
              <p:cNvGrpSpPr/>
              <p:nvPr/>
            </p:nvGrpSpPr>
            <p:grpSpPr>
              <a:xfrm>
                <a:off x="5397480" y="4278240"/>
                <a:ext cx="609480" cy="457200"/>
                <a:chOff x="5397480" y="4278240"/>
                <a:chExt cx="609480" cy="457200"/>
              </a:xfrm>
            </p:grpSpPr>
            <p:sp>
              <p:nvSpPr>
                <p:cNvPr id="2505" name=""/>
                <p:cNvSpPr/>
                <p:nvPr/>
              </p:nvSpPr>
              <p:spPr>
                <a:xfrm>
                  <a:off x="5605560" y="43318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5605560" y="4385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5605560" y="46011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5605560" y="4654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5405040" y="44665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5639040" y="42782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5639040" y="45471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5438520" y="43855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 flipV="1">
                  <a:off x="5438520" y="45471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 flipH="1">
                  <a:off x="5397480" y="44755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15" name=""/>
            <p:cNvGrpSpPr/>
            <p:nvPr/>
          </p:nvGrpSpPr>
          <p:grpSpPr>
            <a:xfrm>
              <a:off x="7074000" y="3059280"/>
              <a:ext cx="609480" cy="457200"/>
              <a:chOff x="7074000" y="3059280"/>
              <a:chExt cx="609480" cy="457200"/>
            </a:xfrm>
          </p:grpSpPr>
          <p:sp>
            <p:nvSpPr>
              <p:cNvPr id="2516" name=""/>
              <p:cNvSpPr/>
              <p:nvPr/>
            </p:nvSpPr>
            <p:spPr>
              <a:xfrm>
                <a:off x="7098480" y="33044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17" name=""/>
              <p:cNvGrpSpPr/>
              <p:nvPr/>
            </p:nvGrpSpPr>
            <p:grpSpPr>
              <a:xfrm>
                <a:off x="7074000" y="3059280"/>
                <a:ext cx="609480" cy="457200"/>
                <a:chOff x="7074000" y="3059280"/>
                <a:chExt cx="609480" cy="457200"/>
              </a:xfrm>
            </p:grpSpPr>
            <p:sp>
              <p:nvSpPr>
                <p:cNvPr id="2518" name=""/>
                <p:cNvSpPr/>
                <p:nvPr/>
              </p:nvSpPr>
              <p:spPr>
                <a:xfrm>
                  <a:off x="7282080" y="3112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7282080" y="3166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7282080" y="3382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7282080" y="34358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7081560" y="32475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7315560" y="30592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7315560" y="33282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7115040" y="31665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 flipV="1">
                  <a:off x="7115040" y="33282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 flipH="1">
                  <a:off x="7074000" y="32565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28" name=""/>
            <p:cNvGrpSpPr/>
            <p:nvPr/>
          </p:nvGrpSpPr>
          <p:grpSpPr>
            <a:xfrm>
              <a:off x="7378560" y="4430880"/>
              <a:ext cx="609840" cy="457200"/>
              <a:chOff x="7378560" y="4430880"/>
              <a:chExt cx="609840" cy="457200"/>
            </a:xfrm>
          </p:grpSpPr>
          <p:sp>
            <p:nvSpPr>
              <p:cNvPr id="2529" name=""/>
              <p:cNvSpPr/>
              <p:nvPr/>
            </p:nvSpPr>
            <p:spPr>
              <a:xfrm>
                <a:off x="7403040" y="467604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30" name=""/>
              <p:cNvGrpSpPr/>
              <p:nvPr/>
            </p:nvGrpSpPr>
            <p:grpSpPr>
              <a:xfrm>
                <a:off x="7378560" y="4430880"/>
                <a:ext cx="609840" cy="457200"/>
                <a:chOff x="7378560" y="4430880"/>
                <a:chExt cx="609840" cy="457200"/>
              </a:xfrm>
            </p:grpSpPr>
            <p:sp>
              <p:nvSpPr>
                <p:cNvPr id="2531" name=""/>
                <p:cNvSpPr/>
                <p:nvPr/>
              </p:nvSpPr>
              <p:spPr>
                <a:xfrm>
                  <a:off x="7587000" y="4484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7587000" y="45381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7587000" y="4753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7587000" y="4807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7386120" y="461916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7620120" y="4430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7620120" y="46998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7419600" y="45381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 flipV="1">
                  <a:off x="7419600" y="46998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 flipH="1">
                  <a:off x="7378560" y="46281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41" name=""/>
            <p:cNvGrpSpPr/>
            <p:nvPr/>
          </p:nvGrpSpPr>
          <p:grpSpPr>
            <a:xfrm>
              <a:off x="5641560" y="2782080"/>
              <a:ext cx="606960" cy="513000"/>
              <a:chOff x="5641560" y="2782080"/>
              <a:chExt cx="606960" cy="513000"/>
            </a:xfrm>
          </p:grpSpPr>
          <p:sp>
            <p:nvSpPr>
              <p:cNvPr id="2542" name=""/>
              <p:cNvSpPr/>
              <p:nvPr/>
            </p:nvSpPr>
            <p:spPr>
              <a:xfrm rot="19834800">
                <a:off x="5705640" y="299232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43" name=""/>
              <p:cNvGrpSpPr/>
              <p:nvPr/>
            </p:nvGrpSpPr>
            <p:grpSpPr>
              <a:xfrm>
                <a:off x="5641560" y="2782080"/>
                <a:ext cx="574200" cy="435600"/>
                <a:chOff x="5641560" y="2782080"/>
                <a:chExt cx="574200" cy="435600"/>
              </a:xfrm>
            </p:grpSpPr>
            <p:sp>
              <p:nvSpPr>
                <p:cNvPr id="2544" name=""/>
                <p:cNvSpPr/>
                <p:nvPr/>
              </p:nvSpPr>
              <p:spPr>
                <a:xfrm rot="19834800">
                  <a:off x="5758560" y="2843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 rot="19834800">
                  <a:off x="5784840" y="28900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 rot="19834800">
                  <a:off x="5890680" y="3078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 rot="19834800">
                  <a:off x="5916960" y="3124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 rot="19834800">
                  <a:off x="5632920" y="294048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 rot="19834800">
                  <a:off x="5805360" y="27860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 rot="19834800">
                  <a:off x="5937480" y="30204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 rot="19834800">
                  <a:off x="5657040" y="29847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 flipV="1" rot="19834800">
                  <a:off x="5735880" y="31258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 flipH="1" rot="19834800">
                  <a:off x="5653800" y="30610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4" name=""/>
            <p:cNvGrpSpPr/>
            <p:nvPr/>
          </p:nvGrpSpPr>
          <p:grpSpPr>
            <a:xfrm>
              <a:off x="4650840" y="4458600"/>
              <a:ext cx="607320" cy="513360"/>
              <a:chOff x="4650840" y="4458600"/>
              <a:chExt cx="607320" cy="513360"/>
            </a:xfrm>
          </p:grpSpPr>
          <p:sp>
            <p:nvSpPr>
              <p:cNvPr id="2555" name=""/>
              <p:cNvSpPr/>
              <p:nvPr/>
            </p:nvSpPr>
            <p:spPr>
              <a:xfrm rot="19834800">
                <a:off x="4714920" y="466884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56" name=""/>
              <p:cNvGrpSpPr/>
              <p:nvPr/>
            </p:nvGrpSpPr>
            <p:grpSpPr>
              <a:xfrm>
                <a:off x="4650840" y="4458600"/>
                <a:ext cx="574920" cy="435600"/>
                <a:chOff x="4650840" y="4458600"/>
                <a:chExt cx="574920" cy="435600"/>
              </a:xfrm>
            </p:grpSpPr>
            <p:sp>
              <p:nvSpPr>
                <p:cNvPr id="2557" name=""/>
                <p:cNvSpPr/>
                <p:nvPr/>
              </p:nvSpPr>
              <p:spPr>
                <a:xfrm rot="19834800">
                  <a:off x="4768200" y="4519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 rot="19834800">
                  <a:off x="4794480" y="45666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 rot="19834800">
                  <a:off x="4900320" y="4754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 rot="19834800">
                  <a:off x="4926600" y="48013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 rot="19834800">
                  <a:off x="4642560" y="461700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 rot="19834800">
                  <a:off x="4814640" y="44625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 rot="19834800">
                  <a:off x="4946760" y="46969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rot="19834800">
                  <a:off x="4666320" y="46616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 flipV="1" rot="19834800">
                  <a:off x="4745520" y="48024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 flipH="1" rot="19834800">
                  <a:off x="4663080" y="47376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67" name=""/>
            <p:cNvGrpSpPr/>
            <p:nvPr/>
          </p:nvGrpSpPr>
          <p:grpSpPr>
            <a:xfrm>
              <a:off x="5717880" y="4991760"/>
              <a:ext cx="606960" cy="513000"/>
              <a:chOff x="5717880" y="4991760"/>
              <a:chExt cx="606960" cy="513000"/>
            </a:xfrm>
          </p:grpSpPr>
          <p:sp>
            <p:nvSpPr>
              <p:cNvPr id="2568" name=""/>
              <p:cNvSpPr/>
              <p:nvPr/>
            </p:nvSpPr>
            <p:spPr>
              <a:xfrm rot="19834800">
                <a:off x="5781960" y="520200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69" name=""/>
              <p:cNvGrpSpPr/>
              <p:nvPr/>
            </p:nvGrpSpPr>
            <p:grpSpPr>
              <a:xfrm>
                <a:off x="5717880" y="4991760"/>
                <a:ext cx="574200" cy="435600"/>
                <a:chOff x="5717880" y="4991760"/>
                <a:chExt cx="574200" cy="435600"/>
              </a:xfrm>
            </p:grpSpPr>
            <p:sp>
              <p:nvSpPr>
                <p:cNvPr id="2570" name=""/>
                <p:cNvSpPr/>
                <p:nvPr/>
              </p:nvSpPr>
              <p:spPr>
                <a:xfrm rot="19834800">
                  <a:off x="5834880" y="50529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 rot="19834800">
                  <a:off x="5861160" y="50997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 rot="19834800">
                  <a:off x="5967000" y="52876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 rot="19834800">
                  <a:off x="5993280" y="5334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 rot="19834800">
                  <a:off x="5709240" y="51501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 rot="19834800">
                  <a:off x="5881680" y="49957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 rot="19834800">
                  <a:off x="6013800" y="52300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 rot="19834800">
                  <a:off x="5733360" y="51944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 flipV="1" rot="19834800">
                  <a:off x="5812200" y="53355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 flipH="1" rot="19834800">
                  <a:off x="5730120" y="52707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80" name=""/>
            <p:cNvGrpSpPr/>
            <p:nvPr/>
          </p:nvGrpSpPr>
          <p:grpSpPr>
            <a:xfrm>
              <a:off x="6403680" y="4077360"/>
              <a:ext cx="606960" cy="513000"/>
              <a:chOff x="6403680" y="4077360"/>
              <a:chExt cx="606960" cy="513000"/>
            </a:xfrm>
          </p:grpSpPr>
          <p:sp>
            <p:nvSpPr>
              <p:cNvPr id="2581" name=""/>
              <p:cNvSpPr/>
              <p:nvPr/>
            </p:nvSpPr>
            <p:spPr>
              <a:xfrm rot="19834800">
                <a:off x="6467760" y="428760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82" name=""/>
              <p:cNvGrpSpPr/>
              <p:nvPr/>
            </p:nvGrpSpPr>
            <p:grpSpPr>
              <a:xfrm>
                <a:off x="6403680" y="4077360"/>
                <a:ext cx="574200" cy="435600"/>
                <a:chOff x="6403680" y="4077360"/>
                <a:chExt cx="574200" cy="435600"/>
              </a:xfrm>
            </p:grpSpPr>
            <p:sp>
              <p:nvSpPr>
                <p:cNvPr id="2583" name=""/>
                <p:cNvSpPr/>
                <p:nvPr/>
              </p:nvSpPr>
              <p:spPr>
                <a:xfrm rot="19834800">
                  <a:off x="6520680" y="4138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 rot="19834800">
                  <a:off x="6546960" y="4185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 rot="19834800">
                  <a:off x="6652800" y="4373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 rot="19834800">
                  <a:off x="6679080" y="44200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 rot="19834800">
                  <a:off x="6395040" y="42357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 rot="19834800">
                  <a:off x="6567480" y="40813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rot="19834800">
                  <a:off x="6699600" y="43156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rot="19834800">
                  <a:off x="6419160" y="42800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 flipV="1" rot="19834800">
                  <a:off x="6498000" y="44211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 flipH="1" rot="19834800">
                  <a:off x="6415920" y="43563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93" name=""/>
            <p:cNvGrpSpPr/>
            <p:nvPr/>
          </p:nvGrpSpPr>
          <p:grpSpPr>
            <a:xfrm>
              <a:off x="6098760" y="3467880"/>
              <a:ext cx="606960" cy="513000"/>
              <a:chOff x="6098760" y="3467880"/>
              <a:chExt cx="606960" cy="513000"/>
            </a:xfrm>
          </p:grpSpPr>
          <p:sp>
            <p:nvSpPr>
              <p:cNvPr id="2594" name=""/>
              <p:cNvSpPr/>
              <p:nvPr/>
            </p:nvSpPr>
            <p:spPr>
              <a:xfrm rot="19834800">
                <a:off x="6162840" y="367812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95" name=""/>
              <p:cNvGrpSpPr/>
              <p:nvPr/>
            </p:nvGrpSpPr>
            <p:grpSpPr>
              <a:xfrm>
                <a:off x="6098760" y="3467880"/>
                <a:ext cx="574200" cy="435600"/>
                <a:chOff x="6098760" y="3467880"/>
                <a:chExt cx="574200" cy="435600"/>
              </a:xfrm>
            </p:grpSpPr>
            <p:sp>
              <p:nvSpPr>
                <p:cNvPr id="2596" name=""/>
                <p:cNvSpPr/>
                <p:nvPr/>
              </p:nvSpPr>
              <p:spPr>
                <a:xfrm rot="19834800">
                  <a:off x="6215760" y="35290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 rot="19834800">
                  <a:off x="6242040" y="35758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 rot="19834800">
                  <a:off x="6347880" y="3763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 rot="19834800">
                  <a:off x="6374160" y="38106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 rot="19834800">
                  <a:off x="6090120" y="362628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rot="19834800">
                  <a:off x="6262560" y="34718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 rot="19834800">
                  <a:off x="6394680" y="37062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 rot="19834800">
                  <a:off x="6114240" y="36705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 flipV="1" rot="19834800">
                  <a:off x="6193080" y="38116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 flipH="1" rot="19834800">
                  <a:off x="6111000" y="37468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6" name=""/>
            <p:cNvGrpSpPr/>
            <p:nvPr/>
          </p:nvGrpSpPr>
          <p:grpSpPr>
            <a:xfrm>
              <a:off x="6936840" y="2477160"/>
              <a:ext cx="607320" cy="513360"/>
              <a:chOff x="6936840" y="2477160"/>
              <a:chExt cx="607320" cy="513360"/>
            </a:xfrm>
          </p:grpSpPr>
          <p:sp>
            <p:nvSpPr>
              <p:cNvPr id="2607" name=""/>
              <p:cNvSpPr/>
              <p:nvPr/>
            </p:nvSpPr>
            <p:spPr>
              <a:xfrm rot="19834800">
                <a:off x="7000920" y="268740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08" name=""/>
              <p:cNvGrpSpPr/>
              <p:nvPr/>
            </p:nvGrpSpPr>
            <p:grpSpPr>
              <a:xfrm>
                <a:off x="6936840" y="2477160"/>
                <a:ext cx="574920" cy="435600"/>
                <a:chOff x="6936840" y="2477160"/>
                <a:chExt cx="574920" cy="435600"/>
              </a:xfrm>
            </p:grpSpPr>
            <p:sp>
              <p:nvSpPr>
                <p:cNvPr id="2609" name=""/>
                <p:cNvSpPr/>
                <p:nvPr/>
              </p:nvSpPr>
              <p:spPr>
                <a:xfrm rot="19834800">
                  <a:off x="7054200" y="2538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 rot="19834800">
                  <a:off x="7080480" y="25851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 rot="19834800">
                  <a:off x="7186320" y="27730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 rot="19834800">
                  <a:off x="7212600" y="28198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 rot="19834800">
                  <a:off x="6928560" y="263556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 rot="19834800">
                  <a:off x="7100640" y="24811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 rot="19834800">
                  <a:off x="7232760" y="27154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 rot="19834800">
                  <a:off x="6952320" y="26802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flipV="1" rot="19834800">
                  <a:off x="7031520" y="28209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 flipH="1" rot="19834800">
                  <a:off x="6949080" y="27561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19" name=""/>
            <p:cNvGrpSpPr/>
            <p:nvPr/>
          </p:nvGrpSpPr>
          <p:grpSpPr>
            <a:xfrm>
              <a:off x="7851240" y="3544200"/>
              <a:ext cx="607320" cy="513360"/>
              <a:chOff x="7851240" y="3544200"/>
              <a:chExt cx="607320" cy="513360"/>
            </a:xfrm>
          </p:grpSpPr>
          <p:sp>
            <p:nvSpPr>
              <p:cNvPr id="2620" name=""/>
              <p:cNvSpPr/>
              <p:nvPr/>
            </p:nvSpPr>
            <p:spPr>
              <a:xfrm rot="19834800">
                <a:off x="7915320" y="375444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21" name=""/>
              <p:cNvGrpSpPr/>
              <p:nvPr/>
            </p:nvGrpSpPr>
            <p:grpSpPr>
              <a:xfrm>
                <a:off x="7851240" y="3544200"/>
                <a:ext cx="574920" cy="435600"/>
                <a:chOff x="7851240" y="3544200"/>
                <a:chExt cx="574920" cy="435600"/>
              </a:xfrm>
            </p:grpSpPr>
            <p:sp>
              <p:nvSpPr>
                <p:cNvPr id="2622" name=""/>
                <p:cNvSpPr/>
                <p:nvPr/>
              </p:nvSpPr>
              <p:spPr>
                <a:xfrm rot="19834800">
                  <a:off x="7968600" y="36054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 rot="19834800">
                  <a:off x="7994880" y="3652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 rot="19834800">
                  <a:off x="8100720" y="38401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 rot="19834800">
                  <a:off x="8127000" y="3886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 rot="19834800">
                  <a:off x="7842960" y="370260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 rot="19834800">
                  <a:off x="8015040" y="35481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 rot="19834800">
                  <a:off x="8147160" y="37825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 rot="19834800">
                  <a:off x="7866720" y="3747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flipV="1" rot="19834800">
                  <a:off x="7945920" y="38880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 flipH="1" rot="19834800">
                  <a:off x="7863480" y="38232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32" name=""/>
          <p:cNvGrpSpPr/>
          <p:nvPr/>
        </p:nvGrpSpPr>
        <p:grpSpPr>
          <a:xfrm>
            <a:off x="4278240" y="2311560"/>
            <a:ext cx="4510080" cy="3367080"/>
            <a:chOff x="4278240" y="2311560"/>
            <a:chExt cx="4510080" cy="3367080"/>
          </a:xfrm>
        </p:grpSpPr>
        <p:sp>
          <p:nvSpPr>
            <p:cNvPr id="2633" name=""/>
            <p:cNvSpPr/>
            <p:nvPr/>
          </p:nvSpPr>
          <p:spPr>
            <a:xfrm>
              <a:off x="4481280" y="5180040"/>
              <a:ext cx="77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 Narrow"/>
                </a:rPr>
                <a:t>IF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4278240" y="231156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35" name=""/>
            <p:cNvGrpSpPr/>
            <p:nvPr/>
          </p:nvGrpSpPr>
          <p:grpSpPr>
            <a:xfrm>
              <a:off x="6927480" y="3051360"/>
              <a:ext cx="1106640" cy="2079720"/>
              <a:chOff x="6927480" y="3051360"/>
              <a:chExt cx="1106640" cy="2079720"/>
            </a:xfrm>
          </p:grpSpPr>
          <p:sp>
            <p:nvSpPr>
              <p:cNvPr id="2636" name=""/>
              <p:cNvSpPr/>
              <p:nvPr/>
            </p:nvSpPr>
            <p:spPr>
              <a:xfrm>
                <a:off x="6960960" y="3651480"/>
                <a:ext cx="27000" cy="50760"/>
              </a:xfrm>
              <a:custGeom>
                <a:avLst/>
                <a:gdLst/>
                <a:ahLst/>
                <a:rect l="l" t="t" r="r" b="b"/>
                <a:pathLst>
                  <a:path w="35" h="63">
                    <a:moveTo>
                      <a:pt x="15" y="43"/>
                    </a:moveTo>
                    <a:lnTo>
                      <a:pt x="17" y="45"/>
                    </a:lnTo>
                    <a:lnTo>
                      <a:pt x="25" y="60"/>
                    </a:lnTo>
                    <a:lnTo>
                      <a:pt x="27" y="61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2" y="61"/>
                    </a:lnTo>
                    <a:lnTo>
                      <a:pt x="34" y="60"/>
                    </a:lnTo>
                    <a:lnTo>
                      <a:pt x="35" y="58"/>
                    </a:lnTo>
                    <a:lnTo>
                      <a:pt x="35" y="56"/>
                    </a:lnTo>
                    <a:lnTo>
                      <a:pt x="34" y="55"/>
                    </a:lnTo>
                    <a:lnTo>
                      <a:pt x="25" y="40"/>
                    </a:lnTo>
                    <a:lnTo>
                      <a:pt x="20" y="41"/>
                    </a:lnTo>
                    <a:lnTo>
                      <a:pt x="25" y="41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5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6945120" y="359892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43"/>
                    </a:moveTo>
                    <a:lnTo>
                      <a:pt x="12" y="45"/>
                    </a:lnTo>
                    <a:lnTo>
                      <a:pt x="14" y="47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932520" y="354348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7"/>
                    </a:moveTo>
                    <a:lnTo>
                      <a:pt x="9" y="48"/>
                    </a:lnTo>
                    <a:lnTo>
                      <a:pt x="10" y="50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50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2" y="8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6929280" y="34880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5"/>
                    </a:moveTo>
                    <a:lnTo>
                      <a:pt x="4" y="46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6"/>
                    </a:lnTo>
                    <a:lnTo>
                      <a:pt x="12" y="45"/>
                    </a:lnTo>
                    <a:lnTo>
                      <a:pt x="12" y="43"/>
                    </a:lnTo>
                    <a:lnTo>
                      <a:pt x="10" y="23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25"/>
                    </a:lnTo>
                    <a:lnTo>
                      <a:pt x="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6927480" y="34322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0" y="45"/>
                    </a:moveTo>
                    <a:lnTo>
                      <a:pt x="1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10" y="38"/>
                    </a:lnTo>
                    <a:lnTo>
                      <a:pt x="5" y="40"/>
                    </a:lnTo>
                    <a:lnTo>
                      <a:pt x="10" y="40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930720" y="337680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6938640" y="332280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8" h="49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27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3" y="2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948360" y="326880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2"/>
                    </a:moveTo>
                    <a:lnTo>
                      <a:pt x="0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6962400" y="3214800"/>
                <a:ext cx="1620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22" y="6"/>
                    </a:lnTo>
                    <a:lnTo>
                      <a:pt x="22" y="5"/>
                    </a:lnTo>
                    <a:lnTo>
                      <a:pt x="20" y="3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6978600" y="3162600"/>
                <a:ext cx="20520" cy="3780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0" y="41"/>
                    </a:moveTo>
                    <a:lnTo>
                      <a:pt x="0" y="43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5" y="46"/>
                    </a:lnTo>
                    <a:lnTo>
                      <a:pt x="6" y="46"/>
                    </a:lnTo>
                    <a:lnTo>
                      <a:pt x="8" y="46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20" y="15"/>
                    </a:lnTo>
                    <a:lnTo>
                      <a:pt x="25" y="6"/>
                    </a:lnTo>
                    <a:lnTo>
                      <a:pt x="25" y="5"/>
                    </a:lnTo>
                    <a:lnTo>
                      <a:pt x="23" y="3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1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0" y="1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002360" y="311472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3"/>
                    </a:lnTo>
                    <a:lnTo>
                      <a:pt x="5" y="43"/>
                    </a:lnTo>
                    <a:lnTo>
                      <a:pt x="7" y="43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17" y="30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23" y="3"/>
                    </a:lnTo>
                    <a:lnTo>
                      <a:pt x="8" y="25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7034040" y="3078360"/>
                <a:ext cx="3348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" y="25"/>
                    </a:move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8" y="33"/>
                    </a:lnTo>
                    <a:lnTo>
                      <a:pt x="21" y="20"/>
                    </a:lnTo>
                    <a:lnTo>
                      <a:pt x="40" y="8"/>
                    </a:lnTo>
                    <a:lnTo>
                      <a:pt x="41" y="7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16" y="12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7081560" y="30592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5" y="10"/>
                    </a:moveTo>
                    <a:lnTo>
                      <a:pt x="3" y="12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30" y="13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8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7135560" y="3052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4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22" y="12"/>
                    </a:lnTo>
                    <a:lnTo>
                      <a:pt x="45" y="10"/>
                    </a:ln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20" y="2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7191000" y="3051360"/>
                <a:ext cx="39960" cy="7920"/>
              </a:xfrm>
              <a:custGeom>
                <a:avLst/>
                <a:gdLst/>
                <a:ahLst/>
                <a:rect l="l" t="t" r="r" b="b"/>
                <a:pathLst>
                  <a:path w="50" h="10">
                    <a:moveTo>
                      <a:pt x="4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30" y="10"/>
                    </a:lnTo>
                    <a:lnTo>
                      <a:pt x="29" y="5"/>
                    </a:lnTo>
                    <a:lnTo>
                      <a:pt x="29" y="10"/>
                    </a:lnTo>
                    <a:lnTo>
                      <a:pt x="44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7246800" y="30513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9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9" y="6"/>
                    </a:lnTo>
                    <a:lnTo>
                      <a:pt x="47" y="5"/>
                    </a:lnTo>
                    <a:lnTo>
                      <a:pt x="4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7302240" y="30578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22" y="12"/>
                    </a:lnTo>
                    <a:lnTo>
                      <a:pt x="44" y="15"/>
                    </a:lnTo>
                    <a:lnTo>
                      <a:pt x="45" y="15"/>
                    </a:lnTo>
                    <a:lnTo>
                      <a:pt x="47" y="15"/>
                    </a:lnTo>
                    <a:lnTo>
                      <a:pt x="49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49" y="9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7356240" y="3065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9"/>
                    </a:ln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7410240" y="30783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23" y="15"/>
                    </a:lnTo>
                    <a:lnTo>
                      <a:pt x="43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25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7462800" y="309564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0" y="25"/>
                    </a:lnTo>
                    <a:lnTo>
                      <a:pt x="41" y="20"/>
                    </a:lnTo>
                    <a:lnTo>
                      <a:pt x="38" y="25"/>
                    </a:lnTo>
                    <a:lnTo>
                      <a:pt x="40" y="25"/>
                    </a:lnTo>
                    <a:lnTo>
                      <a:pt x="41" y="25"/>
                    </a:lnTo>
                    <a:lnTo>
                      <a:pt x="43" y="25"/>
                    </a:lnTo>
                    <a:lnTo>
                      <a:pt x="45" y="25"/>
                    </a:lnTo>
                    <a:lnTo>
                      <a:pt x="46" y="23"/>
                    </a:lnTo>
                    <a:lnTo>
                      <a:pt x="46" y="21"/>
                    </a:lnTo>
                    <a:lnTo>
                      <a:pt x="46" y="20"/>
                    </a:lnTo>
                    <a:lnTo>
                      <a:pt x="46" y="18"/>
                    </a:lnTo>
                    <a:lnTo>
                      <a:pt x="45" y="16"/>
                    </a:lnTo>
                    <a:lnTo>
                      <a:pt x="43" y="16"/>
                    </a:lnTo>
                    <a:lnTo>
                      <a:pt x="41" y="1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7513560" y="311976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7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3" y="15"/>
                    </a:lnTo>
                    <a:lnTo>
                      <a:pt x="37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40" y="30"/>
                    </a:lnTo>
                    <a:lnTo>
                      <a:pt x="42" y="28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2" y="25"/>
                    </a:lnTo>
                    <a:lnTo>
                      <a:pt x="42" y="23"/>
                    </a:lnTo>
                    <a:lnTo>
                      <a:pt x="18" y="6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7557840" y="3151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8" y="1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5"/>
                    </a:lnTo>
                    <a:lnTo>
                      <a:pt x="23" y="21"/>
                    </a:lnTo>
                    <a:lnTo>
                      <a:pt x="18" y="23"/>
                    </a:lnTo>
                    <a:lnTo>
                      <a:pt x="28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26" y="18"/>
                    </a:lnTo>
                    <a:lnTo>
                      <a:pt x="25" y="16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594560" y="319428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10" y="3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6" y="35"/>
                    </a:lnTo>
                    <a:lnTo>
                      <a:pt x="20" y="33"/>
                    </a:lnTo>
                    <a:lnTo>
                      <a:pt x="15" y="33"/>
                    </a:lnTo>
                    <a:lnTo>
                      <a:pt x="18" y="42"/>
                    </a:ln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8" y="42"/>
                    </a:lnTo>
                    <a:lnTo>
                      <a:pt x="28" y="40"/>
                    </a:lnTo>
                    <a:lnTo>
                      <a:pt x="25" y="32"/>
                    </a:lnTo>
                    <a:lnTo>
                      <a:pt x="25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7615080" y="32450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10" y="3"/>
                    </a:move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9" y="45"/>
                    </a:lnTo>
                    <a:lnTo>
                      <a:pt x="9" y="47"/>
                    </a:lnTo>
                    <a:lnTo>
                      <a:pt x="10" y="48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2" y="8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7624440" y="329904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35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34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627680" y="335448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5"/>
                    </a:move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19"/>
                    </a:lnTo>
                    <a:lnTo>
                      <a:pt x="7" y="17"/>
                    </a:lnTo>
                    <a:lnTo>
                      <a:pt x="2" y="17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7626240" y="340992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621560" y="3465720"/>
                <a:ext cx="1080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4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7619760" y="35211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7616520" y="35769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3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34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613280" y="363240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2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0" y="2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613280" y="3687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0" y="5"/>
                    </a:move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0" y="14"/>
                    </a:lnTo>
                    <a:lnTo>
                      <a:pt x="5" y="14"/>
                    </a:lnTo>
                    <a:lnTo>
                      <a:pt x="10" y="1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616520" y="374364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4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5" y="49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7621560" y="379728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6" h="50">
                    <a:moveTo>
                      <a:pt x="10" y="5"/>
                    </a:move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6" y="46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1" y="50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6" y="48"/>
                    </a:lnTo>
                    <a:lnTo>
                      <a:pt x="16" y="46"/>
                    </a:lnTo>
                    <a:lnTo>
                      <a:pt x="16" y="4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7634160" y="385308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10" y="5"/>
                    </a:move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6" y="30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8"/>
                    </a:lnTo>
                    <a:lnTo>
                      <a:pt x="16" y="48"/>
                    </a:lnTo>
                    <a:lnTo>
                      <a:pt x="18" y="48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3" y="45"/>
                    </a:lnTo>
                    <a:lnTo>
                      <a:pt x="23" y="43"/>
                    </a:lnTo>
                    <a:lnTo>
                      <a:pt x="16" y="2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653240" y="390528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6" h="45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8" y="43"/>
                    </a:lnTo>
                    <a:lnTo>
                      <a:pt x="20" y="45"/>
                    </a:lnTo>
                    <a:lnTo>
                      <a:pt x="21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1"/>
                    </a:lnTo>
                    <a:lnTo>
                      <a:pt x="26" y="40"/>
                    </a:lnTo>
                    <a:lnTo>
                      <a:pt x="26" y="38"/>
                    </a:lnTo>
                    <a:lnTo>
                      <a:pt x="10" y="8"/>
                    </a:lnTo>
                    <a:lnTo>
                      <a:pt x="6" y="10"/>
                    </a:lnTo>
                    <a:lnTo>
                      <a:pt x="11" y="1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678440" y="395460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10" y="2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4" y="42"/>
                    </a:lnTo>
                    <a:lnTo>
                      <a:pt x="25" y="44"/>
                    </a:lnTo>
                    <a:lnTo>
                      <a:pt x="27" y="44"/>
                    </a:lnTo>
                    <a:lnTo>
                      <a:pt x="29" y="44"/>
                    </a:lnTo>
                    <a:lnTo>
                      <a:pt x="30" y="44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9"/>
                    </a:lnTo>
                    <a:lnTo>
                      <a:pt x="32" y="37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710120" y="400068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34" h="41">
                    <a:moveTo>
                      <a:pt x="9" y="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9" y="31"/>
                    </a:lnTo>
                    <a:lnTo>
                      <a:pt x="25" y="38"/>
                    </a:lnTo>
                    <a:lnTo>
                      <a:pt x="27" y="40"/>
                    </a:lnTo>
                    <a:lnTo>
                      <a:pt x="29" y="41"/>
                    </a:lnTo>
                    <a:lnTo>
                      <a:pt x="30" y="41"/>
                    </a:lnTo>
                    <a:lnTo>
                      <a:pt x="32" y="40"/>
                    </a:lnTo>
                    <a:lnTo>
                      <a:pt x="34" y="38"/>
                    </a:lnTo>
                    <a:lnTo>
                      <a:pt x="34" y="36"/>
                    </a:lnTo>
                    <a:lnTo>
                      <a:pt x="34" y="35"/>
                    </a:lnTo>
                    <a:lnTo>
                      <a:pt x="34" y="33"/>
                    </a:lnTo>
                    <a:lnTo>
                      <a:pt x="27" y="26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7743600" y="40435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10" y="1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2" y="20"/>
                    </a:lnTo>
                    <a:lnTo>
                      <a:pt x="27" y="38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5" y="33"/>
                    </a:lnTo>
                    <a:lnTo>
                      <a:pt x="20" y="15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779960" y="40863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26" y="37"/>
                    </a:lnTo>
                    <a:lnTo>
                      <a:pt x="28" y="38"/>
                    </a:ln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7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11" y="7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818120" y="41277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9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7" y="36"/>
                    </a:lnTo>
                    <a:lnTo>
                      <a:pt x="29" y="38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4" y="38"/>
                    </a:lnTo>
                    <a:lnTo>
                      <a:pt x="35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5" y="31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7854840" y="41688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8" y="4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7" y="37"/>
                    </a:lnTo>
                    <a:lnTo>
                      <a:pt x="27" y="39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3" y="40"/>
                    </a:lnTo>
                    <a:lnTo>
                      <a:pt x="35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5" y="34"/>
                    </a:lnTo>
                    <a:lnTo>
                      <a:pt x="35" y="32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891200" y="421020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8" y="1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26"/>
                    </a:lnTo>
                    <a:lnTo>
                      <a:pt x="25" y="38"/>
                    </a:lnTo>
                    <a:lnTo>
                      <a:pt x="26" y="40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6"/>
                    </a:lnTo>
                    <a:lnTo>
                      <a:pt x="35" y="35"/>
                    </a:lnTo>
                    <a:lnTo>
                      <a:pt x="33" y="33"/>
                    </a:lnTo>
                    <a:lnTo>
                      <a:pt x="25" y="2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7926120" y="4253040"/>
                <a:ext cx="28800" cy="34920"/>
              </a:xfrm>
              <a:custGeom>
                <a:avLst/>
                <a:gdLst/>
                <a:ahLst/>
                <a:rect l="l" t="t" r="r" b="b"/>
                <a:pathLst>
                  <a:path w="35" h="43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8" y="17"/>
                    </a:lnTo>
                    <a:lnTo>
                      <a:pt x="25" y="40"/>
                    </a:lnTo>
                    <a:lnTo>
                      <a:pt x="27" y="42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3" y="35"/>
                    </a:lnTo>
                    <a:lnTo>
                      <a:pt x="17" y="12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959600" y="429768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31" h="45">
                    <a:moveTo>
                      <a:pt x="8" y="3"/>
                    </a:move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1" y="41"/>
                    </a:lnTo>
                    <a:lnTo>
                      <a:pt x="23" y="43"/>
                    </a:lnTo>
                    <a:lnTo>
                      <a:pt x="25" y="45"/>
                    </a:lnTo>
                    <a:lnTo>
                      <a:pt x="26" y="45"/>
                    </a:lnTo>
                    <a:lnTo>
                      <a:pt x="28" y="43"/>
                    </a:lnTo>
                    <a:lnTo>
                      <a:pt x="30" y="41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0" y="36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986600" y="434520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26" h="46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3" y="35"/>
                    </a:lnTo>
                    <a:lnTo>
                      <a:pt x="18" y="31"/>
                    </a:lnTo>
                    <a:lnTo>
                      <a:pt x="13" y="33"/>
                    </a:lnTo>
                    <a:lnTo>
                      <a:pt x="16" y="43"/>
                    </a:lnTo>
                    <a:lnTo>
                      <a:pt x="18" y="45"/>
                    </a:lnTo>
                    <a:lnTo>
                      <a:pt x="20" y="46"/>
                    </a:lnTo>
                    <a:lnTo>
                      <a:pt x="21" y="46"/>
                    </a:lnTo>
                    <a:lnTo>
                      <a:pt x="23" y="46"/>
                    </a:lnTo>
                    <a:lnTo>
                      <a:pt x="25" y="46"/>
                    </a:lnTo>
                    <a:lnTo>
                      <a:pt x="26" y="45"/>
                    </a:lnTo>
                    <a:lnTo>
                      <a:pt x="26" y="43"/>
                    </a:lnTo>
                    <a:lnTo>
                      <a:pt x="26" y="41"/>
                    </a:lnTo>
                    <a:lnTo>
                      <a:pt x="23" y="31"/>
                    </a:lnTo>
                    <a:lnTo>
                      <a:pt x="21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8008560" y="43974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10" y="5"/>
                    </a:move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4" y="15"/>
                    </a:lnTo>
                    <a:lnTo>
                      <a:pt x="10" y="38"/>
                    </a:lnTo>
                    <a:lnTo>
                      <a:pt x="12" y="45"/>
                    </a:lnTo>
                    <a:lnTo>
                      <a:pt x="12" y="46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8"/>
                    </a:lnTo>
                    <a:lnTo>
                      <a:pt x="20" y="46"/>
                    </a:lnTo>
                    <a:lnTo>
                      <a:pt x="22" y="45"/>
                    </a:lnTo>
                    <a:lnTo>
                      <a:pt x="22" y="43"/>
                    </a:lnTo>
                    <a:lnTo>
                      <a:pt x="20" y="36"/>
                    </a:lnTo>
                    <a:lnTo>
                      <a:pt x="14" y="13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8021520" y="445140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45"/>
                    </a:ln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8026200" y="450720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32"/>
                    </a:lnTo>
                    <a:lnTo>
                      <a:pt x="7" y="32"/>
                    </a:lnTo>
                    <a:lnTo>
                      <a:pt x="2" y="30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3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2" y="32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8026200" y="456264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20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22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8021520" y="461808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1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3" y="13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8015040" y="467208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15" y="7"/>
                    </a:moveTo>
                    <a:lnTo>
                      <a:pt x="15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5" y="1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8005680" y="472788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7"/>
                    </a:moveTo>
                    <a:lnTo>
                      <a:pt x="17" y="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7994520" y="478152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50">
                    <a:moveTo>
                      <a:pt x="20" y="6"/>
                    </a:moveTo>
                    <a:lnTo>
                      <a:pt x="20" y="5"/>
                    </a:lnTo>
                    <a:lnTo>
                      <a:pt x="18" y="3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978680" y="483732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1" h="48">
                    <a:moveTo>
                      <a:pt x="21" y="7"/>
                    </a:moveTo>
                    <a:lnTo>
                      <a:pt x="21" y="5"/>
                    </a:lnTo>
                    <a:lnTo>
                      <a:pt x="20" y="3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962840" y="4891320"/>
                <a:ext cx="17280" cy="36360"/>
              </a:xfrm>
              <a:custGeom>
                <a:avLst/>
                <a:gdLst/>
                <a:ahLst/>
                <a:rect l="l" t="t" r="r" b="b"/>
                <a:pathLst>
                  <a:path w="23" h="47">
                    <a:moveTo>
                      <a:pt x="23" y="5"/>
                    </a:moveTo>
                    <a:lnTo>
                      <a:pt x="23" y="4"/>
                    </a:lnTo>
                    <a:lnTo>
                      <a:pt x="23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941960" y="4942080"/>
                <a:ext cx="208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5" y="7"/>
                    </a:moveTo>
                    <a:lnTo>
                      <a:pt x="25" y="5"/>
                    </a:lnTo>
                    <a:lnTo>
                      <a:pt x="23" y="4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2" y="37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12" y="39"/>
                    </a:lnTo>
                    <a:lnTo>
                      <a:pt x="2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914960" y="499284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30" y="6"/>
                    </a:moveTo>
                    <a:lnTo>
                      <a:pt x="30" y="5"/>
                    </a:lnTo>
                    <a:lnTo>
                      <a:pt x="28" y="3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5"/>
                    </a:lnTo>
                    <a:lnTo>
                      <a:pt x="10" y="21"/>
                    </a:lnTo>
                    <a:lnTo>
                      <a:pt x="15" y="23"/>
                    </a:lnTo>
                    <a:lnTo>
                      <a:pt x="11" y="20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1" y="43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20" y="25"/>
                    </a:lnTo>
                    <a:lnTo>
                      <a:pt x="20" y="23"/>
                    </a:lnTo>
                    <a:lnTo>
                      <a:pt x="3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7883280" y="504216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33" y="7"/>
                    </a:moveTo>
                    <a:lnTo>
                      <a:pt x="35" y="5"/>
                    </a:lnTo>
                    <a:lnTo>
                      <a:pt x="35" y="4"/>
                    </a:lnTo>
                    <a:lnTo>
                      <a:pt x="33" y="2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2"/>
                    </a:lnTo>
                    <a:lnTo>
                      <a:pt x="25" y="4"/>
                    </a:lnTo>
                    <a:lnTo>
                      <a:pt x="11" y="22"/>
                    </a:lnTo>
                    <a:lnTo>
                      <a:pt x="1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9"/>
                    </a:lnTo>
                    <a:lnTo>
                      <a:pt x="3" y="40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8" y="40"/>
                    </a:lnTo>
                    <a:lnTo>
                      <a:pt x="10" y="39"/>
                    </a:lnTo>
                    <a:lnTo>
                      <a:pt x="20" y="27"/>
                    </a:lnTo>
                    <a:lnTo>
                      <a:pt x="33" y="9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7841880" y="5083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8"/>
                    </a:moveTo>
                    <a:lnTo>
                      <a:pt x="42" y="6"/>
                    </a:lnTo>
                    <a:lnTo>
                      <a:pt x="44" y="5"/>
                    </a:lnTo>
                    <a:lnTo>
                      <a:pt x="44" y="3"/>
                    </a:lnTo>
                    <a:lnTo>
                      <a:pt x="42" y="1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20" y="13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7" y="23"/>
                    </a:lnTo>
                    <a:lnTo>
                      <a:pt x="5" y="23"/>
                    </a:lnTo>
                    <a:lnTo>
                      <a:pt x="4" y="25"/>
                    </a:lnTo>
                    <a:lnTo>
                      <a:pt x="2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3"/>
                    </a:lnTo>
                    <a:lnTo>
                      <a:pt x="9" y="33"/>
                    </a:lnTo>
                    <a:lnTo>
                      <a:pt x="10" y="31"/>
                    </a:lnTo>
                    <a:lnTo>
                      <a:pt x="25" y="21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789680" y="51134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9" h="19">
                    <a:moveTo>
                      <a:pt x="45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49" y="5"/>
                    </a:lnTo>
                    <a:lnTo>
                      <a:pt x="49" y="4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7" y="2"/>
                    </a:lnTo>
                    <a:lnTo>
                      <a:pt x="17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19" y="17"/>
                    </a:lnTo>
                    <a:lnTo>
                      <a:pt x="39" y="12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7734240" y="5121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2" y="2"/>
                    </a:lnTo>
                    <a:lnTo>
                      <a:pt x="42" y="7"/>
                    </a:lnTo>
                    <a:lnTo>
                      <a:pt x="44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2" y="12"/>
                    </a:lnTo>
                    <a:lnTo>
                      <a:pt x="44" y="12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678440" y="51152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5" y="15"/>
                    </a:moveTo>
                    <a:lnTo>
                      <a:pt x="45" y="15"/>
                    </a:lnTo>
                    <a:lnTo>
                      <a:pt x="47" y="13"/>
                    </a:lnTo>
                    <a:lnTo>
                      <a:pt x="49" y="11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49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7624440" y="510408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3" y="20"/>
                    </a:moveTo>
                    <a:lnTo>
                      <a:pt x="45" y="20"/>
                    </a:lnTo>
                    <a:lnTo>
                      <a:pt x="47" y="18"/>
                    </a:lnTo>
                    <a:lnTo>
                      <a:pt x="48" y="16"/>
                    </a:lnTo>
                    <a:lnTo>
                      <a:pt x="50" y="15"/>
                    </a:lnTo>
                    <a:lnTo>
                      <a:pt x="50" y="13"/>
                    </a:lnTo>
                    <a:lnTo>
                      <a:pt x="48" y="11"/>
                    </a:lnTo>
                    <a:lnTo>
                      <a:pt x="47" y="10"/>
                    </a:lnTo>
                    <a:lnTo>
                      <a:pt x="45" y="10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2" y="13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7572240" y="50896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42" y="22"/>
                    </a:moveTo>
                    <a:lnTo>
                      <a:pt x="44" y="22"/>
                    </a:lnTo>
                    <a:lnTo>
                      <a:pt x="45" y="20"/>
                    </a:lnTo>
                    <a:lnTo>
                      <a:pt x="47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44" y="12"/>
                    </a:lnTo>
                    <a:lnTo>
                      <a:pt x="19" y="5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17" y="15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518240" y="507060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1" y="23"/>
                    </a:moveTo>
                    <a:lnTo>
                      <a:pt x="43" y="23"/>
                    </a:lnTo>
                    <a:lnTo>
                      <a:pt x="45" y="23"/>
                    </a:lnTo>
                    <a:lnTo>
                      <a:pt x="46" y="22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46" y="17"/>
                    </a:lnTo>
                    <a:lnTo>
                      <a:pt x="45" y="15"/>
                    </a:lnTo>
                    <a:lnTo>
                      <a:pt x="43" y="13"/>
                    </a:lnTo>
                    <a:lnTo>
                      <a:pt x="20" y="7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8" y="17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7467480" y="505152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41" y="25"/>
                    </a:moveTo>
                    <a:lnTo>
                      <a:pt x="43" y="25"/>
                    </a:lnTo>
                    <a:lnTo>
                      <a:pt x="45" y="23"/>
                    </a:lnTo>
                    <a:lnTo>
                      <a:pt x="46" y="22"/>
                    </a:lnTo>
                    <a:lnTo>
                      <a:pt x="46" y="20"/>
                    </a:lnTo>
                    <a:lnTo>
                      <a:pt x="46" y="18"/>
                    </a:lnTo>
                    <a:lnTo>
                      <a:pt x="46" y="17"/>
                    </a:lnTo>
                    <a:lnTo>
                      <a:pt x="45" y="15"/>
                    </a:lnTo>
                    <a:lnTo>
                      <a:pt x="43" y="15"/>
                    </a:lnTo>
                    <a:lnTo>
                      <a:pt x="20" y="7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18" y="17"/>
                    </a:lnTo>
                    <a:lnTo>
                      <a:pt x="4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416720" y="5027760"/>
                <a:ext cx="3780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5" y="20"/>
                    </a:lnTo>
                    <a:lnTo>
                      <a:pt x="44" y="18"/>
                    </a:lnTo>
                    <a:lnTo>
                      <a:pt x="42" y="17"/>
                    </a:lnTo>
                    <a:lnTo>
                      <a:pt x="20" y="7"/>
                    </a:lnTo>
                    <a:lnTo>
                      <a:pt x="19" y="12"/>
                    </a:lnTo>
                    <a:lnTo>
                      <a:pt x="2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7" y="17"/>
                    </a:lnTo>
                    <a:lnTo>
                      <a:pt x="19" y="17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7367400" y="50007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28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28"/>
                    </a:lnTo>
                    <a:lnTo>
                      <a:pt x="43" y="26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3" y="21"/>
                    </a:lnTo>
                    <a:lnTo>
                      <a:pt x="41" y="20"/>
                    </a:lnTo>
                    <a:lnTo>
                      <a:pt x="20" y="10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15" y="18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7319880" y="49723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3" y="26"/>
                    </a:lnTo>
                    <a:lnTo>
                      <a:pt x="43" y="25"/>
                    </a:lnTo>
                    <a:lnTo>
                      <a:pt x="43" y="23"/>
                    </a:lnTo>
                    <a:lnTo>
                      <a:pt x="41" y="21"/>
                    </a:lnTo>
                    <a:lnTo>
                      <a:pt x="21" y="1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6" y="1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273800" y="494028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35" y="31"/>
                    </a:moveTo>
                    <a:lnTo>
                      <a:pt x="37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5"/>
                    </a:lnTo>
                    <a:lnTo>
                      <a:pt x="40" y="23"/>
                    </a:lnTo>
                    <a:lnTo>
                      <a:pt x="24" y="1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19" y="21"/>
                    </a:lnTo>
                    <a:lnTo>
                      <a:pt x="3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7232400" y="490536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3" y="35"/>
                    </a:moveTo>
                    <a:lnTo>
                      <a:pt x="35" y="36"/>
                    </a:lnTo>
                    <a:lnTo>
                      <a:pt x="37" y="36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40" y="30"/>
                    </a:lnTo>
                    <a:lnTo>
                      <a:pt x="40" y="28"/>
                    </a:lnTo>
                    <a:lnTo>
                      <a:pt x="38" y="26"/>
                    </a:lnTo>
                    <a:lnTo>
                      <a:pt x="28" y="20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3" y="28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192800" y="4865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28" y="38"/>
                    </a:move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6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5" y="31"/>
                    </a:lnTo>
                    <a:lnTo>
                      <a:pt x="33" y="30"/>
                    </a:lnTo>
                    <a:lnTo>
                      <a:pt x="31" y="30"/>
                    </a:lnTo>
                    <a:lnTo>
                      <a:pt x="30" y="33"/>
                    </a:lnTo>
                    <a:lnTo>
                      <a:pt x="33" y="31"/>
                    </a:lnTo>
                    <a:lnTo>
                      <a:pt x="15" y="11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6" y="16"/>
                    </a:lnTo>
                    <a:lnTo>
                      <a:pt x="25" y="36"/>
                    </a:lnTo>
                    <a:lnTo>
                      <a:pt x="26" y="38"/>
                    </a:lnTo>
                    <a:lnTo>
                      <a:pt x="28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7161120" y="4821480"/>
                <a:ext cx="25200" cy="331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21" y="42"/>
                    </a:moveTo>
                    <a:lnTo>
                      <a:pt x="23" y="43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0" y="37"/>
                    </a:lnTo>
                    <a:lnTo>
                      <a:pt x="23" y="27"/>
                    </a:lnTo>
                    <a:lnTo>
                      <a:pt x="11" y="7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15" y="32"/>
                    </a:lnTo>
                    <a:lnTo>
                      <a:pt x="21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7145280" y="476748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10" y="45"/>
                    </a:moveTo>
                    <a:lnTo>
                      <a:pt x="10" y="47"/>
                    </a:lnTo>
                    <a:lnTo>
                      <a:pt x="12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7"/>
                    </a:lnTo>
                    <a:lnTo>
                      <a:pt x="20" y="45"/>
                    </a:lnTo>
                    <a:lnTo>
                      <a:pt x="20" y="44"/>
                    </a:lnTo>
                    <a:lnTo>
                      <a:pt x="15" y="30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32"/>
                    </a:lnTo>
                    <a:lnTo>
                      <a:pt x="1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138800" y="471168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7"/>
                    </a:move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4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25"/>
                    </a:lnTo>
                    <a:lnTo>
                      <a:pt x="2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7140240" y="46562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0" y="45"/>
                    </a:moveTo>
                    <a:lnTo>
                      <a:pt x="0" y="47"/>
                    </a:lnTo>
                    <a:lnTo>
                      <a:pt x="0" y="49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145280" y="4602240"/>
                <a:ext cx="12600" cy="3816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5" y="12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1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7154640" y="45482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7" y="15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7" y="1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7167240" y="4494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7" y="49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7" y="17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7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181640" y="4440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6" y="17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6" y="1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196040" y="4386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2"/>
                    </a:move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7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210080" y="433260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9" y="15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0" y="5"/>
                    </a:lnTo>
                    <a:lnTo>
                      <a:pt x="9" y="1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7224480" y="42800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2"/>
                    </a:move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6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16" y="15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6" y="1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7238880" y="4226040"/>
                <a:ext cx="1404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7" y="20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18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250040" y="41706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5"/>
                    </a:moveTo>
                    <a:lnTo>
                      <a:pt x="0" y="47"/>
                    </a:lnTo>
                    <a:lnTo>
                      <a:pt x="0" y="48"/>
                    </a:lnTo>
                    <a:lnTo>
                      <a:pt x="2" y="50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8"/>
                    </a:lnTo>
                    <a:lnTo>
                      <a:pt x="10" y="47"/>
                    </a:lnTo>
                    <a:lnTo>
                      <a:pt x="14" y="2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4" y="2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7257960" y="411480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2" y="38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2" y="3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257960" y="405936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4" y="45"/>
                    </a:moveTo>
                    <a:lnTo>
                      <a:pt x="5" y="46"/>
                    </a:lnTo>
                    <a:lnTo>
                      <a:pt x="7" y="48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4" y="46"/>
                    </a:lnTo>
                    <a:lnTo>
                      <a:pt x="14" y="45"/>
                    </a:lnTo>
                    <a:lnTo>
                      <a:pt x="14" y="43"/>
                    </a:lnTo>
                    <a:lnTo>
                      <a:pt x="14" y="28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4" y="30"/>
                    </a:lnTo>
                    <a:lnTo>
                      <a:pt x="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7243560" y="400536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9">
                    <a:moveTo>
                      <a:pt x="12" y="45"/>
                    </a:moveTo>
                    <a:lnTo>
                      <a:pt x="12" y="47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7"/>
                    </a:lnTo>
                    <a:lnTo>
                      <a:pt x="22" y="45"/>
                    </a:lnTo>
                    <a:lnTo>
                      <a:pt x="22" y="44"/>
                    </a:lnTo>
                    <a:lnTo>
                      <a:pt x="18" y="32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8" y="34"/>
                    </a:lnTo>
                    <a:lnTo>
                      <a:pt x="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7219800" y="395604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0"/>
                    </a:moveTo>
                    <a:lnTo>
                      <a:pt x="18" y="41"/>
                    </a:lnTo>
                    <a:lnTo>
                      <a:pt x="20" y="43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3"/>
                    </a:lnTo>
                    <a:lnTo>
                      <a:pt x="27" y="41"/>
                    </a:lnTo>
                    <a:lnTo>
                      <a:pt x="28" y="40"/>
                    </a:lnTo>
                    <a:lnTo>
                      <a:pt x="28" y="38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8" y="20"/>
                    </a:lnTo>
                    <a:lnTo>
                      <a:pt x="12" y="16"/>
                    </a:lnTo>
                    <a:lnTo>
                      <a:pt x="7" y="18"/>
                    </a:lnTo>
                    <a:lnTo>
                      <a:pt x="18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188120" y="39103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5" y="40"/>
                    </a:moveTo>
                    <a:lnTo>
                      <a:pt x="27" y="42"/>
                    </a:lnTo>
                    <a:lnTo>
                      <a:pt x="28" y="42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3" y="40"/>
                    </a:lnTo>
                    <a:lnTo>
                      <a:pt x="33" y="39"/>
                    </a:lnTo>
                    <a:lnTo>
                      <a:pt x="33" y="37"/>
                    </a:lnTo>
                    <a:lnTo>
                      <a:pt x="33" y="35"/>
                    </a:lnTo>
                    <a:lnTo>
                      <a:pt x="12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2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7149960" y="38689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0" y="36"/>
                    </a:moveTo>
                    <a:lnTo>
                      <a:pt x="31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6" y="38"/>
                    </a:lnTo>
                    <a:lnTo>
                      <a:pt x="38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8" y="31"/>
                    </a:lnTo>
                    <a:lnTo>
                      <a:pt x="35" y="28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6" y="33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110360" y="38307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30" y="35"/>
                    </a:moveTo>
                    <a:lnTo>
                      <a:pt x="31" y="37"/>
                    </a:lnTo>
                    <a:lnTo>
                      <a:pt x="33" y="39"/>
                    </a:lnTo>
                    <a:lnTo>
                      <a:pt x="35" y="39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38" y="30"/>
                    </a:lnTo>
                    <a:lnTo>
                      <a:pt x="31" y="24"/>
                    </a:lnTo>
                    <a:lnTo>
                      <a:pt x="30" y="22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5" y="30"/>
                    </a:lnTo>
                    <a:lnTo>
                      <a:pt x="26" y="25"/>
                    </a:lnTo>
                    <a:lnTo>
                      <a:pt x="23" y="29"/>
                    </a:lnTo>
                    <a:lnTo>
                      <a:pt x="3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7068960" y="379440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2" y="36"/>
                    </a:moveTo>
                    <a:lnTo>
                      <a:pt x="33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38" y="30"/>
                    </a:lnTo>
                    <a:lnTo>
                      <a:pt x="37" y="28"/>
                    </a:lnTo>
                    <a:lnTo>
                      <a:pt x="25" y="16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0" y="25"/>
                    </a:lnTo>
                    <a:lnTo>
                      <a:pt x="3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029360" y="3756240"/>
                <a:ext cx="29880" cy="3024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0" y="37"/>
                    </a:move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8" y="34"/>
                    </a:lnTo>
                    <a:lnTo>
                      <a:pt x="38" y="32"/>
                    </a:lnTo>
                    <a:lnTo>
                      <a:pt x="37" y="30"/>
                    </a:lnTo>
                    <a:lnTo>
                      <a:pt x="35" y="29"/>
                    </a:lnTo>
                    <a:lnTo>
                      <a:pt x="20" y="15"/>
                    </a:lnTo>
                    <a:lnTo>
                      <a:pt x="18" y="19"/>
                    </a:lnTo>
                    <a:lnTo>
                      <a:pt x="22" y="17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3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6992640" y="37134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2" y="18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4" y="23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2" name=""/>
            <p:cNvGrpSpPr/>
            <p:nvPr/>
          </p:nvGrpSpPr>
          <p:grpSpPr>
            <a:xfrm>
              <a:off x="4746600" y="3354480"/>
              <a:ext cx="1569960" cy="1668600"/>
              <a:chOff x="4746600" y="3354480"/>
              <a:chExt cx="1569960" cy="1668600"/>
            </a:xfrm>
          </p:grpSpPr>
          <p:sp>
            <p:nvSpPr>
              <p:cNvPr id="2733" name=""/>
              <p:cNvSpPr/>
              <p:nvPr/>
            </p:nvSpPr>
            <p:spPr>
              <a:xfrm>
                <a:off x="4771800" y="4030920"/>
                <a:ext cx="27000" cy="58680"/>
              </a:xfrm>
              <a:custGeom>
                <a:avLst/>
                <a:gdLst/>
                <a:ahLst/>
                <a:rect l="l" t="t" r="r" b="b"/>
                <a:pathLst>
                  <a:path w="35" h="73">
                    <a:moveTo>
                      <a:pt x="13" y="45"/>
                    </a:moveTo>
                    <a:lnTo>
                      <a:pt x="22" y="62"/>
                    </a:lnTo>
                    <a:lnTo>
                      <a:pt x="23" y="63"/>
                    </a:lnTo>
                    <a:lnTo>
                      <a:pt x="27" y="70"/>
                    </a:lnTo>
                    <a:lnTo>
                      <a:pt x="28" y="72"/>
                    </a:lnTo>
                    <a:lnTo>
                      <a:pt x="30" y="73"/>
                    </a:lnTo>
                    <a:lnTo>
                      <a:pt x="32" y="73"/>
                    </a:lnTo>
                    <a:lnTo>
                      <a:pt x="33" y="72"/>
                    </a:lnTo>
                    <a:lnTo>
                      <a:pt x="35" y="70"/>
                    </a:lnTo>
                    <a:lnTo>
                      <a:pt x="35" y="68"/>
                    </a:lnTo>
                    <a:lnTo>
                      <a:pt x="35" y="67"/>
                    </a:lnTo>
                    <a:lnTo>
                      <a:pt x="35" y="65"/>
                    </a:lnTo>
                    <a:lnTo>
                      <a:pt x="32" y="58"/>
                    </a:lnTo>
                    <a:lnTo>
                      <a:pt x="27" y="62"/>
                    </a:lnTo>
                    <a:lnTo>
                      <a:pt x="32" y="60"/>
                    </a:lnTo>
                    <a:lnTo>
                      <a:pt x="23" y="43"/>
                    </a:lnTo>
                    <a:lnTo>
                      <a:pt x="17" y="23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25"/>
                    </a:lnTo>
                    <a:lnTo>
                      <a:pt x="1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4759200" y="397692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8" y="45"/>
                    </a:moveTo>
                    <a:lnTo>
                      <a:pt x="8" y="46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3" y="50"/>
                    </a:lnTo>
                    <a:lnTo>
                      <a:pt x="15" y="48"/>
                    </a:lnTo>
                    <a:lnTo>
                      <a:pt x="17" y="46"/>
                    </a:lnTo>
                    <a:lnTo>
                      <a:pt x="18" y="45"/>
                    </a:lnTo>
                    <a:lnTo>
                      <a:pt x="18" y="43"/>
                    </a:lnTo>
                    <a:lnTo>
                      <a:pt x="13" y="21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3" y="23"/>
                    </a:lnTo>
                    <a:lnTo>
                      <a:pt x="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4751280" y="392292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5" y="45"/>
                    </a:moveTo>
                    <a:lnTo>
                      <a:pt x="7" y="47"/>
                    </a:lnTo>
                    <a:lnTo>
                      <a:pt x="8" y="49"/>
                    </a:lnTo>
                    <a:lnTo>
                      <a:pt x="10" y="50"/>
                    </a:lnTo>
                    <a:lnTo>
                      <a:pt x="12" y="50"/>
                    </a:lnTo>
                    <a:lnTo>
                      <a:pt x="13" y="49"/>
                    </a:lnTo>
                    <a:lnTo>
                      <a:pt x="15" y="47"/>
                    </a:lnTo>
                    <a:lnTo>
                      <a:pt x="15" y="45"/>
                    </a:lnTo>
                    <a:lnTo>
                      <a:pt x="15" y="44"/>
                    </a:lnTo>
                    <a:lnTo>
                      <a:pt x="15" y="39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5" y="40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4748040" y="386712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5"/>
                    </a:moveTo>
                    <a:lnTo>
                      <a:pt x="3" y="47"/>
                    </a:lnTo>
                    <a:lnTo>
                      <a:pt x="5" y="49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4746600" y="38116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5"/>
                    </a:moveTo>
                    <a:lnTo>
                      <a:pt x="2" y="47"/>
                    </a:ln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2" y="45"/>
                    </a:lnTo>
                    <a:lnTo>
                      <a:pt x="12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4748040" y="375624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0" h="50">
                    <a:moveTo>
                      <a:pt x="0" y="44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4749480" y="370044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44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4" y="12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1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4755960" y="364500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5"/>
                    </a:move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0" y="47"/>
                    </a:lnTo>
                    <a:lnTo>
                      <a:pt x="13" y="19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3" y="1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4763880" y="3591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3" y="25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3" y="2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4776480" y="35370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1" h="49">
                    <a:moveTo>
                      <a:pt x="0" y="42"/>
                    </a:moveTo>
                    <a:lnTo>
                      <a:pt x="0" y="44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13" y="34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21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3" y="3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4794120" y="3486240"/>
                <a:ext cx="20520" cy="3672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0" y="40"/>
                    </a:move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4817880" y="3438720"/>
                <a:ext cx="25200" cy="3312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0" y="35"/>
                    </a:moveTo>
                    <a:lnTo>
                      <a:pt x="0" y="37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9" y="40"/>
                    </a:lnTo>
                    <a:lnTo>
                      <a:pt x="12" y="35"/>
                    </a:lnTo>
                    <a:lnTo>
                      <a:pt x="24" y="15"/>
                    </a:lnTo>
                    <a:lnTo>
                      <a:pt x="30" y="7"/>
                    </a:lnTo>
                    <a:lnTo>
                      <a:pt x="32" y="5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2"/>
                    </a:lnTo>
                    <a:lnTo>
                      <a:pt x="15" y="10"/>
                    </a:lnTo>
                    <a:lnTo>
                      <a:pt x="4" y="3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4849560" y="339912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0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4" y="37"/>
                    </a:lnTo>
                    <a:lnTo>
                      <a:pt x="5" y="37"/>
                    </a:lnTo>
                    <a:lnTo>
                      <a:pt x="7" y="35"/>
                    </a:lnTo>
                    <a:lnTo>
                      <a:pt x="9" y="34"/>
                    </a:lnTo>
                    <a:lnTo>
                      <a:pt x="12" y="30"/>
                    </a:lnTo>
                    <a:lnTo>
                      <a:pt x="9" y="27"/>
                    </a:lnTo>
                    <a:lnTo>
                      <a:pt x="10" y="32"/>
                    </a:lnTo>
                    <a:lnTo>
                      <a:pt x="27" y="17"/>
                    </a:lnTo>
                    <a:lnTo>
                      <a:pt x="37" y="9"/>
                    </a:lnTo>
                    <a:lnTo>
                      <a:pt x="39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9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2" y="9"/>
                    </a:lnTo>
                    <a:lnTo>
                      <a:pt x="5" y="24"/>
                    </a:lnTo>
                    <a:lnTo>
                      <a:pt x="4" y="2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4892400" y="33735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" y="15"/>
                    </a:moveTo>
                    <a:lnTo>
                      <a:pt x="2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4" y="25"/>
                    </a:lnTo>
                    <a:lnTo>
                      <a:pt x="5" y="25"/>
                    </a:lnTo>
                    <a:lnTo>
                      <a:pt x="25" y="16"/>
                    </a:lnTo>
                    <a:lnTo>
                      <a:pt x="44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24" y="6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4946400" y="3360960"/>
                <a:ext cx="38160" cy="1404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" y="6"/>
                    </a:move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32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0" y="1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5000400" y="335628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3"/>
                    </a:moveTo>
                    <a:lnTo>
                      <a:pt x="4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9" y="8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3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5055840" y="33544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111640" y="33562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5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2"/>
                    </a:lnTo>
                    <a:lnTo>
                      <a:pt x="45" y="12"/>
                    </a:lnTo>
                    <a:lnTo>
                      <a:pt x="47" y="12"/>
                    </a:lnTo>
                    <a:lnTo>
                      <a:pt x="49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3"/>
                    </a:lnTo>
                    <a:lnTo>
                      <a:pt x="4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5167080" y="33609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7" y="12"/>
                    </a:lnTo>
                    <a:lnTo>
                      <a:pt x="49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5222520" y="33656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9" h="16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6"/>
                    </a:lnTo>
                    <a:lnTo>
                      <a:pt x="45" y="16"/>
                    </a:lnTo>
                    <a:lnTo>
                      <a:pt x="47" y="15"/>
                    </a:lnTo>
                    <a:lnTo>
                      <a:pt x="49" y="13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7" y="6"/>
                    </a:lnTo>
                    <a:lnTo>
                      <a:pt x="45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5276520" y="337356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6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1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5330520" y="33847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7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5384520" y="339588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0"/>
                    </a:lnTo>
                    <a:lnTo>
                      <a:pt x="45" y="20"/>
                    </a:lnTo>
                    <a:lnTo>
                      <a:pt x="47" y="18"/>
                    </a:lnTo>
                    <a:lnTo>
                      <a:pt x="49" y="17"/>
                    </a:lnTo>
                    <a:lnTo>
                      <a:pt x="50" y="15"/>
                    </a:lnTo>
                    <a:lnTo>
                      <a:pt x="50" y="13"/>
                    </a:lnTo>
                    <a:lnTo>
                      <a:pt x="49" y="12"/>
                    </a:lnTo>
                    <a:lnTo>
                      <a:pt x="47" y="10"/>
                    </a:lnTo>
                    <a:lnTo>
                      <a:pt x="45" y="1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5438520" y="3408480"/>
                <a:ext cx="3960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6" y="0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6" y="21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6" y="13"/>
                    </a:lnTo>
                    <a:lnTo>
                      <a:pt x="45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5492520" y="34261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5545080" y="34434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10" y="13"/>
                    </a:lnTo>
                    <a:lnTo>
                      <a:pt x="37" y="23"/>
                    </a:lnTo>
                    <a:lnTo>
                      <a:pt x="42" y="25"/>
                    </a:lnTo>
                    <a:lnTo>
                      <a:pt x="43" y="25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38" y="13"/>
                    </a:lnTo>
                    <a:lnTo>
                      <a:pt x="12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5597280" y="346572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18" y="19"/>
                    </a:lnTo>
                    <a:lnTo>
                      <a:pt x="20" y="14"/>
                    </a:lnTo>
                    <a:lnTo>
                      <a:pt x="17" y="17"/>
                    </a:lnTo>
                    <a:lnTo>
                      <a:pt x="37" y="29"/>
                    </a:lnTo>
                    <a:lnTo>
                      <a:pt x="38" y="29"/>
                    </a:lnTo>
                    <a:lnTo>
                      <a:pt x="40" y="29"/>
                    </a:lnTo>
                    <a:lnTo>
                      <a:pt x="42" y="29"/>
                    </a:lnTo>
                    <a:lnTo>
                      <a:pt x="43" y="27"/>
                    </a:lnTo>
                    <a:lnTo>
                      <a:pt x="45" y="25"/>
                    </a:lnTo>
                    <a:lnTo>
                      <a:pt x="45" y="24"/>
                    </a:lnTo>
                    <a:lnTo>
                      <a:pt x="43" y="22"/>
                    </a:lnTo>
                    <a:lnTo>
                      <a:pt x="42" y="20"/>
                    </a:lnTo>
                    <a:lnTo>
                      <a:pt x="22" y="9"/>
                    </a:lnTo>
                    <a:lnTo>
                      <a:pt x="20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5644800" y="349416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2" y="17"/>
                    </a:lnTo>
                    <a:lnTo>
                      <a:pt x="25" y="29"/>
                    </a:lnTo>
                    <a:lnTo>
                      <a:pt x="28" y="24"/>
                    </a:lnTo>
                    <a:lnTo>
                      <a:pt x="23" y="27"/>
                    </a:lnTo>
                    <a:lnTo>
                      <a:pt x="30" y="34"/>
                    </a:lnTo>
                    <a:lnTo>
                      <a:pt x="32" y="35"/>
                    </a:lnTo>
                    <a:lnTo>
                      <a:pt x="33" y="37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38" y="29"/>
                    </a:lnTo>
                    <a:lnTo>
                      <a:pt x="32" y="22"/>
                    </a:lnTo>
                    <a:lnTo>
                      <a:pt x="30" y="20"/>
                    </a:lnTo>
                    <a:lnTo>
                      <a:pt x="17" y="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5681520" y="3533760"/>
                <a:ext cx="19080" cy="3672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4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6" y="19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13" y="32"/>
                    </a:lnTo>
                    <a:lnTo>
                      <a:pt x="15" y="44"/>
                    </a:lnTo>
                    <a:lnTo>
                      <a:pt x="16" y="45"/>
                    </a:lnTo>
                    <a:lnTo>
                      <a:pt x="18" y="47"/>
                    </a:lnTo>
                    <a:lnTo>
                      <a:pt x="20" y="47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3" y="30"/>
                    </a:lnTo>
                    <a:lnTo>
                      <a:pt x="16" y="15"/>
                    </a:lnTo>
                    <a:lnTo>
                      <a:pt x="15" y="1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5700600" y="35863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32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5700600" y="364176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37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5695920" y="3697560"/>
                <a:ext cx="1080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7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5692680" y="3753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18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20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5692680" y="380700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37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2" y="3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5695920" y="386244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8" y="45"/>
                    </a:lnTo>
                    <a:lnTo>
                      <a:pt x="10" y="47"/>
                    </a:lnTo>
                    <a:lnTo>
                      <a:pt x="12" y="49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7" y="49"/>
                    </a:lnTo>
                    <a:lnTo>
                      <a:pt x="18" y="47"/>
                    </a:lnTo>
                    <a:lnTo>
                      <a:pt x="18" y="45"/>
                    </a:lnTo>
                    <a:lnTo>
                      <a:pt x="18" y="44"/>
                    </a:lnTo>
                    <a:lnTo>
                      <a:pt x="10" y="7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5709960" y="3916440"/>
                <a:ext cx="20880" cy="3816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0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9" y="26"/>
                    </a:lnTo>
                    <a:lnTo>
                      <a:pt x="15" y="41"/>
                    </a:lnTo>
                    <a:lnTo>
                      <a:pt x="17" y="43"/>
                    </a:lnTo>
                    <a:lnTo>
                      <a:pt x="19" y="45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4" y="45"/>
                    </a:lnTo>
                    <a:lnTo>
                      <a:pt x="25" y="43"/>
                    </a:lnTo>
                    <a:lnTo>
                      <a:pt x="25" y="41"/>
                    </a:lnTo>
                    <a:lnTo>
                      <a:pt x="25" y="40"/>
                    </a:lnTo>
                    <a:lnTo>
                      <a:pt x="19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5733720" y="3965760"/>
                <a:ext cx="28800" cy="3492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10" y="4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5" y="29"/>
                    </a:lnTo>
                    <a:lnTo>
                      <a:pt x="25" y="40"/>
                    </a:lnTo>
                    <a:lnTo>
                      <a:pt x="27" y="42"/>
                    </a:lnTo>
                    <a:lnTo>
                      <a:pt x="29" y="44"/>
                    </a:lnTo>
                    <a:lnTo>
                      <a:pt x="30" y="44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9"/>
                    </a:lnTo>
                    <a:lnTo>
                      <a:pt x="35" y="37"/>
                    </a:lnTo>
                    <a:lnTo>
                      <a:pt x="34" y="35"/>
                    </a:lnTo>
                    <a:lnTo>
                      <a:pt x="24" y="2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5770440" y="401004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9" y="4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7" y="17"/>
                    </a:lnTo>
                    <a:lnTo>
                      <a:pt x="9" y="1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4" y="39"/>
                    </a:lnTo>
                    <a:lnTo>
                      <a:pt x="35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7" y="32"/>
                    </a:lnTo>
                    <a:lnTo>
                      <a:pt x="35" y="30"/>
                    </a:lnTo>
                    <a:lnTo>
                      <a:pt x="14" y="10"/>
                    </a:lnTo>
                    <a:lnTo>
                      <a:pt x="12" y="14"/>
                    </a:lnTo>
                    <a:lnTo>
                      <a:pt x="15" y="12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5810040" y="40482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7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5" y="13"/>
                    </a:lnTo>
                    <a:lnTo>
                      <a:pt x="32" y="35"/>
                    </a:lnTo>
                    <a:lnTo>
                      <a:pt x="32" y="36"/>
                    </a:lnTo>
                    <a:lnTo>
                      <a:pt x="34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39" y="30"/>
                    </a:lnTo>
                    <a:lnTo>
                      <a:pt x="37" y="28"/>
                    </a:lnTo>
                    <a:lnTo>
                      <a:pt x="37" y="26"/>
                    </a:lnTo>
                    <a:lnTo>
                      <a:pt x="10" y="5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5851440" y="4083120"/>
                <a:ext cx="3312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6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0" y="28"/>
                    </a:lnTo>
                    <a:lnTo>
                      <a:pt x="38" y="26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5895720" y="4118040"/>
                <a:ext cx="3348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7"/>
                    </a:lnTo>
                    <a:lnTo>
                      <a:pt x="40" y="2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5940360" y="41515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7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5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40" y="33"/>
                    </a:lnTo>
                    <a:lnTo>
                      <a:pt x="42" y="31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6"/>
                    </a:lnTo>
                    <a:lnTo>
                      <a:pt x="40" y="25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5986080" y="4184640"/>
                <a:ext cx="32040" cy="2556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32"/>
                    </a:lnTo>
                    <a:lnTo>
                      <a:pt x="37" y="34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2" y="25"/>
                    </a:lnTo>
                    <a:lnTo>
                      <a:pt x="40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6030720" y="421668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35" y="34"/>
                    </a:lnTo>
                    <a:lnTo>
                      <a:pt x="36" y="34"/>
                    </a:lnTo>
                    <a:lnTo>
                      <a:pt x="38" y="34"/>
                    </a:lnTo>
                    <a:lnTo>
                      <a:pt x="40" y="34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1" y="29"/>
                    </a:lnTo>
                    <a:lnTo>
                      <a:pt x="41" y="27"/>
                    </a:lnTo>
                    <a:lnTo>
                      <a:pt x="40" y="2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6075000" y="4249800"/>
                <a:ext cx="33480" cy="2556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9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9" y="13"/>
                    </a:lnTo>
                    <a:lnTo>
                      <a:pt x="35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14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6121080" y="428148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3" y="18"/>
                    </a:lnTo>
                    <a:lnTo>
                      <a:pt x="33" y="33"/>
                    </a:lnTo>
                    <a:lnTo>
                      <a:pt x="35" y="35"/>
                    </a:lnTo>
                    <a:lnTo>
                      <a:pt x="37" y="35"/>
                    </a:lnTo>
                    <a:lnTo>
                      <a:pt x="38" y="33"/>
                    </a:lnTo>
                    <a:lnTo>
                      <a:pt x="40" y="31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0" y="26"/>
                    </a:lnTo>
                    <a:lnTo>
                      <a:pt x="38" y="25"/>
                    </a:lnTo>
                    <a:lnTo>
                      <a:pt x="18" y="1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6163920" y="431640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7" y="22"/>
                    </a:lnTo>
                    <a:lnTo>
                      <a:pt x="32" y="35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7" y="35"/>
                    </a:lnTo>
                    <a:lnTo>
                      <a:pt x="38" y="33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38" y="28"/>
                    </a:lnTo>
                    <a:lnTo>
                      <a:pt x="37" y="27"/>
                    </a:lnTo>
                    <a:lnTo>
                      <a:pt x="22" y="1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6205320" y="43531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16" y="22"/>
                    </a:lnTo>
                    <a:lnTo>
                      <a:pt x="31" y="37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2"/>
                    </a:lnTo>
                    <a:lnTo>
                      <a:pt x="38" y="30"/>
                    </a:lnTo>
                    <a:lnTo>
                      <a:pt x="36" y="28"/>
                    </a:lnTo>
                    <a:lnTo>
                      <a:pt x="21" y="1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6244920" y="439272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0" y="17"/>
                    </a:lnTo>
                    <a:lnTo>
                      <a:pt x="28" y="37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7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18" y="1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6279840" y="44355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3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3" y="28"/>
                    </a:lnTo>
                    <a:lnTo>
                      <a:pt x="18" y="27"/>
                    </a:lnTo>
                    <a:lnTo>
                      <a:pt x="13" y="27"/>
                    </a:lnTo>
                    <a:lnTo>
                      <a:pt x="20" y="40"/>
                    </a:lnTo>
                    <a:lnTo>
                      <a:pt x="20" y="42"/>
                    </a:lnTo>
                    <a:lnTo>
                      <a:pt x="21" y="43"/>
                    </a:lnTo>
                    <a:lnTo>
                      <a:pt x="23" y="43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0" y="38"/>
                    </a:lnTo>
                    <a:lnTo>
                      <a:pt x="23" y="25"/>
                    </a:lnTo>
                    <a:lnTo>
                      <a:pt x="21" y="2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6303600" y="448488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10" y="5"/>
                    </a:move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5" y="30"/>
                    </a:lnTo>
                    <a:lnTo>
                      <a:pt x="5" y="45"/>
                    </a:lnTo>
                    <a:lnTo>
                      <a:pt x="6" y="46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1" y="50"/>
                    </a:lnTo>
                    <a:lnTo>
                      <a:pt x="13" y="48"/>
                    </a:lnTo>
                    <a:lnTo>
                      <a:pt x="15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5" y="28"/>
                    </a:lnTo>
                    <a:lnTo>
                      <a:pt x="11" y="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6292800" y="4540320"/>
                <a:ext cx="18720" cy="3492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25" y="5"/>
                    </a:moveTo>
                    <a:lnTo>
                      <a:pt x="25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3"/>
                    </a:lnTo>
                    <a:lnTo>
                      <a:pt x="8" y="21"/>
                    </a:lnTo>
                    <a:lnTo>
                      <a:pt x="13" y="23"/>
                    </a:lnTo>
                    <a:lnTo>
                      <a:pt x="10" y="20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8" y="25"/>
                    </a:lnTo>
                    <a:lnTo>
                      <a:pt x="18" y="23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6259320" y="45882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23" y="5"/>
                    </a:lnTo>
                    <a:lnTo>
                      <a:pt x="5" y="30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13" y="35"/>
                    </a:lnTo>
                    <a:lnTo>
                      <a:pt x="32" y="10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6219720" y="4631040"/>
                <a:ext cx="30240" cy="298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7" y="10"/>
                    </a:moveTo>
                    <a:lnTo>
                      <a:pt x="38" y="8"/>
                    </a:lnTo>
                    <a:lnTo>
                      <a:pt x="38" y="7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8" y="25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5"/>
                    </a:lnTo>
                    <a:lnTo>
                      <a:pt x="3" y="37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8" y="37"/>
                    </a:lnTo>
                    <a:lnTo>
                      <a:pt x="13" y="33"/>
                    </a:lnTo>
                    <a:lnTo>
                      <a:pt x="3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6176880" y="46688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8" y="9"/>
                    </a:moveTo>
                    <a:lnTo>
                      <a:pt x="40" y="7"/>
                    </a:lnTo>
                    <a:lnTo>
                      <a:pt x="41" y="5"/>
                    </a:lnTo>
                    <a:lnTo>
                      <a:pt x="41" y="4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3" y="27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3" y="35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8" y="35"/>
                    </a:lnTo>
                    <a:lnTo>
                      <a:pt x="36" y="10"/>
                    </a:lnTo>
                    <a:lnTo>
                      <a:pt x="3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134040" y="470232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0" y="10"/>
                    </a:moveTo>
                    <a:lnTo>
                      <a:pt x="41" y="8"/>
                    </a:lnTo>
                    <a:lnTo>
                      <a:pt x="41" y="6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1"/>
                    </a:lnTo>
                    <a:lnTo>
                      <a:pt x="21" y="11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3"/>
                    </a:lnTo>
                    <a:lnTo>
                      <a:pt x="3" y="35"/>
                    </a:lnTo>
                    <a:lnTo>
                      <a:pt x="5" y="35"/>
                    </a:lnTo>
                    <a:lnTo>
                      <a:pt x="6" y="33"/>
                    </a:lnTo>
                    <a:lnTo>
                      <a:pt x="26" y="20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089400" y="473580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40" y="10"/>
                    </a:moveTo>
                    <a:lnTo>
                      <a:pt x="42" y="9"/>
                    </a:lnTo>
                    <a:lnTo>
                      <a:pt x="42" y="7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5" y="22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10" y="30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041880" y="47674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42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25" y="9"/>
                    </a:lnTo>
                    <a:lnTo>
                      <a:pt x="3" y="22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5" y="32"/>
                    </a:lnTo>
                    <a:lnTo>
                      <a:pt x="7" y="32"/>
                    </a:lnTo>
                    <a:lnTo>
                      <a:pt x="8" y="30"/>
                    </a:lnTo>
                    <a:lnTo>
                      <a:pt x="30" y="17"/>
                    </a:lnTo>
                    <a:lnTo>
                      <a:pt x="4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994360" y="47977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41" y="10"/>
                    </a:moveTo>
                    <a:lnTo>
                      <a:pt x="43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0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5946480" y="48261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42" y="8"/>
                    </a:moveTo>
                    <a:lnTo>
                      <a:pt x="43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" y="20"/>
                    </a:lnTo>
                    <a:lnTo>
                      <a:pt x="2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8" y="28"/>
                    </a:lnTo>
                    <a:lnTo>
                      <a:pt x="4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897520" y="48531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44" y="10"/>
                    </a:moveTo>
                    <a:lnTo>
                      <a:pt x="45" y="8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" y="20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4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848200" y="48783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3" y="9"/>
                    </a:move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10" y="15"/>
                    </a:lnTo>
                    <a:lnTo>
                      <a:pt x="13" y="19"/>
                    </a:lnTo>
                    <a:lnTo>
                      <a:pt x="11" y="14"/>
                    </a:lnTo>
                    <a:lnTo>
                      <a:pt x="3" y="19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797440" y="490248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746680" y="492624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4" y="10"/>
                    </a:moveTo>
                    <a:lnTo>
                      <a:pt x="45" y="10"/>
                    </a:lnTo>
                    <a:lnTo>
                      <a:pt x="47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4" y="25"/>
                    </a:lnTo>
                    <a:lnTo>
                      <a:pt x="5" y="27"/>
                    </a:lnTo>
                    <a:lnTo>
                      <a:pt x="7" y="27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695920" y="49485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10"/>
                    </a:moveTo>
                    <a:lnTo>
                      <a:pt x="43" y="8"/>
                    </a:lnTo>
                    <a:lnTo>
                      <a:pt x="45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28" y="5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0" y="15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5643360" y="4969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9" y="5"/>
                    </a:lnTo>
                    <a:lnTo>
                      <a:pt x="49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12" y="10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14" y="2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5589360" y="498816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5" y="10"/>
                    </a:moveTo>
                    <a:lnTo>
                      <a:pt x="46" y="8"/>
                    </a:lnTo>
                    <a:lnTo>
                      <a:pt x="48" y="7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41" y="10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5535360" y="500220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5" y="10"/>
                    </a:move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5" y="4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7" y="19"/>
                    </a:lnTo>
                    <a:lnTo>
                      <a:pt x="37" y="14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5481360" y="50119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8" h="13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8" y="1"/>
                    </a:lnTo>
                    <a:lnTo>
                      <a:pt x="10" y="3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12" y="13"/>
                    </a:lnTo>
                    <a:lnTo>
                      <a:pt x="40" y="11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5427360" y="50072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41" y="20"/>
                    </a:moveTo>
                    <a:lnTo>
                      <a:pt x="43" y="20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6" y="12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33" y="8"/>
                    </a:lnTo>
                    <a:lnTo>
                      <a:pt x="13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11" y="13"/>
                    </a:lnTo>
                    <a:lnTo>
                      <a:pt x="31" y="18"/>
                    </a:lnTo>
                    <a:lnTo>
                      <a:pt x="4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5384520" y="49705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30" y="40"/>
                    </a:moveTo>
                    <a:lnTo>
                      <a:pt x="32" y="40"/>
                    </a:lnTo>
                    <a:lnTo>
                      <a:pt x="34" y="40"/>
                    </a:lnTo>
                    <a:lnTo>
                      <a:pt x="35" y="40"/>
                    </a:lnTo>
                    <a:lnTo>
                      <a:pt x="37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34" y="30"/>
                    </a:lnTo>
                    <a:lnTo>
                      <a:pt x="20" y="17"/>
                    </a:lnTo>
                    <a:lnTo>
                      <a:pt x="17" y="20"/>
                    </a:lnTo>
                    <a:lnTo>
                      <a:pt x="22" y="19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4" y="24"/>
                    </a:lnTo>
                    <a:lnTo>
                      <a:pt x="15" y="25"/>
                    </a:lnTo>
                    <a:lnTo>
                      <a:pt x="29" y="39"/>
                    </a:lnTo>
                    <a:lnTo>
                      <a:pt x="3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5360760" y="492156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5" y="41"/>
                    </a:moveTo>
                    <a:lnTo>
                      <a:pt x="17" y="43"/>
                    </a:lnTo>
                    <a:lnTo>
                      <a:pt x="19" y="45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4" y="45"/>
                    </a:lnTo>
                    <a:lnTo>
                      <a:pt x="25" y="43"/>
                    </a:lnTo>
                    <a:lnTo>
                      <a:pt x="25" y="41"/>
                    </a:lnTo>
                    <a:lnTo>
                      <a:pt x="25" y="40"/>
                    </a:lnTo>
                    <a:lnTo>
                      <a:pt x="19" y="25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9" y="26"/>
                    </a:lnTo>
                    <a:lnTo>
                      <a:pt x="15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5348160" y="4867560"/>
                <a:ext cx="14040" cy="37800"/>
              </a:xfrm>
              <a:custGeom>
                <a:avLst/>
                <a:gdLst/>
                <a:ahLst/>
                <a:rect l="l" t="t" r="r" b="b"/>
                <a:pathLst>
                  <a:path w="18" h="49">
                    <a:moveTo>
                      <a:pt x="8" y="45"/>
                    </a:moveTo>
                    <a:lnTo>
                      <a:pt x="8" y="47"/>
                    </a:lnTo>
                    <a:lnTo>
                      <a:pt x="10" y="49"/>
                    </a:lnTo>
                    <a:lnTo>
                      <a:pt x="11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8" y="45"/>
                    </a:lnTo>
                    <a:lnTo>
                      <a:pt x="18" y="44"/>
                    </a:lnTo>
                    <a:lnTo>
                      <a:pt x="11" y="17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19"/>
                    </a:lnTo>
                    <a:lnTo>
                      <a:pt x="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5338440" y="481356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5" y="45"/>
                    </a:moveTo>
                    <a:lnTo>
                      <a:pt x="7" y="47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7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3" y="27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28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5332320" y="475776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5" y="45"/>
                    </a:moveTo>
                    <a:lnTo>
                      <a:pt x="5" y="47"/>
                    </a:lnTo>
                    <a:lnTo>
                      <a:pt x="6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1" y="48"/>
                    </a:lnTo>
                    <a:lnTo>
                      <a:pt x="13" y="47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3" y="3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35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5327280" y="47023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5"/>
                    </a:move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3" y="38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0"/>
                    </a:lnTo>
                    <a:lnTo>
                      <a:pt x="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5322600" y="464688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7"/>
                    </a:move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0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2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5319360" y="4591080"/>
                <a:ext cx="972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7"/>
                    </a:move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0"/>
                    </a:lnTo>
                    <a:lnTo>
                      <a:pt x="10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2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5311440" y="453564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5" y="45"/>
                    </a:moveTo>
                    <a:lnTo>
                      <a:pt x="6" y="46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1" y="48"/>
                    </a:lnTo>
                    <a:lnTo>
                      <a:pt x="13" y="48"/>
                    </a:lnTo>
                    <a:lnTo>
                      <a:pt x="15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5" y="41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43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5303520" y="448020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6" h="50">
                    <a:moveTo>
                      <a:pt x="6" y="45"/>
                    </a:moveTo>
                    <a:lnTo>
                      <a:pt x="8" y="46"/>
                    </a:lnTo>
                    <a:lnTo>
                      <a:pt x="10" y="48"/>
                    </a:lnTo>
                    <a:lnTo>
                      <a:pt x="11" y="50"/>
                    </a:lnTo>
                    <a:lnTo>
                      <a:pt x="13" y="50"/>
                    </a:lnTo>
                    <a:lnTo>
                      <a:pt x="15" y="48"/>
                    </a:lnTo>
                    <a:lnTo>
                      <a:pt x="16" y="46"/>
                    </a:lnTo>
                    <a:lnTo>
                      <a:pt x="16" y="45"/>
                    </a:lnTo>
                    <a:lnTo>
                      <a:pt x="16" y="43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5292360" y="4426200"/>
                <a:ext cx="1620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10" y="45"/>
                    </a:moveTo>
                    <a:lnTo>
                      <a:pt x="10" y="47"/>
                    </a:lnTo>
                    <a:lnTo>
                      <a:pt x="11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6" y="49"/>
                    </a:lnTo>
                    <a:lnTo>
                      <a:pt x="18" y="47"/>
                    </a:lnTo>
                    <a:lnTo>
                      <a:pt x="20" y="45"/>
                    </a:lnTo>
                    <a:lnTo>
                      <a:pt x="20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5273640" y="437544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5" y="42"/>
                    </a:moveTo>
                    <a:lnTo>
                      <a:pt x="15" y="44"/>
                    </a:lnTo>
                    <a:lnTo>
                      <a:pt x="17" y="45"/>
                    </a:lnTo>
                    <a:lnTo>
                      <a:pt x="19" y="47"/>
                    </a:lnTo>
                    <a:lnTo>
                      <a:pt x="20" y="47"/>
                    </a:lnTo>
                    <a:lnTo>
                      <a:pt x="22" y="45"/>
                    </a:lnTo>
                    <a:lnTo>
                      <a:pt x="24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4" y="35"/>
                    </a:lnTo>
                    <a:lnTo>
                      <a:pt x="14" y="12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4" y="14"/>
                    </a:lnTo>
                    <a:lnTo>
                      <a:pt x="14" y="37"/>
                    </a:lnTo>
                    <a:lnTo>
                      <a:pt x="1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5241600" y="43293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30" y="27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2" y="32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5200560" y="429120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3" y="35"/>
                    </a:moveTo>
                    <a:lnTo>
                      <a:pt x="35" y="35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5154480" y="42627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37" y="28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28"/>
                    </a:lnTo>
                    <a:lnTo>
                      <a:pt x="44" y="26"/>
                    </a:lnTo>
                    <a:lnTo>
                      <a:pt x="44" y="25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2" y="20"/>
                    </a:lnTo>
                    <a:lnTo>
                      <a:pt x="37" y="16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2" y="25"/>
                    </a:lnTo>
                    <a:lnTo>
                      <a:pt x="3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5103720" y="424044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25"/>
                    </a:moveTo>
                    <a:lnTo>
                      <a:pt x="44" y="25"/>
                    </a:lnTo>
                    <a:lnTo>
                      <a:pt x="45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4" y="15"/>
                    </a:lnTo>
                    <a:lnTo>
                      <a:pt x="15" y="4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14" y="14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5051160" y="42213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2">
                    <a:moveTo>
                      <a:pt x="42" y="22"/>
                    </a:moveTo>
                    <a:lnTo>
                      <a:pt x="44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2"/>
                    </a:lnTo>
                    <a:lnTo>
                      <a:pt x="35" y="1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34" y="20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4998960" y="42022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1" y="23"/>
                    </a:moveTo>
                    <a:lnTo>
                      <a:pt x="43" y="23"/>
                    </a:lnTo>
                    <a:lnTo>
                      <a:pt x="45" y="21"/>
                    </a:lnTo>
                    <a:lnTo>
                      <a:pt x="46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6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8" y="11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4946400" y="41864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2" y="22"/>
                    </a:moveTo>
                    <a:lnTo>
                      <a:pt x="43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2"/>
                    </a:lnTo>
                    <a:lnTo>
                      <a:pt x="32" y="8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30" y="18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4894200" y="41641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25"/>
                    </a:moveTo>
                    <a:lnTo>
                      <a:pt x="43" y="25"/>
                    </a:lnTo>
                    <a:lnTo>
                      <a:pt x="45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10" y="2"/>
                    </a:lnTo>
                    <a:lnTo>
                      <a:pt x="10" y="7"/>
                    </a:lnTo>
                    <a:lnTo>
                      <a:pt x="12" y="4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4846320" y="4137120"/>
                <a:ext cx="34920" cy="255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7" y="30"/>
                    </a:moveTo>
                    <a:lnTo>
                      <a:pt x="38" y="32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3" y="29"/>
                    </a:lnTo>
                    <a:lnTo>
                      <a:pt x="43" y="27"/>
                    </a:lnTo>
                    <a:lnTo>
                      <a:pt x="43" y="25"/>
                    </a:lnTo>
                    <a:lnTo>
                      <a:pt x="43" y="24"/>
                    </a:lnTo>
                    <a:lnTo>
                      <a:pt x="42" y="22"/>
                    </a:lnTo>
                    <a:lnTo>
                      <a:pt x="33" y="19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28" y="27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4805280" y="4098960"/>
                <a:ext cx="2988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30" y="38"/>
                    </a:moveTo>
                    <a:lnTo>
                      <a:pt x="32" y="38"/>
                    </a:lnTo>
                    <a:lnTo>
                      <a:pt x="34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9" y="35"/>
                    </a:lnTo>
                    <a:lnTo>
                      <a:pt x="39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0" y="16"/>
                    </a:lnTo>
                    <a:lnTo>
                      <a:pt x="19" y="21"/>
                    </a:lnTo>
                    <a:lnTo>
                      <a:pt x="22" y="18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4" y="23"/>
                    </a:lnTo>
                    <a:lnTo>
                      <a:pt x="15" y="25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25" name=""/>
            <p:cNvSpPr/>
            <p:nvPr/>
          </p:nvSpPr>
          <p:spPr>
            <a:xfrm>
              <a:off x="5240160" y="3768840"/>
              <a:ext cx="42372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335720" y="3392640"/>
              <a:ext cx="33012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27" name=""/>
            <p:cNvGrpSpPr/>
            <p:nvPr/>
          </p:nvGrpSpPr>
          <p:grpSpPr>
            <a:xfrm>
              <a:off x="4870080" y="3775320"/>
              <a:ext cx="401760" cy="866520"/>
              <a:chOff x="4870080" y="3775320"/>
              <a:chExt cx="401760" cy="866520"/>
            </a:xfrm>
          </p:grpSpPr>
          <p:sp>
            <p:nvSpPr>
              <p:cNvPr id="2828" name=""/>
              <p:cNvSpPr/>
              <p:nvPr/>
            </p:nvSpPr>
            <p:spPr>
              <a:xfrm>
                <a:off x="4870080" y="445788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4976640" y="421812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5082840" y="398016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5189400" y="3775320"/>
                <a:ext cx="8244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32" name=""/>
            <p:cNvGrpSpPr/>
            <p:nvPr/>
          </p:nvGrpSpPr>
          <p:grpSpPr>
            <a:xfrm>
              <a:off x="6402240" y="3392640"/>
              <a:ext cx="941400" cy="303120"/>
              <a:chOff x="6402240" y="3392640"/>
              <a:chExt cx="941400" cy="303120"/>
            </a:xfrm>
          </p:grpSpPr>
          <p:sp>
            <p:nvSpPr>
              <p:cNvPr id="2833" name=""/>
              <p:cNvSpPr/>
              <p:nvPr/>
            </p:nvSpPr>
            <p:spPr>
              <a:xfrm>
                <a:off x="6402240" y="3618000"/>
                <a:ext cx="18720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6653160" y="3543480"/>
                <a:ext cx="1886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6903720" y="346716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7153200" y="339264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37" name=""/>
            <p:cNvGrpSpPr/>
            <p:nvPr/>
          </p:nvGrpSpPr>
          <p:grpSpPr>
            <a:xfrm>
              <a:off x="6586200" y="2725920"/>
              <a:ext cx="685800" cy="871560"/>
              <a:chOff x="6586200" y="2725920"/>
              <a:chExt cx="685800" cy="871560"/>
            </a:xfrm>
          </p:grpSpPr>
          <p:sp>
            <p:nvSpPr>
              <p:cNvPr id="2838" name=""/>
              <p:cNvSpPr/>
              <p:nvPr/>
            </p:nvSpPr>
            <p:spPr>
              <a:xfrm>
                <a:off x="6586200" y="343224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6748200" y="322596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6906960" y="3017880"/>
                <a:ext cx="13644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7068960" y="281160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7229160" y="27259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43" name=""/>
            <p:cNvGrpSpPr/>
            <p:nvPr/>
          </p:nvGrpSpPr>
          <p:grpSpPr>
            <a:xfrm>
              <a:off x="5744880" y="4606920"/>
              <a:ext cx="195480" cy="698760"/>
              <a:chOff x="5744880" y="4606920"/>
              <a:chExt cx="195480" cy="698760"/>
            </a:xfrm>
          </p:grpSpPr>
          <p:sp>
            <p:nvSpPr>
              <p:cNvPr id="2844" name=""/>
              <p:cNvSpPr/>
              <p:nvPr/>
            </p:nvSpPr>
            <p:spPr>
              <a:xfrm>
                <a:off x="5871960" y="5115240"/>
                <a:ext cx="6840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5808600" y="486108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5744880" y="460692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47" name=""/>
            <p:cNvGrpSpPr/>
            <p:nvPr/>
          </p:nvGrpSpPr>
          <p:grpSpPr>
            <a:xfrm>
              <a:off x="7632360" y="3870360"/>
              <a:ext cx="401760" cy="866880"/>
              <a:chOff x="7632360" y="3870360"/>
              <a:chExt cx="401760" cy="866880"/>
            </a:xfrm>
          </p:grpSpPr>
          <p:sp>
            <p:nvSpPr>
              <p:cNvPr id="2848" name=""/>
              <p:cNvSpPr/>
              <p:nvPr/>
            </p:nvSpPr>
            <p:spPr>
              <a:xfrm>
                <a:off x="7632360" y="4552920"/>
                <a:ext cx="9864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7738920" y="431352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7845120" y="407520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7951680" y="387036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52" name=""/>
            <p:cNvGrpSpPr/>
            <p:nvPr/>
          </p:nvGrpSpPr>
          <p:grpSpPr>
            <a:xfrm>
              <a:off x="6870600" y="3394080"/>
              <a:ext cx="401400" cy="866880"/>
              <a:chOff x="6870600" y="3394080"/>
              <a:chExt cx="401400" cy="866880"/>
            </a:xfrm>
          </p:grpSpPr>
          <p:sp>
            <p:nvSpPr>
              <p:cNvPr id="2853" name=""/>
              <p:cNvSpPr/>
              <p:nvPr/>
            </p:nvSpPr>
            <p:spPr>
              <a:xfrm>
                <a:off x="6870600" y="407700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6976800" y="38372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7083360" y="359892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7189560" y="339408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57" name=""/>
            <p:cNvGrpSpPr/>
            <p:nvPr/>
          </p:nvGrpSpPr>
          <p:grpSpPr>
            <a:xfrm>
              <a:off x="5730840" y="3703680"/>
              <a:ext cx="658800" cy="750960"/>
              <a:chOff x="5730840" y="3703680"/>
              <a:chExt cx="658800" cy="750960"/>
            </a:xfrm>
          </p:grpSpPr>
          <p:sp>
            <p:nvSpPr>
              <p:cNvPr id="2858" name=""/>
              <p:cNvSpPr/>
              <p:nvPr/>
            </p:nvSpPr>
            <p:spPr>
              <a:xfrm>
                <a:off x="5730840" y="429588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5902200" y="409896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6073560" y="39006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6248160" y="370368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62" name=""/>
            <p:cNvGrpSpPr/>
            <p:nvPr/>
          </p:nvGrpSpPr>
          <p:grpSpPr>
            <a:xfrm>
              <a:off x="5254560" y="3009960"/>
              <a:ext cx="588960" cy="682560"/>
              <a:chOff x="5254560" y="3009960"/>
              <a:chExt cx="588960" cy="682560"/>
            </a:xfrm>
          </p:grpSpPr>
          <p:sp>
            <p:nvSpPr>
              <p:cNvPr id="2863" name=""/>
              <p:cNvSpPr/>
              <p:nvPr/>
            </p:nvSpPr>
            <p:spPr>
              <a:xfrm>
                <a:off x="5254560" y="353232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5422680" y="333216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5594040" y="3133800"/>
                <a:ext cx="14148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5763960" y="3009960"/>
                <a:ext cx="7956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67" name=""/>
            <p:cNvGrpSpPr/>
            <p:nvPr/>
          </p:nvGrpSpPr>
          <p:grpSpPr>
            <a:xfrm>
              <a:off x="6114960" y="4626000"/>
              <a:ext cx="1533240" cy="687600"/>
              <a:chOff x="6114960" y="4626000"/>
              <a:chExt cx="1533240" cy="687600"/>
            </a:xfrm>
          </p:grpSpPr>
          <p:sp>
            <p:nvSpPr>
              <p:cNvPr id="2868" name=""/>
              <p:cNvSpPr/>
              <p:nvPr/>
            </p:nvSpPr>
            <p:spPr>
              <a:xfrm>
                <a:off x="6114960" y="521676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6354720" y="5112000"/>
                <a:ext cx="18396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6594120" y="500724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6835680" y="490068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7073640" y="479772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7313400" y="4691160"/>
                <a:ext cx="1843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7554600" y="462600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75" name=""/>
            <p:cNvGrpSpPr/>
            <p:nvPr/>
          </p:nvGrpSpPr>
          <p:grpSpPr>
            <a:xfrm>
              <a:off x="7072200" y="3113280"/>
              <a:ext cx="485640" cy="565200"/>
              <a:chOff x="7072200" y="3113280"/>
              <a:chExt cx="485640" cy="565200"/>
            </a:xfrm>
          </p:grpSpPr>
          <p:sp>
            <p:nvSpPr>
              <p:cNvPr id="2876" name=""/>
              <p:cNvSpPr/>
              <p:nvPr/>
            </p:nvSpPr>
            <p:spPr>
              <a:xfrm>
                <a:off x="7089480" y="3117960"/>
                <a:ext cx="447840" cy="54468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300" y="516"/>
                    </a:lnTo>
                    <a:lnTo>
                      <a:pt x="345" y="678"/>
                    </a:lnTo>
                    <a:lnTo>
                      <a:pt x="331" y="884"/>
                    </a:lnTo>
                    <a:lnTo>
                      <a:pt x="873" y="940"/>
                    </a:lnTo>
                    <a:lnTo>
                      <a:pt x="1169" y="35"/>
                    </a:lnTo>
                    <a:lnTo>
                      <a:pt x="1246" y="0"/>
                    </a:lnTo>
                    <a:lnTo>
                      <a:pt x="1342" y="11"/>
                    </a:lnTo>
                    <a:lnTo>
                      <a:pt x="1407" y="77"/>
                    </a:lnTo>
                    <a:lnTo>
                      <a:pt x="1435" y="237"/>
                    </a:lnTo>
                    <a:lnTo>
                      <a:pt x="1385" y="727"/>
                    </a:lnTo>
                    <a:lnTo>
                      <a:pt x="1352" y="1014"/>
                    </a:lnTo>
                    <a:lnTo>
                      <a:pt x="1708" y="1097"/>
                    </a:lnTo>
                    <a:lnTo>
                      <a:pt x="1883" y="1174"/>
                    </a:lnTo>
                    <a:lnTo>
                      <a:pt x="1976" y="1292"/>
                    </a:lnTo>
                    <a:lnTo>
                      <a:pt x="1958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2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7086240" y="3233880"/>
                <a:ext cx="44316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7441920" y="33861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19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8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5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7394400" y="33782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40" y="99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3" y="36"/>
                    </a:lnTo>
                    <a:lnTo>
                      <a:pt x="11" y="19"/>
                    </a:lnTo>
                    <a:lnTo>
                      <a:pt x="19" y="12"/>
                    </a:lnTo>
                    <a:lnTo>
                      <a:pt x="27" y="6"/>
                    </a:lnTo>
                    <a:lnTo>
                      <a:pt x="37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5" y="10"/>
                    </a:lnTo>
                    <a:lnTo>
                      <a:pt x="99" y="25"/>
                    </a:lnTo>
                    <a:lnTo>
                      <a:pt x="105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60" y="99"/>
                    </a:lnTo>
                    <a:lnTo>
                      <a:pt x="51" y="101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7348320" y="33703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7300800" y="33624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7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4" y="11"/>
                    </a:lnTo>
                    <a:lnTo>
                      <a:pt x="98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6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0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7252920" y="335448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6" h="98">
                    <a:moveTo>
                      <a:pt x="39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3" y="36"/>
                    </a:lnTo>
                    <a:lnTo>
                      <a:pt x="11" y="16"/>
                    </a:lnTo>
                    <a:lnTo>
                      <a:pt x="18" y="12"/>
                    </a:lnTo>
                    <a:lnTo>
                      <a:pt x="27" y="5"/>
                    </a:lnTo>
                    <a:lnTo>
                      <a:pt x="36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9" y="23"/>
                    </a:lnTo>
                    <a:lnTo>
                      <a:pt x="106" y="41"/>
                    </a:lnTo>
                    <a:lnTo>
                      <a:pt x="105" y="62"/>
                    </a:lnTo>
                    <a:lnTo>
                      <a:pt x="95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70" y="96"/>
                    </a:lnTo>
                    <a:lnTo>
                      <a:pt x="61" y="98"/>
                    </a:lnTo>
                    <a:lnTo>
                      <a:pt x="50" y="98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7207200" y="33465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7159320" y="33372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39" y="99"/>
                    </a:moveTo>
                    <a:lnTo>
                      <a:pt x="21" y="91"/>
                    </a:lnTo>
                    <a:lnTo>
                      <a:pt x="6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8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7272000" y="311328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5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2" y="293"/>
                    </a:lnTo>
                    <a:lnTo>
                      <a:pt x="189" y="254"/>
                    </a:lnTo>
                    <a:lnTo>
                      <a:pt x="208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7" y="13"/>
                    </a:lnTo>
                    <a:lnTo>
                      <a:pt x="414" y="5"/>
                    </a:lnTo>
                    <a:lnTo>
                      <a:pt x="490" y="0"/>
                    </a:lnTo>
                    <a:lnTo>
                      <a:pt x="561" y="19"/>
                    </a:lnTo>
                    <a:lnTo>
                      <a:pt x="592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9" y="958"/>
                    </a:lnTo>
                    <a:lnTo>
                      <a:pt x="559" y="1063"/>
                    </a:lnTo>
                    <a:lnTo>
                      <a:pt x="504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4" y="348"/>
                    </a:lnTo>
                    <a:lnTo>
                      <a:pt x="604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7" y="81"/>
                    </a:lnTo>
                    <a:lnTo>
                      <a:pt x="532" y="66"/>
                    </a:lnTo>
                    <a:lnTo>
                      <a:pt x="504" y="48"/>
                    </a:lnTo>
                    <a:lnTo>
                      <a:pt x="479" y="40"/>
                    </a:lnTo>
                    <a:lnTo>
                      <a:pt x="438" y="41"/>
                    </a:lnTo>
                    <a:lnTo>
                      <a:pt x="422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5" y="370"/>
                    </a:lnTo>
                    <a:lnTo>
                      <a:pt x="444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5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7213320" y="3394080"/>
                <a:ext cx="16992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7" y="1122"/>
                    </a:lnTo>
                    <a:lnTo>
                      <a:pt x="40" y="1177"/>
                    </a:lnTo>
                    <a:lnTo>
                      <a:pt x="57" y="1197"/>
                    </a:lnTo>
                    <a:lnTo>
                      <a:pt x="75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2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0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0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3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7" y="922"/>
                    </a:lnTo>
                    <a:lnTo>
                      <a:pt x="424" y="968"/>
                    </a:lnTo>
                    <a:lnTo>
                      <a:pt x="402" y="1006"/>
                    </a:lnTo>
                    <a:lnTo>
                      <a:pt x="379" y="1039"/>
                    </a:lnTo>
                    <a:lnTo>
                      <a:pt x="356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1" y="1102"/>
                    </a:lnTo>
                    <a:lnTo>
                      <a:pt x="288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7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7072200" y="3211560"/>
                <a:ext cx="4856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4" y="454"/>
                    </a:moveTo>
                    <a:lnTo>
                      <a:pt x="380" y="493"/>
                    </a:lnTo>
                    <a:lnTo>
                      <a:pt x="607" y="520"/>
                    </a:lnTo>
                    <a:lnTo>
                      <a:pt x="840" y="551"/>
                    </a:lnTo>
                    <a:lnTo>
                      <a:pt x="1111" y="588"/>
                    </a:lnTo>
                    <a:lnTo>
                      <a:pt x="1386" y="633"/>
                    </a:lnTo>
                    <a:lnTo>
                      <a:pt x="1517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8" y="792"/>
                    </a:lnTo>
                    <a:lnTo>
                      <a:pt x="1959" y="815"/>
                    </a:lnTo>
                    <a:lnTo>
                      <a:pt x="1974" y="836"/>
                    </a:lnTo>
                    <a:lnTo>
                      <a:pt x="1993" y="866"/>
                    </a:lnTo>
                    <a:lnTo>
                      <a:pt x="2005" y="894"/>
                    </a:lnTo>
                    <a:lnTo>
                      <a:pt x="2005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7"/>
                    </a:lnTo>
                    <a:lnTo>
                      <a:pt x="1556" y="915"/>
                    </a:lnTo>
                    <a:lnTo>
                      <a:pt x="1419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9" y="797"/>
                    </a:lnTo>
                    <a:lnTo>
                      <a:pt x="837" y="767"/>
                    </a:lnTo>
                    <a:lnTo>
                      <a:pt x="706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1" y="673"/>
                    </a:lnTo>
                    <a:lnTo>
                      <a:pt x="345" y="659"/>
                    </a:lnTo>
                    <a:lnTo>
                      <a:pt x="159" y="413"/>
                    </a:lnTo>
                    <a:lnTo>
                      <a:pt x="264" y="409"/>
                    </a:lnTo>
                    <a:lnTo>
                      <a:pt x="179" y="239"/>
                    </a:lnTo>
                    <a:lnTo>
                      <a:pt x="308" y="232"/>
                    </a:lnTo>
                    <a:lnTo>
                      <a:pt x="110" y="0"/>
                    </a:lnTo>
                    <a:lnTo>
                      <a:pt x="38" y="68"/>
                    </a:lnTo>
                    <a:lnTo>
                      <a:pt x="0" y="180"/>
                    </a:lnTo>
                    <a:lnTo>
                      <a:pt x="4" y="298"/>
                    </a:lnTo>
                    <a:lnTo>
                      <a:pt x="15" y="381"/>
                    </a:lnTo>
                    <a:lnTo>
                      <a:pt x="31" y="463"/>
                    </a:lnTo>
                    <a:lnTo>
                      <a:pt x="49" y="538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2" y="697"/>
                    </a:lnTo>
                    <a:lnTo>
                      <a:pt x="233" y="723"/>
                    </a:lnTo>
                    <a:lnTo>
                      <a:pt x="267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7" y="785"/>
                    </a:lnTo>
                    <a:lnTo>
                      <a:pt x="415" y="801"/>
                    </a:lnTo>
                    <a:lnTo>
                      <a:pt x="455" y="816"/>
                    </a:lnTo>
                    <a:lnTo>
                      <a:pt x="492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9" y="896"/>
                    </a:lnTo>
                    <a:lnTo>
                      <a:pt x="716" y="916"/>
                    </a:lnTo>
                    <a:lnTo>
                      <a:pt x="763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5" y="933"/>
                    </a:lnTo>
                    <a:lnTo>
                      <a:pt x="1296" y="1082"/>
                    </a:lnTo>
                    <a:lnTo>
                      <a:pt x="1373" y="1099"/>
                    </a:lnTo>
                    <a:lnTo>
                      <a:pt x="1456" y="1114"/>
                    </a:lnTo>
                    <a:lnTo>
                      <a:pt x="1559" y="1131"/>
                    </a:lnTo>
                    <a:lnTo>
                      <a:pt x="1678" y="1145"/>
                    </a:lnTo>
                    <a:lnTo>
                      <a:pt x="1791" y="1148"/>
                    </a:lnTo>
                    <a:lnTo>
                      <a:pt x="1893" y="1147"/>
                    </a:lnTo>
                    <a:lnTo>
                      <a:pt x="1984" y="1131"/>
                    </a:lnTo>
                    <a:lnTo>
                      <a:pt x="2053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2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7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800"/>
                    </a:lnTo>
                    <a:lnTo>
                      <a:pt x="2030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5" y="686"/>
                    </a:lnTo>
                    <a:lnTo>
                      <a:pt x="1790" y="669"/>
                    </a:lnTo>
                    <a:lnTo>
                      <a:pt x="1733" y="652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9" y="529"/>
                    </a:lnTo>
                    <a:lnTo>
                      <a:pt x="784" y="499"/>
                    </a:lnTo>
                    <a:lnTo>
                      <a:pt x="594" y="476"/>
                    </a:lnTo>
                    <a:lnTo>
                      <a:pt x="414" y="454"/>
                    </a:lnTo>
                    <a:lnTo>
                      <a:pt x="414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7088040" y="320688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7345080" y="349740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3" y="0"/>
                    </a:moveTo>
                    <a:lnTo>
                      <a:pt x="162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2" y="178"/>
                    </a:lnTo>
                    <a:lnTo>
                      <a:pt x="182" y="209"/>
                    </a:lnTo>
                    <a:lnTo>
                      <a:pt x="142" y="213"/>
                    </a:lnTo>
                    <a:lnTo>
                      <a:pt x="0" y="19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7130880" y="347184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7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7196040" y="3202200"/>
                <a:ext cx="82440" cy="25200"/>
              </a:xfrm>
              <a:custGeom>
                <a:avLst/>
                <a:gdLst/>
                <a:ahLst/>
                <a:rect l="l" t="t" r="r" b="b"/>
                <a:pathLst>
                  <a:path w="369" h="110">
                    <a:moveTo>
                      <a:pt x="369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69" y="18"/>
                    </a:lnTo>
                    <a:lnTo>
                      <a:pt x="36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7403760" y="32227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1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93" name=""/>
            <p:cNvGrpSpPr/>
            <p:nvPr/>
          </p:nvGrpSpPr>
          <p:grpSpPr>
            <a:xfrm>
              <a:off x="4976640" y="3494160"/>
              <a:ext cx="487440" cy="566640"/>
              <a:chOff x="4976640" y="3494160"/>
              <a:chExt cx="487440" cy="566640"/>
            </a:xfrm>
          </p:grpSpPr>
          <p:sp>
            <p:nvSpPr>
              <p:cNvPr id="2894" name=""/>
              <p:cNvSpPr/>
              <p:nvPr/>
            </p:nvSpPr>
            <p:spPr>
              <a:xfrm>
                <a:off x="4993920" y="3498840"/>
                <a:ext cx="447840" cy="544680"/>
              </a:xfrm>
              <a:custGeom>
                <a:avLst/>
                <a:gdLst/>
                <a:ahLst/>
                <a:rect l="l" t="t" r="r" b="b"/>
                <a:pathLst>
                  <a:path w="1976" h="2401">
                    <a:moveTo>
                      <a:pt x="0" y="481"/>
                    </a:moveTo>
                    <a:lnTo>
                      <a:pt x="178" y="436"/>
                    </a:lnTo>
                    <a:lnTo>
                      <a:pt x="299" y="515"/>
                    </a:lnTo>
                    <a:lnTo>
                      <a:pt x="344" y="677"/>
                    </a:lnTo>
                    <a:lnTo>
                      <a:pt x="330" y="883"/>
                    </a:lnTo>
                    <a:lnTo>
                      <a:pt x="872" y="939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1"/>
                    </a:lnTo>
                    <a:lnTo>
                      <a:pt x="1957" y="1383"/>
                    </a:lnTo>
                    <a:lnTo>
                      <a:pt x="1850" y="1449"/>
                    </a:lnTo>
                    <a:lnTo>
                      <a:pt x="1265" y="1374"/>
                    </a:lnTo>
                    <a:lnTo>
                      <a:pt x="1060" y="2012"/>
                    </a:lnTo>
                    <a:lnTo>
                      <a:pt x="956" y="2270"/>
                    </a:lnTo>
                    <a:lnTo>
                      <a:pt x="849" y="2401"/>
                    </a:lnTo>
                    <a:lnTo>
                      <a:pt x="655" y="2375"/>
                    </a:lnTo>
                    <a:lnTo>
                      <a:pt x="609" y="2228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1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4991040" y="3616560"/>
                <a:ext cx="442800" cy="203040"/>
              </a:xfrm>
              <a:custGeom>
                <a:avLst/>
                <a:gdLst/>
                <a:ahLst/>
                <a:rect l="l" t="t" r="r" b="b"/>
                <a:pathLst>
                  <a:path w="1955" h="897">
                    <a:moveTo>
                      <a:pt x="1955" y="831"/>
                    </a:moveTo>
                    <a:lnTo>
                      <a:pt x="298" y="471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7"/>
                    </a:lnTo>
                    <a:lnTo>
                      <a:pt x="1913" y="881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5346360" y="376740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8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3"/>
                    </a:lnTo>
                    <a:lnTo>
                      <a:pt x="86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5298840" y="375948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1" y="90"/>
                    </a:lnTo>
                    <a:lnTo>
                      <a:pt x="8" y="75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5"/>
                    </a:lnTo>
                    <a:lnTo>
                      <a:pt x="69" y="98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5252760" y="375156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8" y="98"/>
                    </a:moveTo>
                    <a:lnTo>
                      <a:pt x="18" y="90"/>
                    </a:lnTo>
                    <a:lnTo>
                      <a:pt x="6" y="76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9" y="20"/>
                    </a:lnTo>
                    <a:lnTo>
                      <a:pt x="17" y="12"/>
                    </a:lnTo>
                    <a:lnTo>
                      <a:pt x="25" y="7"/>
                    </a:lnTo>
                    <a:lnTo>
                      <a:pt x="34" y="3"/>
                    </a:lnTo>
                    <a:lnTo>
                      <a:pt x="43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4" y="82"/>
                    </a:lnTo>
                    <a:lnTo>
                      <a:pt x="86" y="89"/>
                    </a:lnTo>
                    <a:lnTo>
                      <a:pt x="79" y="94"/>
                    </a:lnTo>
                    <a:lnTo>
                      <a:pt x="69" y="98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5205240" y="374364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6" h="100">
                    <a:moveTo>
                      <a:pt x="39" y="97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7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4"/>
                    </a:lnTo>
                    <a:lnTo>
                      <a:pt x="103" y="63"/>
                    </a:lnTo>
                    <a:lnTo>
                      <a:pt x="95" y="81"/>
                    </a:lnTo>
                    <a:lnTo>
                      <a:pt x="87" y="88"/>
                    </a:lnTo>
                    <a:lnTo>
                      <a:pt x="80" y="92"/>
                    </a:lnTo>
                    <a:lnTo>
                      <a:pt x="69" y="97"/>
                    </a:lnTo>
                    <a:lnTo>
                      <a:pt x="61" y="100"/>
                    </a:lnTo>
                    <a:lnTo>
                      <a:pt x="51" y="99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157720" y="37353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8"/>
                    </a:moveTo>
                    <a:lnTo>
                      <a:pt x="21" y="88"/>
                    </a:lnTo>
                    <a:lnTo>
                      <a:pt x="6" y="73"/>
                    </a:lnTo>
                    <a:lnTo>
                      <a:pt x="0" y="55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2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7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49" y="99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5111640" y="37274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8"/>
                    </a:moveTo>
                    <a:lnTo>
                      <a:pt x="19" y="90"/>
                    </a:lnTo>
                    <a:lnTo>
                      <a:pt x="6" y="74"/>
                    </a:lnTo>
                    <a:lnTo>
                      <a:pt x="0" y="57"/>
                    </a:lnTo>
                    <a:lnTo>
                      <a:pt x="0" y="37"/>
                    </a:lnTo>
                    <a:lnTo>
                      <a:pt x="11" y="18"/>
                    </a:lnTo>
                    <a:lnTo>
                      <a:pt x="16" y="12"/>
                    </a:lnTo>
                    <a:lnTo>
                      <a:pt x="25" y="6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3"/>
                    </a:lnTo>
                    <a:lnTo>
                      <a:pt x="84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5063760" y="371952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8"/>
                    </a:moveTo>
                    <a:lnTo>
                      <a:pt x="21" y="91"/>
                    </a:lnTo>
                    <a:lnTo>
                      <a:pt x="7" y="75"/>
                    </a:lnTo>
                    <a:lnTo>
                      <a:pt x="0" y="58"/>
                    </a:lnTo>
                    <a:lnTo>
                      <a:pt x="1" y="38"/>
                    </a:lnTo>
                    <a:lnTo>
                      <a:pt x="11" y="19"/>
                    </a:lnTo>
                    <a:lnTo>
                      <a:pt x="19" y="13"/>
                    </a:lnTo>
                    <a:lnTo>
                      <a:pt x="27" y="7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5" y="82"/>
                    </a:lnTo>
                    <a:lnTo>
                      <a:pt x="88" y="88"/>
                    </a:lnTo>
                    <a:lnTo>
                      <a:pt x="78" y="94"/>
                    </a:lnTo>
                    <a:lnTo>
                      <a:pt x="69" y="98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8"/>
                    </a:lnTo>
                    <a:lnTo>
                      <a:pt x="4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5176800" y="349416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9"/>
                    </a:lnTo>
                    <a:lnTo>
                      <a:pt x="54" y="682"/>
                    </a:lnTo>
                    <a:lnTo>
                      <a:pt x="74" y="597"/>
                    </a:lnTo>
                    <a:lnTo>
                      <a:pt x="98" y="510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4"/>
                    </a:lnTo>
                    <a:lnTo>
                      <a:pt x="189" y="254"/>
                    </a:lnTo>
                    <a:lnTo>
                      <a:pt x="207" y="216"/>
                    </a:lnTo>
                    <a:lnTo>
                      <a:pt x="226" y="180"/>
                    </a:lnTo>
                    <a:lnTo>
                      <a:pt x="247" y="147"/>
                    </a:lnTo>
                    <a:lnTo>
                      <a:pt x="266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2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20"/>
                    </a:lnTo>
                    <a:lnTo>
                      <a:pt x="591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8"/>
                    </a:lnTo>
                    <a:lnTo>
                      <a:pt x="603" y="349"/>
                    </a:lnTo>
                    <a:lnTo>
                      <a:pt x="603" y="225"/>
                    </a:lnTo>
                    <a:lnTo>
                      <a:pt x="598" y="178"/>
                    </a:lnTo>
                    <a:lnTo>
                      <a:pt x="588" y="144"/>
                    </a:lnTo>
                    <a:lnTo>
                      <a:pt x="560" y="98"/>
                    </a:lnTo>
                    <a:lnTo>
                      <a:pt x="546" y="81"/>
                    </a:lnTo>
                    <a:lnTo>
                      <a:pt x="532" y="67"/>
                    </a:lnTo>
                    <a:lnTo>
                      <a:pt x="503" y="48"/>
                    </a:lnTo>
                    <a:lnTo>
                      <a:pt x="478" y="41"/>
                    </a:lnTo>
                    <a:lnTo>
                      <a:pt x="438" y="42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7"/>
                    </a:lnTo>
                    <a:lnTo>
                      <a:pt x="317" y="569"/>
                    </a:lnTo>
                    <a:lnTo>
                      <a:pt x="393" y="692"/>
                    </a:lnTo>
                    <a:lnTo>
                      <a:pt x="281" y="772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5117760" y="3775320"/>
                <a:ext cx="169920" cy="285480"/>
              </a:xfrm>
              <a:custGeom>
                <a:avLst/>
                <a:gdLst/>
                <a:ahLst/>
                <a:rect l="l" t="t" r="r" b="b"/>
                <a:pathLst>
                  <a:path w="746" h="1258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5"/>
                    </a:lnTo>
                    <a:lnTo>
                      <a:pt x="91" y="348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2"/>
                    </a:lnTo>
                    <a:lnTo>
                      <a:pt x="0" y="967"/>
                    </a:lnTo>
                    <a:lnTo>
                      <a:pt x="5" y="1052"/>
                    </a:lnTo>
                    <a:lnTo>
                      <a:pt x="18" y="1123"/>
                    </a:lnTo>
                    <a:lnTo>
                      <a:pt x="41" y="1178"/>
                    </a:lnTo>
                    <a:lnTo>
                      <a:pt x="57" y="1197"/>
                    </a:lnTo>
                    <a:lnTo>
                      <a:pt x="76" y="1213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7"/>
                    </a:lnTo>
                    <a:lnTo>
                      <a:pt x="259" y="1258"/>
                    </a:lnTo>
                    <a:lnTo>
                      <a:pt x="303" y="1239"/>
                    </a:lnTo>
                    <a:lnTo>
                      <a:pt x="327" y="1224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6"/>
                    </a:lnTo>
                    <a:lnTo>
                      <a:pt x="452" y="1087"/>
                    </a:lnTo>
                    <a:lnTo>
                      <a:pt x="481" y="1042"/>
                    </a:lnTo>
                    <a:lnTo>
                      <a:pt x="507" y="984"/>
                    </a:lnTo>
                    <a:lnTo>
                      <a:pt x="534" y="917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8"/>
                    </a:lnTo>
                    <a:lnTo>
                      <a:pt x="655" y="505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30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7"/>
                    </a:lnTo>
                    <a:lnTo>
                      <a:pt x="380" y="1040"/>
                    </a:lnTo>
                    <a:lnTo>
                      <a:pt x="357" y="1066"/>
                    </a:lnTo>
                    <a:lnTo>
                      <a:pt x="345" y="1077"/>
                    </a:lnTo>
                    <a:lnTo>
                      <a:pt x="333" y="1086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1"/>
                    </a:lnTo>
                    <a:lnTo>
                      <a:pt x="204" y="1123"/>
                    </a:lnTo>
                    <a:lnTo>
                      <a:pt x="178" y="1116"/>
                    </a:lnTo>
                    <a:lnTo>
                      <a:pt x="318" y="904"/>
                    </a:lnTo>
                    <a:lnTo>
                      <a:pt x="183" y="751"/>
                    </a:lnTo>
                    <a:lnTo>
                      <a:pt x="363" y="676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7"/>
                    </a:lnTo>
                    <a:lnTo>
                      <a:pt x="515" y="60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976640" y="359280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7">
                    <a:moveTo>
                      <a:pt x="413" y="454"/>
                    </a:moveTo>
                    <a:lnTo>
                      <a:pt x="379" y="492"/>
                    </a:lnTo>
                    <a:lnTo>
                      <a:pt x="607" y="519"/>
                    </a:lnTo>
                    <a:lnTo>
                      <a:pt x="839" y="550"/>
                    </a:lnTo>
                    <a:lnTo>
                      <a:pt x="1110" y="587"/>
                    </a:lnTo>
                    <a:lnTo>
                      <a:pt x="1385" y="632"/>
                    </a:lnTo>
                    <a:lnTo>
                      <a:pt x="1516" y="655"/>
                    </a:lnTo>
                    <a:lnTo>
                      <a:pt x="1634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1"/>
                    </a:lnTo>
                    <a:lnTo>
                      <a:pt x="1958" y="814"/>
                    </a:lnTo>
                    <a:lnTo>
                      <a:pt x="1973" y="835"/>
                    </a:lnTo>
                    <a:lnTo>
                      <a:pt x="1992" y="866"/>
                    </a:lnTo>
                    <a:lnTo>
                      <a:pt x="2004" y="893"/>
                    </a:lnTo>
                    <a:lnTo>
                      <a:pt x="2004" y="932"/>
                    </a:lnTo>
                    <a:lnTo>
                      <a:pt x="1989" y="951"/>
                    </a:lnTo>
                    <a:lnTo>
                      <a:pt x="1975" y="963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6"/>
                    </a:lnTo>
                    <a:lnTo>
                      <a:pt x="1555" y="914"/>
                    </a:lnTo>
                    <a:lnTo>
                      <a:pt x="1418" y="887"/>
                    </a:lnTo>
                    <a:lnTo>
                      <a:pt x="1274" y="858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6"/>
                    </a:lnTo>
                    <a:lnTo>
                      <a:pt x="705" y="739"/>
                    </a:lnTo>
                    <a:lnTo>
                      <a:pt x="587" y="711"/>
                    </a:lnTo>
                    <a:lnTo>
                      <a:pt x="487" y="691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2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1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0"/>
                    </a:lnTo>
                    <a:lnTo>
                      <a:pt x="31" y="462"/>
                    </a:lnTo>
                    <a:lnTo>
                      <a:pt x="48" y="537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6"/>
                    </a:lnTo>
                    <a:lnTo>
                      <a:pt x="171" y="696"/>
                    </a:lnTo>
                    <a:lnTo>
                      <a:pt x="232" y="722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7"/>
                    </a:lnTo>
                    <a:lnTo>
                      <a:pt x="376" y="785"/>
                    </a:lnTo>
                    <a:lnTo>
                      <a:pt x="415" y="800"/>
                    </a:lnTo>
                    <a:lnTo>
                      <a:pt x="454" y="815"/>
                    </a:lnTo>
                    <a:lnTo>
                      <a:pt x="491" y="831"/>
                    </a:lnTo>
                    <a:lnTo>
                      <a:pt x="528" y="846"/>
                    </a:lnTo>
                    <a:lnTo>
                      <a:pt x="596" y="873"/>
                    </a:lnTo>
                    <a:lnTo>
                      <a:pt x="658" y="895"/>
                    </a:lnTo>
                    <a:lnTo>
                      <a:pt x="715" y="915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8"/>
                    </a:lnTo>
                    <a:lnTo>
                      <a:pt x="1456" y="1113"/>
                    </a:lnTo>
                    <a:lnTo>
                      <a:pt x="1559" y="1130"/>
                    </a:lnTo>
                    <a:lnTo>
                      <a:pt x="1677" y="1144"/>
                    </a:lnTo>
                    <a:lnTo>
                      <a:pt x="1790" y="1147"/>
                    </a:lnTo>
                    <a:lnTo>
                      <a:pt x="1892" y="1146"/>
                    </a:lnTo>
                    <a:lnTo>
                      <a:pt x="1983" y="1130"/>
                    </a:lnTo>
                    <a:lnTo>
                      <a:pt x="2052" y="1107"/>
                    </a:lnTo>
                    <a:lnTo>
                      <a:pt x="2101" y="1080"/>
                    </a:lnTo>
                    <a:lnTo>
                      <a:pt x="2125" y="1055"/>
                    </a:lnTo>
                    <a:lnTo>
                      <a:pt x="2141" y="1023"/>
                    </a:lnTo>
                    <a:lnTo>
                      <a:pt x="2148" y="987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3"/>
                    </a:lnTo>
                    <a:lnTo>
                      <a:pt x="2088" y="844"/>
                    </a:lnTo>
                    <a:lnTo>
                      <a:pt x="2058" y="812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8"/>
                    </a:lnTo>
                    <a:lnTo>
                      <a:pt x="1966" y="745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4" y="700"/>
                    </a:lnTo>
                    <a:lnTo>
                      <a:pt x="1834" y="685"/>
                    </a:lnTo>
                    <a:lnTo>
                      <a:pt x="1789" y="668"/>
                    </a:lnTo>
                    <a:lnTo>
                      <a:pt x="1732" y="651"/>
                    </a:lnTo>
                    <a:lnTo>
                      <a:pt x="1658" y="634"/>
                    </a:lnTo>
                    <a:lnTo>
                      <a:pt x="1570" y="616"/>
                    </a:lnTo>
                    <a:lnTo>
                      <a:pt x="1469" y="598"/>
                    </a:lnTo>
                    <a:lnTo>
                      <a:pt x="1244" y="561"/>
                    </a:lnTo>
                    <a:lnTo>
                      <a:pt x="1008" y="528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993920" y="3587760"/>
                <a:ext cx="8424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7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100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0" y="427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6"/>
                    </a:lnTo>
                    <a:lnTo>
                      <a:pt x="276" y="157"/>
                    </a:lnTo>
                    <a:lnTo>
                      <a:pt x="263" y="140"/>
                    </a:lnTo>
                    <a:lnTo>
                      <a:pt x="247" y="127"/>
                    </a:lnTo>
                    <a:lnTo>
                      <a:pt x="232" y="119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30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5249520" y="3878280"/>
                <a:ext cx="54000" cy="47880"/>
              </a:xfrm>
              <a:custGeom>
                <a:avLst/>
                <a:gdLst/>
                <a:ahLst/>
                <a:rect l="l" t="t" r="r" b="b"/>
                <a:pathLst>
                  <a:path w="234" h="214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5"/>
                    </a:lnTo>
                    <a:lnTo>
                      <a:pt x="234" y="127"/>
                    </a:lnTo>
                    <a:lnTo>
                      <a:pt x="221" y="179"/>
                    </a:lnTo>
                    <a:lnTo>
                      <a:pt x="182" y="209"/>
                    </a:lnTo>
                    <a:lnTo>
                      <a:pt x="141" y="214"/>
                    </a:lnTo>
                    <a:lnTo>
                      <a:pt x="0" y="200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5035320" y="3853080"/>
                <a:ext cx="92160" cy="3312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0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0"/>
                    </a:lnTo>
                    <a:lnTo>
                      <a:pt x="40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5100480" y="3583080"/>
                <a:ext cx="8424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5308560" y="3603600"/>
                <a:ext cx="53640" cy="5112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40"/>
                    </a:lnTo>
                    <a:lnTo>
                      <a:pt x="223" y="87"/>
                    </a:lnTo>
                    <a:lnTo>
                      <a:pt x="234" y="140"/>
                    </a:lnTo>
                    <a:lnTo>
                      <a:pt x="220" y="191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1" name=""/>
            <p:cNvGrpSpPr/>
            <p:nvPr/>
          </p:nvGrpSpPr>
          <p:grpSpPr>
            <a:xfrm>
              <a:off x="6119640" y="3589560"/>
              <a:ext cx="571320" cy="204840"/>
              <a:chOff x="6119640" y="3589560"/>
              <a:chExt cx="571320" cy="204840"/>
            </a:xfrm>
          </p:grpSpPr>
          <p:sp>
            <p:nvSpPr>
              <p:cNvPr id="2912" name=""/>
              <p:cNvSpPr/>
              <p:nvPr/>
            </p:nvSpPr>
            <p:spPr>
              <a:xfrm>
                <a:off x="6119640" y="358956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6360840" y="3632400"/>
                <a:ext cx="60480" cy="3492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6270480" y="3622680"/>
                <a:ext cx="60120" cy="5112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6159240" y="3732480"/>
                <a:ext cx="279360" cy="6012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6119640" y="3616560"/>
                <a:ext cx="21276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6364080" y="3591000"/>
                <a:ext cx="32400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6154560" y="365292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6294240" y="3656160"/>
                <a:ext cx="82440" cy="540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20" name=""/>
            <p:cNvGrpSpPr/>
            <p:nvPr/>
          </p:nvGrpSpPr>
          <p:grpSpPr>
            <a:xfrm>
              <a:off x="6405480" y="4256280"/>
              <a:ext cx="571320" cy="204840"/>
              <a:chOff x="6405480" y="4256280"/>
              <a:chExt cx="571320" cy="204840"/>
            </a:xfrm>
          </p:grpSpPr>
          <p:sp>
            <p:nvSpPr>
              <p:cNvPr id="2921" name=""/>
              <p:cNvSpPr/>
              <p:nvPr/>
            </p:nvSpPr>
            <p:spPr>
              <a:xfrm>
                <a:off x="6405480" y="425628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6646680" y="429768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9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7" y="73"/>
                    </a:lnTo>
                    <a:lnTo>
                      <a:pt x="50" y="84"/>
                    </a:lnTo>
                    <a:lnTo>
                      <a:pt x="37" y="95"/>
                    </a:lnTo>
                    <a:lnTo>
                      <a:pt x="25" y="106"/>
                    </a:lnTo>
                    <a:lnTo>
                      <a:pt x="16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5" y="134"/>
                    </a:lnTo>
                    <a:lnTo>
                      <a:pt x="3" y="133"/>
                    </a:lnTo>
                    <a:lnTo>
                      <a:pt x="2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5" y="106"/>
                    </a:lnTo>
                    <a:lnTo>
                      <a:pt x="15" y="91"/>
                    </a:lnTo>
                    <a:lnTo>
                      <a:pt x="29" y="75"/>
                    </a:lnTo>
                    <a:lnTo>
                      <a:pt x="46" y="59"/>
                    </a:lnTo>
                    <a:lnTo>
                      <a:pt x="66" y="43"/>
                    </a:lnTo>
                    <a:lnTo>
                      <a:pt x="88" y="29"/>
                    </a:lnTo>
                    <a:lnTo>
                      <a:pt x="111" y="16"/>
                    </a:lnTo>
                    <a:lnTo>
                      <a:pt x="134" y="8"/>
                    </a:lnTo>
                    <a:lnTo>
                      <a:pt x="154" y="2"/>
                    </a:lnTo>
                    <a:lnTo>
                      <a:pt x="172" y="0"/>
                    </a:lnTo>
                    <a:lnTo>
                      <a:pt x="189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8" y="24"/>
                    </a:lnTo>
                    <a:lnTo>
                      <a:pt x="229" y="26"/>
                    </a:lnTo>
                    <a:lnTo>
                      <a:pt x="229" y="29"/>
                    </a:lnTo>
                    <a:lnTo>
                      <a:pt x="229" y="32"/>
                    </a:lnTo>
                    <a:lnTo>
                      <a:pt x="228" y="34"/>
                    </a:lnTo>
                    <a:lnTo>
                      <a:pt x="220" y="30"/>
                    </a:lnTo>
                    <a:lnTo>
                      <a:pt x="209" y="27"/>
                    </a:lnTo>
                    <a:lnTo>
                      <a:pt x="196" y="27"/>
                    </a:lnTo>
                    <a:lnTo>
                      <a:pt x="180" y="29"/>
                    </a:lnTo>
                    <a:lnTo>
                      <a:pt x="163" y="32"/>
                    </a:lnTo>
                    <a:lnTo>
                      <a:pt x="144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6556320" y="4287960"/>
                <a:ext cx="60120" cy="525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0" y="89"/>
                    </a:lnTo>
                    <a:lnTo>
                      <a:pt x="225" y="182"/>
                    </a:lnTo>
                    <a:lnTo>
                      <a:pt x="196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6445080" y="439920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5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2" y="221"/>
                    </a:lnTo>
                    <a:lnTo>
                      <a:pt x="4" y="219"/>
                    </a:lnTo>
                    <a:lnTo>
                      <a:pt x="9" y="216"/>
                    </a:lnTo>
                    <a:lnTo>
                      <a:pt x="14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69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5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0" y="99"/>
                    </a:lnTo>
                    <a:lnTo>
                      <a:pt x="256" y="95"/>
                    </a:lnTo>
                    <a:lnTo>
                      <a:pt x="272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8" y="78"/>
                    </a:lnTo>
                    <a:lnTo>
                      <a:pt x="347" y="75"/>
                    </a:lnTo>
                    <a:lnTo>
                      <a:pt x="365" y="72"/>
                    </a:lnTo>
                    <a:lnTo>
                      <a:pt x="381" y="68"/>
                    </a:lnTo>
                    <a:lnTo>
                      <a:pt x="398" y="65"/>
                    </a:lnTo>
                    <a:lnTo>
                      <a:pt x="411" y="63"/>
                    </a:lnTo>
                    <a:lnTo>
                      <a:pt x="422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0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4" y="135"/>
                    </a:lnTo>
                    <a:lnTo>
                      <a:pt x="328" y="132"/>
                    </a:lnTo>
                    <a:lnTo>
                      <a:pt x="355" y="128"/>
                    </a:lnTo>
                    <a:lnTo>
                      <a:pt x="381" y="124"/>
                    </a:lnTo>
                    <a:lnTo>
                      <a:pt x="410" y="120"/>
                    </a:lnTo>
                    <a:lnTo>
                      <a:pt x="439" y="116"/>
                    </a:lnTo>
                    <a:lnTo>
                      <a:pt x="468" y="111"/>
                    </a:lnTo>
                    <a:lnTo>
                      <a:pt x="499" y="106"/>
                    </a:lnTo>
                    <a:lnTo>
                      <a:pt x="530" y="101"/>
                    </a:lnTo>
                    <a:lnTo>
                      <a:pt x="562" y="96"/>
                    </a:lnTo>
                    <a:lnTo>
                      <a:pt x="593" y="90"/>
                    </a:lnTo>
                    <a:lnTo>
                      <a:pt x="625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2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0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7" y="4"/>
                    </a:lnTo>
                    <a:lnTo>
                      <a:pt x="1055" y="0"/>
                    </a:lnTo>
                    <a:lnTo>
                      <a:pt x="1034" y="8"/>
                    </a:lnTo>
                    <a:lnTo>
                      <a:pt x="1009" y="17"/>
                    </a:lnTo>
                    <a:lnTo>
                      <a:pt x="981" y="24"/>
                    </a:lnTo>
                    <a:lnTo>
                      <a:pt x="950" y="33"/>
                    </a:lnTo>
                    <a:lnTo>
                      <a:pt x="917" y="42"/>
                    </a:lnTo>
                    <a:lnTo>
                      <a:pt x="881" y="52"/>
                    </a:lnTo>
                    <a:lnTo>
                      <a:pt x="843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5" y="117"/>
                    </a:lnTo>
                    <a:lnTo>
                      <a:pt x="540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0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79" y="210"/>
                    </a:lnTo>
                    <a:lnTo>
                      <a:pt x="56" y="214"/>
                    </a:lnTo>
                    <a:lnTo>
                      <a:pt x="36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2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6405480" y="428148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4" y="133"/>
                    </a:lnTo>
                    <a:lnTo>
                      <a:pt x="412" y="133"/>
                    </a:lnTo>
                    <a:lnTo>
                      <a:pt x="405" y="135"/>
                    </a:lnTo>
                    <a:lnTo>
                      <a:pt x="396" y="137"/>
                    </a:lnTo>
                    <a:lnTo>
                      <a:pt x="383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0" y="152"/>
                    </a:lnTo>
                    <a:lnTo>
                      <a:pt x="309" y="157"/>
                    </a:lnTo>
                    <a:lnTo>
                      <a:pt x="287" y="163"/>
                    </a:lnTo>
                    <a:lnTo>
                      <a:pt x="265" y="168"/>
                    </a:lnTo>
                    <a:lnTo>
                      <a:pt x="243" y="174"/>
                    </a:lnTo>
                    <a:lnTo>
                      <a:pt x="221" y="180"/>
                    </a:lnTo>
                    <a:lnTo>
                      <a:pt x="201" y="186"/>
                    </a:lnTo>
                    <a:lnTo>
                      <a:pt x="181" y="191"/>
                    </a:lnTo>
                    <a:lnTo>
                      <a:pt x="165" y="198"/>
                    </a:lnTo>
                    <a:lnTo>
                      <a:pt x="149" y="203"/>
                    </a:lnTo>
                    <a:lnTo>
                      <a:pt x="122" y="214"/>
                    </a:lnTo>
                    <a:lnTo>
                      <a:pt x="95" y="226"/>
                    </a:lnTo>
                    <a:lnTo>
                      <a:pt x="70" y="237"/>
                    </a:lnTo>
                    <a:lnTo>
                      <a:pt x="47" y="248"/>
                    </a:lnTo>
                    <a:lnTo>
                      <a:pt x="28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7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8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3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59" y="185"/>
                    </a:lnTo>
                    <a:lnTo>
                      <a:pt x="179" y="178"/>
                    </a:lnTo>
                    <a:lnTo>
                      <a:pt x="200" y="172"/>
                    </a:lnTo>
                    <a:lnTo>
                      <a:pt x="221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7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1" y="141"/>
                    </a:lnTo>
                    <a:lnTo>
                      <a:pt x="324" y="141"/>
                    </a:lnTo>
                    <a:lnTo>
                      <a:pt x="328" y="136"/>
                    </a:lnTo>
                    <a:lnTo>
                      <a:pt x="340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6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0" y="35"/>
                    </a:lnTo>
                    <a:lnTo>
                      <a:pt x="503" y="38"/>
                    </a:lnTo>
                    <a:lnTo>
                      <a:pt x="514" y="44"/>
                    </a:lnTo>
                    <a:lnTo>
                      <a:pt x="523" y="50"/>
                    </a:lnTo>
                    <a:lnTo>
                      <a:pt x="529" y="57"/>
                    </a:lnTo>
                    <a:lnTo>
                      <a:pt x="533" y="62"/>
                    </a:lnTo>
                    <a:lnTo>
                      <a:pt x="535" y="67"/>
                    </a:lnTo>
                    <a:lnTo>
                      <a:pt x="536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6649920" y="4256280"/>
                <a:ext cx="32364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6" y="153"/>
                    </a:moveTo>
                    <a:lnTo>
                      <a:pt x="1157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5" y="80"/>
                    </a:lnTo>
                    <a:lnTo>
                      <a:pt x="1131" y="73"/>
                    </a:lnTo>
                    <a:lnTo>
                      <a:pt x="1114" y="69"/>
                    </a:lnTo>
                    <a:lnTo>
                      <a:pt x="1099" y="68"/>
                    </a:lnTo>
                    <a:lnTo>
                      <a:pt x="1081" y="68"/>
                    </a:lnTo>
                    <a:lnTo>
                      <a:pt x="1062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5" y="71"/>
                    </a:lnTo>
                    <a:lnTo>
                      <a:pt x="986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3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79" y="80"/>
                    </a:lnTo>
                    <a:lnTo>
                      <a:pt x="877" y="80"/>
                    </a:lnTo>
                    <a:lnTo>
                      <a:pt x="869" y="82"/>
                    </a:lnTo>
                    <a:lnTo>
                      <a:pt x="858" y="86"/>
                    </a:lnTo>
                    <a:lnTo>
                      <a:pt x="846" y="89"/>
                    </a:lnTo>
                    <a:lnTo>
                      <a:pt x="834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2" y="110"/>
                    </a:lnTo>
                    <a:lnTo>
                      <a:pt x="783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8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6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6" y="93"/>
                    </a:lnTo>
                    <a:lnTo>
                      <a:pt x="683" y="82"/>
                    </a:lnTo>
                    <a:lnTo>
                      <a:pt x="683" y="76"/>
                    </a:lnTo>
                    <a:lnTo>
                      <a:pt x="686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8" y="50"/>
                    </a:lnTo>
                    <a:lnTo>
                      <a:pt x="738" y="48"/>
                    </a:lnTo>
                    <a:lnTo>
                      <a:pt x="746" y="46"/>
                    </a:lnTo>
                    <a:lnTo>
                      <a:pt x="739" y="45"/>
                    </a:lnTo>
                    <a:lnTo>
                      <a:pt x="733" y="45"/>
                    </a:lnTo>
                    <a:lnTo>
                      <a:pt x="726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8" y="45"/>
                    </a:lnTo>
                    <a:lnTo>
                      <a:pt x="703" y="46"/>
                    </a:lnTo>
                    <a:lnTo>
                      <a:pt x="697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0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49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49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7" y="278"/>
                    </a:lnTo>
                    <a:lnTo>
                      <a:pt x="6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8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8" y="272"/>
                    </a:lnTo>
                    <a:lnTo>
                      <a:pt x="52" y="265"/>
                    </a:lnTo>
                    <a:lnTo>
                      <a:pt x="70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8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2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0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0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3" y="66"/>
                    </a:lnTo>
                    <a:lnTo>
                      <a:pt x="561" y="55"/>
                    </a:lnTo>
                    <a:lnTo>
                      <a:pt x="588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5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7" y="0"/>
                    </a:lnTo>
                    <a:lnTo>
                      <a:pt x="743" y="0"/>
                    </a:lnTo>
                    <a:lnTo>
                      <a:pt x="759" y="2"/>
                    </a:lnTo>
                    <a:lnTo>
                      <a:pt x="776" y="4"/>
                    </a:lnTo>
                    <a:lnTo>
                      <a:pt x="792" y="8"/>
                    </a:lnTo>
                    <a:lnTo>
                      <a:pt x="809" y="12"/>
                    </a:lnTo>
                    <a:lnTo>
                      <a:pt x="825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7" y="30"/>
                    </a:lnTo>
                    <a:lnTo>
                      <a:pt x="878" y="34"/>
                    </a:lnTo>
                    <a:lnTo>
                      <a:pt x="887" y="37"/>
                    </a:lnTo>
                    <a:lnTo>
                      <a:pt x="895" y="41"/>
                    </a:lnTo>
                    <a:lnTo>
                      <a:pt x="899" y="42"/>
                    </a:lnTo>
                    <a:lnTo>
                      <a:pt x="900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2" y="35"/>
                    </a:lnTo>
                    <a:lnTo>
                      <a:pt x="969" y="34"/>
                    </a:lnTo>
                    <a:lnTo>
                      <a:pt x="985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1" y="26"/>
                    </a:lnTo>
                    <a:lnTo>
                      <a:pt x="1060" y="25"/>
                    </a:lnTo>
                    <a:lnTo>
                      <a:pt x="1078" y="25"/>
                    </a:lnTo>
                    <a:lnTo>
                      <a:pt x="1095" y="25"/>
                    </a:lnTo>
                    <a:lnTo>
                      <a:pt x="1112" y="25"/>
                    </a:lnTo>
                    <a:lnTo>
                      <a:pt x="1127" y="26"/>
                    </a:lnTo>
                    <a:lnTo>
                      <a:pt x="1148" y="28"/>
                    </a:lnTo>
                    <a:lnTo>
                      <a:pt x="1166" y="32"/>
                    </a:lnTo>
                    <a:lnTo>
                      <a:pt x="1181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3" y="53"/>
                    </a:lnTo>
                    <a:lnTo>
                      <a:pt x="1220" y="59"/>
                    </a:lnTo>
                    <a:lnTo>
                      <a:pt x="1224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4" y="102"/>
                    </a:lnTo>
                    <a:lnTo>
                      <a:pt x="1220" y="111"/>
                    </a:lnTo>
                    <a:lnTo>
                      <a:pt x="1216" y="121"/>
                    </a:lnTo>
                    <a:lnTo>
                      <a:pt x="1209" y="131"/>
                    </a:lnTo>
                    <a:lnTo>
                      <a:pt x="1202" y="140"/>
                    </a:lnTo>
                    <a:lnTo>
                      <a:pt x="1196" y="147"/>
                    </a:lnTo>
                    <a:lnTo>
                      <a:pt x="1188" y="155"/>
                    </a:lnTo>
                    <a:lnTo>
                      <a:pt x="1181" y="163"/>
                    </a:lnTo>
                    <a:lnTo>
                      <a:pt x="1174" y="169"/>
                    </a:lnTo>
                    <a:lnTo>
                      <a:pt x="1167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8" y="193"/>
                    </a:lnTo>
                    <a:lnTo>
                      <a:pt x="1125" y="211"/>
                    </a:lnTo>
                    <a:lnTo>
                      <a:pt x="1099" y="229"/>
                    </a:lnTo>
                    <a:lnTo>
                      <a:pt x="1072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2" y="383"/>
                    </a:lnTo>
                    <a:lnTo>
                      <a:pt x="748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4" y="462"/>
                    </a:lnTo>
                    <a:lnTo>
                      <a:pt x="524" y="471"/>
                    </a:lnTo>
                    <a:lnTo>
                      <a:pt x="497" y="479"/>
                    </a:lnTo>
                    <a:lnTo>
                      <a:pt x="470" y="486"/>
                    </a:lnTo>
                    <a:lnTo>
                      <a:pt x="446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4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1" y="524"/>
                    </a:lnTo>
                    <a:lnTo>
                      <a:pt x="329" y="524"/>
                    </a:lnTo>
                    <a:lnTo>
                      <a:pt x="331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5" y="505"/>
                    </a:lnTo>
                    <a:lnTo>
                      <a:pt x="404" y="499"/>
                    </a:lnTo>
                    <a:lnTo>
                      <a:pt x="425" y="491"/>
                    </a:lnTo>
                    <a:lnTo>
                      <a:pt x="448" y="483"/>
                    </a:lnTo>
                    <a:lnTo>
                      <a:pt x="474" y="473"/>
                    </a:lnTo>
                    <a:lnTo>
                      <a:pt x="500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89" y="430"/>
                    </a:lnTo>
                    <a:lnTo>
                      <a:pt x="621" y="418"/>
                    </a:lnTo>
                    <a:lnTo>
                      <a:pt x="654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0" y="349"/>
                    </a:lnTo>
                    <a:lnTo>
                      <a:pt x="824" y="333"/>
                    </a:lnTo>
                    <a:lnTo>
                      <a:pt x="858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8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4" y="169"/>
                    </a:lnTo>
                    <a:lnTo>
                      <a:pt x="114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6440400" y="4319640"/>
                <a:ext cx="32220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7"/>
                    </a:moveTo>
                    <a:lnTo>
                      <a:pt x="0" y="102"/>
                    </a:lnTo>
                    <a:lnTo>
                      <a:pt x="389" y="0"/>
                    </a:lnTo>
                    <a:lnTo>
                      <a:pt x="387" y="2"/>
                    </a:lnTo>
                    <a:lnTo>
                      <a:pt x="380" y="5"/>
                    </a:lnTo>
                    <a:lnTo>
                      <a:pt x="370" y="10"/>
                    </a:lnTo>
                    <a:lnTo>
                      <a:pt x="360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7" y="48"/>
                    </a:lnTo>
                    <a:lnTo>
                      <a:pt x="336" y="59"/>
                    </a:lnTo>
                    <a:lnTo>
                      <a:pt x="343" y="74"/>
                    </a:lnTo>
                    <a:lnTo>
                      <a:pt x="358" y="95"/>
                    </a:lnTo>
                    <a:lnTo>
                      <a:pt x="379" y="118"/>
                    </a:lnTo>
                    <a:lnTo>
                      <a:pt x="402" y="144"/>
                    </a:lnTo>
                    <a:lnTo>
                      <a:pt x="426" y="167"/>
                    </a:lnTo>
                    <a:lnTo>
                      <a:pt x="445" y="187"/>
                    </a:lnTo>
                    <a:lnTo>
                      <a:pt x="459" y="200"/>
                    </a:lnTo>
                    <a:lnTo>
                      <a:pt x="464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0" y="187"/>
                    </a:lnTo>
                    <a:lnTo>
                      <a:pt x="515" y="191"/>
                    </a:lnTo>
                    <a:lnTo>
                      <a:pt x="508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6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6" y="289"/>
                    </a:lnTo>
                    <a:lnTo>
                      <a:pt x="516" y="293"/>
                    </a:lnTo>
                    <a:lnTo>
                      <a:pt x="540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5" y="300"/>
                    </a:lnTo>
                    <a:lnTo>
                      <a:pt x="631" y="300"/>
                    </a:lnTo>
                    <a:lnTo>
                      <a:pt x="647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3" y="270"/>
                    </a:lnTo>
                    <a:lnTo>
                      <a:pt x="724" y="262"/>
                    </a:lnTo>
                    <a:lnTo>
                      <a:pt x="745" y="256"/>
                    </a:lnTo>
                    <a:lnTo>
                      <a:pt x="767" y="248"/>
                    </a:lnTo>
                    <a:lnTo>
                      <a:pt x="788" y="242"/>
                    </a:lnTo>
                    <a:lnTo>
                      <a:pt x="820" y="232"/>
                    </a:lnTo>
                    <a:lnTo>
                      <a:pt x="853" y="223"/>
                    </a:lnTo>
                    <a:lnTo>
                      <a:pt x="885" y="215"/>
                    </a:lnTo>
                    <a:lnTo>
                      <a:pt x="917" y="207"/>
                    </a:lnTo>
                    <a:lnTo>
                      <a:pt x="949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7" y="187"/>
                    </a:lnTo>
                    <a:lnTo>
                      <a:pt x="1065" y="183"/>
                    </a:lnTo>
                    <a:lnTo>
                      <a:pt x="1090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5" y="182"/>
                    </a:lnTo>
                    <a:lnTo>
                      <a:pt x="1173" y="183"/>
                    </a:lnTo>
                    <a:lnTo>
                      <a:pt x="1187" y="187"/>
                    </a:lnTo>
                    <a:lnTo>
                      <a:pt x="1200" y="191"/>
                    </a:lnTo>
                    <a:lnTo>
                      <a:pt x="1207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8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4" y="242"/>
                    </a:lnTo>
                    <a:lnTo>
                      <a:pt x="1185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3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6" y="209"/>
                    </a:lnTo>
                    <a:lnTo>
                      <a:pt x="1009" y="212"/>
                    </a:lnTo>
                    <a:lnTo>
                      <a:pt x="980" y="216"/>
                    </a:lnTo>
                    <a:lnTo>
                      <a:pt x="950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3" y="272"/>
                    </a:lnTo>
                    <a:lnTo>
                      <a:pt x="727" y="277"/>
                    </a:lnTo>
                    <a:lnTo>
                      <a:pt x="711" y="282"/>
                    </a:lnTo>
                    <a:lnTo>
                      <a:pt x="695" y="287"/>
                    </a:lnTo>
                    <a:lnTo>
                      <a:pt x="679" y="291"/>
                    </a:lnTo>
                    <a:lnTo>
                      <a:pt x="665" y="296"/>
                    </a:lnTo>
                    <a:lnTo>
                      <a:pt x="650" y="300"/>
                    </a:lnTo>
                    <a:lnTo>
                      <a:pt x="637" y="303"/>
                    </a:lnTo>
                    <a:lnTo>
                      <a:pt x="625" y="308"/>
                    </a:lnTo>
                    <a:lnTo>
                      <a:pt x="614" y="310"/>
                    </a:lnTo>
                    <a:lnTo>
                      <a:pt x="605" y="313"/>
                    </a:lnTo>
                    <a:lnTo>
                      <a:pt x="596" y="315"/>
                    </a:lnTo>
                    <a:lnTo>
                      <a:pt x="590" y="318"/>
                    </a:lnTo>
                    <a:lnTo>
                      <a:pt x="585" y="319"/>
                    </a:lnTo>
                    <a:lnTo>
                      <a:pt x="582" y="320"/>
                    </a:lnTo>
                    <a:lnTo>
                      <a:pt x="581" y="320"/>
                    </a:lnTo>
                    <a:lnTo>
                      <a:pt x="575" y="320"/>
                    </a:lnTo>
                    <a:lnTo>
                      <a:pt x="562" y="320"/>
                    </a:lnTo>
                    <a:lnTo>
                      <a:pt x="541" y="320"/>
                    </a:lnTo>
                    <a:lnTo>
                      <a:pt x="517" y="319"/>
                    </a:lnTo>
                    <a:lnTo>
                      <a:pt x="492" y="316"/>
                    </a:lnTo>
                    <a:lnTo>
                      <a:pt x="466" y="313"/>
                    </a:lnTo>
                    <a:lnTo>
                      <a:pt x="445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2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0" y="248"/>
                    </a:lnTo>
                    <a:lnTo>
                      <a:pt x="412" y="240"/>
                    </a:lnTo>
                    <a:lnTo>
                      <a:pt x="413" y="236"/>
                    </a:lnTo>
                    <a:lnTo>
                      <a:pt x="415" y="234"/>
                    </a:lnTo>
                    <a:lnTo>
                      <a:pt x="254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6581520" y="4321440"/>
                <a:ext cx="810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6" y="129"/>
                    </a:lnTo>
                    <a:lnTo>
                      <a:pt x="17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1" y="52"/>
                    </a:lnTo>
                    <a:lnTo>
                      <a:pt x="128" y="39"/>
                    </a:lnTo>
                    <a:lnTo>
                      <a:pt x="155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1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3" y="5"/>
                    </a:lnTo>
                    <a:lnTo>
                      <a:pt x="269" y="8"/>
                    </a:lnTo>
                    <a:lnTo>
                      <a:pt x="276" y="12"/>
                    </a:lnTo>
                    <a:lnTo>
                      <a:pt x="282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6" y="36"/>
                    </a:lnTo>
                    <a:lnTo>
                      <a:pt x="299" y="44"/>
                    </a:lnTo>
                    <a:lnTo>
                      <a:pt x="303" y="53"/>
                    </a:lnTo>
                    <a:lnTo>
                      <a:pt x="306" y="63"/>
                    </a:lnTo>
                    <a:lnTo>
                      <a:pt x="310" y="89"/>
                    </a:lnTo>
                    <a:lnTo>
                      <a:pt x="308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2" y="143"/>
                    </a:lnTo>
                    <a:lnTo>
                      <a:pt x="276" y="143"/>
                    </a:lnTo>
                    <a:lnTo>
                      <a:pt x="269" y="142"/>
                    </a:lnTo>
                    <a:lnTo>
                      <a:pt x="264" y="140"/>
                    </a:lnTo>
                    <a:lnTo>
                      <a:pt x="258" y="136"/>
                    </a:lnTo>
                    <a:lnTo>
                      <a:pt x="254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2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5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2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40" y="53"/>
                    </a:lnTo>
                    <a:lnTo>
                      <a:pt x="235" y="56"/>
                    </a:lnTo>
                    <a:lnTo>
                      <a:pt x="232" y="61"/>
                    </a:lnTo>
                    <a:lnTo>
                      <a:pt x="229" y="67"/>
                    </a:lnTo>
                    <a:lnTo>
                      <a:pt x="228" y="75"/>
                    </a:lnTo>
                    <a:lnTo>
                      <a:pt x="226" y="62"/>
                    </a:lnTo>
                    <a:lnTo>
                      <a:pt x="228" y="51"/>
                    </a:lnTo>
                    <a:lnTo>
                      <a:pt x="229" y="40"/>
                    </a:lnTo>
                    <a:lnTo>
                      <a:pt x="232" y="30"/>
                    </a:lnTo>
                    <a:lnTo>
                      <a:pt x="226" y="31"/>
                    </a:lnTo>
                    <a:lnTo>
                      <a:pt x="221" y="33"/>
                    </a:lnTo>
                    <a:lnTo>
                      <a:pt x="214" y="34"/>
                    </a:lnTo>
                    <a:lnTo>
                      <a:pt x="207" y="36"/>
                    </a:lnTo>
                    <a:lnTo>
                      <a:pt x="201" y="49"/>
                    </a:lnTo>
                    <a:lnTo>
                      <a:pt x="199" y="63"/>
                    </a:lnTo>
                    <a:lnTo>
                      <a:pt x="199" y="78"/>
                    </a:lnTo>
                    <a:lnTo>
                      <a:pt x="201" y="95"/>
                    </a:lnTo>
                    <a:lnTo>
                      <a:pt x="208" y="114"/>
                    </a:lnTo>
                    <a:lnTo>
                      <a:pt x="215" y="128"/>
                    </a:lnTo>
                    <a:lnTo>
                      <a:pt x="222" y="139"/>
                    </a:lnTo>
                    <a:lnTo>
                      <a:pt x="230" y="147"/>
                    </a:lnTo>
                    <a:lnTo>
                      <a:pt x="235" y="152"/>
                    </a:lnTo>
                    <a:lnTo>
                      <a:pt x="241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3" y="157"/>
                    </a:lnTo>
                    <a:lnTo>
                      <a:pt x="239" y="157"/>
                    </a:lnTo>
                    <a:lnTo>
                      <a:pt x="231" y="155"/>
                    </a:lnTo>
                    <a:lnTo>
                      <a:pt x="221" y="151"/>
                    </a:lnTo>
                    <a:lnTo>
                      <a:pt x="211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8" y="42"/>
                    </a:lnTo>
                    <a:lnTo>
                      <a:pt x="182" y="44"/>
                    </a:lnTo>
                    <a:lnTo>
                      <a:pt x="177" y="46"/>
                    </a:lnTo>
                    <a:lnTo>
                      <a:pt x="171" y="49"/>
                    </a:lnTo>
                    <a:lnTo>
                      <a:pt x="166" y="51"/>
                    </a:lnTo>
                    <a:lnTo>
                      <a:pt x="159" y="54"/>
                    </a:lnTo>
                    <a:lnTo>
                      <a:pt x="154" y="56"/>
                    </a:lnTo>
                    <a:lnTo>
                      <a:pt x="148" y="60"/>
                    </a:lnTo>
                    <a:lnTo>
                      <a:pt x="142" y="63"/>
                    </a:lnTo>
                    <a:lnTo>
                      <a:pt x="121" y="73"/>
                    </a:lnTo>
                    <a:lnTo>
                      <a:pt x="103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1" y="106"/>
                    </a:lnTo>
                    <a:lnTo>
                      <a:pt x="52" y="115"/>
                    </a:lnTo>
                    <a:lnTo>
                      <a:pt x="47" y="126"/>
                    </a:lnTo>
                    <a:lnTo>
                      <a:pt x="43" y="139"/>
                    </a:lnTo>
                    <a:lnTo>
                      <a:pt x="46" y="162"/>
                    </a:lnTo>
                    <a:lnTo>
                      <a:pt x="58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3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2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6" y="206"/>
                    </a:lnTo>
                    <a:lnTo>
                      <a:pt x="20" y="197"/>
                    </a:lnTo>
                    <a:lnTo>
                      <a:pt x="4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29" name=""/>
            <p:cNvGrpSpPr/>
            <p:nvPr/>
          </p:nvGrpSpPr>
          <p:grpSpPr>
            <a:xfrm>
              <a:off x="5738760" y="5208840"/>
              <a:ext cx="571320" cy="204840"/>
              <a:chOff x="5738760" y="5208840"/>
              <a:chExt cx="571320" cy="204840"/>
            </a:xfrm>
          </p:grpSpPr>
          <p:sp>
            <p:nvSpPr>
              <p:cNvPr id="2930" name=""/>
              <p:cNvSpPr/>
              <p:nvPr/>
            </p:nvSpPr>
            <p:spPr>
              <a:xfrm>
                <a:off x="5738760" y="520884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5979960" y="524844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2"/>
                    </a:moveTo>
                    <a:lnTo>
                      <a:pt x="84" y="62"/>
                    </a:lnTo>
                    <a:lnTo>
                      <a:pt x="66" y="72"/>
                    </a:lnTo>
                    <a:lnTo>
                      <a:pt x="50" y="83"/>
                    </a:lnTo>
                    <a:lnTo>
                      <a:pt x="36" y="94"/>
                    </a:lnTo>
                    <a:lnTo>
                      <a:pt x="24" y="105"/>
                    </a:lnTo>
                    <a:lnTo>
                      <a:pt x="15" y="116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8"/>
                    </a:lnTo>
                    <a:lnTo>
                      <a:pt x="0" y="119"/>
                    </a:lnTo>
                    <a:lnTo>
                      <a:pt x="4" y="105"/>
                    </a:lnTo>
                    <a:lnTo>
                      <a:pt x="14" y="91"/>
                    </a:lnTo>
                    <a:lnTo>
                      <a:pt x="29" y="74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7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8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29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5889600" y="524052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2">
                    <a:moveTo>
                      <a:pt x="0" y="85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2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5778360" y="534996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2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4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2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1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0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7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7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5"/>
                    </a:lnTo>
                    <a:lnTo>
                      <a:pt x="469" y="111"/>
                    </a:lnTo>
                    <a:lnTo>
                      <a:pt x="500" y="105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1"/>
                    </a:lnTo>
                    <a:lnTo>
                      <a:pt x="783" y="56"/>
                    </a:lnTo>
                    <a:lnTo>
                      <a:pt x="814" y="50"/>
                    </a:lnTo>
                    <a:lnTo>
                      <a:pt x="843" y="45"/>
                    </a:lnTo>
                    <a:lnTo>
                      <a:pt x="871" y="39"/>
                    </a:lnTo>
                    <a:lnTo>
                      <a:pt x="899" y="34"/>
                    </a:lnTo>
                    <a:lnTo>
                      <a:pt x="925" y="28"/>
                    </a:lnTo>
                    <a:lnTo>
                      <a:pt x="951" y="23"/>
                    </a:lnTo>
                    <a:lnTo>
                      <a:pt x="975" y="18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7"/>
                    </a:lnTo>
                    <a:lnTo>
                      <a:pt x="1009" y="16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0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6"/>
                    </a:lnTo>
                    <a:lnTo>
                      <a:pt x="541" y="125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59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1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3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3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738760" y="5234040"/>
                <a:ext cx="21240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4"/>
                    </a:lnTo>
                    <a:lnTo>
                      <a:pt x="412" y="134"/>
                    </a:lnTo>
                    <a:lnTo>
                      <a:pt x="406" y="136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4"/>
                    </a:lnTo>
                    <a:lnTo>
                      <a:pt x="349" y="148"/>
                    </a:lnTo>
                    <a:lnTo>
                      <a:pt x="331" y="152"/>
                    </a:lnTo>
                    <a:lnTo>
                      <a:pt x="310" y="158"/>
                    </a:lnTo>
                    <a:lnTo>
                      <a:pt x="288" y="163"/>
                    </a:lnTo>
                    <a:lnTo>
                      <a:pt x="266" y="169"/>
                    </a:lnTo>
                    <a:lnTo>
                      <a:pt x="244" y="174"/>
                    </a:lnTo>
                    <a:lnTo>
                      <a:pt x="222" y="181"/>
                    </a:lnTo>
                    <a:lnTo>
                      <a:pt x="202" y="186"/>
                    </a:lnTo>
                    <a:lnTo>
                      <a:pt x="182" y="192"/>
                    </a:lnTo>
                    <a:lnTo>
                      <a:pt x="165" y="199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5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6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1"/>
                    </a:lnTo>
                    <a:lnTo>
                      <a:pt x="77" y="211"/>
                    </a:lnTo>
                    <a:lnTo>
                      <a:pt x="89" y="206"/>
                    </a:lnTo>
                    <a:lnTo>
                      <a:pt x="104" y="202"/>
                    </a:lnTo>
                    <a:lnTo>
                      <a:pt x="121" y="196"/>
                    </a:lnTo>
                    <a:lnTo>
                      <a:pt x="140" y="191"/>
                    </a:lnTo>
                    <a:lnTo>
                      <a:pt x="160" y="185"/>
                    </a:lnTo>
                    <a:lnTo>
                      <a:pt x="180" y="179"/>
                    </a:lnTo>
                    <a:lnTo>
                      <a:pt x="201" y="173"/>
                    </a:lnTo>
                    <a:lnTo>
                      <a:pt x="222" y="168"/>
                    </a:lnTo>
                    <a:lnTo>
                      <a:pt x="241" y="162"/>
                    </a:lnTo>
                    <a:lnTo>
                      <a:pt x="261" y="158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6"/>
                    </a:lnTo>
                    <a:lnTo>
                      <a:pt x="315" y="144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7"/>
                    </a:lnTo>
                    <a:lnTo>
                      <a:pt x="341" y="126"/>
                    </a:lnTo>
                    <a:lnTo>
                      <a:pt x="359" y="109"/>
                    </a:lnTo>
                    <a:lnTo>
                      <a:pt x="381" y="91"/>
                    </a:lnTo>
                    <a:lnTo>
                      <a:pt x="407" y="72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6"/>
                    </a:lnTo>
                    <a:lnTo>
                      <a:pt x="491" y="36"/>
                    </a:lnTo>
                    <a:lnTo>
                      <a:pt x="504" y="39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8"/>
                    </a:lnTo>
                    <a:lnTo>
                      <a:pt x="534" y="63"/>
                    </a:lnTo>
                    <a:lnTo>
                      <a:pt x="536" y="68"/>
                    </a:lnTo>
                    <a:lnTo>
                      <a:pt x="537" y="70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5983200" y="5208840"/>
                <a:ext cx="32364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8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3"/>
                    </a:lnTo>
                    <a:lnTo>
                      <a:pt x="950" y="74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5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5"/>
                    </a:lnTo>
                    <a:lnTo>
                      <a:pt x="793" y="110"/>
                    </a:lnTo>
                    <a:lnTo>
                      <a:pt x="784" y="116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0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6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2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2"/>
                    </a:lnTo>
                    <a:lnTo>
                      <a:pt x="650" y="61"/>
                    </a:lnTo>
                    <a:lnTo>
                      <a:pt x="611" y="74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0"/>
                    </a:lnTo>
                    <a:lnTo>
                      <a:pt x="326" y="172"/>
                    </a:lnTo>
                    <a:lnTo>
                      <a:pt x="263" y="194"/>
                    </a:lnTo>
                    <a:lnTo>
                      <a:pt x="205" y="215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1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8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6"/>
                    </a:lnTo>
                    <a:lnTo>
                      <a:pt x="198" y="203"/>
                    </a:lnTo>
                    <a:lnTo>
                      <a:pt x="233" y="188"/>
                    </a:lnTo>
                    <a:lnTo>
                      <a:pt x="271" y="171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39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7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29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0"/>
                    </a:lnTo>
                    <a:lnTo>
                      <a:pt x="900" y="41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1"/>
                    </a:lnTo>
                    <a:lnTo>
                      <a:pt x="915" y="40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29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0"/>
                    </a:lnTo>
                    <a:lnTo>
                      <a:pt x="1205" y="46"/>
                    </a:lnTo>
                    <a:lnTo>
                      <a:pt x="1214" y="52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4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39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2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6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499"/>
                    </a:lnTo>
                    <a:lnTo>
                      <a:pt x="402" y="505"/>
                    </a:lnTo>
                    <a:lnTo>
                      <a:pt x="385" y="509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0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1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0"/>
                    </a:lnTo>
                    <a:lnTo>
                      <a:pt x="386" y="505"/>
                    </a:lnTo>
                    <a:lnTo>
                      <a:pt x="405" y="498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2"/>
                    </a:lnTo>
                    <a:lnTo>
                      <a:pt x="925" y="286"/>
                    </a:lnTo>
                    <a:lnTo>
                      <a:pt x="957" y="269"/>
                    </a:lnTo>
                    <a:lnTo>
                      <a:pt x="989" y="253"/>
                    </a:lnTo>
                    <a:lnTo>
                      <a:pt x="1019" y="236"/>
                    </a:lnTo>
                    <a:lnTo>
                      <a:pt x="1047" y="220"/>
                    </a:lnTo>
                    <a:lnTo>
                      <a:pt x="1075" y="203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5773680" y="5270760"/>
                <a:ext cx="32040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7"/>
                    </a:lnTo>
                    <a:lnTo>
                      <a:pt x="501" y="204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5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7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5913360" y="527220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6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0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8"/>
                    </a:lnTo>
                    <a:lnTo>
                      <a:pt x="154" y="26"/>
                    </a:lnTo>
                    <a:lnTo>
                      <a:pt x="181" y="15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4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6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3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5"/>
                    </a:lnTo>
                    <a:lnTo>
                      <a:pt x="253" y="131"/>
                    </a:lnTo>
                    <a:lnTo>
                      <a:pt x="248" y="124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1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0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8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3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6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5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8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59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1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4"/>
                    </a:lnTo>
                    <a:lnTo>
                      <a:pt x="46" y="125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0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38" name=""/>
            <p:cNvGrpSpPr/>
            <p:nvPr/>
          </p:nvGrpSpPr>
          <p:grpSpPr>
            <a:xfrm>
              <a:off x="7833960" y="3780000"/>
              <a:ext cx="571680" cy="204840"/>
              <a:chOff x="7833960" y="3780000"/>
              <a:chExt cx="571680" cy="204840"/>
            </a:xfrm>
          </p:grpSpPr>
          <p:sp>
            <p:nvSpPr>
              <p:cNvPr id="2939" name=""/>
              <p:cNvSpPr/>
              <p:nvPr/>
            </p:nvSpPr>
            <p:spPr>
              <a:xfrm>
                <a:off x="7833960" y="378000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8075520" y="382140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7984800" y="381348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7873920" y="392292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7833960" y="3807000"/>
                <a:ext cx="21276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8078760" y="3781440"/>
                <a:ext cx="32364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7868880" y="384336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49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1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8008560" y="3845160"/>
                <a:ext cx="828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47" name=""/>
            <p:cNvGrpSpPr/>
            <p:nvPr/>
          </p:nvGrpSpPr>
          <p:grpSpPr>
            <a:xfrm>
              <a:off x="4595760" y="4542120"/>
              <a:ext cx="571320" cy="204480"/>
              <a:chOff x="4595760" y="4542120"/>
              <a:chExt cx="571320" cy="204480"/>
            </a:xfrm>
          </p:grpSpPr>
          <p:sp>
            <p:nvSpPr>
              <p:cNvPr id="2948" name=""/>
              <p:cNvSpPr/>
              <p:nvPr/>
            </p:nvSpPr>
            <p:spPr>
              <a:xfrm>
                <a:off x="4595760" y="4542120"/>
                <a:ext cx="571320" cy="204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4836960" y="458316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4746600" y="457380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4635360" y="468504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4595760" y="4567320"/>
                <a:ext cx="212400" cy="7164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6"/>
                    </a:lnTo>
                    <a:lnTo>
                      <a:pt x="71" y="237"/>
                    </a:lnTo>
                    <a:lnTo>
                      <a:pt x="47" y="248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5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2"/>
                    </a:lnTo>
                    <a:lnTo>
                      <a:pt x="222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6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4840200" y="4542120"/>
                <a:ext cx="32364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4630680" y="4605480"/>
                <a:ext cx="32040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6"/>
                    </a:moveTo>
                    <a:lnTo>
                      <a:pt x="0" y="102"/>
                    </a:lnTo>
                    <a:lnTo>
                      <a:pt x="390" y="0"/>
                    </a:lnTo>
                    <a:lnTo>
                      <a:pt x="387" y="2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4"/>
                    </a:lnTo>
                    <a:lnTo>
                      <a:pt x="426" y="167"/>
                    </a:lnTo>
                    <a:lnTo>
                      <a:pt x="446" y="186"/>
                    </a:lnTo>
                    <a:lnTo>
                      <a:pt x="459" y="200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2"/>
                    </a:lnTo>
                    <a:lnTo>
                      <a:pt x="821" y="232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5" y="242"/>
                    </a:lnTo>
                    <a:lnTo>
                      <a:pt x="1186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9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7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8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8"/>
                    </a:lnTo>
                    <a:lnTo>
                      <a:pt x="586" y="319"/>
                    </a:lnTo>
                    <a:lnTo>
                      <a:pt x="583" y="320"/>
                    </a:lnTo>
                    <a:lnTo>
                      <a:pt x="581" y="320"/>
                    </a:lnTo>
                    <a:lnTo>
                      <a:pt x="576" y="320"/>
                    </a:lnTo>
                    <a:lnTo>
                      <a:pt x="563" y="320"/>
                    </a:lnTo>
                    <a:lnTo>
                      <a:pt x="542" y="320"/>
                    </a:lnTo>
                    <a:lnTo>
                      <a:pt x="518" y="319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4770360" y="4606920"/>
                <a:ext cx="82440" cy="558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56" name=""/>
            <p:cNvGrpSpPr/>
            <p:nvPr/>
          </p:nvGrpSpPr>
          <p:grpSpPr>
            <a:xfrm>
              <a:off x="7072200" y="2637000"/>
              <a:ext cx="571320" cy="204840"/>
              <a:chOff x="7072200" y="2637000"/>
              <a:chExt cx="571320" cy="204840"/>
            </a:xfrm>
          </p:grpSpPr>
          <p:sp>
            <p:nvSpPr>
              <p:cNvPr id="2957" name=""/>
              <p:cNvSpPr/>
              <p:nvPr/>
            </p:nvSpPr>
            <p:spPr>
              <a:xfrm>
                <a:off x="7072200" y="263700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7313400" y="267984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7223040" y="267192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7111800" y="278136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4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4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5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7072200" y="266544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7316640" y="2640240"/>
                <a:ext cx="32364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3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3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5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3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2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3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7107120" y="270216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6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7246800" y="2703600"/>
                <a:ext cx="82440" cy="55800"/>
              </a:xfrm>
              <a:custGeom>
                <a:avLst/>
                <a:gdLst/>
                <a:ahLst/>
                <a:rect l="l" t="t" r="r" b="b"/>
                <a:pathLst>
                  <a:path w="310" h="209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9"/>
                    </a:lnTo>
                    <a:lnTo>
                      <a:pt x="45" y="206"/>
                    </a:lnTo>
                    <a:lnTo>
                      <a:pt x="20" y="198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65" name=""/>
            <p:cNvGrpSpPr/>
            <p:nvPr/>
          </p:nvGrpSpPr>
          <p:grpSpPr>
            <a:xfrm>
              <a:off x="7357680" y="4351320"/>
              <a:ext cx="487440" cy="567000"/>
              <a:chOff x="7357680" y="4351320"/>
              <a:chExt cx="487440" cy="567000"/>
            </a:xfrm>
          </p:grpSpPr>
          <p:sp>
            <p:nvSpPr>
              <p:cNvPr id="2966" name=""/>
              <p:cNvSpPr/>
              <p:nvPr/>
            </p:nvSpPr>
            <p:spPr>
              <a:xfrm>
                <a:off x="7375320" y="4356360"/>
                <a:ext cx="447840" cy="54432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2"/>
                    </a:lnTo>
                    <a:lnTo>
                      <a:pt x="1957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7372080" y="4473720"/>
                <a:ext cx="442800" cy="2030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8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7727760" y="46245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3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7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7680240" y="46166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8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8"/>
                    </a:lnTo>
                    <a:lnTo>
                      <a:pt x="19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8" y="87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8"/>
                    </a:lnTo>
                    <a:lnTo>
                      <a:pt x="50" y="101"/>
                    </a:lnTo>
                    <a:lnTo>
                      <a:pt x="39" y="98"/>
                    </a:lnTo>
                    <a:lnTo>
                      <a:pt x="39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7634160" y="46087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0">
                    <a:moveTo>
                      <a:pt x="38" y="97"/>
                    </a:moveTo>
                    <a:lnTo>
                      <a:pt x="18" y="89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7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3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0"/>
                    </a:lnTo>
                    <a:lnTo>
                      <a:pt x="48" y="100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7586280" y="460080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6" h="99">
                    <a:moveTo>
                      <a:pt x="39" y="96"/>
                    </a:moveTo>
                    <a:lnTo>
                      <a:pt x="20" y="88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7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1" y="99"/>
                    </a:lnTo>
                    <a:lnTo>
                      <a:pt x="51" y="98"/>
                    </a:lnTo>
                    <a:lnTo>
                      <a:pt x="39" y="96"/>
                    </a:lnTo>
                    <a:lnTo>
                      <a:pt x="39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538760" y="459288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7492680" y="458496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9"/>
                    </a:moveTo>
                    <a:lnTo>
                      <a:pt x="19" y="90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6" y="12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4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9"/>
                    </a:lnTo>
                    <a:lnTo>
                      <a:pt x="38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7445160" y="457704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7" y="8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5" y="44"/>
                    </a:lnTo>
                    <a:lnTo>
                      <a:pt x="103" y="65"/>
                    </a:lnTo>
                    <a:lnTo>
                      <a:pt x="95" y="82"/>
                    </a:lnTo>
                    <a:lnTo>
                      <a:pt x="88" y="89"/>
                    </a:lnTo>
                    <a:lnTo>
                      <a:pt x="78" y="94"/>
                    </a:lnTo>
                    <a:lnTo>
                      <a:pt x="69" y="99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7557840" y="4351320"/>
                <a:ext cx="147600" cy="24156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3"/>
                    </a:lnTo>
                    <a:lnTo>
                      <a:pt x="189" y="254"/>
                    </a:lnTo>
                    <a:lnTo>
                      <a:pt x="207" y="215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4" y="5"/>
                    </a:lnTo>
                    <a:lnTo>
                      <a:pt x="489" y="0"/>
                    </a:lnTo>
                    <a:lnTo>
                      <a:pt x="561" y="19"/>
                    </a:lnTo>
                    <a:lnTo>
                      <a:pt x="591" y="44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4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8" y="41"/>
                    </a:lnTo>
                    <a:lnTo>
                      <a:pt x="421" y="47"/>
                    </a:lnTo>
                    <a:lnTo>
                      <a:pt x="475" y="170"/>
                    </a:lnTo>
                    <a:lnTo>
                      <a:pt x="373" y="215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7499160" y="4632480"/>
                <a:ext cx="169920" cy="28584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4" y="871"/>
                    </a:lnTo>
                    <a:lnTo>
                      <a:pt x="0" y="967"/>
                    </a:lnTo>
                    <a:lnTo>
                      <a:pt x="5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5"/>
                    </a:lnTo>
                    <a:lnTo>
                      <a:pt x="452" y="1086"/>
                    </a:lnTo>
                    <a:lnTo>
                      <a:pt x="481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4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5" y="1076"/>
                    </a:lnTo>
                    <a:lnTo>
                      <a:pt x="333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6"/>
                    </a:lnTo>
                    <a:lnTo>
                      <a:pt x="515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7357680" y="444996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7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4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6"/>
                    </a:lnTo>
                    <a:lnTo>
                      <a:pt x="1556" y="915"/>
                    </a:lnTo>
                    <a:lnTo>
                      <a:pt x="1418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2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1"/>
                    </a:lnTo>
                    <a:lnTo>
                      <a:pt x="31" y="463"/>
                    </a:lnTo>
                    <a:lnTo>
                      <a:pt x="48" y="537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6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5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6" y="1082"/>
                    </a:lnTo>
                    <a:lnTo>
                      <a:pt x="1372" y="1099"/>
                    </a:lnTo>
                    <a:lnTo>
                      <a:pt x="1456" y="1114"/>
                    </a:lnTo>
                    <a:lnTo>
                      <a:pt x="1559" y="1130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0"/>
                    </a:lnTo>
                    <a:lnTo>
                      <a:pt x="2053" y="1107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4" y="685"/>
                    </a:lnTo>
                    <a:lnTo>
                      <a:pt x="1789" y="669"/>
                    </a:lnTo>
                    <a:lnTo>
                      <a:pt x="1732" y="651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375320" y="4445280"/>
                <a:ext cx="84240" cy="11736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99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5"/>
                    </a:lnTo>
                    <a:lnTo>
                      <a:pt x="276" y="156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2" y="118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7630920" y="473580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7416720" y="4710240"/>
                <a:ext cx="91800" cy="3348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1"/>
                    </a:lnTo>
                    <a:lnTo>
                      <a:pt x="40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481520" y="4440240"/>
                <a:ext cx="8424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7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7"/>
                    </a:lnTo>
                    <a:lnTo>
                      <a:pt x="37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689600" y="44611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39"/>
                    </a:lnTo>
                    <a:lnTo>
                      <a:pt x="223" y="86"/>
                    </a:lnTo>
                    <a:lnTo>
                      <a:pt x="234" y="140"/>
                    </a:lnTo>
                    <a:lnTo>
                      <a:pt x="220" y="190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83" name=""/>
            <p:cNvGrpSpPr/>
            <p:nvPr/>
          </p:nvGrpSpPr>
          <p:grpSpPr>
            <a:xfrm>
              <a:off x="5452920" y="4256280"/>
              <a:ext cx="487440" cy="565200"/>
              <a:chOff x="5452920" y="4256280"/>
              <a:chExt cx="487440" cy="565200"/>
            </a:xfrm>
          </p:grpSpPr>
          <p:sp>
            <p:nvSpPr>
              <p:cNvPr id="2984" name=""/>
              <p:cNvSpPr/>
              <p:nvPr/>
            </p:nvSpPr>
            <p:spPr>
              <a:xfrm>
                <a:off x="5470200" y="4260960"/>
                <a:ext cx="447840" cy="544680"/>
              </a:xfrm>
              <a:custGeom>
                <a:avLst/>
                <a:gdLst/>
                <a:ahLst/>
                <a:rect l="l" t="t" r="r" b="b"/>
                <a:pathLst>
                  <a:path w="1975" h="2402">
                    <a:moveTo>
                      <a:pt x="0" y="482"/>
                    </a:moveTo>
                    <a:lnTo>
                      <a:pt x="177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1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7"/>
                    </a:lnTo>
                    <a:lnTo>
                      <a:pt x="1882" y="1174"/>
                    </a:lnTo>
                    <a:lnTo>
                      <a:pt x="1975" y="1292"/>
                    </a:lnTo>
                    <a:lnTo>
                      <a:pt x="1957" y="1384"/>
                    </a:lnTo>
                    <a:lnTo>
                      <a:pt x="1849" y="1449"/>
                    </a:lnTo>
                    <a:lnTo>
                      <a:pt x="1265" y="1375"/>
                    </a:lnTo>
                    <a:lnTo>
                      <a:pt x="1059" y="2013"/>
                    </a:lnTo>
                    <a:lnTo>
                      <a:pt x="956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5467320" y="4376880"/>
                <a:ext cx="44280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9" y="898"/>
                    </a:lnTo>
                    <a:lnTo>
                      <a:pt x="1914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5822640" y="45291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5775120" y="45212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5729040" y="45133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6" y="44"/>
                    </a:lnTo>
                    <a:lnTo>
                      <a:pt x="104" y="63"/>
                    </a:lnTo>
                    <a:lnTo>
                      <a:pt x="95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60" y="101"/>
                    </a:lnTo>
                    <a:lnTo>
                      <a:pt x="49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5681520" y="45054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1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5634000" y="44974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6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8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6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587920" y="44895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3"/>
                    </a:lnTo>
                    <a:lnTo>
                      <a:pt x="104" y="64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1" y="98"/>
                    </a:lnTo>
                    <a:lnTo>
                      <a:pt x="60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540040" y="4480200"/>
                <a:ext cx="2412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652720" y="4256280"/>
                <a:ext cx="14796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3" y="681"/>
                    </a:lnTo>
                    <a:lnTo>
                      <a:pt x="74" y="597"/>
                    </a:lnTo>
                    <a:lnTo>
                      <a:pt x="97" y="509"/>
                    </a:lnTo>
                    <a:lnTo>
                      <a:pt x="125" y="422"/>
                    </a:lnTo>
                    <a:lnTo>
                      <a:pt x="154" y="336"/>
                    </a:lnTo>
                    <a:lnTo>
                      <a:pt x="171" y="293"/>
                    </a:lnTo>
                    <a:lnTo>
                      <a:pt x="188" y="254"/>
                    </a:lnTo>
                    <a:lnTo>
                      <a:pt x="207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6" y="116"/>
                    </a:lnTo>
                    <a:lnTo>
                      <a:pt x="312" y="62"/>
                    </a:lnTo>
                    <a:lnTo>
                      <a:pt x="323" y="51"/>
                    </a:lnTo>
                    <a:lnTo>
                      <a:pt x="335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19"/>
                    </a:lnTo>
                    <a:lnTo>
                      <a:pt x="591" y="45"/>
                    </a:lnTo>
                    <a:lnTo>
                      <a:pt x="606" y="62"/>
                    </a:lnTo>
                    <a:lnTo>
                      <a:pt x="617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8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0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7" y="41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2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5594040" y="4537080"/>
                <a:ext cx="16992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452920" y="435456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6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4" y="681"/>
                    </a:lnTo>
                    <a:lnTo>
                      <a:pt x="1736" y="705"/>
                    </a:lnTo>
                    <a:lnTo>
                      <a:pt x="1821" y="729"/>
                    </a:lnTo>
                    <a:lnTo>
                      <a:pt x="1895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3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4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7"/>
                    </a:lnTo>
                    <a:lnTo>
                      <a:pt x="1555" y="915"/>
                    </a:lnTo>
                    <a:lnTo>
                      <a:pt x="1418" y="887"/>
                    </a:lnTo>
                    <a:lnTo>
                      <a:pt x="1273" y="859"/>
                    </a:lnTo>
                    <a:lnTo>
                      <a:pt x="1126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8" y="239"/>
                    </a:lnTo>
                    <a:lnTo>
                      <a:pt x="307" y="232"/>
                    </a:lnTo>
                    <a:lnTo>
                      <a:pt x="109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8"/>
                    </a:lnTo>
                    <a:lnTo>
                      <a:pt x="14" y="381"/>
                    </a:lnTo>
                    <a:lnTo>
                      <a:pt x="30" y="463"/>
                    </a:lnTo>
                    <a:lnTo>
                      <a:pt x="48" y="538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7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1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4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7" y="847"/>
                    </a:lnTo>
                    <a:lnTo>
                      <a:pt x="595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5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9"/>
                    </a:lnTo>
                    <a:lnTo>
                      <a:pt x="1455" y="1114"/>
                    </a:lnTo>
                    <a:lnTo>
                      <a:pt x="1559" y="1131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1"/>
                    </a:lnTo>
                    <a:lnTo>
                      <a:pt x="2052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6" y="884"/>
                    </a:lnTo>
                    <a:lnTo>
                      <a:pt x="2087" y="844"/>
                    </a:lnTo>
                    <a:lnTo>
                      <a:pt x="2058" y="813"/>
                    </a:lnTo>
                    <a:lnTo>
                      <a:pt x="2043" y="800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3" y="701"/>
                    </a:lnTo>
                    <a:lnTo>
                      <a:pt x="1834" y="686"/>
                    </a:lnTo>
                    <a:lnTo>
                      <a:pt x="1789" y="669"/>
                    </a:lnTo>
                    <a:lnTo>
                      <a:pt x="1732" y="652"/>
                    </a:lnTo>
                    <a:lnTo>
                      <a:pt x="1657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468760" y="434988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8" h="512">
                    <a:moveTo>
                      <a:pt x="0" y="46"/>
                    </a:moveTo>
                    <a:lnTo>
                      <a:pt x="62" y="6"/>
                    </a:lnTo>
                    <a:lnTo>
                      <a:pt x="116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8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8" y="512"/>
                    </a:lnTo>
                    <a:lnTo>
                      <a:pt x="320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4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3" y="103"/>
                    </a:lnTo>
                    <a:lnTo>
                      <a:pt x="127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725800" y="464040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4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3" y="74"/>
                    </a:lnTo>
                    <a:lnTo>
                      <a:pt x="234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511600" y="461484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5576760" y="4345200"/>
                <a:ext cx="84240" cy="2520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5784480" y="43657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2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1" name=""/>
            <p:cNvGrpSpPr/>
            <p:nvPr/>
          </p:nvGrpSpPr>
          <p:grpSpPr>
            <a:xfrm>
              <a:off x="5547960" y="2922840"/>
              <a:ext cx="571680" cy="204840"/>
              <a:chOff x="5547960" y="2922840"/>
              <a:chExt cx="571680" cy="204840"/>
            </a:xfrm>
          </p:grpSpPr>
          <p:sp>
            <p:nvSpPr>
              <p:cNvPr id="3002" name=""/>
              <p:cNvSpPr/>
              <p:nvPr/>
            </p:nvSpPr>
            <p:spPr>
              <a:xfrm>
                <a:off x="5547960" y="292284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5789520" y="296568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5698800" y="295776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5587920" y="306720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5547960" y="294984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5792760" y="2926080"/>
                <a:ext cx="32364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5582880" y="298800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5722560" y="2989440"/>
                <a:ext cx="828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10" name=""/>
            <p:cNvSpPr/>
            <p:nvPr/>
          </p:nvSpPr>
          <p:spPr>
            <a:xfrm>
              <a:off x="6095880" y="439128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242760" y="4426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2" name=""/>
            <p:cNvGrpSpPr/>
            <p:nvPr/>
          </p:nvGrpSpPr>
          <p:grpSpPr>
            <a:xfrm>
              <a:off x="4400280" y="4346640"/>
              <a:ext cx="865080" cy="579600"/>
              <a:chOff x="4400280" y="4346640"/>
              <a:chExt cx="865080" cy="579600"/>
            </a:xfrm>
          </p:grpSpPr>
          <p:sp>
            <p:nvSpPr>
              <p:cNvPr id="3013" name=""/>
              <p:cNvSpPr/>
              <p:nvPr/>
            </p:nvSpPr>
            <p:spPr>
              <a:xfrm>
                <a:off x="4797360" y="4346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741560" y="434988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687560" y="43578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4635360" y="43689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4582800" y="43862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4533840" y="44103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4489200" y="444024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4451040" y="447516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4422600" y="45180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4404960" y="4567320"/>
                <a:ext cx="1620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4400280" y="46231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4406760" y="467676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4425840" y="472932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457520" y="47736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4497120" y="48135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541760" y="48452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592520" y="487044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644720" y="48895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697280" y="490392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4752720" y="49136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4808160" y="491652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4863960" y="49150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4917960" y="49071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973400" y="489276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5025960" y="48754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5078160" y="485172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5125680" y="48214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5170320" y="4781520"/>
                <a:ext cx="3024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5208480" y="47386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5238720" y="4687920"/>
                <a:ext cx="1872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5256000" y="463392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5249520" y="457848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5227560" y="452772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5194080" y="448308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5152680" y="444672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5106960" y="44164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5057640" y="439128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5005080" y="4372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4951080" y="435960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4897080" y="43513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4841640" y="4346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54" name=""/>
            <p:cNvGrpSpPr/>
            <p:nvPr/>
          </p:nvGrpSpPr>
          <p:grpSpPr>
            <a:xfrm>
              <a:off x="5400360" y="2727360"/>
              <a:ext cx="865440" cy="579600"/>
              <a:chOff x="5400360" y="2727360"/>
              <a:chExt cx="865440" cy="579600"/>
            </a:xfrm>
          </p:grpSpPr>
          <p:sp>
            <p:nvSpPr>
              <p:cNvPr id="3055" name=""/>
              <p:cNvSpPr/>
              <p:nvPr/>
            </p:nvSpPr>
            <p:spPr>
              <a:xfrm>
                <a:off x="5797440" y="2727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5741640" y="27306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5687640" y="273852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5635440" y="27496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5582880" y="276732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533920" y="27910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5489280" y="2820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5451120" y="2856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5422680" y="28990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5405400" y="294804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5400360" y="3003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5406840" y="305784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5425920" y="31100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457600" y="3154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497200" y="3194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541840" y="3225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592600" y="3251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644800" y="327024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697360" y="32846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752800" y="329436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808600" y="3297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864040" y="32958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918040" y="3287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973480" y="32734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6026040" y="3256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6078240" y="323244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6126120" y="32022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170400" y="3162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6208560" y="31197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6238800" y="30686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6256080" y="301464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6249960" y="29592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227640" y="290844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194160" y="28641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6153120" y="282744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6107040" y="27972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6057720" y="27720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005160" y="2752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951160" y="274032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5897520" y="2732400"/>
                <a:ext cx="3780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5841720" y="2727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96" name=""/>
            <p:cNvGrpSpPr/>
            <p:nvPr/>
          </p:nvGrpSpPr>
          <p:grpSpPr>
            <a:xfrm>
              <a:off x="6932520" y="2401920"/>
              <a:ext cx="865080" cy="579600"/>
              <a:chOff x="6932520" y="2401920"/>
              <a:chExt cx="865080" cy="579600"/>
            </a:xfrm>
          </p:grpSpPr>
          <p:sp>
            <p:nvSpPr>
              <p:cNvPr id="3097" name=""/>
              <p:cNvSpPr/>
              <p:nvPr/>
            </p:nvSpPr>
            <p:spPr>
              <a:xfrm>
                <a:off x="7329240" y="24019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273800" y="24051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7219800" y="241308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7167240" y="24242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7115040" y="244188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7065720" y="24656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7021440" y="24955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6983280" y="25308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6954480" y="257364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6937200" y="262260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6932520" y="26784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6938640" y="273240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6957720" y="27846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6989400" y="2829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029360" y="28688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073640" y="2900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7124400" y="29260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7176960" y="294480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7229160" y="295920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7284960" y="296892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7340400" y="2971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395840" y="297036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449840" y="29624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505640" y="294804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7557840" y="29307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7610400" y="290700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657920" y="28767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702200" y="28371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740360" y="27943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770600" y="274320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788240" y="268920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781760" y="263376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759440" y="258300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7726320" y="253872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7684920" y="25020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7638840" y="24717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7589520" y="24465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7537320" y="24274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7483320" y="24148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7429320" y="240696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7373880" y="24019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38" name=""/>
            <p:cNvGrpSpPr/>
            <p:nvPr/>
          </p:nvGrpSpPr>
          <p:grpSpPr>
            <a:xfrm>
              <a:off x="6019560" y="3394080"/>
              <a:ext cx="865080" cy="579600"/>
              <a:chOff x="6019560" y="3394080"/>
              <a:chExt cx="865080" cy="579600"/>
            </a:xfrm>
          </p:grpSpPr>
          <p:sp>
            <p:nvSpPr>
              <p:cNvPr id="3139" name=""/>
              <p:cNvSpPr/>
              <p:nvPr/>
            </p:nvSpPr>
            <p:spPr>
              <a:xfrm>
                <a:off x="6416640" y="3394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6360840" y="33973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6306840" y="340524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6254640" y="341640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6202080" y="34340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6153120" y="34578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6108480" y="348804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6070320" y="35229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6041880" y="35658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6024240" y="361476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6019560" y="36705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6026040" y="372456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6045120" y="37767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6076800" y="3821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6116400" y="38610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6161040" y="38926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6211800" y="39182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6264000" y="39373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6316560" y="395136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6372000" y="39610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6427440" y="39639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6483240" y="3962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6537240" y="395460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592680" y="39402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645240" y="392292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697440" y="38991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744960" y="38689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6789600" y="38293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6827760" y="37864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6857640" y="37353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6875280" y="368172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6868800" y="362592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6846840" y="357516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6813360" y="353088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771960" y="349416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6725880" y="3463920"/>
                <a:ext cx="36720" cy="241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6676920" y="34387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6624360" y="3419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6570360" y="340704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6516360" y="339912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6460920" y="3394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80" name=""/>
            <p:cNvGrpSpPr/>
            <p:nvPr/>
          </p:nvGrpSpPr>
          <p:grpSpPr>
            <a:xfrm>
              <a:off x="6305400" y="4060800"/>
              <a:ext cx="865080" cy="579600"/>
              <a:chOff x="6305400" y="4060800"/>
              <a:chExt cx="865080" cy="579600"/>
            </a:xfrm>
          </p:grpSpPr>
          <p:sp>
            <p:nvSpPr>
              <p:cNvPr id="3181" name=""/>
              <p:cNvSpPr/>
              <p:nvPr/>
            </p:nvSpPr>
            <p:spPr>
              <a:xfrm>
                <a:off x="6702120" y="406080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6646680" y="40640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6592680" y="407196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6540120" y="408312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6487920" y="410076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6438600" y="4124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6394320" y="41547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6356160" y="4189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6327720" y="423252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6310080" y="428148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6305400" y="43372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6311520" y="439128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6330600" y="444348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6362640" y="4488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6402240" y="45277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6446520" y="45594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6497280" y="45849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6549840" y="460404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6602040" y="461808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6657840" y="4627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6713280" y="46310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6768720" y="462924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6822720" y="462132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6878520" y="460692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6930720" y="4589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6983280" y="456588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030800" y="453564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7075440" y="449604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7113240" y="445320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7143480" y="440244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7161120" y="434844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7154640" y="4292640"/>
                <a:ext cx="1440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7132320" y="424188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099200" y="41976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057800" y="416088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7011720" y="41310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6962400" y="410544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6910200" y="4086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6856200" y="4073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6802200" y="406584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6746760" y="4060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2" name=""/>
            <p:cNvGrpSpPr/>
            <p:nvPr/>
          </p:nvGrpSpPr>
          <p:grpSpPr>
            <a:xfrm>
              <a:off x="7734240" y="3584880"/>
              <a:ext cx="865080" cy="579240"/>
              <a:chOff x="7734240" y="3584880"/>
              <a:chExt cx="865080" cy="579240"/>
            </a:xfrm>
          </p:grpSpPr>
          <p:sp>
            <p:nvSpPr>
              <p:cNvPr id="3223" name=""/>
              <p:cNvSpPr/>
              <p:nvPr/>
            </p:nvSpPr>
            <p:spPr>
              <a:xfrm>
                <a:off x="8130960" y="35848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8075520" y="35877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8021520" y="359568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7968960" y="36068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7916760" y="36244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7867440" y="36482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7823160" y="36784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7785000" y="3713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7756200" y="375624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7738920" y="38055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7734240" y="3861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7740360" y="39150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7759440" y="39672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7791120" y="40118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7831080" y="40514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7875360" y="40831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7926120" y="4108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7978680" y="41277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8030880" y="414180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8086680" y="41515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8142120" y="41547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8197560" y="4152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8251560" y="414504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8307360" y="413100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8359560" y="4113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8412120" y="408960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8459640" y="40593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8503920" y="4019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8542080" y="3976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8572320" y="392616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8589600" y="387216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8583480" y="381636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8561160" y="376560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8527680" y="372132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8486640" y="36846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8440560" y="3654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8391240" y="36291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8339040" y="3610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8285040" y="359748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8231040" y="35895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8175600" y="35848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64" name=""/>
            <p:cNvGrpSpPr/>
            <p:nvPr/>
          </p:nvGrpSpPr>
          <p:grpSpPr>
            <a:xfrm>
              <a:off x="5622840" y="5005440"/>
              <a:ext cx="865080" cy="579600"/>
              <a:chOff x="5622840" y="5005440"/>
              <a:chExt cx="865080" cy="579600"/>
            </a:xfrm>
          </p:grpSpPr>
          <p:sp>
            <p:nvSpPr>
              <p:cNvPr id="3265" name=""/>
              <p:cNvSpPr/>
              <p:nvPr/>
            </p:nvSpPr>
            <p:spPr>
              <a:xfrm>
                <a:off x="6019560" y="50054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5964120" y="50086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5910120" y="50166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5857560" y="502776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5805360" y="504540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5756040" y="506916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5711760" y="50990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5673600" y="513396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5644800" y="51771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5627520" y="522612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5622840" y="52819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5628960" y="533556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5648040" y="538812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5679720" y="543240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5719680" y="54723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5763960" y="55040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5814720" y="5529240"/>
                <a:ext cx="3672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5867280" y="55483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5919480" y="55627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5975280" y="55724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6030720" y="55753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6086160" y="557388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6140160" y="55659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6195960" y="555156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6248160" y="55342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6300720" y="551052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6348240" y="54802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6392520" y="544068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6430680" y="53974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6460920" y="534672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6478560" y="529272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6472080" y="523728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6449760" y="518652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6416640" y="514224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6375240" y="510552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6329160" y="50752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6279840" y="50500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6227640" y="50310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6173640" y="501840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6119640" y="50101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6064200" y="50054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06" name=""/>
            <p:cNvSpPr/>
            <p:nvPr/>
          </p:nvSpPr>
          <p:spPr>
            <a:xfrm>
              <a:off x="7643520" y="490716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7790760" y="4942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5833800" y="30578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5949000" y="3092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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4881240" y="469296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4996800" y="4727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7357680" y="273240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7473240" y="2767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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6508440" y="37166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6655680" y="3751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6690960" y="444672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6838200" y="4481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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6119640" y="53438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6234840" y="5378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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8310240" y="387540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8425800" y="3910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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4278240" y="231156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23" name=""/>
            <p:cNvGrpSpPr/>
            <p:nvPr/>
          </p:nvGrpSpPr>
          <p:grpSpPr>
            <a:xfrm>
              <a:off x="6927480" y="3051360"/>
              <a:ext cx="1106640" cy="2079720"/>
              <a:chOff x="6927480" y="3051360"/>
              <a:chExt cx="1106640" cy="2079720"/>
            </a:xfrm>
          </p:grpSpPr>
          <p:sp>
            <p:nvSpPr>
              <p:cNvPr id="3324" name=""/>
              <p:cNvSpPr/>
              <p:nvPr/>
            </p:nvSpPr>
            <p:spPr>
              <a:xfrm>
                <a:off x="6960960" y="3651480"/>
                <a:ext cx="27000" cy="50760"/>
              </a:xfrm>
              <a:custGeom>
                <a:avLst/>
                <a:gdLst/>
                <a:ahLst/>
                <a:rect l="l" t="t" r="r" b="b"/>
                <a:pathLst>
                  <a:path w="35" h="63">
                    <a:moveTo>
                      <a:pt x="15" y="43"/>
                    </a:moveTo>
                    <a:lnTo>
                      <a:pt x="17" y="45"/>
                    </a:lnTo>
                    <a:lnTo>
                      <a:pt x="25" y="60"/>
                    </a:lnTo>
                    <a:lnTo>
                      <a:pt x="27" y="61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2" y="61"/>
                    </a:lnTo>
                    <a:lnTo>
                      <a:pt x="34" y="60"/>
                    </a:lnTo>
                    <a:lnTo>
                      <a:pt x="35" y="58"/>
                    </a:lnTo>
                    <a:lnTo>
                      <a:pt x="35" y="56"/>
                    </a:lnTo>
                    <a:lnTo>
                      <a:pt x="34" y="55"/>
                    </a:lnTo>
                    <a:lnTo>
                      <a:pt x="25" y="40"/>
                    </a:lnTo>
                    <a:lnTo>
                      <a:pt x="20" y="41"/>
                    </a:lnTo>
                    <a:lnTo>
                      <a:pt x="25" y="41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5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6945120" y="359892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43"/>
                    </a:moveTo>
                    <a:lnTo>
                      <a:pt x="12" y="45"/>
                    </a:lnTo>
                    <a:lnTo>
                      <a:pt x="14" y="47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6932520" y="354348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7"/>
                    </a:moveTo>
                    <a:lnTo>
                      <a:pt x="9" y="48"/>
                    </a:lnTo>
                    <a:lnTo>
                      <a:pt x="10" y="50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50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2" y="8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6929280" y="34880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5"/>
                    </a:moveTo>
                    <a:lnTo>
                      <a:pt x="4" y="46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6"/>
                    </a:lnTo>
                    <a:lnTo>
                      <a:pt x="12" y="45"/>
                    </a:lnTo>
                    <a:lnTo>
                      <a:pt x="12" y="43"/>
                    </a:lnTo>
                    <a:lnTo>
                      <a:pt x="10" y="23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25"/>
                    </a:lnTo>
                    <a:lnTo>
                      <a:pt x="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6927480" y="34322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0" y="45"/>
                    </a:moveTo>
                    <a:lnTo>
                      <a:pt x="1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10" y="38"/>
                    </a:lnTo>
                    <a:lnTo>
                      <a:pt x="5" y="40"/>
                    </a:lnTo>
                    <a:lnTo>
                      <a:pt x="10" y="40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6930720" y="337680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6938640" y="332280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8" h="49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27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3" y="2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6948360" y="326880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2"/>
                    </a:moveTo>
                    <a:lnTo>
                      <a:pt x="0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6962400" y="3214800"/>
                <a:ext cx="1620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22" y="6"/>
                    </a:lnTo>
                    <a:lnTo>
                      <a:pt x="22" y="5"/>
                    </a:lnTo>
                    <a:lnTo>
                      <a:pt x="20" y="3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6978600" y="3162600"/>
                <a:ext cx="20520" cy="3780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0" y="41"/>
                    </a:moveTo>
                    <a:lnTo>
                      <a:pt x="0" y="43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5" y="46"/>
                    </a:lnTo>
                    <a:lnTo>
                      <a:pt x="6" y="46"/>
                    </a:lnTo>
                    <a:lnTo>
                      <a:pt x="8" y="46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20" y="15"/>
                    </a:lnTo>
                    <a:lnTo>
                      <a:pt x="25" y="6"/>
                    </a:lnTo>
                    <a:lnTo>
                      <a:pt x="25" y="5"/>
                    </a:lnTo>
                    <a:lnTo>
                      <a:pt x="23" y="3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1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0" y="1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002360" y="311472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3"/>
                    </a:lnTo>
                    <a:lnTo>
                      <a:pt x="5" y="43"/>
                    </a:lnTo>
                    <a:lnTo>
                      <a:pt x="7" y="43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17" y="30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23" y="3"/>
                    </a:lnTo>
                    <a:lnTo>
                      <a:pt x="8" y="25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034040" y="3078360"/>
                <a:ext cx="3348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" y="25"/>
                    </a:move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8" y="33"/>
                    </a:lnTo>
                    <a:lnTo>
                      <a:pt x="21" y="20"/>
                    </a:lnTo>
                    <a:lnTo>
                      <a:pt x="40" y="8"/>
                    </a:lnTo>
                    <a:lnTo>
                      <a:pt x="41" y="7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16" y="12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081560" y="30592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5" y="10"/>
                    </a:moveTo>
                    <a:lnTo>
                      <a:pt x="3" y="12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30" y="13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8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7135560" y="3052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4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22" y="12"/>
                    </a:lnTo>
                    <a:lnTo>
                      <a:pt x="45" y="10"/>
                    </a:ln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20" y="2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7191000" y="3051360"/>
                <a:ext cx="39960" cy="7920"/>
              </a:xfrm>
              <a:custGeom>
                <a:avLst/>
                <a:gdLst/>
                <a:ahLst/>
                <a:rect l="l" t="t" r="r" b="b"/>
                <a:pathLst>
                  <a:path w="50" h="10">
                    <a:moveTo>
                      <a:pt x="4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30" y="10"/>
                    </a:lnTo>
                    <a:lnTo>
                      <a:pt x="29" y="5"/>
                    </a:lnTo>
                    <a:lnTo>
                      <a:pt x="29" y="10"/>
                    </a:lnTo>
                    <a:lnTo>
                      <a:pt x="44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7246800" y="30513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9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9" y="6"/>
                    </a:lnTo>
                    <a:lnTo>
                      <a:pt x="47" y="5"/>
                    </a:lnTo>
                    <a:lnTo>
                      <a:pt x="4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7302240" y="30578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22" y="12"/>
                    </a:lnTo>
                    <a:lnTo>
                      <a:pt x="44" y="15"/>
                    </a:lnTo>
                    <a:lnTo>
                      <a:pt x="45" y="15"/>
                    </a:lnTo>
                    <a:lnTo>
                      <a:pt x="47" y="15"/>
                    </a:lnTo>
                    <a:lnTo>
                      <a:pt x="49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49" y="9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7356240" y="3065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9"/>
                    </a:ln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7410240" y="30783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23" y="15"/>
                    </a:lnTo>
                    <a:lnTo>
                      <a:pt x="43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25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7462800" y="309564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0" y="25"/>
                    </a:lnTo>
                    <a:lnTo>
                      <a:pt x="41" y="20"/>
                    </a:lnTo>
                    <a:lnTo>
                      <a:pt x="38" y="25"/>
                    </a:lnTo>
                    <a:lnTo>
                      <a:pt x="40" y="25"/>
                    </a:lnTo>
                    <a:lnTo>
                      <a:pt x="41" y="25"/>
                    </a:lnTo>
                    <a:lnTo>
                      <a:pt x="43" y="25"/>
                    </a:lnTo>
                    <a:lnTo>
                      <a:pt x="45" y="25"/>
                    </a:lnTo>
                    <a:lnTo>
                      <a:pt x="46" y="23"/>
                    </a:lnTo>
                    <a:lnTo>
                      <a:pt x="46" y="21"/>
                    </a:lnTo>
                    <a:lnTo>
                      <a:pt x="46" y="20"/>
                    </a:lnTo>
                    <a:lnTo>
                      <a:pt x="46" y="18"/>
                    </a:lnTo>
                    <a:lnTo>
                      <a:pt x="45" y="16"/>
                    </a:lnTo>
                    <a:lnTo>
                      <a:pt x="43" y="16"/>
                    </a:lnTo>
                    <a:lnTo>
                      <a:pt x="41" y="1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7513560" y="311976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7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3" y="15"/>
                    </a:lnTo>
                    <a:lnTo>
                      <a:pt x="37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40" y="30"/>
                    </a:lnTo>
                    <a:lnTo>
                      <a:pt x="42" y="28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2" y="25"/>
                    </a:lnTo>
                    <a:lnTo>
                      <a:pt x="42" y="23"/>
                    </a:lnTo>
                    <a:lnTo>
                      <a:pt x="18" y="6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7557840" y="3151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8" y="1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5"/>
                    </a:lnTo>
                    <a:lnTo>
                      <a:pt x="23" y="21"/>
                    </a:lnTo>
                    <a:lnTo>
                      <a:pt x="18" y="23"/>
                    </a:lnTo>
                    <a:lnTo>
                      <a:pt x="28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26" y="18"/>
                    </a:lnTo>
                    <a:lnTo>
                      <a:pt x="25" y="16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7594560" y="319428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10" y="3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6" y="35"/>
                    </a:lnTo>
                    <a:lnTo>
                      <a:pt x="20" y="33"/>
                    </a:lnTo>
                    <a:lnTo>
                      <a:pt x="15" y="33"/>
                    </a:lnTo>
                    <a:lnTo>
                      <a:pt x="18" y="42"/>
                    </a:ln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8" y="42"/>
                    </a:lnTo>
                    <a:lnTo>
                      <a:pt x="28" y="40"/>
                    </a:lnTo>
                    <a:lnTo>
                      <a:pt x="25" y="32"/>
                    </a:lnTo>
                    <a:lnTo>
                      <a:pt x="25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7615080" y="32450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10" y="3"/>
                    </a:move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9" y="45"/>
                    </a:lnTo>
                    <a:lnTo>
                      <a:pt x="9" y="47"/>
                    </a:lnTo>
                    <a:lnTo>
                      <a:pt x="10" y="48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2" y="8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7624440" y="329904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35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34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7627680" y="335448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5"/>
                    </a:move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19"/>
                    </a:lnTo>
                    <a:lnTo>
                      <a:pt x="7" y="17"/>
                    </a:lnTo>
                    <a:lnTo>
                      <a:pt x="2" y="17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7626240" y="340992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7621560" y="3465720"/>
                <a:ext cx="1080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4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7619760" y="35211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7616520" y="35769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3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34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7613280" y="363240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2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0" y="2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7613280" y="3687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0" y="5"/>
                    </a:move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0" y="14"/>
                    </a:lnTo>
                    <a:lnTo>
                      <a:pt x="5" y="14"/>
                    </a:lnTo>
                    <a:lnTo>
                      <a:pt x="10" y="1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7616520" y="374364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4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5" y="49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7621560" y="379728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6" h="50">
                    <a:moveTo>
                      <a:pt x="10" y="5"/>
                    </a:move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6" y="46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1" y="50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6" y="48"/>
                    </a:lnTo>
                    <a:lnTo>
                      <a:pt x="16" y="46"/>
                    </a:lnTo>
                    <a:lnTo>
                      <a:pt x="16" y="4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7634160" y="385308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10" y="5"/>
                    </a:move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6" y="30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8"/>
                    </a:lnTo>
                    <a:lnTo>
                      <a:pt x="16" y="48"/>
                    </a:lnTo>
                    <a:lnTo>
                      <a:pt x="18" y="48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3" y="45"/>
                    </a:lnTo>
                    <a:lnTo>
                      <a:pt x="23" y="43"/>
                    </a:lnTo>
                    <a:lnTo>
                      <a:pt x="16" y="2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7653240" y="390528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6" h="45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8" y="43"/>
                    </a:lnTo>
                    <a:lnTo>
                      <a:pt x="20" y="45"/>
                    </a:lnTo>
                    <a:lnTo>
                      <a:pt x="21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1"/>
                    </a:lnTo>
                    <a:lnTo>
                      <a:pt x="26" y="40"/>
                    </a:lnTo>
                    <a:lnTo>
                      <a:pt x="26" y="38"/>
                    </a:lnTo>
                    <a:lnTo>
                      <a:pt x="10" y="8"/>
                    </a:lnTo>
                    <a:lnTo>
                      <a:pt x="6" y="10"/>
                    </a:lnTo>
                    <a:lnTo>
                      <a:pt x="11" y="1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7678440" y="395460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10" y="2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4" y="42"/>
                    </a:lnTo>
                    <a:lnTo>
                      <a:pt x="25" y="44"/>
                    </a:lnTo>
                    <a:lnTo>
                      <a:pt x="27" y="44"/>
                    </a:lnTo>
                    <a:lnTo>
                      <a:pt x="29" y="44"/>
                    </a:lnTo>
                    <a:lnTo>
                      <a:pt x="30" y="44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9"/>
                    </a:lnTo>
                    <a:lnTo>
                      <a:pt x="32" y="37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7710120" y="400068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34" h="41">
                    <a:moveTo>
                      <a:pt x="9" y="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9" y="31"/>
                    </a:lnTo>
                    <a:lnTo>
                      <a:pt x="25" y="38"/>
                    </a:lnTo>
                    <a:lnTo>
                      <a:pt x="27" y="40"/>
                    </a:lnTo>
                    <a:lnTo>
                      <a:pt x="29" y="41"/>
                    </a:lnTo>
                    <a:lnTo>
                      <a:pt x="30" y="41"/>
                    </a:lnTo>
                    <a:lnTo>
                      <a:pt x="32" y="40"/>
                    </a:lnTo>
                    <a:lnTo>
                      <a:pt x="34" y="38"/>
                    </a:lnTo>
                    <a:lnTo>
                      <a:pt x="34" y="36"/>
                    </a:lnTo>
                    <a:lnTo>
                      <a:pt x="34" y="35"/>
                    </a:lnTo>
                    <a:lnTo>
                      <a:pt x="34" y="33"/>
                    </a:lnTo>
                    <a:lnTo>
                      <a:pt x="27" y="26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7743600" y="40435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10" y="1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2" y="20"/>
                    </a:lnTo>
                    <a:lnTo>
                      <a:pt x="27" y="38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5" y="33"/>
                    </a:lnTo>
                    <a:lnTo>
                      <a:pt x="20" y="15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7779960" y="40863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26" y="37"/>
                    </a:lnTo>
                    <a:lnTo>
                      <a:pt x="28" y="38"/>
                    </a:ln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7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11" y="7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7818120" y="41277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9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7" y="36"/>
                    </a:lnTo>
                    <a:lnTo>
                      <a:pt x="29" y="38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4" y="38"/>
                    </a:lnTo>
                    <a:lnTo>
                      <a:pt x="35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5" y="31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7854840" y="41688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8" y="4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7" y="37"/>
                    </a:lnTo>
                    <a:lnTo>
                      <a:pt x="27" y="39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3" y="40"/>
                    </a:lnTo>
                    <a:lnTo>
                      <a:pt x="35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5" y="34"/>
                    </a:lnTo>
                    <a:lnTo>
                      <a:pt x="35" y="32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7891200" y="421020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8" y="1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26"/>
                    </a:lnTo>
                    <a:lnTo>
                      <a:pt x="25" y="38"/>
                    </a:lnTo>
                    <a:lnTo>
                      <a:pt x="26" y="40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6"/>
                    </a:lnTo>
                    <a:lnTo>
                      <a:pt x="35" y="35"/>
                    </a:lnTo>
                    <a:lnTo>
                      <a:pt x="33" y="33"/>
                    </a:lnTo>
                    <a:lnTo>
                      <a:pt x="25" y="2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7926120" y="4253040"/>
                <a:ext cx="28800" cy="34920"/>
              </a:xfrm>
              <a:custGeom>
                <a:avLst/>
                <a:gdLst/>
                <a:ahLst/>
                <a:rect l="l" t="t" r="r" b="b"/>
                <a:pathLst>
                  <a:path w="35" h="43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8" y="17"/>
                    </a:lnTo>
                    <a:lnTo>
                      <a:pt x="25" y="40"/>
                    </a:lnTo>
                    <a:lnTo>
                      <a:pt x="27" y="42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3" y="35"/>
                    </a:lnTo>
                    <a:lnTo>
                      <a:pt x="17" y="12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7959600" y="429768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31" h="45">
                    <a:moveTo>
                      <a:pt x="8" y="3"/>
                    </a:move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1" y="41"/>
                    </a:lnTo>
                    <a:lnTo>
                      <a:pt x="23" y="43"/>
                    </a:lnTo>
                    <a:lnTo>
                      <a:pt x="25" y="45"/>
                    </a:lnTo>
                    <a:lnTo>
                      <a:pt x="26" y="45"/>
                    </a:lnTo>
                    <a:lnTo>
                      <a:pt x="28" y="43"/>
                    </a:lnTo>
                    <a:lnTo>
                      <a:pt x="30" y="41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0" y="36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7986600" y="434520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26" h="46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3" y="35"/>
                    </a:lnTo>
                    <a:lnTo>
                      <a:pt x="18" y="31"/>
                    </a:lnTo>
                    <a:lnTo>
                      <a:pt x="13" y="33"/>
                    </a:lnTo>
                    <a:lnTo>
                      <a:pt x="16" y="43"/>
                    </a:lnTo>
                    <a:lnTo>
                      <a:pt x="18" y="45"/>
                    </a:lnTo>
                    <a:lnTo>
                      <a:pt x="20" y="46"/>
                    </a:lnTo>
                    <a:lnTo>
                      <a:pt x="21" y="46"/>
                    </a:lnTo>
                    <a:lnTo>
                      <a:pt x="23" y="46"/>
                    </a:lnTo>
                    <a:lnTo>
                      <a:pt x="25" y="46"/>
                    </a:lnTo>
                    <a:lnTo>
                      <a:pt x="26" y="45"/>
                    </a:lnTo>
                    <a:lnTo>
                      <a:pt x="26" y="43"/>
                    </a:lnTo>
                    <a:lnTo>
                      <a:pt x="26" y="41"/>
                    </a:lnTo>
                    <a:lnTo>
                      <a:pt x="23" y="31"/>
                    </a:lnTo>
                    <a:lnTo>
                      <a:pt x="21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8008560" y="43974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10" y="5"/>
                    </a:move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4" y="15"/>
                    </a:lnTo>
                    <a:lnTo>
                      <a:pt x="10" y="38"/>
                    </a:lnTo>
                    <a:lnTo>
                      <a:pt x="12" y="45"/>
                    </a:lnTo>
                    <a:lnTo>
                      <a:pt x="12" y="46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8"/>
                    </a:lnTo>
                    <a:lnTo>
                      <a:pt x="20" y="46"/>
                    </a:lnTo>
                    <a:lnTo>
                      <a:pt x="22" y="45"/>
                    </a:lnTo>
                    <a:lnTo>
                      <a:pt x="22" y="43"/>
                    </a:lnTo>
                    <a:lnTo>
                      <a:pt x="20" y="36"/>
                    </a:lnTo>
                    <a:lnTo>
                      <a:pt x="14" y="13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8021520" y="445140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45"/>
                    </a:ln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8026200" y="450720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32"/>
                    </a:lnTo>
                    <a:lnTo>
                      <a:pt x="7" y="32"/>
                    </a:lnTo>
                    <a:lnTo>
                      <a:pt x="2" y="30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3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2" y="32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8026200" y="456264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20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22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8021520" y="461808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1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3" y="13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8015040" y="467208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15" y="7"/>
                    </a:moveTo>
                    <a:lnTo>
                      <a:pt x="15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5" y="1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8005680" y="472788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7"/>
                    </a:moveTo>
                    <a:lnTo>
                      <a:pt x="17" y="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7994520" y="478152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50">
                    <a:moveTo>
                      <a:pt x="20" y="6"/>
                    </a:moveTo>
                    <a:lnTo>
                      <a:pt x="20" y="5"/>
                    </a:lnTo>
                    <a:lnTo>
                      <a:pt x="18" y="3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7978680" y="483732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1" h="48">
                    <a:moveTo>
                      <a:pt x="21" y="7"/>
                    </a:moveTo>
                    <a:lnTo>
                      <a:pt x="21" y="5"/>
                    </a:lnTo>
                    <a:lnTo>
                      <a:pt x="20" y="3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7962840" y="4891320"/>
                <a:ext cx="17280" cy="36360"/>
              </a:xfrm>
              <a:custGeom>
                <a:avLst/>
                <a:gdLst/>
                <a:ahLst/>
                <a:rect l="l" t="t" r="r" b="b"/>
                <a:pathLst>
                  <a:path w="23" h="47">
                    <a:moveTo>
                      <a:pt x="23" y="5"/>
                    </a:moveTo>
                    <a:lnTo>
                      <a:pt x="23" y="4"/>
                    </a:lnTo>
                    <a:lnTo>
                      <a:pt x="23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7941960" y="4942080"/>
                <a:ext cx="208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5" y="7"/>
                    </a:moveTo>
                    <a:lnTo>
                      <a:pt x="25" y="5"/>
                    </a:lnTo>
                    <a:lnTo>
                      <a:pt x="23" y="4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2" y="37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12" y="39"/>
                    </a:lnTo>
                    <a:lnTo>
                      <a:pt x="2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914960" y="499284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30" y="6"/>
                    </a:moveTo>
                    <a:lnTo>
                      <a:pt x="30" y="5"/>
                    </a:lnTo>
                    <a:lnTo>
                      <a:pt x="28" y="3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5"/>
                    </a:lnTo>
                    <a:lnTo>
                      <a:pt x="10" y="21"/>
                    </a:lnTo>
                    <a:lnTo>
                      <a:pt x="15" y="23"/>
                    </a:lnTo>
                    <a:lnTo>
                      <a:pt x="11" y="20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1" y="43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20" y="25"/>
                    </a:lnTo>
                    <a:lnTo>
                      <a:pt x="20" y="23"/>
                    </a:lnTo>
                    <a:lnTo>
                      <a:pt x="3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883280" y="504216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33" y="7"/>
                    </a:moveTo>
                    <a:lnTo>
                      <a:pt x="35" y="5"/>
                    </a:lnTo>
                    <a:lnTo>
                      <a:pt x="35" y="4"/>
                    </a:lnTo>
                    <a:lnTo>
                      <a:pt x="33" y="2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2"/>
                    </a:lnTo>
                    <a:lnTo>
                      <a:pt x="25" y="4"/>
                    </a:lnTo>
                    <a:lnTo>
                      <a:pt x="11" y="22"/>
                    </a:lnTo>
                    <a:lnTo>
                      <a:pt x="1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9"/>
                    </a:lnTo>
                    <a:lnTo>
                      <a:pt x="3" y="40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8" y="40"/>
                    </a:lnTo>
                    <a:lnTo>
                      <a:pt x="10" y="39"/>
                    </a:lnTo>
                    <a:lnTo>
                      <a:pt x="20" y="27"/>
                    </a:lnTo>
                    <a:lnTo>
                      <a:pt x="33" y="9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841880" y="5083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8"/>
                    </a:moveTo>
                    <a:lnTo>
                      <a:pt x="42" y="6"/>
                    </a:lnTo>
                    <a:lnTo>
                      <a:pt x="44" y="5"/>
                    </a:lnTo>
                    <a:lnTo>
                      <a:pt x="44" y="3"/>
                    </a:lnTo>
                    <a:lnTo>
                      <a:pt x="42" y="1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20" y="13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7" y="23"/>
                    </a:lnTo>
                    <a:lnTo>
                      <a:pt x="5" y="23"/>
                    </a:lnTo>
                    <a:lnTo>
                      <a:pt x="4" y="25"/>
                    </a:lnTo>
                    <a:lnTo>
                      <a:pt x="2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3"/>
                    </a:lnTo>
                    <a:lnTo>
                      <a:pt x="9" y="33"/>
                    </a:lnTo>
                    <a:lnTo>
                      <a:pt x="10" y="31"/>
                    </a:lnTo>
                    <a:lnTo>
                      <a:pt x="25" y="21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7789680" y="51134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9" h="19">
                    <a:moveTo>
                      <a:pt x="45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49" y="5"/>
                    </a:lnTo>
                    <a:lnTo>
                      <a:pt x="49" y="4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7" y="2"/>
                    </a:lnTo>
                    <a:lnTo>
                      <a:pt x="17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19" y="17"/>
                    </a:lnTo>
                    <a:lnTo>
                      <a:pt x="39" y="12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7734240" y="5121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2" y="2"/>
                    </a:lnTo>
                    <a:lnTo>
                      <a:pt x="42" y="7"/>
                    </a:lnTo>
                    <a:lnTo>
                      <a:pt x="44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2" y="12"/>
                    </a:lnTo>
                    <a:lnTo>
                      <a:pt x="44" y="12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7678440" y="51152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5" y="15"/>
                    </a:moveTo>
                    <a:lnTo>
                      <a:pt x="45" y="15"/>
                    </a:lnTo>
                    <a:lnTo>
                      <a:pt x="47" y="13"/>
                    </a:lnTo>
                    <a:lnTo>
                      <a:pt x="49" y="11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49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7624440" y="510408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3" y="20"/>
                    </a:moveTo>
                    <a:lnTo>
                      <a:pt x="45" y="20"/>
                    </a:lnTo>
                    <a:lnTo>
                      <a:pt x="47" y="18"/>
                    </a:lnTo>
                    <a:lnTo>
                      <a:pt x="48" y="16"/>
                    </a:lnTo>
                    <a:lnTo>
                      <a:pt x="50" y="15"/>
                    </a:lnTo>
                    <a:lnTo>
                      <a:pt x="50" y="13"/>
                    </a:lnTo>
                    <a:lnTo>
                      <a:pt x="48" y="11"/>
                    </a:lnTo>
                    <a:lnTo>
                      <a:pt x="47" y="10"/>
                    </a:lnTo>
                    <a:lnTo>
                      <a:pt x="45" y="10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2" y="13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7572240" y="50896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42" y="22"/>
                    </a:moveTo>
                    <a:lnTo>
                      <a:pt x="44" y="22"/>
                    </a:lnTo>
                    <a:lnTo>
                      <a:pt x="45" y="20"/>
                    </a:lnTo>
                    <a:lnTo>
                      <a:pt x="47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44" y="12"/>
                    </a:lnTo>
                    <a:lnTo>
                      <a:pt x="19" y="5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17" y="15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7518240" y="507060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1" y="23"/>
                    </a:moveTo>
                    <a:lnTo>
                      <a:pt x="43" y="23"/>
                    </a:lnTo>
                    <a:lnTo>
                      <a:pt x="45" y="23"/>
                    </a:lnTo>
                    <a:lnTo>
                      <a:pt x="46" y="22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46" y="17"/>
                    </a:lnTo>
                    <a:lnTo>
                      <a:pt x="45" y="15"/>
                    </a:lnTo>
                    <a:lnTo>
                      <a:pt x="43" y="13"/>
                    </a:lnTo>
                    <a:lnTo>
                      <a:pt x="20" y="7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8" y="17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7467480" y="505152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41" y="25"/>
                    </a:moveTo>
                    <a:lnTo>
                      <a:pt x="43" y="25"/>
                    </a:lnTo>
                    <a:lnTo>
                      <a:pt x="45" y="23"/>
                    </a:lnTo>
                    <a:lnTo>
                      <a:pt x="46" y="22"/>
                    </a:lnTo>
                    <a:lnTo>
                      <a:pt x="46" y="20"/>
                    </a:lnTo>
                    <a:lnTo>
                      <a:pt x="46" y="18"/>
                    </a:lnTo>
                    <a:lnTo>
                      <a:pt x="46" y="17"/>
                    </a:lnTo>
                    <a:lnTo>
                      <a:pt x="45" y="15"/>
                    </a:lnTo>
                    <a:lnTo>
                      <a:pt x="43" y="15"/>
                    </a:lnTo>
                    <a:lnTo>
                      <a:pt x="20" y="7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18" y="17"/>
                    </a:lnTo>
                    <a:lnTo>
                      <a:pt x="4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7416720" y="5027760"/>
                <a:ext cx="3780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5" y="20"/>
                    </a:lnTo>
                    <a:lnTo>
                      <a:pt x="44" y="18"/>
                    </a:lnTo>
                    <a:lnTo>
                      <a:pt x="42" y="17"/>
                    </a:lnTo>
                    <a:lnTo>
                      <a:pt x="20" y="7"/>
                    </a:lnTo>
                    <a:lnTo>
                      <a:pt x="19" y="12"/>
                    </a:lnTo>
                    <a:lnTo>
                      <a:pt x="2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7" y="17"/>
                    </a:lnTo>
                    <a:lnTo>
                      <a:pt x="19" y="17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7367400" y="50007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28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28"/>
                    </a:lnTo>
                    <a:lnTo>
                      <a:pt x="43" y="26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3" y="21"/>
                    </a:lnTo>
                    <a:lnTo>
                      <a:pt x="41" y="20"/>
                    </a:lnTo>
                    <a:lnTo>
                      <a:pt x="20" y="10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15" y="18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7319880" y="49723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3" y="26"/>
                    </a:lnTo>
                    <a:lnTo>
                      <a:pt x="43" y="25"/>
                    </a:lnTo>
                    <a:lnTo>
                      <a:pt x="43" y="23"/>
                    </a:lnTo>
                    <a:lnTo>
                      <a:pt x="41" y="21"/>
                    </a:lnTo>
                    <a:lnTo>
                      <a:pt x="21" y="1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6" y="1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7273800" y="494028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35" y="31"/>
                    </a:moveTo>
                    <a:lnTo>
                      <a:pt x="37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5"/>
                    </a:lnTo>
                    <a:lnTo>
                      <a:pt x="40" y="23"/>
                    </a:lnTo>
                    <a:lnTo>
                      <a:pt x="24" y="1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19" y="21"/>
                    </a:lnTo>
                    <a:lnTo>
                      <a:pt x="3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7232400" y="490536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3" y="35"/>
                    </a:moveTo>
                    <a:lnTo>
                      <a:pt x="35" y="36"/>
                    </a:lnTo>
                    <a:lnTo>
                      <a:pt x="37" y="36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40" y="30"/>
                    </a:lnTo>
                    <a:lnTo>
                      <a:pt x="40" y="28"/>
                    </a:lnTo>
                    <a:lnTo>
                      <a:pt x="38" y="26"/>
                    </a:lnTo>
                    <a:lnTo>
                      <a:pt x="28" y="20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3" y="28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7192800" y="4865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28" y="38"/>
                    </a:move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6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5" y="31"/>
                    </a:lnTo>
                    <a:lnTo>
                      <a:pt x="33" y="30"/>
                    </a:lnTo>
                    <a:lnTo>
                      <a:pt x="31" y="30"/>
                    </a:lnTo>
                    <a:lnTo>
                      <a:pt x="30" y="33"/>
                    </a:lnTo>
                    <a:lnTo>
                      <a:pt x="33" y="31"/>
                    </a:lnTo>
                    <a:lnTo>
                      <a:pt x="15" y="11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6" y="16"/>
                    </a:lnTo>
                    <a:lnTo>
                      <a:pt x="25" y="36"/>
                    </a:lnTo>
                    <a:lnTo>
                      <a:pt x="26" y="38"/>
                    </a:lnTo>
                    <a:lnTo>
                      <a:pt x="28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7161120" y="4821480"/>
                <a:ext cx="25200" cy="331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21" y="42"/>
                    </a:moveTo>
                    <a:lnTo>
                      <a:pt x="23" y="43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0" y="37"/>
                    </a:lnTo>
                    <a:lnTo>
                      <a:pt x="23" y="27"/>
                    </a:lnTo>
                    <a:lnTo>
                      <a:pt x="11" y="7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15" y="32"/>
                    </a:lnTo>
                    <a:lnTo>
                      <a:pt x="21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7145280" y="476748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10" y="45"/>
                    </a:moveTo>
                    <a:lnTo>
                      <a:pt x="10" y="47"/>
                    </a:lnTo>
                    <a:lnTo>
                      <a:pt x="12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7"/>
                    </a:lnTo>
                    <a:lnTo>
                      <a:pt x="20" y="45"/>
                    </a:lnTo>
                    <a:lnTo>
                      <a:pt x="20" y="44"/>
                    </a:lnTo>
                    <a:lnTo>
                      <a:pt x="15" y="30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32"/>
                    </a:lnTo>
                    <a:lnTo>
                      <a:pt x="1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7138800" y="471168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7"/>
                    </a:move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4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25"/>
                    </a:lnTo>
                    <a:lnTo>
                      <a:pt x="2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7140240" y="46562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0" y="45"/>
                    </a:moveTo>
                    <a:lnTo>
                      <a:pt x="0" y="47"/>
                    </a:lnTo>
                    <a:lnTo>
                      <a:pt x="0" y="49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7145280" y="4602240"/>
                <a:ext cx="12600" cy="3816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5" y="12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1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7154640" y="45482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7" y="15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7" y="1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7167240" y="4494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7" y="49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7" y="17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7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7181640" y="4440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6" y="17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6" y="1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7196040" y="4386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2"/>
                    </a:move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7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7210080" y="433260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9" y="15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0" y="5"/>
                    </a:lnTo>
                    <a:lnTo>
                      <a:pt x="9" y="1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7224480" y="42800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2"/>
                    </a:move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6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16" y="15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6" y="1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7238880" y="4226040"/>
                <a:ext cx="1404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7" y="20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18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7250040" y="41706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5"/>
                    </a:moveTo>
                    <a:lnTo>
                      <a:pt x="0" y="47"/>
                    </a:lnTo>
                    <a:lnTo>
                      <a:pt x="0" y="48"/>
                    </a:lnTo>
                    <a:lnTo>
                      <a:pt x="2" y="50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8"/>
                    </a:lnTo>
                    <a:lnTo>
                      <a:pt x="10" y="47"/>
                    </a:lnTo>
                    <a:lnTo>
                      <a:pt x="14" y="2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4" y="2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7257960" y="411480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2" y="38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2" y="3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7257960" y="405936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4" y="45"/>
                    </a:moveTo>
                    <a:lnTo>
                      <a:pt x="5" y="46"/>
                    </a:lnTo>
                    <a:lnTo>
                      <a:pt x="7" y="48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4" y="46"/>
                    </a:lnTo>
                    <a:lnTo>
                      <a:pt x="14" y="45"/>
                    </a:lnTo>
                    <a:lnTo>
                      <a:pt x="14" y="43"/>
                    </a:lnTo>
                    <a:lnTo>
                      <a:pt x="14" y="28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4" y="30"/>
                    </a:lnTo>
                    <a:lnTo>
                      <a:pt x="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7243560" y="400536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9">
                    <a:moveTo>
                      <a:pt x="12" y="45"/>
                    </a:moveTo>
                    <a:lnTo>
                      <a:pt x="12" y="47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7"/>
                    </a:lnTo>
                    <a:lnTo>
                      <a:pt x="22" y="45"/>
                    </a:lnTo>
                    <a:lnTo>
                      <a:pt x="22" y="44"/>
                    </a:lnTo>
                    <a:lnTo>
                      <a:pt x="18" y="32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8" y="34"/>
                    </a:lnTo>
                    <a:lnTo>
                      <a:pt x="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7219800" y="395604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0"/>
                    </a:moveTo>
                    <a:lnTo>
                      <a:pt x="18" y="41"/>
                    </a:lnTo>
                    <a:lnTo>
                      <a:pt x="20" y="43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3"/>
                    </a:lnTo>
                    <a:lnTo>
                      <a:pt x="27" y="41"/>
                    </a:lnTo>
                    <a:lnTo>
                      <a:pt x="28" y="40"/>
                    </a:lnTo>
                    <a:lnTo>
                      <a:pt x="28" y="38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8" y="20"/>
                    </a:lnTo>
                    <a:lnTo>
                      <a:pt x="12" y="16"/>
                    </a:lnTo>
                    <a:lnTo>
                      <a:pt x="7" y="18"/>
                    </a:lnTo>
                    <a:lnTo>
                      <a:pt x="18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7188120" y="39103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5" y="40"/>
                    </a:moveTo>
                    <a:lnTo>
                      <a:pt x="27" y="42"/>
                    </a:lnTo>
                    <a:lnTo>
                      <a:pt x="28" y="42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3" y="40"/>
                    </a:lnTo>
                    <a:lnTo>
                      <a:pt x="33" y="39"/>
                    </a:lnTo>
                    <a:lnTo>
                      <a:pt x="33" y="37"/>
                    </a:lnTo>
                    <a:lnTo>
                      <a:pt x="33" y="35"/>
                    </a:lnTo>
                    <a:lnTo>
                      <a:pt x="12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2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7149960" y="38689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0" y="36"/>
                    </a:moveTo>
                    <a:lnTo>
                      <a:pt x="31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6" y="38"/>
                    </a:lnTo>
                    <a:lnTo>
                      <a:pt x="38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8" y="31"/>
                    </a:lnTo>
                    <a:lnTo>
                      <a:pt x="35" y="28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6" y="33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7110360" y="38307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30" y="35"/>
                    </a:moveTo>
                    <a:lnTo>
                      <a:pt x="31" y="37"/>
                    </a:lnTo>
                    <a:lnTo>
                      <a:pt x="33" y="39"/>
                    </a:lnTo>
                    <a:lnTo>
                      <a:pt x="35" y="39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38" y="30"/>
                    </a:lnTo>
                    <a:lnTo>
                      <a:pt x="31" y="24"/>
                    </a:lnTo>
                    <a:lnTo>
                      <a:pt x="30" y="22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5" y="30"/>
                    </a:lnTo>
                    <a:lnTo>
                      <a:pt x="26" y="25"/>
                    </a:lnTo>
                    <a:lnTo>
                      <a:pt x="23" y="29"/>
                    </a:lnTo>
                    <a:lnTo>
                      <a:pt x="3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7068960" y="379440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2" y="36"/>
                    </a:moveTo>
                    <a:lnTo>
                      <a:pt x="33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38" y="30"/>
                    </a:lnTo>
                    <a:lnTo>
                      <a:pt x="37" y="28"/>
                    </a:lnTo>
                    <a:lnTo>
                      <a:pt x="25" y="16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0" y="25"/>
                    </a:lnTo>
                    <a:lnTo>
                      <a:pt x="3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7029360" y="3756240"/>
                <a:ext cx="29880" cy="3024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0" y="37"/>
                    </a:move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8" y="34"/>
                    </a:lnTo>
                    <a:lnTo>
                      <a:pt x="38" y="32"/>
                    </a:lnTo>
                    <a:lnTo>
                      <a:pt x="37" y="30"/>
                    </a:lnTo>
                    <a:lnTo>
                      <a:pt x="35" y="29"/>
                    </a:lnTo>
                    <a:lnTo>
                      <a:pt x="20" y="15"/>
                    </a:lnTo>
                    <a:lnTo>
                      <a:pt x="18" y="19"/>
                    </a:lnTo>
                    <a:lnTo>
                      <a:pt x="22" y="17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3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6992640" y="37134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2" y="18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4" y="23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20" name=""/>
            <p:cNvGrpSpPr/>
            <p:nvPr/>
          </p:nvGrpSpPr>
          <p:grpSpPr>
            <a:xfrm>
              <a:off x="4746600" y="3354480"/>
              <a:ext cx="1569960" cy="1668600"/>
              <a:chOff x="4746600" y="3354480"/>
              <a:chExt cx="1569960" cy="1668600"/>
            </a:xfrm>
          </p:grpSpPr>
          <p:sp>
            <p:nvSpPr>
              <p:cNvPr id="3421" name=""/>
              <p:cNvSpPr/>
              <p:nvPr/>
            </p:nvSpPr>
            <p:spPr>
              <a:xfrm>
                <a:off x="4771800" y="4030920"/>
                <a:ext cx="27000" cy="58680"/>
              </a:xfrm>
              <a:custGeom>
                <a:avLst/>
                <a:gdLst/>
                <a:ahLst/>
                <a:rect l="l" t="t" r="r" b="b"/>
                <a:pathLst>
                  <a:path w="35" h="73">
                    <a:moveTo>
                      <a:pt x="13" y="45"/>
                    </a:moveTo>
                    <a:lnTo>
                      <a:pt x="22" y="62"/>
                    </a:lnTo>
                    <a:lnTo>
                      <a:pt x="23" y="63"/>
                    </a:lnTo>
                    <a:lnTo>
                      <a:pt x="27" y="70"/>
                    </a:lnTo>
                    <a:lnTo>
                      <a:pt x="28" y="72"/>
                    </a:lnTo>
                    <a:lnTo>
                      <a:pt x="30" y="73"/>
                    </a:lnTo>
                    <a:lnTo>
                      <a:pt x="32" y="73"/>
                    </a:lnTo>
                    <a:lnTo>
                      <a:pt x="33" y="72"/>
                    </a:lnTo>
                    <a:lnTo>
                      <a:pt x="35" y="70"/>
                    </a:lnTo>
                    <a:lnTo>
                      <a:pt x="35" y="68"/>
                    </a:lnTo>
                    <a:lnTo>
                      <a:pt x="35" y="67"/>
                    </a:lnTo>
                    <a:lnTo>
                      <a:pt x="35" y="65"/>
                    </a:lnTo>
                    <a:lnTo>
                      <a:pt x="32" y="58"/>
                    </a:lnTo>
                    <a:lnTo>
                      <a:pt x="27" y="62"/>
                    </a:lnTo>
                    <a:lnTo>
                      <a:pt x="32" y="60"/>
                    </a:lnTo>
                    <a:lnTo>
                      <a:pt x="23" y="43"/>
                    </a:lnTo>
                    <a:lnTo>
                      <a:pt x="17" y="23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25"/>
                    </a:lnTo>
                    <a:lnTo>
                      <a:pt x="1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4759200" y="397692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8" y="45"/>
                    </a:moveTo>
                    <a:lnTo>
                      <a:pt x="8" y="46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3" y="50"/>
                    </a:lnTo>
                    <a:lnTo>
                      <a:pt x="15" y="48"/>
                    </a:lnTo>
                    <a:lnTo>
                      <a:pt x="17" y="46"/>
                    </a:lnTo>
                    <a:lnTo>
                      <a:pt x="18" y="45"/>
                    </a:lnTo>
                    <a:lnTo>
                      <a:pt x="18" y="43"/>
                    </a:lnTo>
                    <a:lnTo>
                      <a:pt x="13" y="21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3" y="23"/>
                    </a:lnTo>
                    <a:lnTo>
                      <a:pt x="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4751280" y="392292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5" y="45"/>
                    </a:moveTo>
                    <a:lnTo>
                      <a:pt x="7" y="47"/>
                    </a:lnTo>
                    <a:lnTo>
                      <a:pt x="8" y="49"/>
                    </a:lnTo>
                    <a:lnTo>
                      <a:pt x="10" y="50"/>
                    </a:lnTo>
                    <a:lnTo>
                      <a:pt x="12" y="50"/>
                    </a:lnTo>
                    <a:lnTo>
                      <a:pt x="13" y="49"/>
                    </a:lnTo>
                    <a:lnTo>
                      <a:pt x="15" y="47"/>
                    </a:lnTo>
                    <a:lnTo>
                      <a:pt x="15" y="45"/>
                    </a:lnTo>
                    <a:lnTo>
                      <a:pt x="15" y="44"/>
                    </a:lnTo>
                    <a:lnTo>
                      <a:pt x="15" y="39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5" y="40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4748040" y="386712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5"/>
                    </a:moveTo>
                    <a:lnTo>
                      <a:pt x="3" y="47"/>
                    </a:lnTo>
                    <a:lnTo>
                      <a:pt x="5" y="49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4746600" y="38116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5"/>
                    </a:moveTo>
                    <a:lnTo>
                      <a:pt x="2" y="47"/>
                    </a:ln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2" y="45"/>
                    </a:lnTo>
                    <a:lnTo>
                      <a:pt x="12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4748040" y="375624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0" h="50">
                    <a:moveTo>
                      <a:pt x="0" y="44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4749480" y="370044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44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4" y="12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1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4755960" y="364500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5"/>
                    </a:move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0" y="47"/>
                    </a:lnTo>
                    <a:lnTo>
                      <a:pt x="13" y="19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3" y="1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4763880" y="3591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3" y="25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3" y="2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4776480" y="35370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1" h="49">
                    <a:moveTo>
                      <a:pt x="0" y="42"/>
                    </a:moveTo>
                    <a:lnTo>
                      <a:pt x="0" y="44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13" y="34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21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3" y="3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4794120" y="3486240"/>
                <a:ext cx="20520" cy="3672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0" y="40"/>
                    </a:move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4817880" y="3438720"/>
                <a:ext cx="25200" cy="3312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0" y="35"/>
                    </a:moveTo>
                    <a:lnTo>
                      <a:pt x="0" y="37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9" y="40"/>
                    </a:lnTo>
                    <a:lnTo>
                      <a:pt x="12" y="35"/>
                    </a:lnTo>
                    <a:lnTo>
                      <a:pt x="24" y="15"/>
                    </a:lnTo>
                    <a:lnTo>
                      <a:pt x="30" y="7"/>
                    </a:lnTo>
                    <a:lnTo>
                      <a:pt x="32" y="5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2"/>
                    </a:lnTo>
                    <a:lnTo>
                      <a:pt x="15" y="10"/>
                    </a:lnTo>
                    <a:lnTo>
                      <a:pt x="4" y="3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4849560" y="339912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0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4" y="37"/>
                    </a:lnTo>
                    <a:lnTo>
                      <a:pt x="5" y="37"/>
                    </a:lnTo>
                    <a:lnTo>
                      <a:pt x="7" y="35"/>
                    </a:lnTo>
                    <a:lnTo>
                      <a:pt x="9" y="34"/>
                    </a:lnTo>
                    <a:lnTo>
                      <a:pt x="12" y="30"/>
                    </a:lnTo>
                    <a:lnTo>
                      <a:pt x="9" y="27"/>
                    </a:lnTo>
                    <a:lnTo>
                      <a:pt x="10" y="32"/>
                    </a:lnTo>
                    <a:lnTo>
                      <a:pt x="27" y="17"/>
                    </a:lnTo>
                    <a:lnTo>
                      <a:pt x="37" y="9"/>
                    </a:lnTo>
                    <a:lnTo>
                      <a:pt x="39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9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2" y="9"/>
                    </a:lnTo>
                    <a:lnTo>
                      <a:pt x="5" y="24"/>
                    </a:lnTo>
                    <a:lnTo>
                      <a:pt x="4" y="2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4892400" y="33735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" y="15"/>
                    </a:moveTo>
                    <a:lnTo>
                      <a:pt x="2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4" y="25"/>
                    </a:lnTo>
                    <a:lnTo>
                      <a:pt x="5" y="25"/>
                    </a:lnTo>
                    <a:lnTo>
                      <a:pt x="25" y="16"/>
                    </a:lnTo>
                    <a:lnTo>
                      <a:pt x="44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24" y="6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4946400" y="3360960"/>
                <a:ext cx="38160" cy="1404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" y="6"/>
                    </a:move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32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0" y="1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5000400" y="335628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3"/>
                    </a:moveTo>
                    <a:lnTo>
                      <a:pt x="4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9" y="8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3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5055840" y="33544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111640" y="33562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5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2"/>
                    </a:lnTo>
                    <a:lnTo>
                      <a:pt x="45" y="12"/>
                    </a:lnTo>
                    <a:lnTo>
                      <a:pt x="47" y="12"/>
                    </a:lnTo>
                    <a:lnTo>
                      <a:pt x="49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3"/>
                    </a:lnTo>
                    <a:lnTo>
                      <a:pt x="4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5167080" y="33609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7" y="12"/>
                    </a:lnTo>
                    <a:lnTo>
                      <a:pt x="49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222520" y="33656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9" h="16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6"/>
                    </a:lnTo>
                    <a:lnTo>
                      <a:pt x="45" y="16"/>
                    </a:lnTo>
                    <a:lnTo>
                      <a:pt x="47" y="15"/>
                    </a:lnTo>
                    <a:lnTo>
                      <a:pt x="49" y="13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7" y="6"/>
                    </a:lnTo>
                    <a:lnTo>
                      <a:pt x="45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276520" y="337356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6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1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330520" y="33847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7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5384520" y="339588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0"/>
                    </a:lnTo>
                    <a:lnTo>
                      <a:pt x="45" y="20"/>
                    </a:lnTo>
                    <a:lnTo>
                      <a:pt x="47" y="18"/>
                    </a:lnTo>
                    <a:lnTo>
                      <a:pt x="49" y="17"/>
                    </a:lnTo>
                    <a:lnTo>
                      <a:pt x="50" y="15"/>
                    </a:lnTo>
                    <a:lnTo>
                      <a:pt x="50" y="13"/>
                    </a:lnTo>
                    <a:lnTo>
                      <a:pt x="49" y="12"/>
                    </a:lnTo>
                    <a:lnTo>
                      <a:pt x="47" y="10"/>
                    </a:lnTo>
                    <a:lnTo>
                      <a:pt x="45" y="1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5438520" y="3408480"/>
                <a:ext cx="3960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6" y="0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6" y="21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6" y="13"/>
                    </a:lnTo>
                    <a:lnTo>
                      <a:pt x="45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492520" y="34261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5545080" y="34434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10" y="13"/>
                    </a:lnTo>
                    <a:lnTo>
                      <a:pt x="37" y="23"/>
                    </a:lnTo>
                    <a:lnTo>
                      <a:pt x="42" y="25"/>
                    </a:lnTo>
                    <a:lnTo>
                      <a:pt x="43" y="25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38" y="13"/>
                    </a:lnTo>
                    <a:lnTo>
                      <a:pt x="12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5597280" y="346572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18" y="19"/>
                    </a:lnTo>
                    <a:lnTo>
                      <a:pt x="20" y="14"/>
                    </a:lnTo>
                    <a:lnTo>
                      <a:pt x="17" y="17"/>
                    </a:lnTo>
                    <a:lnTo>
                      <a:pt x="37" y="29"/>
                    </a:lnTo>
                    <a:lnTo>
                      <a:pt x="38" y="29"/>
                    </a:lnTo>
                    <a:lnTo>
                      <a:pt x="40" y="29"/>
                    </a:lnTo>
                    <a:lnTo>
                      <a:pt x="42" y="29"/>
                    </a:lnTo>
                    <a:lnTo>
                      <a:pt x="43" y="27"/>
                    </a:lnTo>
                    <a:lnTo>
                      <a:pt x="45" y="25"/>
                    </a:lnTo>
                    <a:lnTo>
                      <a:pt x="45" y="24"/>
                    </a:lnTo>
                    <a:lnTo>
                      <a:pt x="43" y="22"/>
                    </a:lnTo>
                    <a:lnTo>
                      <a:pt x="42" y="20"/>
                    </a:lnTo>
                    <a:lnTo>
                      <a:pt x="22" y="9"/>
                    </a:lnTo>
                    <a:lnTo>
                      <a:pt x="20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5644800" y="349416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2" y="17"/>
                    </a:lnTo>
                    <a:lnTo>
                      <a:pt x="25" y="29"/>
                    </a:lnTo>
                    <a:lnTo>
                      <a:pt x="28" y="24"/>
                    </a:lnTo>
                    <a:lnTo>
                      <a:pt x="23" y="27"/>
                    </a:lnTo>
                    <a:lnTo>
                      <a:pt x="30" y="34"/>
                    </a:lnTo>
                    <a:lnTo>
                      <a:pt x="32" y="35"/>
                    </a:lnTo>
                    <a:lnTo>
                      <a:pt x="33" y="37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38" y="29"/>
                    </a:lnTo>
                    <a:lnTo>
                      <a:pt x="32" y="22"/>
                    </a:lnTo>
                    <a:lnTo>
                      <a:pt x="30" y="20"/>
                    </a:lnTo>
                    <a:lnTo>
                      <a:pt x="17" y="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5681520" y="3533760"/>
                <a:ext cx="19080" cy="3672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4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6" y="19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13" y="32"/>
                    </a:lnTo>
                    <a:lnTo>
                      <a:pt x="15" y="44"/>
                    </a:lnTo>
                    <a:lnTo>
                      <a:pt x="16" y="45"/>
                    </a:lnTo>
                    <a:lnTo>
                      <a:pt x="18" y="47"/>
                    </a:lnTo>
                    <a:lnTo>
                      <a:pt x="20" y="47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3" y="30"/>
                    </a:lnTo>
                    <a:lnTo>
                      <a:pt x="16" y="15"/>
                    </a:lnTo>
                    <a:lnTo>
                      <a:pt x="15" y="1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5700600" y="35863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32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5700600" y="364176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37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5695920" y="3697560"/>
                <a:ext cx="1080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7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5692680" y="3753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18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20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5692680" y="380700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37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2" y="3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5695920" y="386244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8" y="45"/>
                    </a:lnTo>
                    <a:lnTo>
                      <a:pt x="10" y="47"/>
                    </a:lnTo>
                    <a:lnTo>
                      <a:pt x="12" y="49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7" y="49"/>
                    </a:lnTo>
                    <a:lnTo>
                      <a:pt x="18" y="47"/>
                    </a:lnTo>
                    <a:lnTo>
                      <a:pt x="18" y="45"/>
                    </a:lnTo>
                    <a:lnTo>
                      <a:pt x="18" y="44"/>
                    </a:lnTo>
                    <a:lnTo>
                      <a:pt x="10" y="7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5709960" y="3916440"/>
                <a:ext cx="20880" cy="3816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0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9" y="26"/>
                    </a:lnTo>
                    <a:lnTo>
                      <a:pt x="15" y="41"/>
                    </a:lnTo>
                    <a:lnTo>
                      <a:pt x="17" y="43"/>
                    </a:lnTo>
                    <a:lnTo>
                      <a:pt x="19" y="45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4" y="45"/>
                    </a:lnTo>
                    <a:lnTo>
                      <a:pt x="25" y="43"/>
                    </a:lnTo>
                    <a:lnTo>
                      <a:pt x="25" y="41"/>
                    </a:lnTo>
                    <a:lnTo>
                      <a:pt x="25" y="40"/>
                    </a:lnTo>
                    <a:lnTo>
                      <a:pt x="19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5733720" y="3965760"/>
                <a:ext cx="28800" cy="3492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10" y="4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5" y="29"/>
                    </a:lnTo>
                    <a:lnTo>
                      <a:pt x="25" y="40"/>
                    </a:lnTo>
                    <a:lnTo>
                      <a:pt x="27" y="42"/>
                    </a:lnTo>
                    <a:lnTo>
                      <a:pt x="29" y="44"/>
                    </a:lnTo>
                    <a:lnTo>
                      <a:pt x="30" y="44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9"/>
                    </a:lnTo>
                    <a:lnTo>
                      <a:pt x="35" y="37"/>
                    </a:lnTo>
                    <a:lnTo>
                      <a:pt x="34" y="35"/>
                    </a:lnTo>
                    <a:lnTo>
                      <a:pt x="24" y="2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5770440" y="401004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9" y="4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7" y="17"/>
                    </a:lnTo>
                    <a:lnTo>
                      <a:pt x="9" y="1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4" y="39"/>
                    </a:lnTo>
                    <a:lnTo>
                      <a:pt x="35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7" y="32"/>
                    </a:lnTo>
                    <a:lnTo>
                      <a:pt x="35" y="30"/>
                    </a:lnTo>
                    <a:lnTo>
                      <a:pt x="14" y="10"/>
                    </a:lnTo>
                    <a:lnTo>
                      <a:pt x="12" y="14"/>
                    </a:lnTo>
                    <a:lnTo>
                      <a:pt x="15" y="12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5810040" y="40482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7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5" y="13"/>
                    </a:lnTo>
                    <a:lnTo>
                      <a:pt x="32" y="35"/>
                    </a:lnTo>
                    <a:lnTo>
                      <a:pt x="32" y="36"/>
                    </a:lnTo>
                    <a:lnTo>
                      <a:pt x="34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39" y="30"/>
                    </a:lnTo>
                    <a:lnTo>
                      <a:pt x="37" y="28"/>
                    </a:lnTo>
                    <a:lnTo>
                      <a:pt x="37" y="26"/>
                    </a:lnTo>
                    <a:lnTo>
                      <a:pt x="10" y="5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5851440" y="4083120"/>
                <a:ext cx="3312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6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0" y="28"/>
                    </a:lnTo>
                    <a:lnTo>
                      <a:pt x="38" y="26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5895720" y="4118040"/>
                <a:ext cx="3348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7"/>
                    </a:lnTo>
                    <a:lnTo>
                      <a:pt x="40" y="2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5940360" y="41515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7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5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40" y="33"/>
                    </a:lnTo>
                    <a:lnTo>
                      <a:pt x="42" y="31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6"/>
                    </a:lnTo>
                    <a:lnTo>
                      <a:pt x="40" y="25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5986080" y="4184640"/>
                <a:ext cx="32040" cy="2556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32"/>
                    </a:lnTo>
                    <a:lnTo>
                      <a:pt x="37" y="34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2" y="25"/>
                    </a:lnTo>
                    <a:lnTo>
                      <a:pt x="40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6030720" y="421668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35" y="34"/>
                    </a:lnTo>
                    <a:lnTo>
                      <a:pt x="36" y="34"/>
                    </a:lnTo>
                    <a:lnTo>
                      <a:pt x="38" y="34"/>
                    </a:lnTo>
                    <a:lnTo>
                      <a:pt x="40" y="34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1" y="29"/>
                    </a:lnTo>
                    <a:lnTo>
                      <a:pt x="41" y="27"/>
                    </a:lnTo>
                    <a:lnTo>
                      <a:pt x="40" y="2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6075000" y="4249800"/>
                <a:ext cx="33480" cy="2556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9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9" y="13"/>
                    </a:lnTo>
                    <a:lnTo>
                      <a:pt x="35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14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6121080" y="428148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3" y="18"/>
                    </a:lnTo>
                    <a:lnTo>
                      <a:pt x="33" y="33"/>
                    </a:lnTo>
                    <a:lnTo>
                      <a:pt x="35" y="35"/>
                    </a:lnTo>
                    <a:lnTo>
                      <a:pt x="37" y="35"/>
                    </a:lnTo>
                    <a:lnTo>
                      <a:pt x="38" y="33"/>
                    </a:lnTo>
                    <a:lnTo>
                      <a:pt x="40" y="31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0" y="26"/>
                    </a:lnTo>
                    <a:lnTo>
                      <a:pt x="38" y="25"/>
                    </a:lnTo>
                    <a:lnTo>
                      <a:pt x="18" y="1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6163920" y="431640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7" y="22"/>
                    </a:lnTo>
                    <a:lnTo>
                      <a:pt x="32" y="35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7" y="35"/>
                    </a:lnTo>
                    <a:lnTo>
                      <a:pt x="38" y="33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38" y="28"/>
                    </a:lnTo>
                    <a:lnTo>
                      <a:pt x="37" y="27"/>
                    </a:lnTo>
                    <a:lnTo>
                      <a:pt x="22" y="1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6205320" y="43531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16" y="22"/>
                    </a:lnTo>
                    <a:lnTo>
                      <a:pt x="31" y="37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2"/>
                    </a:lnTo>
                    <a:lnTo>
                      <a:pt x="38" y="30"/>
                    </a:lnTo>
                    <a:lnTo>
                      <a:pt x="36" y="28"/>
                    </a:lnTo>
                    <a:lnTo>
                      <a:pt x="21" y="1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6244920" y="439272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0" y="17"/>
                    </a:lnTo>
                    <a:lnTo>
                      <a:pt x="28" y="37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7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18" y="1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6279840" y="44355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3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3" y="28"/>
                    </a:lnTo>
                    <a:lnTo>
                      <a:pt x="18" y="27"/>
                    </a:lnTo>
                    <a:lnTo>
                      <a:pt x="13" y="27"/>
                    </a:lnTo>
                    <a:lnTo>
                      <a:pt x="20" y="40"/>
                    </a:lnTo>
                    <a:lnTo>
                      <a:pt x="20" y="42"/>
                    </a:lnTo>
                    <a:lnTo>
                      <a:pt x="21" y="43"/>
                    </a:lnTo>
                    <a:lnTo>
                      <a:pt x="23" y="43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0" y="38"/>
                    </a:lnTo>
                    <a:lnTo>
                      <a:pt x="23" y="25"/>
                    </a:lnTo>
                    <a:lnTo>
                      <a:pt x="21" y="2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6303600" y="448488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10" y="5"/>
                    </a:move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5" y="30"/>
                    </a:lnTo>
                    <a:lnTo>
                      <a:pt x="5" y="45"/>
                    </a:lnTo>
                    <a:lnTo>
                      <a:pt x="6" y="46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1" y="50"/>
                    </a:lnTo>
                    <a:lnTo>
                      <a:pt x="13" y="48"/>
                    </a:lnTo>
                    <a:lnTo>
                      <a:pt x="15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5" y="28"/>
                    </a:lnTo>
                    <a:lnTo>
                      <a:pt x="11" y="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6292800" y="4540320"/>
                <a:ext cx="18720" cy="3492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25" y="5"/>
                    </a:moveTo>
                    <a:lnTo>
                      <a:pt x="25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3"/>
                    </a:lnTo>
                    <a:lnTo>
                      <a:pt x="8" y="21"/>
                    </a:lnTo>
                    <a:lnTo>
                      <a:pt x="13" y="23"/>
                    </a:lnTo>
                    <a:lnTo>
                      <a:pt x="10" y="20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8" y="25"/>
                    </a:lnTo>
                    <a:lnTo>
                      <a:pt x="18" y="23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6259320" y="45882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23" y="5"/>
                    </a:lnTo>
                    <a:lnTo>
                      <a:pt x="5" y="30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13" y="35"/>
                    </a:lnTo>
                    <a:lnTo>
                      <a:pt x="32" y="10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6219720" y="4631040"/>
                <a:ext cx="30240" cy="298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7" y="10"/>
                    </a:moveTo>
                    <a:lnTo>
                      <a:pt x="38" y="8"/>
                    </a:lnTo>
                    <a:lnTo>
                      <a:pt x="38" y="7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8" y="25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5"/>
                    </a:lnTo>
                    <a:lnTo>
                      <a:pt x="3" y="37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8" y="37"/>
                    </a:lnTo>
                    <a:lnTo>
                      <a:pt x="13" y="33"/>
                    </a:lnTo>
                    <a:lnTo>
                      <a:pt x="3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6176880" y="46688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8" y="9"/>
                    </a:moveTo>
                    <a:lnTo>
                      <a:pt x="40" y="7"/>
                    </a:lnTo>
                    <a:lnTo>
                      <a:pt x="41" y="5"/>
                    </a:lnTo>
                    <a:lnTo>
                      <a:pt x="41" y="4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3" y="27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3" y="35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8" y="35"/>
                    </a:lnTo>
                    <a:lnTo>
                      <a:pt x="36" y="10"/>
                    </a:lnTo>
                    <a:lnTo>
                      <a:pt x="3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6134040" y="470232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0" y="10"/>
                    </a:moveTo>
                    <a:lnTo>
                      <a:pt x="41" y="8"/>
                    </a:lnTo>
                    <a:lnTo>
                      <a:pt x="41" y="6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1"/>
                    </a:lnTo>
                    <a:lnTo>
                      <a:pt x="21" y="11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3"/>
                    </a:lnTo>
                    <a:lnTo>
                      <a:pt x="3" y="35"/>
                    </a:lnTo>
                    <a:lnTo>
                      <a:pt x="5" y="35"/>
                    </a:lnTo>
                    <a:lnTo>
                      <a:pt x="6" y="33"/>
                    </a:lnTo>
                    <a:lnTo>
                      <a:pt x="26" y="20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6089400" y="473580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40" y="10"/>
                    </a:moveTo>
                    <a:lnTo>
                      <a:pt x="42" y="9"/>
                    </a:lnTo>
                    <a:lnTo>
                      <a:pt x="42" y="7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5" y="22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10" y="30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6041880" y="47674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42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25" y="9"/>
                    </a:lnTo>
                    <a:lnTo>
                      <a:pt x="3" y="22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5" y="32"/>
                    </a:lnTo>
                    <a:lnTo>
                      <a:pt x="7" y="32"/>
                    </a:lnTo>
                    <a:lnTo>
                      <a:pt x="8" y="30"/>
                    </a:lnTo>
                    <a:lnTo>
                      <a:pt x="30" y="17"/>
                    </a:lnTo>
                    <a:lnTo>
                      <a:pt x="4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5994360" y="47977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41" y="10"/>
                    </a:moveTo>
                    <a:lnTo>
                      <a:pt x="43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0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5946480" y="48261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42" y="8"/>
                    </a:moveTo>
                    <a:lnTo>
                      <a:pt x="43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" y="20"/>
                    </a:lnTo>
                    <a:lnTo>
                      <a:pt x="2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8" y="28"/>
                    </a:lnTo>
                    <a:lnTo>
                      <a:pt x="4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5897520" y="48531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44" y="10"/>
                    </a:moveTo>
                    <a:lnTo>
                      <a:pt x="45" y="8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" y="20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4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5848200" y="48783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3" y="9"/>
                    </a:move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10" y="15"/>
                    </a:lnTo>
                    <a:lnTo>
                      <a:pt x="13" y="19"/>
                    </a:lnTo>
                    <a:lnTo>
                      <a:pt x="11" y="14"/>
                    </a:lnTo>
                    <a:lnTo>
                      <a:pt x="3" y="19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5797440" y="490248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5746680" y="492624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4" y="10"/>
                    </a:moveTo>
                    <a:lnTo>
                      <a:pt x="45" y="10"/>
                    </a:lnTo>
                    <a:lnTo>
                      <a:pt x="47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4" y="25"/>
                    </a:lnTo>
                    <a:lnTo>
                      <a:pt x="5" y="27"/>
                    </a:lnTo>
                    <a:lnTo>
                      <a:pt x="7" y="27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5695920" y="49485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10"/>
                    </a:moveTo>
                    <a:lnTo>
                      <a:pt x="43" y="8"/>
                    </a:lnTo>
                    <a:lnTo>
                      <a:pt x="45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28" y="5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0" y="15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5643360" y="4969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9" y="5"/>
                    </a:lnTo>
                    <a:lnTo>
                      <a:pt x="49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12" y="10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14" y="2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5589360" y="498816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5" y="10"/>
                    </a:moveTo>
                    <a:lnTo>
                      <a:pt x="46" y="8"/>
                    </a:lnTo>
                    <a:lnTo>
                      <a:pt x="48" y="7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41" y="10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5535360" y="500220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5" y="10"/>
                    </a:move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5" y="4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7" y="19"/>
                    </a:lnTo>
                    <a:lnTo>
                      <a:pt x="37" y="14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5481360" y="50119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8" h="13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8" y="1"/>
                    </a:lnTo>
                    <a:lnTo>
                      <a:pt x="10" y="3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12" y="13"/>
                    </a:lnTo>
                    <a:lnTo>
                      <a:pt x="40" y="11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5427360" y="50072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41" y="20"/>
                    </a:moveTo>
                    <a:lnTo>
                      <a:pt x="43" y="20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6" y="12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33" y="8"/>
                    </a:lnTo>
                    <a:lnTo>
                      <a:pt x="13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11" y="13"/>
                    </a:lnTo>
                    <a:lnTo>
                      <a:pt x="31" y="18"/>
                    </a:lnTo>
                    <a:lnTo>
                      <a:pt x="4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5384520" y="49705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30" y="40"/>
                    </a:moveTo>
                    <a:lnTo>
                      <a:pt x="32" y="40"/>
                    </a:lnTo>
                    <a:lnTo>
                      <a:pt x="34" y="40"/>
                    </a:lnTo>
                    <a:lnTo>
                      <a:pt x="35" y="40"/>
                    </a:lnTo>
                    <a:lnTo>
                      <a:pt x="37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34" y="30"/>
                    </a:lnTo>
                    <a:lnTo>
                      <a:pt x="20" y="17"/>
                    </a:lnTo>
                    <a:lnTo>
                      <a:pt x="17" y="20"/>
                    </a:lnTo>
                    <a:lnTo>
                      <a:pt x="22" y="19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4" y="24"/>
                    </a:lnTo>
                    <a:lnTo>
                      <a:pt x="15" y="25"/>
                    </a:lnTo>
                    <a:lnTo>
                      <a:pt x="29" y="39"/>
                    </a:lnTo>
                    <a:lnTo>
                      <a:pt x="3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5360760" y="492156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5" y="41"/>
                    </a:moveTo>
                    <a:lnTo>
                      <a:pt x="17" y="43"/>
                    </a:lnTo>
                    <a:lnTo>
                      <a:pt x="19" y="45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4" y="45"/>
                    </a:lnTo>
                    <a:lnTo>
                      <a:pt x="25" y="43"/>
                    </a:lnTo>
                    <a:lnTo>
                      <a:pt x="25" y="41"/>
                    </a:lnTo>
                    <a:lnTo>
                      <a:pt x="25" y="40"/>
                    </a:lnTo>
                    <a:lnTo>
                      <a:pt x="19" y="25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9" y="26"/>
                    </a:lnTo>
                    <a:lnTo>
                      <a:pt x="15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5348160" y="4867560"/>
                <a:ext cx="14040" cy="37800"/>
              </a:xfrm>
              <a:custGeom>
                <a:avLst/>
                <a:gdLst/>
                <a:ahLst/>
                <a:rect l="l" t="t" r="r" b="b"/>
                <a:pathLst>
                  <a:path w="18" h="49">
                    <a:moveTo>
                      <a:pt x="8" y="45"/>
                    </a:moveTo>
                    <a:lnTo>
                      <a:pt x="8" y="47"/>
                    </a:lnTo>
                    <a:lnTo>
                      <a:pt x="10" y="49"/>
                    </a:lnTo>
                    <a:lnTo>
                      <a:pt x="11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8" y="45"/>
                    </a:lnTo>
                    <a:lnTo>
                      <a:pt x="18" y="44"/>
                    </a:lnTo>
                    <a:lnTo>
                      <a:pt x="11" y="17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19"/>
                    </a:lnTo>
                    <a:lnTo>
                      <a:pt x="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5338440" y="481356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5" y="45"/>
                    </a:moveTo>
                    <a:lnTo>
                      <a:pt x="7" y="47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7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3" y="27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28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5332320" y="475776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5" y="45"/>
                    </a:moveTo>
                    <a:lnTo>
                      <a:pt x="5" y="47"/>
                    </a:lnTo>
                    <a:lnTo>
                      <a:pt x="6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1" y="48"/>
                    </a:lnTo>
                    <a:lnTo>
                      <a:pt x="13" y="47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3" y="3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35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5327280" y="47023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5"/>
                    </a:move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3" y="38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0"/>
                    </a:lnTo>
                    <a:lnTo>
                      <a:pt x="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5322600" y="464688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7"/>
                    </a:move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0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2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5319360" y="4591080"/>
                <a:ext cx="972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7"/>
                    </a:move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0"/>
                    </a:lnTo>
                    <a:lnTo>
                      <a:pt x="10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2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5311440" y="453564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5" y="45"/>
                    </a:moveTo>
                    <a:lnTo>
                      <a:pt x="6" y="46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1" y="48"/>
                    </a:lnTo>
                    <a:lnTo>
                      <a:pt x="13" y="48"/>
                    </a:lnTo>
                    <a:lnTo>
                      <a:pt x="15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5" y="41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43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5303520" y="448020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6" h="50">
                    <a:moveTo>
                      <a:pt x="6" y="45"/>
                    </a:moveTo>
                    <a:lnTo>
                      <a:pt x="8" y="46"/>
                    </a:lnTo>
                    <a:lnTo>
                      <a:pt x="10" y="48"/>
                    </a:lnTo>
                    <a:lnTo>
                      <a:pt x="11" y="50"/>
                    </a:lnTo>
                    <a:lnTo>
                      <a:pt x="13" y="50"/>
                    </a:lnTo>
                    <a:lnTo>
                      <a:pt x="15" y="48"/>
                    </a:lnTo>
                    <a:lnTo>
                      <a:pt x="16" y="46"/>
                    </a:lnTo>
                    <a:lnTo>
                      <a:pt x="16" y="45"/>
                    </a:lnTo>
                    <a:lnTo>
                      <a:pt x="16" y="43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5292360" y="4426200"/>
                <a:ext cx="1620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10" y="45"/>
                    </a:moveTo>
                    <a:lnTo>
                      <a:pt x="10" y="47"/>
                    </a:lnTo>
                    <a:lnTo>
                      <a:pt x="11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6" y="49"/>
                    </a:lnTo>
                    <a:lnTo>
                      <a:pt x="18" y="47"/>
                    </a:lnTo>
                    <a:lnTo>
                      <a:pt x="20" y="45"/>
                    </a:lnTo>
                    <a:lnTo>
                      <a:pt x="20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5273640" y="437544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5" y="42"/>
                    </a:moveTo>
                    <a:lnTo>
                      <a:pt x="15" y="44"/>
                    </a:lnTo>
                    <a:lnTo>
                      <a:pt x="17" y="45"/>
                    </a:lnTo>
                    <a:lnTo>
                      <a:pt x="19" y="47"/>
                    </a:lnTo>
                    <a:lnTo>
                      <a:pt x="20" y="47"/>
                    </a:lnTo>
                    <a:lnTo>
                      <a:pt x="22" y="45"/>
                    </a:lnTo>
                    <a:lnTo>
                      <a:pt x="24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4" y="35"/>
                    </a:lnTo>
                    <a:lnTo>
                      <a:pt x="14" y="12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4" y="14"/>
                    </a:lnTo>
                    <a:lnTo>
                      <a:pt x="14" y="37"/>
                    </a:lnTo>
                    <a:lnTo>
                      <a:pt x="1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5241600" y="43293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30" y="27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2" y="32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5200560" y="429120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3" y="35"/>
                    </a:moveTo>
                    <a:lnTo>
                      <a:pt x="35" y="35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5154480" y="42627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37" y="28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28"/>
                    </a:lnTo>
                    <a:lnTo>
                      <a:pt x="44" y="26"/>
                    </a:lnTo>
                    <a:lnTo>
                      <a:pt x="44" y="25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2" y="20"/>
                    </a:lnTo>
                    <a:lnTo>
                      <a:pt x="37" y="16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2" y="25"/>
                    </a:lnTo>
                    <a:lnTo>
                      <a:pt x="3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5103720" y="424044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25"/>
                    </a:moveTo>
                    <a:lnTo>
                      <a:pt x="44" y="25"/>
                    </a:lnTo>
                    <a:lnTo>
                      <a:pt x="45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4" y="15"/>
                    </a:lnTo>
                    <a:lnTo>
                      <a:pt x="15" y="4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14" y="14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5051160" y="42213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2">
                    <a:moveTo>
                      <a:pt x="42" y="22"/>
                    </a:moveTo>
                    <a:lnTo>
                      <a:pt x="44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2"/>
                    </a:lnTo>
                    <a:lnTo>
                      <a:pt x="35" y="1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34" y="20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4998960" y="42022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1" y="23"/>
                    </a:moveTo>
                    <a:lnTo>
                      <a:pt x="43" y="23"/>
                    </a:lnTo>
                    <a:lnTo>
                      <a:pt x="45" y="21"/>
                    </a:lnTo>
                    <a:lnTo>
                      <a:pt x="46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6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8" y="11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4946400" y="41864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2" y="22"/>
                    </a:moveTo>
                    <a:lnTo>
                      <a:pt x="43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2"/>
                    </a:lnTo>
                    <a:lnTo>
                      <a:pt x="32" y="8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30" y="18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4894200" y="41641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25"/>
                    </a:moveTo>
                    <a:lnTo>
                      <a:pt x="43" y="25"/>
                    </a:lnTo>
                    <a:lnTo>
                      <a:pt x="45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10" y="2"/>
                    </a:lnTo>
                    <a:lnTo>
                      <a:pt x="10" y="7"/>
                    </a:lnTo>
                    <a:lnTo>
                      <a:pt x="12" y="4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4846320" y="4137120"/>
                <a:ext cx="34920" cy="255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7" y="30"/>
                    </a:moveTo>
                    <a:lnTo>
                      <a:pt x="38" y="32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3" y="29"/>
                    </a:lnTo>
                    <a:lnTo>
                      <a:pt x="43" y="27"/>
                    </a:lnTo>
                    <a:lnTo>
                      <a:pt x="43" y="25"/>
                    </a:lnTo>
                    <a:lnTo>
                      <a:pt x="43" y="24"/>
                    </a:lnTo>
                    <a:lnTo>
                      <a:pt x="42" y="22"/>
                    </a:lnTo>
                    <a:lnTo>
                      <a:pt x="33" y="19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28" y="27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4805280" y="4098960"/>
                <a:ext cx="2988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30" y="38"/>
                    </a:moveTo>
                    <a:lnTo>
                      <a:pt x="32" y="38"/>
                    </a:lnTo>
                    <a:lnTo>
                      <a:pt x="34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9" y="35"/>
                    </a:lnTo>
                    <a:lnTo>
                      <a:pt x="39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0" y="16"/>
                    </a:lnTo>
                    <a:lnTo>
                      <a:pt x="19" y="21"/>
                    </a:lnTo>
                    <a:lnTo>
                      <a:pt x="22" y="18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4" y="23"/>
                    </a:lnTo>
                    <a:lnTo>
                      <a:pt x="15" y="25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13" name=""/>
            <p:cNvSpPr/>
            <p:nvPr/>
          </p:nvSpPr>
          <p:spPr>
            <a:xfrm>
              <a:off x="5240160" y="3768840"/>
              <a:ext cx="42372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335720" y="3392640"/>
              <a:ext cx="33012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15" name=""/>
            <p:cNvGrpSpPr/>
            <p:nvPr/>
          </p:nvGrpSpPr>
          <p:grpSpPr>
            <a:xfrm>
              <a:off x="4870080" y="3775320"/>
              <a:ext cx="401760" cy="866520"/>
              <a:chOff x="4870080" y="3775320"/>
              <a:chExt cx="401760" cy="866520"/>
            </a:xfrm>
          </p:grpSpPr>
          <p:sp>
            <p:nvSpPr>
              <p:cNvPr id="3516" name=""/>
              <p:cNvSpPr/>
              <p:nvPr/>
            </p:nvSpPr>
            <p:spPr>
              <a:xfrm>
                <a:off x="4870080" y="445788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4976640" y="421812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5082840" y="398016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5189400" y="3775320"/>
                <a:ext cx="8244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20" name=""/>
            <p:cNvGrpSpPr/>
            <p:nvPr/>
          </p:nvGrpSpPr>
          <p:grpSpPr>
            <a:xfrm>
              <a:off x="6402240" y="3392640"/>
              <a:ext cx="941400" cy="303120"/>
              <a:chOff x="6402240" y="3392640"/>
              <a:chExt cx="941400" cy="303120"/>
            </a:xfrm>
          </p:grpSpPr>
          <p:sp>
            <p:nvSpPr>
              <p:cNvPr id="3521" name=""/>
              <p:cNvSpPr/>
              <p:nvPr/>
            </p:nvSpPr>
            <p:spPr>
              <a:xfrm>
                <a:off x="6402240" y="3618000"/>
                <a:ext cx="18720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6653160" y="3543480"/>
                <a:ext cx="1886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6903720" y="346716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7153200" y="339264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25" name=""/>
            <p:cNvGrpSpPr/>
            <p:nvPr/>
          </p:nvGrpSpPr>
          <p:grpSpPr>
            <a:xfrm>
              <a:off x="6586200" y="2725920"/>
              <a:ext cx="685800" cy="871560"/>
              <a:chOff x="6586200" y="2725920"/>
              <a:chExt cx="685800" cy="871560"/>
            </a:xfrm>
          </p:grpSpPr>
          <p:sp>
            <p:nvSpPr>
              <p:cNvPr id="3526" name=""/>
              <p:cNvSpPr/>
              <p:nvPr/>
            </p:nvSpPr>
            <p:spPr>
              <a:xfrm>
                <a:off x="6586200" y="343224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6748200" y="322596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6906960" y="3017880"/>
                <a:ext cx="13644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7068960" y="281160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7229160" y="27259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1" name=""/>
            <p:cNvGrpSpPr/>
            <p:nvPr/>
          </p:nvGrpSpPr>
          <p:grpSpPr>
            <a:xfrm>
              <a:off x="5744880" y="4606920"/>
              <a:ext cx="195480" cy="698760"/>
              <a:chOff x="5744880" y="4606920"/>
              <a:chExt cx="195480" cy="698760"/>
            </a:xfrm>
          </p:grpSpPr>
          <p:sp>
            <p:nvSpPr>
              <p:cNvPr id="3532" name=""/>
              <p:cNvSpPr/>
              <p:nvPr/>
            </p:nvSpPr>
            <p:spPr>
              <a:xfrm>
                <a:off x="5871960" y="5115240"/>
                <a:ext cx="6840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5808600" y="486108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5744880" y="460692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5" name=""/>
            <p:cNvGrpSpPr/>
            <p:nvPr/>
          </p:nvGrpSpPr>
          <p:grpSpPr>
            <a:xfrm>
              <a:off x="7632360" y="3870360"/>
              <a:ext cx="401760" cy="866880"/>
              <a:chOff x="7632360" y="3870360"/>
              <a:chExt cx="401760" cy="866880"/>
            </a:xfrm>
          </p:grpSpPr>
          <p:sp>
            <p:nvSpPr>
              <p:cNvPr id="3536" name=""/>
              <p:cNvSpPr/>
              <p:nvPr/>
            </p:nvSpPr>
            <p:spPr>
              <a:xfrm>
                <a:off x="7632360" y="4552920"/>
                <a:ext cx="9864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7738920" y="431352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7845120" y="407520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7951680" y="387036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0" name=""/>
            <p:cNvGrpSpPr/>
            <p:nvPr/>
          </p:nvGrpSpPr>
          <p:grpSpPr>
            <a:xfrm>
              <a:off x="6870600" y="3394080"/>
              <a:ext cx="401400" cy="866880"/>
              <a:chOff x="6870600" y="3394080"/>
              <a:chExt cx="401400" cy="866880"/>
            </a:xfrm>
          </p:grpSpPr>
          <p:sp>
            <p:nvSpPr>
              <p:cNvPr id="3541" name=""/>
              <p:cNvSpPr/>
              <p:nvPr/>
            </p:nvSpPr>
            <p:spPr>
              <a:xfrm>
                <a:off x="6870600" y="407700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6976800" y="38372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7083360" y="359892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7189560" y="339408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5" name=""/>
            <p:cNvGrpSpPr/>
            <p:nvPr/>
          </p:nvGrpSpPr>
          <p:grpSpPr>
            <a:xfrm>
              <a:off x="5730840" y="3703680"/>
              <a:ext cx="658800" cy="750960"/>
              <a:chOff x="5730840" y="3703680"/>
              <a:chExt cx="658800" cy="750960"/>
            </a:xfrm>
          </p:grpSpPr>
          <p:sp>
            <p:nvSpPr>
              <p:cNvPr id="3546" name=""/>
              <p:cNvSpPr/>
              <p:nvPr/>
            </p:nvSpPr>
            <p:spPr>
              <a:xfrm>
                <a:off x="5730840" y="429588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5902200" y="409896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6073560" y="39006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6248160" y="370368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50" name=""/>
            <p:cNvGrpSpPr/>
            <p:nvPr/>
          </p:nvGrpSpPr>
          <p:grpSpPr>
            <a:xfrm>
              <a:off x="5254560" y="3009960"/>
              <a:ext cx="588960" cy="682560"/>
              <a:chOff x="5254560" y="3009960"/>
              <a:chExt cx="588960" cy="682560"/>
            </a:xfrm>
          </p:grpSpPr>
          <p:sp>
            <p:nvSpPr>
              <p:cNvPr id="3551" name=""/>
              <p:cNvSpPr/>
              <p:nvPr/>
            </p:nvSpPr>
            <p:spPr>
              <a:xfrm>
                <a:off x="5254560" y="353232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5422680" y="333216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5594040" y="3133800"/>
                <a:ext cx="14148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5763960" y="3009960"/>
                <a:ext cx="7956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55" name=""/>
            <p:cNvGrpSpPr/>
            <p:nvPr/>
          </p:nvGrpSpPr>
          <p:grpSpPr>
            <a:xfrm>
              <a:off x="6114960" y="4626000"/>
              <a:ext cx="1533240" cy="687600"/>
              <a:chOff x="6114960" y="4626000"/>
              <a:chExt cx="1533240" cy="687600"/>
            </a:xfrm>
          </p:grpSpPr>
          <p:sp>
            <p:nvSpPr>
              <p:cNvPr id="3556" name=""/>
              <p:cNvSpPr/>
              <p:nvPr/>
            </p:nvSpPr>
            <p:spPr>
              <a:xfrm>
                <a:off x="6114960" y="521676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6354720" y="5112000"/>
                <a:ext cx="18396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6594120" y="500724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6835680" y="490068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7073640" y="479772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7313400" y="4691160"/>
                <a:ext cx="1843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7554600" y="462600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63" name=""/>
            <p:cNvSpPr/>
            <p:nvPr/>
          </p:nvSpPr>
          <p:spPr>
            <a:xfrm>
              <a:off x="6095880" y="439128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6242760" y="4426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65" name=""/>
            <p:cNvGrpSpPr/>
            <p:nvPr/>
          </p:nvGrpSpPr>
          <p:grpSpPr>
            <a:xfrm>
              <a:off x="4400280" y="4346640"/>
              <a:ext cx="865080" cy="579600"/>
              <a:chOff x="4400280" y="4346640"/>
              <a:chExt cx="865080" cy="579600"/>
            </a:xfrm>
          </p:grpSpPr>
          <p:sp>
            <p:nvSpPr>
              <p:cNvPr id="3566" name=""/>
              <p:cNvSpPr/>
              <p:nvPr/>
            </p:nvSpPr>
            <p:spPr>
              <a:xfrm>
                <a:off x="4797360" y="4346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4741560" y="434988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4687560" y="43578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4635360" y="43689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4582800" y="43862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4533840" y="44103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4489200" y="444024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4451040" y="447516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4422600" y="45180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4404960" y="4567320"/>
                <a:ext cx="1620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4400280" y="46231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4406760" y="467676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4425840" y="472932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4457520" y="47736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4497120" y="48135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4541760" y="48452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4592520" y="487044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4644720" y="48895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4697280" y="490392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4752720" y="49136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4808160" y="491652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4863960" y="49150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4917960" y="49071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4973400" y="489276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5025960" y="48754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5078160" y="485172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5125680" y="48214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5170320" y="4781520"/>
                <a:ext cx="3024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5208480" y="47386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5238720" y="4687920"/>
                <a:ext cx="1872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5256000" y="463392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5249520" y="457848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5227560" y="452772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5194080" y="448308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5152680" y="444672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5106960" y="44164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5057640" y="439128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5005080" y="4372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4951080" y="435960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4897080" y="43513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4841640" y="4346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07" name=""/>
            <p:cNvGrpSpPr/>
            <p:nvPr/>
          </p:nvGrpSpPr>
          <p:grpSpPr>
            <a:xfrm>
              <a:off x="5400360" y="2727360"/>
              <a:ext cx="865440" cy="579600"/>
              <a:chOff x="5400360" y="2727360"/>
              <a:chExt cx="865440" cy="579600"/>
            </a:xfrm>
          </p:grpSpPr>
          <p:sp>
            <p:nvSpPr>
              <p:cNvPr id="3608" name=""/>
              <p:cNvSpPr/>
              <p:nvPr/>
            </p:nvSpPr>
            <p:spPr>
              <a:xfrm>
                <a:off x="5797440" y="2727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5741640" y="27306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5687640" y="273852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5635440" y="27496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5582880" y="276732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5533920" y="27910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5489280" y="2820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5451120" y="2856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5422680" y="28990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5405400" y="294804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5400360" y="3003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5406840" y="305784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5425920" y="31100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5457600" y="3154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5497200" y="3194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5541840" y="3225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5592600" y="3251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5644800" y="327024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5697360" y="32846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5752800" y="329436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5808600" y="3297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5864040" y="32958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5918040" y="3287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5973480" y="32734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6026040" y="3256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6078240" y="323244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6126120" y="32022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6170400" y="3162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6208560" y="31197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6238800" y="30686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6256080" y="301464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6249960" y="29592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6227640" y="290844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6194160" y="28641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6153120" y="282744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6107040" y="27972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6057720" y="27720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6005160" y="2752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5951160" y="274032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5897520" y="2732400"/>
                <a:ext cx="3780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5841720" y="2727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49" name=""/>
            <p:cNvGrpSpPr/>
            <p:nvPr/>
          </p:nvGrpSpPr>
          <p:grpSpPr>
            <a:xfrm>
              <a:off x="6932520" y="2401920"/>
              <a:ext cx="865080" cy="579600"/>
              <a:chOff x="6932520" y="2401920"/>
              <a:chExt cx="865080" cy="579600"/>
            </a:xfrm>
          </p:grpSpPr>
          <p:sp>
            <p:nvSpPr>
              <p:cNvPr id="3650" name=""/>
              <p:cNvSpPr/>
              <p:nvPr/>
            </p:nvSpPr>
            <p:spPr>
              <a:xfrm>
                <a:off x="7329240" y="24019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7273800" y="24051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7219800" y="241308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7167240" y="24242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7115040" y="244188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7065720" y="24656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7021440" y="24955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6983280" y="25308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6954480" y="257364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6937200" y="262260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6932520" y="26784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6938640" y="273240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6957720" y="27846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6989400" y="2829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7029360" y="28688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7073640" y="2900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7124400" y="29260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7176960" y="294480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7229160" y="295920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7284960" y="296892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7340400" y="2971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7395840" y="297036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7449840" y="29624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7505640" y="294804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7557840" y="29307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7610400" y="290700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7657920" y="28767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7702200" y="28371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7740360" y="27943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7770600" y="274320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7788240" y="268920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7781760" y="263376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7759440" y="258300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7726320" y="253872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7684920" y="25020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7638840" y="24717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7589520" y="24465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7537320" y="24274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7483320" y="24148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7429320" y="240696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7373880" y="24019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91" name=""/>
            <p:cNvGrpSpPr/>
            <p:nvPr/>
          </p:nvGrpSpPr>
          <p:grpSpPr>
            <a:xfrm>
              <a:off x="6019560" y="3394080"/>
              <a:ext cx="865080" cy="579600"/>
              <a:chOff x="6019560" y="3394080"/>
              <a:chExt cx="865080" cy="579600"/>
            </a:xfrm>
          </p:grpSpPr>
          <p:sp>
            <p:nvSpPr>
              <p:cNvPr id="3692" name=""/>
              <p:cNvSpPr/>
              <p:nvPr/>
            </p:nvSpPr>
            <p:spPr>
              <a:xfrm>
                <a:off x="6416640" y="3394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6360840" y="33973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6306840" y="340524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6254640" y="341640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6202080" y="34340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6153120" y="34578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6108480" y="348804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6070320" y="35229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6041880" y="35658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6024240" y="361476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6019560" y="36705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6026040" y="372456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6045120" y="37767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6076800" y="3821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6116400" y="38610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6161040" y="38926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6211800" y="39182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6264000" y="39373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6316560" y="395136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6372000" y="39610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6427440" y="39639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6483240" y="3962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6537240" y="395460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6592680" y="39402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6645240" y="392292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6697440" y="38991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6744960" y="38689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6789600" y="38293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6827760" y="37864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6857640" y="37353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6875280" y="368172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6868800" y="362592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6846840" y="357516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6813360" y="353088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6771960" y="349416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6725880" y="3463920"/>
                <a:ext cx="36720" cy="241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6676920" y="34387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6624360" y="3419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6570360" y="340704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6516360" y="339912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6460920" y="3394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33" name=""/>
            <p:cNvGrpSpPr/>
            <p:nvPr/>
          </p:nvGrpSpPr>
          <p:grpSpPr>
            <a:xfrm>
              <a:off x="6305400" y="4060800"/>
              <a:ext cx="865080" cy="579600"/>
              <a:chOff x="6305400" y="4060800"/>
              <a:chExt cx="865080" cy="579600"/>
            </a:xfrm>
          </p:grpSpPr>
          <p:sp>
            <p:nvSpPr>
              <p:cNvPr id="3734" name=""/>
              <p:cNvSpPr/>
              <p:nvPr/>
            </p:nvSpPr>
            <p:spPr>
              <a:xfrm>
                <a:off x="6702120" y="406080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6646680" y="40640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6592680" y="407196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6540120" y="408312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6487920" y="410076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6438600" y="4124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6394320" y="41547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6356160" y="4189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6327720" y="423252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6310080" y="428148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6305400" y="43372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6311520" y="439128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6330600" y="444348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6362640" y="4488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6402240" y="45277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6446520" y="45594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6497280" y="45849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6549840" y="460404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6602040" y="461808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6657840" y="4627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6713280" y="46310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6768720" y="462924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6822720" y="462132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6878520" y="460692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6930720" y="4589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6983280" y="456588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7030800" y="453564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7075440" y="449604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7113240" y="445320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7143480" y="440244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7161120" y="434844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7154640" y="4292640"/>
                <a:ext cx="1440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7132320" y="424188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7099200" y="41976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057800" y="416088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011720" y="41310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6962400" y="410544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6910200" y="4086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6856200" y="4073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6802200" y="406584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6746760" y="4060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5" name=""/>
            <p:cNvGrpSpPr/>
            <p:nvPr/>
          </p:nvGrpSpPr>
          <p:grpSpPr>
            <a:xfrm>
              <a:off x="7734240" y="3584880"/>
              <a:ext cx="865080" cy="579240"/>
              <a:chOff x="7734240" y="3584880"/>
              <a:chExt cx="865080" cy="579240"/>
            </a:xfrm>
          </p:grpSpPr>
          <p:sp>
            <p:nvSpPr>
              <p:cNvPr id="3776" name=""/>
              <p:cNvSpPr/>
              <p:nvPr/>
            </p:nvSpPr>
            <p:spPr>
              <a:xfrm>
                <a:off x="8130960" y="35848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8075520" y="35877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8021520" y="359568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7968960" y="36068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7916760" y="36244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7867440" y="36482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7823160" y="36784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7785000" y="3713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7756200" y="375624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7738920" y="38055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7734240" y="3861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7740360" y="39150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7759440" y="39672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7791120" y="40118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7831080" y="40514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7875360" y="40831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7926120" y="4108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7978680" y="41277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8030880" y="414180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8086680" y="41515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8142120" y="41547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8197560" y="4152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8251560" y="414504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8307360" y="413100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8359560" y="4113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8412120" y="408960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8459640" y="40593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8503920" y="4019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8542080" y="3976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8572320" y="392616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8589600" y="387216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8583480" y="381636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8561160" y="376560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8527680" y="372132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8486640" y="36846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8440560" y="3654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8391240" y="36291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8339040" y="3610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8285040" y="359748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8231040" y="35895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8175600" y="35848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17" name=""/>
            <p:cNvGrpSpPr/>
            <p:nvPr/>
          </p:nvGrpSpPr>
          <p:grpSpPr>
            <a:xfrm>
              <a:off x="5622840" y="5005440"/>
              <a:ext cx="865080" cy="579600"/>
              <a:chOff x="5622840" y="5005440"/>
              <a:chExt cx="865080" cy="579600"/>
            </a:xfrm>
          </p:grpSpPr>
          <p:sp>
            <p:nvSpPr>
              <p:cNvPr id="3818" name=""/>
              <p:cNvSpPr/>
              <p:nvPr/>
            </p:nvSpPr>
            <p:spPr>
              <a:xfrm>
                <a:off x="6019560" y="50054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5964120" y="50086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5910120" y="50166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5857560" y="502776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5805360" y="504540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5756040" y="506916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5711760" y="50990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5673600" y="513396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5644800" y="51771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5627520" y="522612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5622840" y="52819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5628960" y="533556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5648040" y="538812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5679720" y="543240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5719680" y="54723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5763960" y="55040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5814720" y="5529240"/>
                <a:ext cx="3672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5867280" y="55483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5919480" y="55627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5975280" y="55724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6030720" y="55753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6086160" y="557388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6140160" y="55659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6195960" y="555156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6248160" y="55342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6300720" y="551052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6348240" y="54802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6392520" y="544068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6430680" y="53974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6460920" y="534672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6478560" y="529272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6472080" y="523728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6449760" y="518652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6416640" y="514224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6375240" y="510552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6329160" y="50752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6279840" y="50500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6227640" y="50310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6173640" y="501840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6119640" y="50101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6064200" y="50054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59" name=""/>
            <p:cNvSpPr/>
            <p:nvPr/>
          </p:nvSpPr>
          <p:spPr>
            <a:xfrm>
              <a:off x="7643520" y="490716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7790760" y="4942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5833800" y="30578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5949000" y="3092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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4881240" y="469296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4996800" y="4727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7357680" y="273240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7473240" y="2767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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6508440" y="37166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6655680" y="3751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6690960" y="444672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6838200" y="4481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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6119640" y="53438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6234840" y="5378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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8310240" y="387540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8425800" y="3910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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4365720" y="518004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 Narrow"/>
                </a:rPr>
                <a:t>SF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76" name=""/>
            <p:cNvGrpSpPr/>
            <p:nvPr/>
          </p:nvGrpSpPr>
          <p:grpSpPr>
            <a:xfrm>
              <a:off x="4937040" y="3503880"/>
              <a:ext cx="609480" cy="457200"/>
              <a:chOff x="4937040" y="3503880"/>
              <a:chExt cx="609480" cy="457200"/>
            </a:xfrm>
          </p:grpSpPr>
          <p:sp>
            <p:nvSpPr>
              <p:cNvPr id="3877" name=""/>
              <p:cNvSpPr/>
              <p:nvPr/>
            </p:nvSpPr>
            <p:spPr>
              <a:xfrm>
                <a:off x="4961520" y="37490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78" name=""/>
              <p:cNvGrpSpPr/>
              <p:nvPr/>
            </p:nvGrpSpPr>
            <p:grpSpPr>
              <a:xfrm>
                <a:off x="4937040" y="3503880"/>
                <a:ext cx="609480" cy="457200"/>
                <a:chOff x="4937040" y="3503880"/>
                <a:chExt cx="609480" cy="457200"/>
              </a:xfrm>
            </p:grpSpPr>
            <p:sp>
              <p:nvSpPr>
                <p:cNvPr id="3879" name=""/>
                <p:cNvSpPr/>
                <p:nvPr/>
              </p:nvSpPr>
              <p:spPr>
                <a:xfrm>
                  <a:off x="5145120" y="3557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0" name=""/>
                <p:cNvSpPr/>
                <p:nvPr/>
              </p:nvSpPr>
              <p:spPr>
                <a:xfrm>
                  <a:off x="5145120" y="36111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1" name=""/>
                <p:cNvSpPr/>
                <p:nvPr/>
              </p:nvSpPr>
              <p:spPr>
                <a:xfrm>
                  <a:off x="5145120" y="3826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2" name=""/>
                <p:cNvSpPr/>
                <p:nvPr/>
              </p:nvSpPr>
              <p:spPr>
                <a:xfrm>
                  <a:off x="5145120" y="3880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3" name=""/>
                <p:cNvSpPr/>
                <p:nvPr/>
              </p:nvSpPr>
              <p:spPr>
                <a:xfrm>
                  <a:off x="4944600" y="36921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4" name=""/>
                <p:cNvSpPr/>
                <p:nvPr/>
              </p:nvSpPr>
              <p:spPr>
                <a:xfrm>
                  <a:off x="5178600" y="3503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5" name=""/>
                <p:cNvSpPr/>
                <p:nvPr/>
              </p:nvSpPr>
              <p:spPr>
                <a:xfrm>
                  <a:off x="5178600" y="37728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6" name=""/>
                <p:cNvSpPr/>
                <p:nvPr/>
              </p:nvSpPr>
              <p:spPr>
                <a:xfrm>
                  <a:off x="4978080" y="36111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7" name=""/>
                <p:cNvSpPr/>
                <p:nvPr/>
              </p:nvSpPr>
              <p:spPr>
                <a:xfrm flipV="1">
                  <a:off x="4978080" y="37728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8" name=""/>
                <p:cNvSpPr/>
                <p:nvPr/>
              </p:nvSpPr>
              <p:spPr>
                <a:xfrm flipH="1">
                  <a:off x="4937040" y="37011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89" name=""/>
            <p:cNvGrpSpPr/>
            <p:nvPr/>
          </p:nvGrpSpPr>
          <p:grpSpPr>
            <a:xfrm>
              <a:off x="5470200" y="4341960"/>
              <a:ext cx="609840" cy="457200"/>
              <a:chOff x="5470200" y="4341960"/>
              <a:chExt cx="609840" cy="457200"/>
            </a:xfrm>
          </p:grpSpPr>
          <p:sp>
            <p:nvSpPr>
              <p:cNvPr id="3890" name=""/>
              <p:cNvSpPr/>
              <p:nvPr/>
            </p:nvSpPr>
            <p:spPr>
              <a:xfrm>
                <a:off x="5494680" y="458712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91" name=""/>
              <p:cNvGrpSpPr/>
              <p:nvPr/>
            </p:nvGrpSpPr>
            <p:grpSpPr>
              <a:xfrm>
                <a:off x="5470200" y="4341960"/>
                <a:ext cx="609840" cy="457200"/>
                <a:chOff x="5470200" y="4341960"/>
                <a:chExt cx="609840" cy="457200"/>
              </a:xfrm>
            </p:grpSpPr>
            <p:sp>
              <p:nvSpPr>
                <p:cNvPr id="3892" name=""/>
                <p:cNvSpPr/>
                <p:nvPr/>
              </p:nvSpPr>
              <p:spPr>
                <a:xfrm>
                  <a:off x="5678640" y="43956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3" name=""/>
                <p:cNvSpPr/>
                <p:nvPr/>
              </p:nvSpPr>
              <p:spPr>
                <a:xfrm>
                  <a:off x="5678640" y="44492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4" name=""/>
                <p:cNvSpPr/>
                <p:nvPr/>
              </p:nvSpPr>
              <p:spPr>
                <a:xfrm>
                  <a:off x="5678640" y="46648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5" name=""/>
                <p:cNvSpPr/>
                <p:nvPr/>
              </p:nvSpPr>
              <p:spPr>
                <a:xfrm>
                  <a:off x="5678640" y="4718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6" name=""/>
                <p:cNvSpPr/>
                <p:nvPr/>
              </p:nvSpPr>
              <p:spPr>
                <a:xfrm>
                  <a:off x="5477760" y="453024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7" name=""/>
                <p:cNvSpPr/>
                <p:nvPr/>
              </p:nvSpPr>
              <p:spPr>
                <a:xfrm>
                  <a:off x="5711760" y="43419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8" name=""/>
                <p:cNvSpPr/>
                <p:nvPr/>
              </p:nvSpPr>
              <p:spPr>
                <a:xfrm>
                  <a:off x="5711760" y="4610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9" name=""/>
                <p:cNvSpPr/>
                <p:nvPr/>
              </p:nvSpPr>
              <p:spPr>
                <a:xfrm>
                  <a:off x="5511240" y="4449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0" name=""/>
                <p:cNvSpPr/>
                <p:nvPr/>
              </p:nvSpPr>
              <p:spPr>
                <a:xfrm flipV="1">
                  <a:off x="5511240" y="46108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1" name=""/>
                <p:cNvSpPr/>
                <p:nvPr/>
              </p:nvSpPr>
              <p:spPr>
                <a:xfrm flipH="1">
                  <a:off x="5470200" y="453924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02" name=""/>
            <p:cNvGrpSpPr/>
            <p:nvPr/>
          </p:nvGrpSpPr>
          <p:grpSpPr>
            <a:xfrm>
              <a:off x="7070400" y="3122640"/>
              <a:ext cx="609840" cy="457200"/>
              <a:chOff x="7070400" y="3122640"/>
              <a:chExt cx="609840" cy="457200"/>
            </a:xfrm>
          </p:grpSpPr>
          <p:sp>
            <p:nvSpPr>
              <p:cNvPr id="3903" name=""/>
              <p:cNvSpPr/>
              <p:nvPr/>
            </p:nvSpPr>
            <p:spPr>
              <a:xfrm>
                <a:off x="7094880" y="336780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04" name=""/>
              <p:cNvGrpSpPr/>
              <p:nvPr/>
            </p:nvGrpSpPr>
            <p:grpSpPr>
              <a:xfrm>
                <a:off x="7070400" y="3122640"/>
                <a:ext cx="609840" cy="457200"/>
                <a:chOff x="7070400" y="3122640"/>
                <a:chExt cx="609840" cy="457200"/>
              </a:xfrm>
            </p:grpSpPr>
            <p:sp>
              <p:nvSpPr>
                <p:cNvPr id="3905" name=""/>
                <p:cNvSpPr/>
                <p:nvPr/>
              </p:nvSpPr>
              <p:spPr>
                <a:xfrm>
                  <a:off x="7278840" y="3176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6" name=""/>
                <p:cNvSpPr/>
                <p:nvPr/>
              </p:nvSpPr>
              <p:spPr>
                <a:xfrm>
                  <a:off x="7278840" y="3229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7" name=""/>
                <p:cNvSpPr/>
                <p:nvPr/>
              </p:nvSpPr>
              <p:spPr>
                <a:xfrm>
                  <a:off x="7278840" y="3445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8" name=""/>
                <p:cNvSpPr/>
                <p:nvPr/>
              </p:nvSpPr>
              <p:spPr>
                <a:xfrm>
                  <a:off x="7278840" y="3499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9" name=""/>
                <p:cNvSpPr/>
                <p:nvPr/>
              </p:nvSpPr>
              <p:spPr>
                <a:xfrm>
                  <a:off x="7077960" y="331092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0" name=""/>
                <p:cNvSpPr/>
                <p:nvPr/>
              </p:nvSpPr>
              <p:spPr>
                <a:xfrm>
                  <a:off x="7311960" y="31226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1" name=""/>
                <p:cNvSpPr/>
                <p:nvPr/>
              </p:nvSpPr>
              <p:spPr>
                <a:xfrm>
                  <a:off x="7311960" y="33915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2" name=""/>
                <p:cNvSpPr/>
                <p:nvPr/>
              </p:nvSpPr>
              <p:spPr>
                <a:xfrm>
                  <a:off x="7111440" y="32299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3" name=""/>
                <p:cNvSpPr/>
                <p:nvPr/>
              </p:nvSpPr>
              <p:spPr>
                <a:xfrm flipV="1">
                  <a:off x="7111440" y="33915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4" name=""/>
                <p:cNvSpPr/>
                <p:nvPr/>
              </p:nvSpPr>
              <p:spPr>
                <a:xfrm flipH="1">
                  <a:off x="7070400" y="33199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15" name=""/>
            <p:cNvGrpSpPr/>
            <p:nvPr/>
          </p:nvGrpSpPr>
          <p:grpSpPr>
            <a:xfrm>
              <a:off x="7375320" y="4418280"/>
              <a:ext cx="609480" cy="457200"/>
              <a:chOff x="7375320" y="4418280"/>
              <a:chExt cx="609480" cy="457200"/>
            </a:xfrm>
          </p:grpSpPr>
          <p:sp>
            <p:nvSpPr>
              <p:cNvPr id="3916" name=""/>
              <p:cNvSpPr/>
              <p:nvPr/>
            </p:nvSpPr>
            <p:spPr>
              <a:xfrm>
                <a:off x="7399800" y="46634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17" name=""/>
              <p:cNvGrpSpPr/>
              <p:nvPr/>
            </p:nvGrpSpPr>
            <p:grpSpPr>
              <a:xfrm>
                <a:off x="7375320" y="4418280"/>
                <a:ext cx="609480" cy="457200"/>
                <a:chOff x="7375320" y="4418280"/>
                <a:chExt cx="609480" cy="457200"/>
              </a:xfrm>
            </p:grpSpPr>
            <p:sp>
              <p:nvSpPr>
                <p:cNvPr id="3918" name=""/>
                <p:cNvSpPr/>
                <p:nvPr/>
              </p:nvSpPr>
              <p:spPr>
                <a:xfrm>
                  <a:off x="7583400" y="4471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9" name=""/>
                <p:cNvSpPr/>
                <p:nvPr/>
              </p:nvSpPr>
              <p:spPr>
                <a:xfrm>
                  <a:off x="7583400" y="4525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0" name=""/>
                <p:cNvSpPr/>
                <p:nvPr/>
              </p:nvSpPr>
              <p:spPr>
                <a:xfrm>
                  <a:off x="7583400" y="4741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1" name=""/>
                <p:cNvSpPr/>
                <p:nvPr/>
              </p:nvSpPr>
              <p:spPr>
                <a:xfrm>
                  <a:off x="7583400" y="47948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2" name=""/>
                <p:cNvSpPr/>
                <p:nvPr/>
              </p:nvSpPr>
              <p:spPr>
                <a:xfrm>
                  <a:off x="7382880" y="46065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3" name=""/>
                <p:cNvSpPr/>
                <p:nvPr/>
              </p:nvSpPr>
              <p:spPr>
                <a:xfrm>
                  <a:off x="7616880" y="44182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4" name=""/>
                <p:cNvSpPr/>
                <p:nvPr/>
              </p:nvSpPr>
              <p:spPr>
                <a:xfrm>
                  <a:off x="7616880" y="46872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5" name=""/>
                <p:cNvSpPr/>
                <p:nvPr/>
              </p:nvSpPr>
              <p:spPr>
                <a:xfrm>
                  <a:off x="7416360" y="45255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6" name=""/>
                <p:cNvSpPr/>
                <p:nvPr/>
              </p:nvSpPr>
              <p:spPr>
                <a:xfrm flipV="1">
                  <a:off x="7416360" y="46872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7" name=""/>
                <p:cNvSpPr/>
                <p:nvPr/>
              </p:nvSpPr>
              <p:spPr>
                <a:xfrm flipH="1">
                  <a:off x="7375320" y="46155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28" name=""/>
            <p:cNvGrpSpPr/>
            <p:nvPr/>
          </p:nvGrpSpPr>
          <p:grpSpPr>
            <a:xfrm>
              <a:off x="4495320" y="4446000"/>
              <a:ext cx="606960" cy="513000"/>
              <a:chOff x="4495320" y="4446000"/>
              <a:chExt cx="606960" cy="513000"/>
            </a:xfrm>
          </p:grpSpPr>
          <p:sp>
            <p:nvSpPr>
              <p:cNvPr id="3929" name=""/>
              <p:cNvSpPr/>
              <p:nvPr/>
            </p:nvSpPr>
            <p:spPr>
              <a:xfrm rot="19834800">
                <a:off x="4559400" y="46562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30" name=""/>
              <p:cNvGrpSpPr/>
              <p:nvPr/>
            </p:nvGrpSpPr>
            <p:grpSpPr>
              <a:xfrm>
                <a:off x="4495320" y="4446000"/>
                <a:ext cx="574200" cy="435600"/>
                <a:chOff x="4495320" y="4446000"/>
                <a:chExt cx="574200" cy="435600"/>
              </a:xfrm>
            </p:grpSpPr>
            <p:sp>
              <p:nvSpPr>
                <p:cNvPr id="3931" name=""/>
                <p:cNvSpPr/>
                <p:nvPr/>
              </p:nvSpPr>
              <p:spPr>
                <a:xfrm rot="19834800">
                  <a:off x="4612320" y="4507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2" name=""/>
                <p:cNvSpPr/>
                <p:nvPr/>
              </p:nvSpPr>
              <p:spPr>
                <a:xfrm rot="19834800">
                  <a:off x="4638600" y="4554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3" name=""/>
                <p:cNvSpPr/>
                <p:nvPr/>
              </p:nvSpPr>
              <p:spPr>
                <a:xfrm rot="19834800">
                  <a:off x="4744440" y="4741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4" name=""/>
                <p:cNvSpPr/>
                <p:nvPr/>
              </p:nvSpPr>
              <p:spPr>
                <a:xfrm rot="19834800">
                  <a:off x="4770720" y="4788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5" name=""/>
                <p:cNvSpPr/>
                <p:nvPr/>
              </p:nvSpPr>
              <p:spPr>
                <a:xfrm rot="19834800">
                  <a:off x="4486680" y="460440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6" name=""/>
                <p:cNvSpPr/>
                <p:nvPr/>
              </p:nvSpPr>
              <p:spPr>
                <a:xfrm rot="19834800">
                  <a:off x="4659120" y="44499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7" name=""/>
                <p:cNvSpPr/>
                <p:nvPr/>
              </p:nvSpPr>
              <p:spPr>
                <a:xfrm rot="19834800">
                  <a:off x="4791240" y="46843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8" name=""/>
                <p:cNvSpPr/>
                <p:nvPr/>
              </p:nvSpPr>
              <p:spPr>
                <a:xfrm rot="19834800">
                  <a:off x="4510800" y="46486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9" name=""/>
                <p:cNvSpPr/>
                <p:nvPr/>
              </p:nvSpPr>
              <p:spPr>
                <a:xfrm flipV="1" rot="19834800">
                  <a:off x="4589640" y="47898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0" name=""/>
                <p:cNvSpPr/>
                <p:nvPr/>
              </p:nvSpPr>
              <p:spPr>
                <a:xfrm flipH="1" rot="19834800">
                  <a:off x="4507560" y="47250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41" name=""/>
            <p:cNvGrpSpPr/>
            <p:nvPr/>
          </p:nvGrpSpPr>
          <p:grpSpPr>
            <a:xfrm>
              <a:off x="5485680" y="2769480"/>
              <a:ext cx="607320" cy="513360"/>
              <a:chOff x="5485680" y="2769480"/>
              <a:chExt cx="607320" cy="513360"/>
            </a:xfrm>
          </p:grpSpPr>
          <p:sp>
            <p:nvSpPr>
              <p:cNvPr id="3942" name=""/>
              <p:cNvSpPr/>
              <p:nvPr/>
            </p:nvSpPr>
            <p:spPr>
              <a:xfrm rot="19834800">
                <a:off x="5549760" y="297972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43" name=""/>
              <p:cNvGrpSpPr/>
              <p:nvPr/>
            </p:nvGrpSpPr>
            <p:grpSpPr>
              <a:xfrm>
                <a:off x="5485680" y="2769480"/>
                <a:ext cx="574920" cy="435600"/>
                <a:chOff x="5485680" y="2769480"/>
                <a:chExt cx="574920" cy="435600"/>
              </a:xfrm>
            </p:grpSpPr>
            <p:sp>
              <p:nvSpPr>
                <p:cNvPr id="3944" name=""/>
                <p:cNvSpPr/>
                <p:nvPr/>
              </p:nvSpPr>
              <p:spPr>
                <a:xfrm rot="19834800">
                  <a:off x="5603040" y="28306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5" name=""/>
                <p:cNvSpPr/>
                <p:nvPr/>
              </p:nvSpPr>
              <p:spPr>
                <a:xfrm rot="19834800">
                  <a:off x="5629320" y="2877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6" name=""/>
                <p:cNvSpPr/>
                <p:nvPr/>
              </p:nvSpPr>
              <p:spPr>
                <a:xfrm rot="19834800">
                  <a:off x="5735160" y="30654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7" name=""/>
                <p:cNvSpPr/>
                <p:nvPr/>
              </p:nvSpPr>
              <p:spPr>
                <a:xfrm rot="19834800">
                  <a:off x="5761440" y="3112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8" name=""/>
                <p:cNvSpPr/>
                <p:nvPr/>
              </p:nvSpPr>
              <p:spPr>
                <a:xfrm rot="19834800">
                  <a:off x="5477400" y="292788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9" name=""/>
                <p:cNvSpPr/>
                <p:nvPr/>
              </p:nvSpPr>
              <p:spPr>
                <a:xfrm rot="19834800">
                  <a:off x="5649480" y="27734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0" name=""/>
                <p:cNvSpPr/>
                <p:nvPr/>
              </p:nvSpPr>
              <p:spPr>
                <a:xfrm rot="19834800">
                  <a:off x="5781600" y="30078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1" name=""/>
                <p:cNvSpPr/>
                <p:nvPr/>
              </p:nvSpPr>
              <p:spPr>
                <a:xfrm rot="19834800">
                  <a:off x="5501160" y="29725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2" name=""/>
                <p:cNvSpPr/>
                <p:nvPr/>
              </p:nvSpPr>
              <p:spPr>
                <a:xfrm flipV="1" rot="19834800">
                  <a:off x="5580360" y="31132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3" name=""/>
                <p:cNvSpPr/>
                <p:nvPr/>
              </p:nvSpPr>
              <p:spPr>
                <a:xfrm flipH="1" rot="19834800">
                  <a:off x="5497920" y="30484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54" name=""/>
            <p:cNvGrpSpPr/>
            <p:nvPr/>
          </p:nvGrpSpPr>
          <p:grpSpPr>
            <a:xfrm>
              <a:off x="5790600" y="5055480"/>
              <a:ext cx="606960" cy="513000"/>
              <a:chOff x="5790600" y="5055480"/>
              <a:chExt cx="606960" cy="513000"/>
            </a:xfrm>
          </p:grpSpPr>
          <p:sp>
            <p:nvSpPr>
              <p:cNvPr id="3955" name=""/>
              <p:cNvSpPr/>
              <p:nvPr/>
            </p:nvSpPr>
            <p:spPr>
              <a:xfrm rot="19834800">
                <a:off x="5854680" y="526572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56" name=""/>
              <p:cNvGrpSpPr/>
              <p:nvPr/>
            </p:nvGrpSpPr>
            <p:grpSpPr>
              <a:xfrm>
                <a:off x="5790600" y="5055480"/>
                <a:ext cx="574200" cy="435600"/>
                <a:chOff x="5790600" y="5055480"/>
                <a:chExt cx="574200" cy="435600"/>
              </a:xfrm>
            </p:grpSpPr>
            <p:sp>
              <p:nvSpPr>
                <p:cNvPr id="3957" name=""/>
                <p:cNvSpPr/>
                <p:nvPr/>
              </p:nvSpPr>
              <p:spPr>
                <a:xfrm rot="19834800">
                  <a:off x="5907600" y="51166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8" name=""/>
                <p:cNvSpPr/>
                <p:nvPr/>
              </p:nvSpPr>
              <p:spPr>
                <a:xfrm rot="19834800">
                  <a:off x="5933880" y="5163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9" name=""/>
                <p:cNvSpPr/>
                <p:nvPr/>
              </p:nvSpPr>
              <p:spPr>
                <a:xfrm rot="19834800">
                  <a:off x="6039720" y="53514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0" name=""/>
                <p:cNvSpPr/>
                <p:nvPr/>
              </p:nvSpPr>
              <p:spPr>
                <a:xfrm rot="19834800">
                  <a:off x="6066000" y="5398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1" name=""/>
                <p:cNvSpPr/>
                <p:nvPr/>
              </p:nvSpPr>
              <p:spPr>
                <a:xfrm rot="19834800">
                  <a:off x="5781960" y="521388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2" name=""/>
                <p:cNvSpPr/>
                <p:nvPr/>
              </p:nvSpPr>
              <p:spPr>
                <a:xfrm rot="19834800">
                  <a:off x="5954400" y="50594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3" name=""/>
                <p:cNvSpPr/>
                <p:nvPr/>
              </p:nvSpPr>
              <p:spPr>
                <a:xfrm rot="19834800">
                  <a:off x="6086520" y="52938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4" name=""/>
                <p:cNvSpPr/>
                <p:nvPr/>
              </p:nvSpPr>
              <p:spPr>
                <a:xfrm rot="19834800">
                  <a:off x="5806080" y="52581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5" name=""/>
                <p:cNvSpPr/>
                <p:nvPr/>
              </p:nvSpPr>
              <p:spPr>
                <a:xfrm flipV="1" rot="19834800">
                  <a:off x="5884920" y="53992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6" name=""/>
                <p:cNvSpPr/>
                <p:nvPr/>
              </p:nvSpPr>
              <p:spPr>
                <a:xfrm flipH="1" rot="19834800">
                  <a:off x="5802840" y="53344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67" name=""/>
            <p:cNvGrpSpPr/>
            <p:nvPr/>
          </p:nvGrpSpPr>
          <p:grpSpPr>
            <a:xfrm>
              <a:off x="7009920" y="2464560"/>
              <a:ext cx="606960" cy="513000"/>
              <a:chOff x="7009920" y="2464560"/>
              <a:chExt cx="606960" cy="513000"/>
            </a:xfrm>
          </p:grpSpPr>
          <p:sp>
            <p:nvSpPr>
              <p:cNvPr id="3968" name=""/>
              <p:cNvSpPr/>
              <p:nvPr/>
            </p:nvSpPr>
            <p:spPr>
              <a:xfrm rot="19834800">
                <a:off x="7074000" y="267480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9" name=""/>
              <p:cNvGrpSpPr/>
              <p:nvPr/>
            </p:nvGrpSpPr>
            <p:grpSpPr>
              <a:xfrm>
                <a:off x="7009920" y="2464560"/>
                <a:ext cx="574200" cy="435600"/>
                <a:chOff x="7009920" y="2464560"/>
                <a:chExt cx="574200" cy="435600"/>
              </a:xfrm>
            </p:grpSpPr>
            <p:sp>
              <p:nvSpPr>
                <p:cNvPr id="3970" name=""/>
                <p:cNvSpPr/>
                <p:nvPr/>
              </p:nvSpPr>
              <p:spPr>
                <a:xfrm rot="19834800">
                  <a:off x="7126920" y="25257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1" name=""/>
                <p:cNvSpPr/>
                <p:nvPr/>
              </p:nvSpPr>
              <p:spPr>
                <a:xfrm rot="19834800">
                  <a:off x="7153200" y="2572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2" name=""/>
                <p:cNvSpPr/>
                <p:nvPr/>
              </p:nvSpPr>
              <p:spPr>
                <a:xfrm rot="19834800">
                  <a:off x="7259040" y="2760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3" name=""/>
                <p:cNvSpPr/>
                <p:nvPr/>
              </p:nvSpPr>
              <p:spPr>
                <a:xfrm rot="19834800">
                  <a:off x="7285320" y="2807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4" name=""/>
                <p:cNvSpPr/>
                <p:nvPr/>
              </p:nvSpPr>
              <p:spPr>
                <a:xfrm rot="19834800">
                  <a:off x="7001280" y="26229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5" name=""/>
                <p:cNvSpPr/>
                <p:nvPr/>
              </p:nvSpPr>
              <p:spPr>
                <a:xfrm rot="19834800">
                  <a:off x="7173720" y="24685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6" name=""/>
                <p:cNvSpPr/>
                <p:nvPr/>
              </p:nvSpPr>
              <p:spPr>
                <a:xfrm rot="19834800">
                  <a:off x="7305840" y="2702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7" name=""/>
                <p:cNvSpPr/>
                <p:nvPr/>
              </p:nvSpPr>
              <p:spPr>
                <a:xfrm rot="19834800">
                  <a:off x="7025400" y="2667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8" name=""/>
                <p:cNvSpPr/>
                <p:nvPr/>
              </p:nvSpPr>
              <p:spPr>
                <a:xfrm flipV="1" rot="19834800">
                  <a:off x="7104240" y="28083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9" name=""/>
                <p:cNvSpPr/>
                <p:nvPr/>
              </p:nvSpPr>
              <p:spPr>
                <a:xfrm flipH="1" rot="19834800">
                  <a:off x="7022160" y="27435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80" name=""/>
            <p:cNvGrpSpPr/>
            <p:nvPr/>
          </p:nvGrpSpPr>
          <p:grpSpPr>
            <a:xfrm>
              <a:off x="6095520" y="3455280"/>
              <a:ext cx="606960" cy="513000"/>
              <a:chOff x="6095520" y="3455280"/>
              <a:chExt cx="606960" cy="513000"/>
            </a:xfrm>
          </p:grpSpPr>
          <p:sp>
            <p:nvSpPr>
              <p:cNvPr id="3981" name=""/>
              <p:cNvSpPr/>
              <p:nvPr/>
            </p:nvSpPr>
            <p:spPr>
              <a:xfrm rot="19834800">
                <a:off x="6159600" y="366552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82" name=""/>
              <p:cNvGrpSpPr/>
              <p:nvPr/>
            </p:nvGrpSpPr>
            <p:grpSpPr>
              <a:xfrm>
                <a:off x="6095520" y="3455280"/>
                <a:ext cx="574200" cy="435600"/>
                <a:chOff x="6095520" y="3455280"/>
                <a:chExt cx="574200" cy="435600"/>
              </a:xfrm>
            </p:grpSpPr>
            <p:sp>
              <p:nvSpPr>
                <p:cNvPr id="3983" name=""/>
                <p:cNvSpPr/>
                <p:nvPr/>
              </p:nvSpPr>
              <p:spPr>
                <a:xfrm rot="19834800">
                  <a:off x="6212520" y="3516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4" name=""/>
                <p:cNvSpPr/>
                <p:nvPr/>
              </p:nvSpPr>
              <p:spPr>
                <a:xfrm rot="19834800">
                  <a:off x="6238800" y="3563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5" name=""/>
                <p:cNvSpPr/>
                <p:nvPr/>
              </p:nvSpPr>
              <p:spPr>
                <a:xfrm rot="19834800">
                  <a:off x="6344640" y="3751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6" name=""/>
                <p:cNvSpPr/>
                <p:nvPr/>
              </p:nvSpPr>
              <p:spPr>
                <a:xfrm rot="19834800">
                  <a:off x="6370920" y="3798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7" name=""/>
                <p:cNvSpPr/>
                <p:nvPr/>
              </p:nvSpPr>
              <p:spPr>
                <a:xfrm rot="19834800">
                  <a:off x="6086880" y="361368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8" name=""/>
                <p:cNvSpPr/>
                <p:nvPr/>
              </p:nvSpPr>
              <p:spPr>
                <a:xfrm rot="19834800">
                  <a:off x="6259320" y="34592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9" name=""/>
                <p:cNvSpPr/>
                <p:nvPr/>
              </p:nvSpPr>
              <p:spPr>
                <a:xfrm rot="19834800">
                  <a:off x="6391440" y="36936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0" name=""/>
                <p:cNvSpPr/>
                <p:nvPr/>
              </p:nvSpPr>
              <p:spPr>
                <a:xfrm rot="19834800">
                  <a:off x="6111000" y="36579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1" name=""/>
                <p:cNvSpPr/>
                <p:nvPr/>
              </p:nvSpPr>
              <p:spPr>
                <a:xfrm flipV="1" rot="19834800">
                  <a:off x="6189840" y="37990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2" name=""/>
                <p:cNvSpPr/>
                <p:nvPr/>
              </p:nvSpPr>
              <p:spPr>
                <a:xfrm flipH="1" rot="19834800">
                  <a:off x="6107760" y="37342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93" name=""/>
            <p:cNvGrpSpPr/>
            <p:nvPr/>
          </p:nvGrpSpPr>
          <p:grpSpPr>
            <a:xfrm>
              <a:off x="6400080" y="4141080"/>
              <a:ext cx="607320" cy="513360"/>
              <a:chOff x="6400080" y="4141080"/>
              <a:chExt cx="607320" cy="513360"/>
            </a:xfrm>
          </p:grpSpPr>
          <p:sp>
            <p:nvSpPr>
              <p:cNvPr id="3994" name=""/>
              <p:cNvSpPr/>
              <p:nvPr/>
            </p:nvSpPr>
            <p:spPr>
              <a:xfrm rot="19834800">
                <a:off x="6464160" y="435132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95" name=""/>
              <p:cNvGrpSpPr/>
              <p:nvPr/>
            </p:nvGrpSpPr>
            <p:grpSpPr>
              <a:xfrm>
                <a:off x="6400080" y="4141080"/>
                <a:ext cx="574920" cy="435600"/>
                <a:chOff x="6400080" y="4141080"/>
                <a:chExt cx="574920" cy="435600"/>
              </a:xfrm>
            </p:grpSpPr>
            <p:sp>
              <p:nvSpPr>
                <p:cNvPr id="3996" name=""/>
                <p:cNvSpPr/>
                <p:nvPr/>
              </p:nvSpPr>
              <p:spPr>
                <a:xfrm rot="19834800">
                  <a:off x="6517440" y="4202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7" name=""/>
                <p:cNvSpPr/>
                <p:nvPr/>
              </p:nvSpPr>
              <p:spPr>
                <a:xfrm rot="19834800">
                  <a:off x="6543720" y="42490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8" name=""/>
                <p:cNvSpPr/>
                <p:nvPr/>
              </p:nvSpPr>
              <p:spPr>
                <a:xfrm rot="19834800">
                  <a:off x="6649560" y="4437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9" name=""/>
                <p:cNvSpPr/>
                <p:nvPr/>
              </p:nvSpPr>
              <p:spPr>
                <a:xfrm rot="19834800">
                  <a:off x="6675840" y="4483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0" name=""/>
                <p:cNvSpPr/>
                <p:nvPr/>
              </p:nvSpPr>
              <p:spPr>
                <a:xfrm rot="19834800">
                  <a:off x="6391800" y="429948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1" name=""/>
                <p:cNvSpPr/>
                <p:nvPr/>
              </p:nvSpPr>
              <p:spPr>
                <a:xfrm rot="19834800">
                  <a:off x="6563880" y="41450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2" name=""/>
                <p:cNvSpPr/>
                <p:nvPr/>
              </p:nvSpPr>
              <p:spPr>
                <a:xfrm rot="19834800">
                  <a:off x="6696000" y="43794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3" name=""/>
                <p:cNvSpPr/>
                <p:nvPr/>
              </p:nvSpPr>
              <p:spPr>
                <a:xfrm rot="19834800">
                  <a:off x="6415560" y="43441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4" name=""/>
                <p:cNvSpPr/>
                <p:nvPr/>
              </p:nvSpPr>
              <p:spPr>
                <a:xfrm flipV="1" rot="19834800">
                  <a:off x="6494760" y="44848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5" name=""/>
                <p:cNvSpPr/>
                <p:nvPr/>
              </p:nvSpPr>
              <p:spPr>
                <a:xfrm flipH="1" rot="19834800">
                  <a:off x="6412320" y="44200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06" name=""/>
            <p:cNvGrpSpPr/>
            <p:nvPr/>
          </p:nvGrpSpPr>
          <p:grpSpPr>
            <a:xfrm>
              <a:off x="7848000" y="3607560"/>
              <a:ext cx="606960" cy="513000"/>
              <a:chOff x="7848000" y="3607560"/>
              <a:chExt cx="606960" cy="513000"/>
            </a:xfrm>
          </p:grpSpPr>
          <p:sp>
            <p:nvSpPr>
              <p:cNvPr id="4007" name=""/>
              <p:cNvSpPr/>
              <p:nvPr/>
            </p:nvSpPr>
            <p:spPr>
              <a:xfrm rot="19834800">
                <a:off x="7912080" y="381780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08" name=""/>
              <p:cNvGrpSpPr/>
              <p:nvPr/>
            </p:nvGrpSpPr>
            <p:grpSpPr>
              <a:xfrm>
                <a:off x="7848000" y="3607560"/>
                <a:ext cx="574200" cy="435600"/>
                <a:chOff x="7848000" y="3607560"/>
                <a:chExt cx="574200" cy="435600"/>
              </a:xfrm>
            </p:grpSpPr>
            <p:sp>
              <p:nvSpPr>
                <p:cNvPr id="4009" name=""/>
                <p:cNvSpPr/>
                <p:nvPr/>
              </p:nvSpPr>
              <p:spPr>
                <a:xfrm rot="19834800">
                  <a:off x="7965000" y="36687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0" name=""/>
                <p:cNvSpPr/>
                <p:nvPr/>
              </p:nvSpPr>
              <p:spPr>
                <a:xfrm rot="19834800">
                  <a:off x="7991280" y="3715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1" name=""/>
                <p:cNvSpPr/>
                <p:nvPr/>
              </p:nvSpPr>
              <p:spPr>
                <a:xfrm rot="19834800">
                  <a:off x="8097120" y="3903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2" name=""/>
                <p:cNvSpPr/>
                <p:nvPr/>
              </p:nvSpPr>
              <p:spPr>
                <a:xfrm rot="19834800">
                  <a:off x="8123400" y="3950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3" name=""/>
                <p:cNvSpPr/>
                <p:nvPr/>
              </p:nvSpPr>
              <p:spPr>
                <a:xfrm rot="19834800">
                  <a:off x="7839360" y="37659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4" name=""/>
                <p:cNvSpPr/>
                <p:nvPr/>
              </p:nvSpPr>
              <p:spPr>
                <a:xfrm rot="19834800">
                  <a:off x="8011800" y="36115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5" name=""/>
                <p:cNvSpPr/>
                <p:nvPr/>
              </p:nvSpPr>
              <p:spPr>
                <a:xfrm rot="19834800">
                  <a:off x="8143920" y="3845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6" name=""/>
                <p:cNvSpPr/>
                <p:nvPr/>
              </p:nvSpPr>
              <p:spPr>
                <a:xfrm rot="19834800">
                  <a:off x="7863480" y="3810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7" name=""/>
                <p:cNvSpPr/>
                <p:nvPr/>
              </p:nvSpPr>
              <p:spPr>
                <a:xfrm flipV="1" rot="19834800">
                  <a:off x="7942320" y="39513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8" name=""/>
                <p:cNvSpPr/>
                <p:nvPr/>
              </p:nvSpPr>
              <p:spPr>
                <a:xfrm flipH="1" rot="19834800">
                  <a:off x="7860240" y="38865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F9D5-14B0-4DAA-994B-88BB970BFF9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005DA-E62A-4969-8527-C8890DC6DA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 Look to the Future:  Airlin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ning Integ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020" name=""/>
          <p:cNvGrpSpPr/>
          <p:nvPr/>
        </p:nvGrpSpPr>
        <p:grpSpPr>
          <a:xfrm>
            <a:off x="1219320" y="1752480"/>
            <a:ext cx="5104440" cy="4267080"/>
            <a:chOff x="1219320" y="1752480"/>
            <a:chExt cx="5104440" cy="4267080"/>
          </a:xfrm>
        </p:grpSpPr>
        <p:sp>
          <p:nvSpPr>
            <p:cNvPr id="4021" name=""/>
            <p:cNvSpPr/>
            <p:nvPr/>
          </p:nvSpPr>
          <p:spPr>
            <a:xfrm>
              <a:off x="1219320" y="1752480"/>
              <a:ext cx="510444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chedule Desig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1219320" y="2971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1219320" y="4114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1219320" y="5257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3693600" y="2590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3693600" y="3733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3693600" y="4876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9" name=""/>
          <p:cNvSpPr/>
          <p:nvPr/>
        </p:nvSpPr>
        <p:spPr>
          <a:xfrm>
            <a:off x="1219320" y="1752480"/>
            <a:ext cx="5105160" cy="838440"/>
          </a:xfrm>
          <a:prstGeom prst="rect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dule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1219320" y="2971800"/>
            <a:ext cx="5105160" cy="838080"/>
          </a:xfrm>
          <a:prstGeom prst="rect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eet Ass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1219320" y="2971800"/>
            <a:ext cx="5105160" cy="83808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eet Ass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1219320" y="4038480"/>
            <a:ext cx="5105160" cy="83844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rcraft Ro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1219320" y="4038480"/>
            <a:ext cx="5105160" cy="83844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rcraft Ro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4" name=""/>
          <p:cNvSpPr/>
          <p:nvPr/>
        </p:nvSpPr>
        <p:spPr>
          <a:xfrm>
            <a:off x="1219320" y="5181480"/>
            <a:ext cx="5105160" cy="83844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w Schedu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>
            <a:off x="1219320" y="2971800"/>
            <a:ext cx="5105160" cy="83808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eet Ass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>
            <a:off x="1219320" y="5181480"/>
            <a:ext cx="5105160" cy="83844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w Schedu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6400800" y="1828800"/>
            <a:ext cx="2514600" cy="56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grating crew scheduling and fleet assignment models yiel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ditional 3% savings in total operating, spill and crew cos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leeting costs increase by about 1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w costs decrease by about 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63AF-5BB5-40AF-BF1B-39A825B4127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7E59B-02E4-40C0-9C8C-63601371DB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 Look to the Future:  Real-time Decision Makin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a typical airline, about 10% of scheduled revenue flights are affected by irregularities (like inclement weather, maintenance problems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8640" indent="-188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ording to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ew York Tim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irregular operations (due mostly to weather) result in more than $440 million per year in lost revenue, crew overtime pay, and passenger hospitality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8640" indent="-188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reasing use and acceptance of optimization-based decision support tools for operations recove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984A-B8A4-414B-AF53-B33FA004C67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B48AE-048F-476C-91D4-2E075999C4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 Look to the Future:  Robust Schedul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sue:  Optimizing “plans” results in minimize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lanne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sts, no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realize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timized plans have littl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lack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ulting 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77040" indent="-20556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creased likelihood of plan “breakage” during oper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77040" indent="-20556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wer recovery op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llenge:  Building “robust” plans that achieve minimal realized 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960D-E691-4733-A8BD-B62A3778B60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1D0B6-C9AB-4ED0-9676-DDFFA6F647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191120" y="2666880"/>
            <a:ext cx="4343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sign aircraft types to flight leg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ch that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contribu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maxi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1752480"/>
            <a:ext cx="2438280" cy="175284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100000">
                <a:srgbClr val="461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1828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chedule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371600" y="2286000"/>
            <a:ext cx="2666880" cy="1145520"/>
            <a:chOff x="1371600" y="2286000"/>
            <a:chExt cx="2666880" cy="1145520"/>
          </a:xfrm>
        </p:grpSpPr>
        <p:sp>
          <p:nvSpPr>
            <p:cNvPr id="59" name=""/>
            <p:cNvSpPr/>
            <p:nvPr/>
          </p:nvSpPr>
          <p:spPr>
            <a:xfrm>
              <a:off x="1371600" y="2971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66880" y="2286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371600" y="3429000"/>
            <a:ext cx="2666880" cy="1145520"/>
            <a:chOff x="1371600" y="3429000"/>
            <a:chExt cx="2666880" cy="1145520"/>
          </a:xfrm>
        </p:grpSpPr>
        <p:sp>
          <p:nvSpPr>
            <p:cNvPr id="62" name=""/>
            <p:cNvSpPr/>
            <p:nvPr/>
          </p:nvSpPr>
          <p:spPr>
            <a:xfrm>
              <a:off x="1371600" y="4114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66880" y="3429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371600" y="4572000"/>
            <a:ext cx="2666880" cy="1145520"/>
            <a:chOff x="1371600" y="4572000"/>
            <a:chExt cx="2666880" cy="1145520"/>
          </a:xfrm>
        </p:grpSpPr>
        <p:sp>
          <p:nvSpPr>
            <p:cNvPr id="65" name=""/>
            <p:cNvSpPr/>
            <p:nvPr/>
          </p:nvSpPr>
          <p:spPr>
            <a:xfrm>
              <a:off x="1371600" y="5257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66880" y="4572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4191120" y="1600200"/>
            <a:ext cx="4343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lect optimal set of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flight leg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 a sche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AC0E-769B-4067-AE5F-4B70ED7F86B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E6FA1-BA1B-4AF0-ADEB-B6B1759FD2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iven origin-destination demands and fares, fleet composition and size, fleet operating characteristics and cost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nd the revenue maximizing flight schedu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C728-3294-4251-B2B5-C3DC5BBACF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B170A-8FD1-43AF-BDB3-68110F650E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 Design:  Fixed Flight Network, Flexible Schedule Approac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eet assignment model with time window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flights to be re-timed slightly (plus/ minus 10 minutes) to allow for improved utilization of aircraft and improved capacity assign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itial step in integrating flight schedule design and fleet assignment deci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24C1-6AF5-4A53-83C0-111344F6B0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1876F-70D5-4A41-AEC8-A2A2ED04C7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 Design:  Optional Flights, Flexible Schedule Approac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eet assignment with “optional” flight le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ditional flight legs representing varying flight departure ti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ditional flight legs representing new fligh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tion to eliminate existing flights from future flight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mental Schedule Desig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37F4-F6E6-475F-8B6A-5E4A569A39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F73FC-4065-4F93-83D5-1904C59F28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Integrated, Incremental Schedule Design and Fleet Assignment Model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2362320"/>
            <a:ext cx="236232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dition Candid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914400" y="2362320"/>
            <a:ext cx="5105520" cy="1981080"/>
            <a:chOff x="914400" y="2362320"/>
            <a:chExt cx="5105520" cy="1981080"/>
          </a:xfrm>
        </p:grpSpPr>
        <p:sp>
          <p:nvSpPr>
            <p:cNvPr id="78" name=""/>
            <p:cNvSpPr/>
            <p:nvPr/>
          </p:nvSpPr>
          <p:spPr>
            <a:xfrm>
              <a:off x="914400" y="3657600"/>
              <a:ext cx="2514600" cy="6858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Mandatory Flight Li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57600" y="2362320"/>
              <a:ext cx="2362320" cy="6858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Deletion Candidat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00400" y="2743200"/>
              <a:ext cx="457200" cy="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33720" y="2895480"/>
              <a:ext cx="0" cy="76212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143000" y="2362320"/>
            <a:ext cx="205740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ase Sche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029200" y="2467080"/>
            <a:ext cx="2514600" cy="1876320"/>
            <a:chOff x="5029200" y="2467080"/>
            <a:chExt cx="2514600" cy="1876320"/>
          </a:xfrm>
        </p:grpSpPr>
        <p:sp>
          <p:nvSpPr>
            <p:cNvPr id="84" name=""/>
            <p:cNvSpPr/>
            <p:nvPr/>
          </p:nvSpPr>
          <p:spPr>
            <a:xfrm>
              <a:off x="5029200" y="3657600"/>
              <a:ext cx="2514600" cy="6858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2e1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Optional Flight Li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24480" y="3048120"/>
              <a:ext cx="0" cy="60948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6138720" y="2467080"/>
              <a:ext cx="380880" cy="457200"/>
              <a:chOff x="6138720" y="2467080"/>
              <a:chExt cx="380880" cy="457200"/>
            </a:xfrm>
          </p:grpSpPr>
          <p:sp>
            <p:nvSpPr>
              <p:cNvPr id="87" name=""/>
              <p:cNvSpPr/>
              <p:nvPr/>
            </p:nvSpPr>
            <p:spPr>
              <a:xfrm>
                <a:off x="6333840" y="2467080"/>
                <a:ext cx="0" cy="457200"/>
              </a:xfrm>
              <a:prstGeom prst="line">
                <a:avLst/>
              </a:prstGeom>
              <a:ln w="28440">
                <a:solidFill>
                  <a:srgbClr val="f2e1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138720" y="2695680"/>
                <a:ext cx="380880" cy="0"/>
              </a:xfrm>
              <a:prstGeom prst="line">
                <a:avLst/>
              </a:prstGeom>
              <a:ln w="28440">
                <a:solidFill>
                  <a:srgbClr val="f2e1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2895480" y="3762360"/>
            <a:ext cx="2514600" cy="1876320"/>
            <a:chOff x="2895480" y="3762360"/>
            <a:chExt cx="2514600" cy="1876320"/>
          </a:xfrm>
        </p:grpSpPr>
        <p:sp>
          <p:nvSpPr>
            <p:cNvPr id="90" name=""/>
            <p:cNvSpPr/>
            <p:nvPr/>
          </p:nvSpPr>
          <p:spPr>
            <a:xfrm>
              <a:off x="2895480" y="4952880"/>
              <a:ext cx="2514600" cy="6858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2e1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Master Flight Li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4038480" y="3762360"/>
              <a:ext cx="380880" cy="457200"/>
              <a:chOff x="4038480" y="3762360"/>
              <a:chExt cx="380880" cy="457200"/>
            </a:xfrm>
          </p:grpSpPr>
          <p:sp>
            <p:nvSpPr>
              <p:cNvPr id="92" name=""/>
              <p:cNvSpPr/>
              <p:nvPr/>
            </p:nvSpPr>
            <p:spPr>
              <a:xfrm>
                <a:off x="4233600" y="3762360"/>
                <a:ext cx="0" cy="457200"/>
              </a:xfrm>
              <a:prstGeom prst="line">
                <a:avLst/>
              </a:prstGeom>
              <a:ln w="28440">
                <a:solidFill>
                  <a:srgbClr val="f2e1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038480" y="3990960"/>
                <a:ext cx="380880" cy="0"/>
              </a:xfrm>
              <a:prstGeom prst="line">
                <a:avLst/>
              </a:prstGeom>
              <a:ln w="28440">
                <a:solidFill>
                  <a:srgbClr val="f2e1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224240" y="4324320"/>
              <a:ext cx="0" cy="60948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1840" y="4005360"/>
              <a:ext cx="457200" cy="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95680" y="3995640"/>
              <a:ext cx="533520" cy="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229040" y="5883120"/>
            <a:ext cx="593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lect optimal set of flight legs from master flight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ssign fleet types to flight le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3FF4-DF73-463A-9D9C-31AE4CC16E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3FA46-9585-4402-A657-973DAADBF7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Demand and Supply Interaction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251240" y="990720"/>
            <a:ext cx="2361960" cy="1828800"/>
            <a:chOff x="4251240" y="990720"/>
            <a:chExt cx="2361960" cy="1828800"/>
          </a:xfrm>
        </p:grpSpPr>
        <p:sp>
          <p:nvSpPr>
            <p:cNvPr id="100" name=""/>
            <p:cNvSpPr/>
            <p:nvPr/>
          </p:nvSpPr>
          <p:spPr>
            <a:xfrm>
              <a:off x="4251240" y="9907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56000" y="9907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32480" y="1295280"/>
            <a:ext cx="1600200" cy="381240"/>
            <a:chOff x="4632480" y="1295280"/>
            <a:chExt cx="1600200" cy="381240"/>
          </a:xfrm>
        </p:grpSpPr>
        <p:sp>
          <p:nvSpPr>
            <p:cNvPr id="103" name=""/>
            <p:cNvSpPr/>
            <p:nvPr/>
          </p:nvSpPr>
          <p:spPr>
            <a:xfrm>
              <a:off x="4632480" y="129528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08800" y="167652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32480" y="2057400"/>
            <a:ext cx="1600200" cy="380880"/>
            <a:chOff x="4632480" y="2057400"/>
            <a:chExt cx="1600200" cy="380880"/>
          </a:xfrm>
        </p:grpSpPr>
        <p:sp>
          <p:nvSpPr>
            <p:cNvPr id="106" name=""/>
            <p:cNvSpPr/>
            <p:nvPr/>
          </p:nvSpPr>
          <p:spPr>
            <a:xfrm>
              <a:off x="4708800" y="205740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32480" y="243828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127160" y="1447920"/>
            <a:ext cx="2186280" cy="1114560"/>
            <a:chOff x="1127160" y="1447920"/>
            <a:chExt cx="2186280" cy="1114560"/>
          </a:xfrm>
        </p:grpSpPr>
        <p:sp>
          <p:nvSpPr>
            <p:cNvPr id="109" name=""/>
            <p:cNvSpPr/>
            <p:nvPr/>
          </p:nvSpPr>
          <p:spPr>
            <a:xfrm>
              <a:off x="1127160" y="1447920"/>
              <a:ext cx="218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Market Sha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77960" y="1981080"/>
              <a:ext cx="73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45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251240" y="2935440"/>
            <a:ext cx="2361960" cy="1828800"/>
            <a:chOff x="4251240" y="2935440"/>
            <a:chExt cx="2361960" cy="1828800"/>
          </a:xfrm>
        </p:grpSpPr>
        <p:sp>
          <p:nvSpPr>
            <p:cNvPr id="112" name=""/>
            <p:cNvSpPr/>
            <p:nvPr/>
          </p:nvSpPr>
          <p:spPr>
            <a:xfrm>
              <a:off x="4251240" y="293544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56000" y="293544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32120" y="324000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08440" y="362124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08440" y="423072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336840" y="874800"/>
            <a:ext cx="2352600" cy="1642320"/>
            <a:chOff x="3336840" y="874800"/>
            <a:chExt cx="2352600" cy="1642320"/>
          </a:xfrm>
        </p:grpSpPr>
        <p:sp>
          <p:nvSpPr>
            <p:cNvPr id="118" name=""/>
            <p:cNvSpPr/>
            <p:nvPr/>
          </p:nvSpPr>
          <p:spPr>
            <a:xfrm>
              <a:off x="5076720" y="8748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76720" y="125568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5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92560" y="163656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92560" y="20574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36840" y="152388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066680" y="3352680"/>
            <a:ext cx="2186280" cy="1114920"/>
            <a:chOff x="1066680" y="3352680"/>
            <a:chExt cx="2186280" cy="1114920"/>
          </a:xfrm>
        </p:grpSpPr>
        <p:sp>
          <p:nvSpPr>
            <p:cNvPr id="124" name=""/>
            <p:cNvSpPr/>
            <p:nvPr/>
          </p:nvSpPr>
          <p:spPr>
            <a:xfrm>
              <a:off x="1066680" y="3352680"/>
              <a:ext cx="218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Market Sha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53920" y="3886200"/>
              <a:ext cx="73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41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67080" y="4876920"/>
            <a:ext cx="2361960" cy="1828800"/>
            <a:chOff x="4267080" y="4876920"/>
            <a:chExt cx="2361960" cy="1828800"/>
          </a:xfrm>
        </p:grpSpPr>
        <p:sp>
          <p:nvSpPr>
            <p:cNvPr id="127" name=""/>
            <p:cNvSpPr/>
            <p:nvPr/>
          </p:nvSpPr>
          <p:spPr>
            <a:xfrm>
              <a:off x="4267080" y="48769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1840" y="48769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47960" y="518148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24280" y="556272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143000" y="5334120"/>
            <a:ext cx="2186280" cy="1190880"/>
            <a:chOff x="1143000" y="5334120"/>
            <a:chExt cx="2186280" cy="1190880"/>
          </a:xfrm>
        </p:grpSpPr>
        <p:sp>
          <p:nvSpPr>
            <p:cNvPr id="132" name=""/>
            <p:cNvSpPr/>
            <p:nvPr/>
          </p:nvSpPr>
          <p:spPr>
            <a:xfrm>
              <a:off x="1143000" y="5334120"/>
              <a:ext cx="218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Market Sha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53920" y="5943600"/>
              <a:ext cx="73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352680" y="4761000"/>
            <a:ext cx="2336760" cy="1106280"/>
            <a:chOff x="3352680" y="4761000"/>
            <a:chExt cx="2336760" cy="1106280"/>
          </a:xfrm>
        </p:grpSpPr>
        <p:sp>
          <p:nvSpPr>
            <p:cNvPr id="135" name=""/>
            <p:cNvSpPr/>
            <p:nvPr/>
          </p:nvSpPr>
          <p:spPr>
            <a:xfrm>
              <a:off x="5092560" y="47610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92560" y="514188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2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52680" y="541008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781680" y="1828800"/>
            <a:ext cx="990360" cy="1981080"/>
            <a:chOff x="6781680" y="1828800"/>
            <a:chExt cx="990360" cy="1981080"/>
          </a:xfrm>
        </p:grpSpPr>
        <p:sp>
          <p:nvSpPr>
            <p:cNvPr id="139" name=""/>
            <p:cNvSpPr/>
            <p:nvPr/>
          </p:nvSpPr>
          <p:spPr>
            <a:xfrm>
              <a:off x="6781680" y="182880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81680" y="380988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81680" y="1828800"/>
              <a:ext cx="914400" cy="1981080"/>
            </a:xfrm>
            <a:prstGeom prst="downArrow">
              <a:avLst>
                <a:gd name="adj1" fmla="val 50000"/>
                <a:gd name="adj2" fmla="val 54163"/>
              </a:avLst>
            </a:prstGeom>
            <a:gradFill rotWithShape="0">
              <a:gsLst>
                <a:gs pos="0">
                  <a:srgbClr val="5e7575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4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282840" y="2819520"/>
            <a:ext cx="2428920" cy="1413720"/>
            <a:chOff x="3282840" y="2819520"/>
            <a:chExt cx="2428920" cy="1413720"/>
          </a:xfrm>
        </p:grpSpPr>
        <p:sp>
          <p:nvSpPr>
            <p:cNvPr id="143" name=""/>
            <p:cNvSpPr/>
            <p:nvPr/>
          </p:nvSpPr>
          <p:spPr>
            <a:xfrm>
              <a:off x="5099040" y="28195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99040" y="32004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9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14880" y="37735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2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82840" y="342900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890760" y="1828800"/>
            <a:ext cx="2023200" cy="4953960"/>
            <a:chOff x="6890760" y="1828800"/>
            <a:chExt cx="2023200" cy="4953960"/>
          </a:xfrm>
        </p:grpSpPr>
        <p:grpSp>
          <p:nvGrpSpPr>
            <p:cNvPr id="148" name=""/>
            <p:cNvGrpSpPr/>
            <p:nvPr/>
          </p:nvGrpSpPr>
          <p:grpSpPr>
            <a:xfrm>
              <a:off x="7772400" y="1828800"/>
              <a:ext cx="990720" cy="3962520"/>
              <a:chOff x="7772400" y="1828800"/>
              <a:chExt cx="990720" cy="3962520"/>
            </a:xfrm>
          </p:grpSpPr>
          <p:sp>
            <p:nvSpPr>
              <p:cNvPr id="149" name=""/>
              <p:cNvSpPr/>
              <p:nvPr/>
            </p:nvSpPr>
            <p:spPr>
              <a:xfrm>
                <a:off x="7772400" y="579132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48720" y="1828800"/>
                <a:ext cx="914400" cy="3962520"/>
              </a:xfrm>
              <a:prstGeom prst="downArrow">
                <a:avLst>
                  <a:gd name="adj1" fmla="val 50000"/>
                  <a:gd name="adj2" fmla="val 108337"/>
                </a:avLst>
              </a:prstGeom>
              <a:gradFill rotWithShape="0">
                <a:gsLst>
                  <a:gs pos="0">
                    <a:srgbClr val="755e46"/>
                  </a:gs>
                  <a:gs pos="100000">
                    <a:srgbClr val="ffcc99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15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72400" y="182880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6890760" y="5835600"/>
              <a:ext cx="202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Non-Linea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nteractio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58DE-F12E-4886-9FE5-30D05B7A711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B3383-50B8-4931-B8CA-2604E0EB38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Schedule Design:  Constant Market Share Model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100"/>
              </a:spcBef>
              <a:buClr>
                <a:srgbClr val="cc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Garamond"/>
              </a:rPr>
              <a:t>Constant market share mode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10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Integrated Schedule Design and Fleet Assignment Model (ISD-FAM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10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Utilize recapture mechanism to adjust demand approximately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6C2E-5DBF-41B6-9D82-EBFFF266E50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0AEDF-7E6D-475A-8879-6AAD4BB7C1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2-06T16:13:15Z</dcterms:modified>
  <cp:revision>460</cp:revision>
  <dc:subject/>
  <dc:title>Thesis Proposal Meeting</dc:title>
</cp:coreProperties>
</file>