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FA1A19-FA6B-4D21-A1F2-1CB5AC129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069D04-528E-4D0C-8F07-FBE9787F6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BB1F9E-BFD3-40BA-BE8D-99D6CE006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89CA29-E56C-4053-885C-9650ABD9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257B62-BAA5-415A-BE12-0FE874CB6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A36756-722B-42C8-8108-2BA043389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C94520-6D68-495B-A15C-52EA2DAE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27E6B3-36CE-483D-B8A5-CBC3A5BC7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77B0F3-F999-4E83-BD70-07A069A2D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CC9673-635D-4EFD-8805-45C870242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43BA18-E4DB-4210-8303-7A7C1C48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0B764D-6CED-48DF-BCC5-7453F568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8E6979-B420-47FF-9617-86CCB52EE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C7926A-8014-4258-AB50-ED5DC13BF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03E266-B87A-4047-A465-1AF6CA3CB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D2CB7B-E11F-4037-86D5-08773B196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E24CC6-65B9-4548-88CC-4BD80C142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5C9806-1E7C-4971-B098-E237326F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8BC-CCD1-4D8E-A98E-FF36109B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FF6-B673-4745-9BF4-70D894C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9C3-A5EB-44AA-BD3F-0AEEC9EC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7B6-C7B5-4CF0-8A9F-E49E4201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AE0-BC0E-473C-824C-6A2A5B19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DA0-7EAE-43C4-A5A3-0EB9EA8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2C7-D3E6-4F0C-A9EF-2498098A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5E5-4AE9-41B5-97D3-E9B70D49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C5F-8D65-4946-B3D7-0A08948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CE6-C177-4DFA-9762-C1094FF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8CE-D274-4293-9065-6820D18A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58C-24C1-4B3E-835A-298BF3F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E83-F29F-40CE-ABC8-C1C9A233D2A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60CE-C962-49A2-81E3-F4C94B3832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3F2-FFCF-46C9-8E10-440C0F9CC7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DFAAF-3B28-4BF1-A20D-770700B3E4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55E-716E-40A6-A605-FB3B8E412A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BC04E-87BF-4672-A810-CA18A500B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435-F6E9-47A9-81EA-0FDD2EFFE46E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CC0AB-ABD5-4289-A92C-D137469B065C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75C-23A1-4DC1-B38C-979BC6DACD22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F7C06-4824-4F5B-94E0-44DA9B223F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9C3-DC07-4D8E-9BDF-1DFA03719F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C2E40-F9D8-4B5F-90F8-8AF9C58B2200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373-2EB0-472D-8B99-33C199123A3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35053-2D39-42FD-B1F7-7985851AFF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B84-AF55-460E-99BB-6053FE51E4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87A32-8B2E-4CC4-8903-57A0BA5E3756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77D-A4BE-47CF-9A60-D41A7426D70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AF6DD-3A6F-469D-A63D-31313F54A7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CFD-EAB9-474B-B5A9-1515D98B6C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9077C-8E7C-44EA-8A86-3611C5D2628F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203-65C2-4907-B9C6-256ED59B38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A29EF-3042-4A6B-9007-575C03C4CD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anch-and-price:  combination of branch-and-bound and column gen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B2A-6B50-49DB-BF26-A804974BF7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33EE4-E3FA-47BB-AD2E-76F08699637D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E07-81DD-427C-B029-62EF65CBE3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A7D63-32EE-4AA6-87C1-B3766019BD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1E1-70C8-4562-8F45-C323E0C0C0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24DE9-4758-49AF-BCF0-C83F5E6992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C28-44A1-47D0-8C29-14B918EF02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F56E6-C808-457A-872B-BBE933CEB2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24D-FB45-4DA9-A7DC-E91CEB1EEF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DDFEB-9CF5-43D6-AD5A-921444EAAD52}" type="datetime5">
              <a:rPr lang="en-US"/>
              <a:t>Jul 29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9C4-D26A-4E7D-85BD-4B26F19E5F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7B6F8-0108-41B8-BC24-EC0A0714149E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277-F9D2-441E-B169-68790D8A5B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4B6FD-2127-4FA9-9C2A-D4449976F580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533-126B-4A8C-AB30-02B8E3618B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48B84-7180-49C5-B4F0-50443C025602}" type="datetime5">
              <a:rPr lang="en-US"/>
              <a:t>Jul 29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4D8-6F4D-42BC-B414-B0159D89FD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62A7C-1606-44A8-B3ED-77406F34B431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5B4-0635-44EB-ACE2-14427247BC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0712A-0A84-4486-BB18-B86D1266AF8B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DB9-0A82-4CD4-80DE-D6B93ADD49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FA328-E202-439F-A32F-B3FF0B33930F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ABB-A971-40D5-8C48-9782F8A1CA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D8091-A1B9-4263-9D09-62C222601D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CB1-68F1-4DD0-BE3C-D89B53FB00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2358D-9EEB-4550-B6B1-C45764EBE2AD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n-negative) an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unrestricted), the optimal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B07-69AC-46D1-AAC8-0284EB90A1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D611D-8934-42DA-BB65-E5BAE2417D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B6A-4767-49B7-A358-E0D73CF242C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9446F-8E34-4CBD-B3CF-21BB8EA988DC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E7D-486C-44A3-B99F-9C8E064BE3B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2AA10-FF06-4BFE-98AF-7A588878017E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EE8-9992-4087-9F6B-78CBE96D25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E09E3-EFC2-4985-BD3D-1C4842DD8E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E1C-24B0-4C14-B85F-9DE9EA639B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799B4-DCBB-4C79-9EE7-EFDDB3E9D135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5E8-7CA0-4673-A755-3F645D7CB6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C3C04-525E-4306-BDF2-A57B8D28C9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Computational Experi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st effect of adding most negative reduced cost column for each commodity vs. adding several negative reduced cost column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118-B93D-4970-9F57-AAF6A5F01F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B88DD-D126-4E70-9D8D-8DD1F0692513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Several Columns Per Commodit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basic column (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reduced cost = 0) for some pa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ll it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ple paths representing symmetric difference between most negative reduced co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539-6986-40E4-9E4B-BAD11B48C0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6CAEC-75D9-4A11-9228-AD139B6C113F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3474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996840" y="1911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7040" y="20638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7080" y="2139840"/>
            <a:ext cx="29196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11840" y="21398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057400"/>
            <a:ext cx="129564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220968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05520" y="228600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486080"/>
            <a:ext cx="1347840" cy="57276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1752480"/>
            <a:ext cx="172872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96800" y="2424240"/>
            <a:ext cx="101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y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86680" y="1357200"/>
            <a:ext cx="623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1-  most negative reduced cost path for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6840" y="40449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7040" y="4197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07080" y="42735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11840" y="42735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34340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1972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3619440"/>
            <a:ext cx="1347840" cy="57312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3160" y="54928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73360" y="56451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83040" y="57214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8160" y="57214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638680"/>
            <a:ext cx="12952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5791320"/>
            <a:ext cx="190512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5334120"/>
            <a:ext cx="172908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800" y="2881440"/>
            <a:ext cx="207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d to L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725-528B-445B-8B15-56845996513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FBD7D-A837-4C6A-B5F5-FF56F923C218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453-F765-41FF-9F48-96DA6FE21E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A991C-5622-422A-A6ED-3904D289E2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284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ne Path per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865160" y="1371600"/>
          <a:ext cx="5416560" cy="41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1371600"/>
                    <a:ext cx="541656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180936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585-0137-4870-9309-C70E6BF69D8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47DDE-5151-4285-A069-58547C49AF43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1188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ll Simple Path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44720" y="1374840"/>
          <a:ext cx="585612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374840"/>
                    <a:ext cx="58561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73340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A24-253B-4998-ADAC-43ADA95409C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9FDF6-FF5A-457D-9F63-E0F6C27D965E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-Commodity Network Flow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ider the modified multi-commodity network flow proble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tegral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riction that each commodity must be assigned to exactly one p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(0.1)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procedure:   branch-and-bound, specialized to handle large-scale proble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77E-E05F-4EB2-A4FC-42B218A4FB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E65F0-B838-4CAA-82FD-D4CD6799B8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commodity Flows:  Proble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(0,1)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18C-A729-4D5F-8242-3A55E3A2F0B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DDDD0-4586-44EB-AC81-81959645A8A2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85800" y="4419720"/>
          <a:ext cx="7772400" cy="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7772400" cy="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 flipH="1">
            <a:off x="3960360" y="2597040"/>
            <a:ext cx="870120" cy="40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1760" y="2597040"/>
            <a:ext cx="95868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249360" y="3006720"/>
            <a:ext cx="726840" cy="51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36960" y="3030480"/>
            <a:ext cx="450720" cy="52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423040" y="3054240"/>
            <a:ext cx="40464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08600" y="3043080"/>
            <a:ext cx="79380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762280" y="351144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25960" y="3533760"/>
            <a:ext cx="4903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19680" y="3544920"/>
            <a:ext cx="50472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83000" y="3568680"/>
            <a:ext cx="492120" cy="51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132600" y="35686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95920" y="3591000"/>
            <a:ext cx="55260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976640" y="355608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0320" y="3578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44960" y="349884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2432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402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976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78280" y="301932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7600" y="30081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10240" y="254016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23600" y="256392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11000" y="22320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"/>
          <p:cNvSpPr/>
          <p:nvPr/>
        </p:nvSpPr>
        <p:spPr>
          <a:xfrm>
            <a:off x="2140560" y="5051520"/>
            <a:ext cx="478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possible solutions at le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des of tree (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solutions, 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 is the number of vari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72320" y="3089160"/>
            <a:ext cx="816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44320" y="308916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3960" y="2517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60440" y="31240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6480" y="314640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39400" y="3660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1520" y="35812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E4D-8703-4423-8A67-D9EBF235591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B7D7A-2485-4E43-9610-33979DB41B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211428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is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mar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enumeration strate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ranching, all possible solutions (e.g.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umber of path for al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re enumer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ounding, only a (usually) small subset of possible solutions are evaluated before a provably optimal solution i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19A-76F4-457C-BE2B-A2FA66789A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CD0D0-4BC8-4E28-B775-EF64ECBC88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ounding: The Linear Programming (LP) Relax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the linear path-based MCF problem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jective is to minim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P relaxation repla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0,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LP solution 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IP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60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’s provide a bound on the lowest possible value of the optimal integer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C6F-3988-488C-9367-D39A26D2C2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AFCA9-F7FA-457A-8564-FF994ABDB3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11000" y="1657080"/>
            <a:ext cx="80262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n IP with binary restrictions on all variables,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note the linear programming relaxation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no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olves (is optimal for)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at least one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call i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ny optimal solution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branch: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branch: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6F6-7D06-457C-8617-3901152FF0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6E1D2-1F90-41B0-81AA-AF9751C11F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Pictorial 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251460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44640" y="5867280"/>
            <a:ext cx="554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422440" y="2955960"/>
            <a:ext cx="1128960" cy="12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22440" y="4206960"/>
            <a:ext cx="701640" cy="10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122640" y="4876920"/>
            <a:ext cx="2865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987880" y="3565080"/>
            <a:ext cx="16668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534840" y="2987280"/>
            <a:ext cx="2606760" cy="59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331720" y="2955960"/>
            <a:ext cx="152280" cy="2394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49560" y="4968720"/>
            <a:ext cx="2239920" cy="776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978360" y="4435560"/>
            <a:ext cx="3200400" cy="12952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18280" y="2179800"/>
            <a:ext cx="1707840" cy="2712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209680" y="2482920"/>
            <a:ext cx="3581640" cy="792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0560" y="394956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63440" y="481644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2057400"/>
            <a:ext cx="3139920" cy="207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0E6-17B7-405F-9499-D5218C4E1D3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EE33B-DC99-4D43-B1A9-5038ACDA7E17}" type="datetime1">
              <a:rPr lang="en-US"/>
              <a:t>07/29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lationship between Bound and Tree Dept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at least one fractional variab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= LP(1) + [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0 or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1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1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D81-5500-4EB8-9547-790B7758FD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6D118-7E0D-4B1A-8FF6-3E58A1EA89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5BA-9B99-4FC5-862D-56508194BD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85464-CC38-4FC2-869A-76C70FC104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ee Pru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737240" y="1371600"/>
            <a:ext cx="869760" cy="40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7920" y="1371600"/>
            <a:ext cx="95904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025880" y="1782720"/>
            <a:ext cx="72864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13120" y="1805040"/>
            <a:ext cx="45108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99200" y="1828800"/>
            <a:ext cx="404640" cy="4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85120" y="1817640"/>
            <a:ext cx="79344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538080" y="2286000"/>
            <a:ext cx="5050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2120" y="2308320"/>
            <a:ext cx="4921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697280" y="232092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60960" y="234324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908760" y="234324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72440" y="2365200"/>
            <a:ext cx="552240" cy="49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753160" y="23320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6480" y="2354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22560" y="227484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00480" y="2298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676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7560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179388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04120" y="178452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13143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26480" y="133992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25840" y="136044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7520" y="186372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5360" y="19335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78320" y="19224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18320" y="241308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8932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11000" y="16002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762120"/>
            <a:ext cx="28447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cumbent:  Current b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asible (IP) solution value =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3714840"/>
            <a:ext cx="241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3029040"/>
            <a:ext cx="7213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UNE (FATHOM) tree at node 2 (solutions on the LHS of tree cannot be optimal.  1/2 of the solutions (nodes) do not need to be evaluate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02040" y="1122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9712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891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179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084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14520" y="217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1340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46120" y="18651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3920" y="23907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036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15920" y="45147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tegral, PRUNE tree at node 2 (solutions in sub-tree at node 2 cannot be bette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15920" y="54291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P(2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feasible, PRUNE tree at node 2 (solutions in sub-tree at node 2 cannot be feasible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5147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15920" y="54291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CDC-D56C-4B4F-940A-B1C4362DC5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F0CA6-6B1F-42D9-B812-130D38CA62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ning with rootnode (minimization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un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e the current LP with this and all restrictions along the (back) path to the rootnode enforc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n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optimal LP value is greater than or equal to the incumbent solution: 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feasible: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tegral: Prune and update incumbent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some variable to an integer val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all nodes pru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656-E3D5-4A94-9E75-3C9EC0CA2B2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C58D5-F853-47F9-913D-EB38FCABC12F}" type="datetime1">
              <a:rPr lang="en-US"/>
              <a:t>07/29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tailored to solve large-scale integer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LP using column generation at each node of the branch-and-bound t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columns might have to be generated to find an optimal solution to the constrained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 to design the branching decision so that the algorithm for the pricing is unchanged as the branch-and-bound tree is proces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7AA-2998-497F-B0EF-FF7984A19F7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4AB23-5E98-480C-B16D-1A682BBE6E50}" type="datetime1">
              <a:rPr lang="en-US"/>
              <a:t>07/29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 Revisite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993-E961-4E04-8756-BE6418FFBAD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A712E-471C-4615-8CCF-D04F74F3A48D}" type="datetime1">
              <a:rPr lang="en-US"/>
              <a:t>07/29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:  Branching and Compatibility with the Pric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pricing problem solution is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variable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removed from the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olution to the pricing problem (a shortest path problem) CANNOT generate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the shortest path, must instead fin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x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general, at nodes of dep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branch-and-bound tree, the pricing problem must potentially generat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D0D-C785-451F-B10E-9CF2999D2CF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E3D39-9124-4830-8B49-6944D280A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n Alternative Branching Idea:  Branch on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mall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hose flow is spl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akes 2 paths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the divergence no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749600" y="3909960"/>
            <a:ext cx="6237000" cy="2023200"/>
            <a:chOff x="1749600" y="3909960"/>
            <a:chExt cx="6237000" cy="2023200"/>
          </a:xfrm>
        </p:grpSpPr>
        <p:sp>
          <p:nvSpPr>
            <p:cNvPr id="625" name=""/>
            <p:cNvSpPr/>
            <p:nvPr/>
          </p:nvSpPr>
          <p:spPr>
            <a:xfrm>
              <a:off x="3213000" y="3909960"/>
              <a:ext cx="2129040" cy="1436760"/>
            </a:xfrm>
            <a:custGeom>
              <a:avLst/>
              <a:gdLst/>
              <a:ahLst/>
              <a:rect l="l" t="t" r="r" b="b"/>
              <a:pathLst>
                <a:path w="1341" h="905">
                  <a:moveTo>
                    <a:pt x="7" y="904"/>
                  </a:moveTo>
                  <a:lnTo>
                    <a:pt x="13" y="862"/>
                  </a:lnTo>
                  <a:lnTo>
                    <a:pt x="13" y="826"/>
                  </a:lnTo>
                  <a:lnTo>
                    <a:pt x="0" y="789"/>
                  </a:lnTo>
                  <a:lnTo>
                    <a:pt x="0" y="753"/>
                  </a:lnTo>
                  <a:lnTo>
                    <a:pt x="0" y="716"/>
                  </a:lnTo>
                  <a:lnTo>
                    <a:pt x="13" y="680"/>
                  </a:lnTo>
                  <a:lnTo>
                    <a:pt x="53" y="643"/>
                  </a:lnTo>
                  <a:lnTo>
                    <a:pt x="80" y="607"/>
                  </a:lnTo>
                  <a:lnTo>
                    <a:pt x="120" y="583"/>
                  </a:lnTo>
                  <a:lnTo>
                    <a:pt x="172" y="559"/>
                  </a:lnTo>
                  <a:lnTo>
                    <a:pt x="212" y="559"/>
                  </a:lnTo>
                  <a:lnTo>
                    <a:pt x="265" y="546"/>
                  </a:lnTo>
                  <a:lnTo>
                    <a:pt x="318" y="535"/>
                  </a:lnTo>
                  <a:lnTo>
                    <a:pt x="358" y="535"/>
                  </a:lnTo>
                  <a:lnTo>
                    <a:pt x="398" y="522"/>
                  </a:lnTo>
                  <a:lnTo>
                    <a:pt x="438" y="510"/>
                  </a:lnTo>
                  <a:lnTo>
                    <a:pt x="478" y="473"/>
                  </a:lnTo>
                  <a:lnTo>
                    <a:pt x="504" y="437"/>
                  </a:lnTo>
                  <a:lnTo>
                    <a:pt x="544" y="401"/>
                  </a:lnTo>
                  <a:lnTo>
                    <a:pt x="544" y="364"/>
                  </a:lnTo>
                  <a:lnTo>
                    <a:pt x="557" y="328"/>
                  </a:lnTo>
                  <a:lnTo>
                    <a:pt x="570" y="291"/>
                  </a:lnTo>
                  <a:lnTo>
                    <a:pt x="597" y="255"/>
                  </a:lnTo>
                  <a:lnTo>
                    <a:pt x="610" y="218"/>
                  </a:lnTo>
                  <a:lnTo>
                    <a:pt x="624" y="182"/>
                  </a:lnTo>
                  <a:lnTo>
                    <a:pt x="636" y="145"/>
                  </a:lnTo>
                  <a:lnTo>
                    <a:pt x="664" y="109"/>
                  </a:lnTo>
                  <a:lnTo>
                    <a:pt x="690" y="48"/>
                  </a:lnTo>
                  <a:lnTo>
                    <a:pt x="716" y="12"/>
                  </a:lnTo>
                  <a:lnTo>
                    <a:pt x="756" y="0"/>
                  </a:lnTo>
                  <a:lnTo>
                    <a:pt x="796" y="0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16" y="24"/>
                  </a:lnTo>
                  <a:lnTo>
                    <a:pt x="955" y="61"/>
                  </a:lnTo>
                  <a:lnTo>
                    <a:pt x="1008" y="72"/>
                  </a:lnTo>
                  <a:lnTo>
                    <a:pt x="1048" y="97"/>
                  </a:lnTo>
                  <a:lnTo>
                    <a:pt x="1088" y="109"/>
                  </a:lnTo>
                  <a:lnTo>
                    <a:pt x="1128" y="121"/>
                  </a:lnTo>
                  <a:lnTo>
                    <a:pt x="1168" y="134"/>
                  </a:lnTo>
                  <a:lnTo>
                    <a:pt x="1208" y="145"/>
                  </a:lnTo>
                  <a:lnTo>
                    <a:pt x="1220" y="182"/>
                  </a:lnTo>
                  <a:lnTo>
                    <a:pt x="1260" y="206"/>
                  </a:lnTo>
                  <a:lnTo>
                    <a:pt x="1300" y="218"/>
                  </a:lnTo>
                  <a:lnTo>
                    <a:pt x="1340" y="24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55880" y="4124160"/>
              <a:ext cx="53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46440" y="4622760"/>
              <a:ext cx="21240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31040" y="4622760"/>
              <a:ext cx="2127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5240" y="4273560"/>
              <a:ext cx="2145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4800" y="4765680"/>
              <a:ext cx="1203120" cy="64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03960" y="4416480"/>
              <a:ext cx="2103480" cy="460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49600" y="424188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32760" y="491796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46560" y="4454640"/>
              <a:ext cx="2022480" cy="892080"/>
            </a:xfrm>
            <a:custGeom>
              <a:avLst/>
              <a:gdLst/>
              <a:ahLst/>
              <a:rect l="l" t="t" r="r" b="b"/>
              <a:pathLst>
                <a:path w="1274" h="562">
                  <a:moveTo>
                    <a:pt x="0" y="504"/>
                  </a:moveTo>
                  <a:lnTo>
                    <a:pt x="53" y="496"/>
                  </a:lnTo>
                  <a:lnTo>
                    <a:pt x="95" y="496"/>
                  </a:lnTo>
                  <a:lnTo>
                    <a:pt x="136" y="496"/>
                  </a:lnTo>
                  <a:lnTo>
                    <a:pt x="190" y="518"/>
                  </a:lnTo>
                  <a:lnTo>
                    <a:pt x="231" y="540"/>
                  </a:lnTo>
                  <a:lnTo>
                    <a:pt x="273" y="561"/>
                  </a:lnTo>
                  <a:lnTo>
                    <a:pt x="314" y="561"/>
                  </a:lnTo>
                  <a:lnTo>
                    <a:pt x="355" y="561"/>
                  </a:lnTo>
                  <a:lnTo>
                    <a:pt x="396" y="561"/>
                  </a:lnTo>
                  <a:lnTo>
                    <a:pt x="451" y="561"/>
                  </a:lnTo>
                  <a:lnTo>
                    <a:pt x="492" y="561"/>
                  </a:lnTo>
                  <a:lnTo>
                    <a:pt x="533" y="561"/>
                  </a:lnTo>
                  <a:lnTo>
                    <a:pt x="574" y="540"/>
                  </a:lnTo>
                  <a:lnTo>
                    <a:pt x="601" y="507"/>
                  </a:lnTo>
                  <a:lnTo>
                    <a:pt x="615" y="475"/>
                  </a:lnTo>
                  <a:lnTo>
                    <a:pt x="643" y="442"/>
                  </a:lnTo>
                  <a:lnTo>
                    <a:pt x="657" y="410"/>
                  </a:lnTo>
                  <a:lnTo>
                    <a:pt x="698" y="377"/>
                  </a:lnTo>
                  <a:lnTo>
                    <a:pt x="752" y="346"/>
                  </a:lnTo>
                  <a:lnTo>
                    <a:pt x="807" y="324"/>
                  </a:lnTo>
                  <a:lnTo>
                    <a:pt x="849" y="313"/>
                  </a:lnTo>
                  <a:lnTo>
                    <a:pt x="917" y="291"/>
                  </a:lnTo>
                  <a:lnTo>
                    <a:pt x="958" y="291"/>
                  </a:lnTo>
                  <a:lnTo>
                    <a:pt x="999" y="281"/>
                  </a:lnTo>
                  <a:lnTo>
                    <a:pt x="1054" y="281"/>
                  </a:lnTo>
                  <a:lnTo>
                    <a:pt x="1095" y="270"/>
                  </a:lnTo>
                  <a:lnTo>
                    <a:pt x="1163" y="270"/>
                  </a:lnTo>
                  <a:lnTo>
                    <a:pt x="1205" y="270"/>
                  </a:lnTo>
                  <a:lnTo>
                    <a:pt x="1246" y="259"/>
                  </a:lnTo>
                  <a:lnTo>
                    <a:pt x="1246" y="227"/>
                  </a:lnTo>
                  <a:lnTo>
                    <a:pt x="1246" y="195"/>
                  </a:lnTo>
                  <a:lnTo>
                    <a:pt x="1246" y="162"/>
                  </a:lnTo>
                  <a:lnTo>
                    <a:pt x="1246" y="130"/>
                  </a:lnTo>
                  <a:lnTo>
                    <a:pt x="1246" y="97"/>
                  </a:lnTo>
                  <a:lnTo>
                    <a:pt x="1260" y="65"/>
                  </a:lnTo>
                  <a:lnTo>
                    <a:pt x="1260" y="32"/>
                  </a:lnTo>
                  <a:lnTo>
                    <a:pt x="1273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91000" y="4940280"/>
              <a:ext cx="5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21200" y="5478480"/>
              <a:ext cx="3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147840" y="5121360"/>
            <a:ext cx="214560" cy="264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478-095D-415B-B49C-2F94469F61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748B5-6316-4406-BE93-E91E81DF3BD5}" type="datetime1">
              <a:rPr lang="en-US"/>
              <a:t>07/29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vergence No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 a2, a3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a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a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 a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3278160"/>
            <a:ext cx="4572000" cy="2589120"/>
            <a:chOff x="2133720" y="3278160"/>
            <a:chExt cx="4572000" cy="2589120"/>
          </a:xfrm>
        </p:grpSpPr>
        <p:sp>
          <p:nvSpPr>
            <p:cNvPr id="641" name=""/>
            <p:cNvSpPr/>
            <p:nvPr/>
          </p:nvSpPr>
          <p:spPr>
            <a:xfrm>
              <a:off x="4273560" y="4370400"/>
              <a:ext cx="291960" cy="320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6720" y="37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133720" y="4611600"/>
              <a:ext cx="2209680" cy="8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286000" y="4696920"/>
              <a:ext cx="2133720" cy="9176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3778200"/>
              <a:ext cx="2133720" cy="7524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572000" y="3278160"/>
              <a:ext cx="1981080" cy="1168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572000" y="4111560"/>
              <a:ext cx="2057400" cy="419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2000" y="4613400"/>
              <a:ext cx="2133720" cy="4172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95680" y="4697280"/>
              <a:ext cx="2133720" cy="11700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76560" y="385128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52880" y="510372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00240" y="33480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28840" y="451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91A-82E5-420F-BF2B-6E9EA367E31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86F26-5AAC-4A72-91E4-2CD059B90308}" type="datetime1">
              <a:rPr lang="en-US"/>
              <a:t>07/29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two branches, one wh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other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"/>
          <p:cNvSpPr/>
          <p:nvPr/>
        </p:nvSpPr>
        <p:spPr>
          <a:xfrm>
            <a:off x="2346480" y="2712960"/>
            <a:ext cx="42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971800" y="2722680"/>
                <a:ext cx="31240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01840" y="4637160"/>
                <a:ext cx="39610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A9D-3666-4D94-86F8-774BB40416D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9D5AE-A5F8-4D8C-8D5F-E1EF2D1CF8B3}" type="datetime1">
              <a:rPr lang="en-US"/>
              <a:t>07/29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Conventional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ght telecommunications test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nodes, 130 arcs, 585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experiment on an IBM RS6000/5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of the eight test problems, run time of 360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easible solution wa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6EF-FB17-4D22-9210-48184C32D24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221AC-6808-431F-80AD-198ABC45D79C}" type="datetime1">
              <a:rPr lang="en-US"/>
              <a:t>07/29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Our New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066680" y="1601640"/>
          <a:ext cx="7766280" cy="41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1640"/>
                    <a:ext cx="7766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738360" y="5472000"/>
            <a:ext cx="762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est problems have 50 nodes, 130 arcs, 585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s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B09-03D7-44A1-A581-FD482E7DDC3F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84E37-4335-4469-83B0-F91E96A3EA72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8A3-85AF-43A1-BBB4-E087DD3943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BBCE8-DDF3-41E1-9AAA-F75FF51854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D57-40D9-46E6-8AB3-77B8EBA6C6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D85D9-C881-49AD-8727-A52DCE4B7C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strategy should preserve the structure of the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 on “small” decisions, not the variables in the column generation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6F2-464A-45F6-9BE2-41760387321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B5AA7-BA98-4B33-A8C3-13C700E5EE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80F-D793-4CC0-8C6A-BE840CBBB2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33E38-5701-4454-ACD9-02EFE5933F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C4D-3626-43A9-961A-E1DB7BBB0D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6BCA6-9B8C-4D0B-8C4A-6EA26F962E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1D3-376E-4236-89E0-004CE82106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E10BE-76FA-492E-95DA-471A9358E4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2:52Z</dcterms:modified>
  <cp:revision>396</cp:revision>
  <dc:subject/>
  <dc:title>Thesis Proposal Meeting</dc:title>
</cp:coreProperties>
</file>