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1B98-526C-4E3A-A392-778A2346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7E93-FB17-4606-A8B2-D1FF0B2C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2A93-91A4-4644-BB17-4A0D98DF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16A-257F-4DA2-96D1-00882F0E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046-1334-47EC-A443-1A299271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92E1-947B-4648-A696-20912DCD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1730-6C0D-4213-8D9E-38B8A3D7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FE21-BBF5-418F-8071-F95649CB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1E8-E072-4E41-90B3-BC61BBD3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2E3F-7DCA-4E3D-B0D1-B2D08585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AF9B-795B-461C-AA2A-17D18CF6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8CE8-AEB1-4928-B8C2-26C3A38B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05A6-D5AA-4C4D-B21B-89256A1E76A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C741-418C-4A27-AC57-1CDD5A47F1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Quantitative Share Index or Quality of Service Index (QSI):  Defin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11360" y="222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ntitative Share Index or Quality of Service Index (QS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is a QSI for each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each mark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airlin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(m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um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(m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 all itinerarie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 a mark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 all airline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 equal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for all market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37E-4D54-45C2-9239-7791C144509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5FB8F-80EA-4158-A516-591019610032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arket Sha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arket share of airlin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mark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the sum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(m)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 all itinerarie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 mark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arket share of the competitors of airlin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mark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1 – 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um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(m)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 all itinerarie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 mark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 this a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s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543A-0087-4E42-9955-C7506EEC59A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31CD6-FB27-4B8B-9B9A-2A1F3F72A653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captur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0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 a passenger who desires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t is redirected (spilled) to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passenger has the choice of accepting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 not (going to a competito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ability that passenger will accep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given an uniform distribution) is the ratio o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J(m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J(m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s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bability that passenger will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O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ep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given an uniform distribution) is the ratio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s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o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J(m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s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ratios sum to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a monopoly, recapture rate will equal 1.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70BC-6355-4D0A-94DA-1E7A62451A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ED538-7C99-48E3-9E31-BCD31552FAC6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capture Calc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apture rates for airlin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 probability that a passenger spilled from I will accept a seat on J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if one exi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SI mechanism for computing recapture ra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660760" y="4222800"/>
                <a:ext cx="36194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SI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c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SI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E7D2-84F2-425E-B278-F3D1496247F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FF887-0BC2-4386-9938-D16137568DBA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 with Recapt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2489040" y="5619600"/>
            <a:ext cx="53352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13480" y="5619600"/>
            <a:ext cx="53316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46240" y="5257800"/>
            <a:ext cx="2743200" cy="438120"/>
          </a:xfrm>
          <a:custGeom>
            <a:avLst/>
            <a:gdLst/>
            <a:ahLst/>
            <a:rect l="l" t="t" r="r" b="b"/>
            <a:pathLst>
              <a:path w="1728" h="276">
                <a:moveTo>
                  <a:pt x="0" y="276"/>
                </a:moveTo>
                <a:cubicBezTo>
                  <a:pt x="146" y="230"/>
                  <a:pt x="589" y="0"/>
                  <a:pt x="877" y="0"/>
                </a:cubicBezTo>
                <a:cubicBezTo>
                  <a:pt x="1165" y="0"/>
                  <a:pt x="1551" y="219"/>
                  <a:pt x="1728" y="2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22560" y="5605560"/>
            <a:ext cx="2560680" cy="250560"/>
          </a:xfrm>
          <a:custGeom>
            <a:avLst/>
            <a:gdLst/>
            <a:ahLst/>
            <a:rect l="l" t="t" r="r" b="b"/>
            <a:pathLst>
              <a:path w="1613" h="158">
                <a:moveTo>
                  <a:pt x="0" y="105"/>
                </a:moveTo>
                <a:cubicBezTo>
                  <a:pt x="272" y="57"/>
                  <a:pt x="547" y="0"/>
                  <a:pt x="816" y="9"/>
                </a:cubicBezTo>
                <a:cubicBezTo>
                  <a:pt x="1085" y="18"/>
                  <a:pt x="1447" y="127"/>
                  <a:pt x="1613" y="15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2560" y="5929200"/>
            <a:ext cx="2573280" cy="235080"/>
          </a:xfrm>
          <a:custGeom>
            <a:avLst/>
            <a:gdLst/>
            <a:ahLst/>
            <a:rect l="l" t="t" r="r" b="b"/>
            <a:pathLst>
              <a:path w="1621" h="148">
                <a:moveTo>
                  <a:pt x="0" y="45"/>
                </a:moveTo>
                <a:cubicBezTo>
                  <a:pt x="272" y="93"/>
                  <a:pt x="546" y="148"/>
                  <a:pt x="816" y="141"/>
                </a:cubicBezTo>
                <a:cubicBezTo>
                  <a:pt x="1086" y="134"/>
                  <a:pt x="1453" y="29"/>
                  <a:pt x="1621" y="0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4920" y="49719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,100,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3080" y="53150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,300,1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96960" y="57722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,100,1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8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apture rat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4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5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5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ume all itineraries have a single fare class, and their fares are all equ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timal solu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ill _____ from I to J, Spill _____ from I to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ill _____ from J to I, Spill _____ from J to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ill _____ from K to I, Spill _____ from K to 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62320" y="3733920"/>
            <a:ext cx="1904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181480" y="3657600"/>
            <a:ext cx="190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33720" y="4114800"/>
            <a:ext cx="5331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00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29200" y="4114800"/>
            <a:ext cx="457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5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438280" y="4572000"/>
            <a:ext cx="190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81480" y="4572000"/>
            <a:ext cx="190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9A9-4AFC-4558-86AB-914E51A08E0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6E11C-04CB-48CD-825E-5B1760AA16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athematical Model: 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the number of passengers that desire travel on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then travel on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s an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average fare for itinerar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daily unconstrained demand for itinerar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apacity on flight leg 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recapture rate of a passenger desiring itinerar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who is offered itinerar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422360" y="5543640"/>
                <a:ext cx="6095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flight leg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is on itinerary </m:t>
                              </m:r>
                              <m:r>
                                <m:t xml:space="preserve">p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28680" y="2286000"/>
                <a:ext cx="2858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930240" y="3772080"/>
                <a:ext cx="7826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ar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914400" y="4114800"/>
                <a:ext cx="6094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914400" y="4457880"/>
                <a:ext cx="81288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219320" y="4743360"/>
                <a:ext cx="260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D27C-6454-46BB-B235-E4B66424760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D1192-507B-43BB-BD48-E8B1EBE002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asic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26880" y="1314360"/>
                <a:ext cx="8490240" cy="418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imize</m:t>
                          </m:r>
                        </m:e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p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fare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subject to:</m:t>
                          </m:r>
                        </m:e>
                        <m:e/>
                        <m:e/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p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  <m:r>
                            <m:t xml:space="preserve">≤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A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r>
                            <m:t xml:space="preserve">∀</m:t>
                          </m:r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L</m:t>
                          </m:r>
                        </m:e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den>
                              </m:f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nary>
                        </m:e>
                        <m:e>
                          <m:r>
                            <m:t xml:space="preserve">∀</m:t>
                          </m:r>
                          <m:r>
                            <m:t xml:space="preserve">p</m:t>
                          </m:r>
                          <m:r>
                            <m:t xml:space="preserve">∈</m:t>
                          </m:r>
                          <m:r>
                            <m:t xml:space="preserve">P</m:t>
                          </m:r>
                        </m:e>
                      </m:mr>
                      <m:mr>
                        <m:e/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r</m:t>
                              </m:r>
                            </m:sup>
                          </m:sSubSup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∀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  <m:r>
                            <m:t xml:space="preserve">∈</m:t>
                          </m:r>
                          <m:r>
                            <m:t xml:space="preserve">P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6080-A07A-4476-9B57-F132BD937CA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5BD1D-BD88-4BD3-A87F-7C537E4AAF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358452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BC4-87BF-4E1E-8ABB-2FCE77C5B75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0BE71-8B80-46B0-B497-73A6746743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ow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58452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4ECE-B30F-4C98-91BC-2DEE4FE5272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DB761-26F7-4C70-9BC8-12C342A70A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and Row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4659480" cy="48006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6DD-FB17-41FE-9C21-0C7683D1178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98885-0D84-455C-A26C-BB10D2E2CD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Passenger Mix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ul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umn and Row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ution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s and Exten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D603-1940-4285-9A1A-64A801011C7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8CD54-8986-40C1-A857-E84A6B077B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and Row Generation:  Constraint Matrix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943600" cy="47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82D2-E889-4B20-A1A0-162AD539D9D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9FB31-2406-46D3-8CFE-D2D7C2F115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Keypath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ume most passengers flow along their desired itiner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cus on which passengers the airline would like to redirect on other itinerar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decision vari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number of passengers who desire travel on itinerary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, but the airline attempts to redirect onto the itinerary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unconstrained demand on flight leg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803160" y="4191120"/>
                <a:ext cx="728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224000" y="5327640"/>
                <a:ext cx="2412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87520" y="5886360"/>
                <a:ext cx="29955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F998-476E-4A6B-9CC4-CFE4F3D7F84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82FAE-C663-41F9-8D19-C7A5D36AB2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Keypath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62120" y="1428840"/>
                <a:ext cx="7619760" cy="33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p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fare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b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  <m:sup>
                                          <m:r>
                                            <m:t xml:space="preserve">r</m:t>
                                          </m:r>
                                        </m:sup>
                                      </m:sSubSup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fare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</m:sub>
                                      </m:sSub>
                                    </m:e>
                                  </m:d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  <m:e/>
                      </m:mr>
                      <m:mr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:</m:t>
                          </m:r>
                        </m:e>
                        <m:e/>
                        <m:e/>
                        <m:e/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p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</m:e>
                              </m:nary>
                            </m:e>
                          </m:nary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p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  <m:e/>
                      </m:mr>
                      <m:mr>
                        <m:e/>
                        <m:e>
                          <m:r>
                            <m:t xml:space="preserve"> </m:t>
                          </m:r>
                          <m:r>
                            <m:t xml:space="preserve">≥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A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r>
                            <m:t xml:space="preserve">∀</m:t>
                          </m:r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L</m:t>
                          </m:r>
                        </m:e>
                        <m:e/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r</m:t>
                                  </m:r>
                                </m:sup>
                              </m:sSubSup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nary>
                        </m:e>
                        <m:e>
                          <m:r>
                            <m:t xml:space="preserve">∀</m:t>
                          </m:r>
                          <m:r>
                            <m:t xml:space="preserve">p</m:t>
                          </m:r>
                          <m:r>
                            <m:t xml:space="preserve">∈</m:t>
                          </m:r>
                          <m:r>
                            <m:t xml:space="preserve">P</m:t>
                          </m:r>
                        </m:e>
                        <m:e/>
                      </m:mr>
                      <m:mr>
                        <m:e/>
                        <m:e>
                          <m:sSubSup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r</m:t>
                              </m:r>
                            </m:sup>
                          </m:sSubSup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629400" y="5562720"/>
                <a:ext cx="167328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¹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</m:sSub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4875120" y="4952880"/>
            <a:ext cx="266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hange of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lation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4952880"/>
            <a:ext cx="3429000" cy="1600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B0B9-F2F9-4C0B-82ED-1517C2443A9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A80C3-3AFD-4554-B4F7-BB8469C8BB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Benefit of the Keypath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w minimizing the objective function and most of the objective coefficients are __________.  Therefore, this will guide the decision variables to values of __________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does this help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86200" y="2743200"/>
            <a:ext cx="1447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ositiv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057400" y="3733920"/>
            <a:ext cx="1904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BCC-763F-495D-B5AA-DBC764252CB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9D45C-0D66-4B1A-BC43-BCE9F7BCB8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lution Proced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971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Both Column Generation and Row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ual flow of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1- Define RMP for Iteration 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Set k =1.  Denote an initial subset of columns (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which is to be used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2- Solve RMP for Iteration 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Solve a problem with the subset of columns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3- Generate Row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Determine if any constraints are violated and express them explicitly in the constraint matrix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4- Generate Colum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Price some of the remaining columns, and add a group (A*) that have a reduced cost less than zero, i.e.,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[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|A*]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5- Test Optimalit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If no columns or rows are added, terminate.  Otherwise, k =k+1, go to Step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C93F-D772-41A7-8557-B23FADF4951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6A451-83AD-4061-9EB1-4E41C7A7D6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a large number of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the number of itineraries in mark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of them aren’t going to be conside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te columns by explicit enumeration and “pricing out” of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4C40-21C9-4436-89F9-850B5B552CA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42865-5B92-4320-A067-1A84129D92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ing Reduced Cos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reduced cost of a column i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     is the non-negative dual cost associated with flight leg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      is the non-negative dual cost associated with itinerar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187280" y="2400480"/>
                <a:ext cx="677088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ar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ar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r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133720" y="3352680"/>
                <a:ext cx="380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867280" y="3962520"/>
                <a:ext cx="609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9959-F08A-44B9-97E4-E9C9456C99C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4504B-B1CD-4B05-A85F-E75EB34B50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lving the Pricing Problem (Column Generation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the column generation step be accomplished by solving shortest paths on a network with “modified” arc costs, or some other polynomial time algorith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nt:  Think about fare struc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are the implications of the answer to this questio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C4C4-85F0-4669-883F-7EE6AEE2952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420F8-18E7-4203-A5DF-7DC38603205D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Experienc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rrent United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umber of Markets -15,67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umber of Itineraries - 60,21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imum number of legs in an itinerary- 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imum number of itineraries in a market- 6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ight network (# of flights)-  2,03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ing CPLEX, we solved the above problem in roughly 100 seconds, generating just over 100,000 columns and 4,100+ row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1C5-0389-41C8-8D57-BE3AF3F6093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E0981-1D12-4F09-80C5-A8018EA254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s:  Irregular Opera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flights are cancelled or delay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ssenger itineraries are cancell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ssenger reassignments to alternative itineraries necessa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light schedule and fleet assignments (capacity) are kn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bjective might be to minimize total delays or to minimize the maximum delay beyond schedul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are recapture rates affected by this scenario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would the passenger-mix model have to be altered for this scenario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ADC3-8B29-4DF5-912C-39BBDA844CC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9ECA3-6EC5-4B3C-BC69-39059AB0DB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me Basic Defin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k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 origin-destination airport pair, between which passengers wish to fly one-w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S-ORD and ORD-BOS are differ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iner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specific sequence of flight legs on which a passenger travels from their ultimate origin to their ultimate destin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re Clas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fferent prices for the same travel service, usually distinguished from one another by the set of restrictions imposed by the airl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462-5993-45B0-B232-C5FA754620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DCD49-7553-4B97-B942-FB9F4909C3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79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tensions:  Yield Manag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the passenger mix problem be used as a tool for yield managemen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are the issu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terministic vs. stochast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quence of reque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mall demands (i.e., quality of dat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ows the expected makeup of seat allo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akes into account the probability of recapturing spilled pa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ives ideas of itineraries that should be block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ual prices might give us ideas for contributions, or displacement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FA1-9585-452D-9C35-C4E9E7E2E5F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152BD-E305-46A3-B329-47A47F509B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tensions: Fleet Assign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be explained in the next lectures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872C-4233-49D0-838F-971FBF2F442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3B949-A5BA-4F7D-9E13-C18F3A0185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me More Defin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i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ssengers that are denied booking due to capacity restri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ap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ssengers that are recaptured back to the airline after being spilled from another flight le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08A2-8D98-4221-93D6-2D8EB7DD1F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2AFE3-FB03-4FF0-9626-063D209373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blem Descrip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 airline’s flight sche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unconstrained demand for all itineraries over the airline’s flight sche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ize revenues by intelligently spilling passengers that are either low fare or will most likely fly another itinerary (recaptur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quivalent to minimize the total spill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B41E-E30D-4F10-AF6E-EED069098A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599A1-560D-40D6-A1CA-4138773956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"/>
          <p:cNvSpPr/>
          <p:nvPr/>
        </p:nvSpPr>
        <p:spPr>
          <a:xfrm>
            <a:off x="2489040" y="51055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13480" y="5105520"/>
            <a:ext cx="53316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46240" y="4743360"/>
            <a:ext cx="2743200" cy="438120"/>
          </a:xfrm>
          <a:custGeom>
            <a:avLst/>
            <a:gdLst/>
            <a:ahLst/>
            <a:rect l="l" t="t" r="r" b="b"/>
            <a:pathLst>
              <a:path w="1728" h="276">
                <a:moveTo>
                  <a:pt x="0" y="276"/>
                </a:moveTo>
                <a:cubicBezTo>
                  <a:pt x="146" y="230"/>
                  <a:pt x="589" y="0"/>
                  <a:pt x="877" y="0"/>
                </a:cubicBezTo>
                <a:cubicBezTo>
                  <a:pt x="1165" y="0"/>
                  <a:pt x="1551" y="219"/>
                  <a:pt x="1728" y="2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22560" y="5091120"/>
            <a:ext cx="2560680" cy="250920"/>
          </a:xfrm>
          <a:custGeom>
            <a:avLst/>
            <a:gdLst/>
            <a:ahLst/>
            <a:rect l="l" t="t" r="r" b="b"/>
            <a:pathLst>
              <a:path w="1613" h="158">
                <a:moveTo>
                  <a:pt x="0" y="105"/>
                </a:moveTo>
                <a:cubicBezTo>
                  <a:pt x="272" y="57"/>
                  <a:pt x="547" y="0"/>
                  <a:pt x="816" y="9"/>
                </a:cubicBezTo>
                <a:cubicBezTo>
                  <a:pt x="1085" y="18"/>
                  <a:pt x="1447" y="127"/>
                  <a:pt x="1613" y="15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22560" y="5415120"/>
            <a:ext cx="2573280" cy="234720"/>
          </a:xfrm>
          <a:custGeom>
            <a:avLst/>
            <a:gdLst/>
            <a:ahLst/>
            <a:rect l="l" t="t" r="r" b="b"/>
            <a:pathLst>
              <a:path w="1621" h="148">
                <a:moveTo>
                  <a:pt x="0" y="45"/>
                </a:moveTo>
                <a:cubicBezTo>
                  <a:pt x="272" y="93"/>
                  <a:pt x="546" y="148"/>
                  <a:pt x="816" y="141"/>
                </a:cubicBezTo>
                <a:cubicBezTo>
                  <a:pt x="1086" y="134"/>
                  <a:pt x="1453" y="29"/>
                  <a:pt x="1621" y="0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51160" y="43624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,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4760" y="474336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,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72040" y="5200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,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market, 3 itinera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constrained demand per itiner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 demand for an itinerary when the number of seats is unlimi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5C2-7506-4F18-91DE-E7147FDF0B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AB54A-5944-4EE2-95B3-7FBBB5ED07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 with Capacity Constrain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"/>
          <p:cNvSpPr/>
          <p:nvPr/>
        </p:nvSpPr>
        <p:spPr>
          <a:xfrm>
            <a:off x="4622760" y="46483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46840" y="46483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79960" y="4286160"/>
            <a:ext cx="2743200" cy="438120"/>
          </a:xfrm>
          <a:custGeom>
            <a:avLst/>
            <a:gdLst/>
            <a:ahLst/>
            <a:rect l="l" t="t" r="r" b="b"/>
            <a:pathLst>
              <a:path w="1728" h="276">
                <a:moveTo>
                  <a:pt x="0" y="276"/>
                </a:moveTo>
                <a:cubicBezTo>
                  <a:pt x="146" y="230"/>
                  <a:pt x="589" y="0"/>
                  <a:pt x="877" y="0"/>
                </a:cubicBezTo>
                <a:cubicBezTo>
                  <a:pt x="1165" y="0"/>
                  <a:pt x="1551" y="219"/>
                  <a:pt x="1728" y="2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56280" y="4633920"/>
            <a:ext cx="2560680" cy="250920"/>
          </a:xfrm>
          <a:custGeom>
            <a:avLst/>
            <a:gdLst/>
            <a:ahLst/>
            <a:rect l="l" t="t" r="r" b="b"/>
            <a:pathLst>
              <a:path w="1613" h="158">
                <a:moveTo>
                  <a:pt x="0" y="105"/>
                </a:moveTo>
                <a:cubicBezTo>
                  <a:pt x="272" y="57"/>
                  <a:pt x="547" y="0"/>
                  <a:pt x="816" y="9"/>
                </a:cubicBezTo>
                <a:cubicBezTo>
                  <a:pt x="1085" y="18"/>
                  <a:pt x="1447" y="127"/>
                  <a:pt x="1613" y="15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56280" y="4957920"/>
            <a:ext cx="2573280" cy="234720"/>
          </a:xfrm>
          <a:custGeom>
            <a:avLst/>
            <a:gdLst/>
            <a:ahLst/>
            <a:rect l="l" t="t" r="r" b="b"/>
            <a:pathLst>
              <a:path w="1621" h="148">
                <a:moveTo>
                  <a:pt x="0" y="45"/>
                </a:moveTo>
                <a:cubicBezTo>
                  <a:pt x="272" y="93"/>
                  <a:pt x="546" y="148"/>
                  <a:pt x="816" y="141"/>
                </a:cubicBezTo>
                <a:cubicBezTo>
                  <a:pt x="1086" y="134"/>
                  <a:pt x="1453" y="29"/>
                  <a:pt x="1621" y="0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4520" y="38862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,100,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4160" y="46483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,200,1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40840" y="52578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,100,1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market, 3 itinera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on itinerary I = 15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on itinerary J = 17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on itinerary K = 13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timal solu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ill _____ from 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ill _____ from 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ill _____ from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90920" y="4114800"/>
            <a:ext cx="161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90920" y="5029200"/>
            <a:ext cx="161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09680" y="4572000"/>
            <a:ext cx="3142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5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463B-5054-4BB7-9262-00D32EDBFA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1E17E-D7EF-43E7-B1F0-04267BC75F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venue Management:  A Quick Loo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486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flight le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ight 105, LGA-ORD, 287 seats availab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fare class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: High fare, no restric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: Low fare, many restric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and for Flight 1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 class: 95 with an average fare of $4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 class:  225 with an average fare of $1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timal Spill Solution (     Y and      M passenger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venue:  $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pill:  $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19720" y="4876920"/>
            <a:ext cx="161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486400" y="4876920"/>
            <a:ext cx="3142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33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8120" y="5334120"/>
            <a:ext cx="21333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95*400 + 192*100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666880" y="5867280"/>
            <a:ext cx="9144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33*100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3A3C-43D7-4E95-8C5A-53CED5C409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44B23-1C6A-48DC-AAF8-47F515AF03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twork Revenue Manag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F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ight 105, LGA-ORD, 287 sea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ight 201, ORD-SFO, 287 sea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and (one fare clas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GA-ORD, 225 passengers $1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D-SFO, 150 passengers $15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GA-SFO, 150 passengers, $22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timal Solution:  $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GA-ORD,          passenger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D-SFO,         pa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GA-SFO,         pa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114800" y="4400640"/>
            <a:ext cx="2819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50*100+150*150+137*225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8120" y="4705200"/>
            <a:ext cx="5331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50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971800" y="5162400"/>
            <a:ext cx="533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50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971800" y="5619600"/>
            <a:ext cx="533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37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978D-6410-47C0-9DDA-EEB49417B4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49F26-0823-4889-9675-FBB642F9DE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54:55Z</dcterms:modified>
  <cp:revision>413</cp:revision>
  <dc:subject/>
  <dc:title>Thesis Proposal Meeting</dc:title>
</cp:coreProperties>
</file>