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1094DE-1CE1-48E4-8C55-806F9BE0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09AECB-2A7A-4D04-88D6-64529B6C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D4BB10-45DF-4470-89BC-A868F620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C0C59B-7B73-4C2A-8643-96D6B5F2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E400D7-2309-4B21-AB55-9055A79A0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224-C3C2-47D7-9A84-76B02A9E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A5B-74F4-4F6F-B458-BE822B3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52D-E7F8-468C-9456-3CB17FB2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B43-6F12-437A-9958-00411CF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BEB-8BDA-4758-9CD3-3134626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6E5-80BF-49CC-8105-3C899996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24-DF4D-43E2-8D8D-DF373BDA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65C-4BD9-4611-9DCC-279BB04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A3A-08E1-44E3-84B8-45DCEE5D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C72-9168-44AD-ABB9-F779B0D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3F7-EEE7-4C2C-A88C-45ACE1E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A15-14F2-4D88-9326-DF4A236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7C55-7D3B-4674-95C3-A0967FE90C7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B2D3-DB70-420C-990C-160772B847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C6D-4A2D-4BDD-9E3B-443819DBE4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A8E4D-CB52-42BE-9D7E-6CEDF2C39D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869-7F4D-4745-B3E0-FE32DA19A8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43B33-09A2-4F9B-B638-089EF9C24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631-F2CB-4276-BD7A-708886AAB42D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90EE9-DC6D-4190-A9FB-54CED3845DE8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B7F-F230-4727-8C78-9ADB92A97568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86E5B-6C04-4032-BEFE-0887B680A6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8C7-1C0B-41F6-8DB7-74AEF9D9DA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A6258-7AD8-4E8A-A061-71F14154876B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C94-1CC0-4680-9073-C9FC096B214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A27A6-264E-474D-A05C-4681AFB91F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2C6-9D9A-4788-8C7B-B40EB77B28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264CD-BF3F-495E-8A53-D80BFEF7BE63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BF1-03A9-4A4F-A63C-C419A70F068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A840E-DACD-4D16-8339-1599076D83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076-31B5-49F4-AF14-BA00A88BB1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E91CB-FEFF-4239-A5A3-DA48C4A832F4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DCC-6907-4977-B98D-CA82CDAB03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6E83-1E16-40FA-B9E9-44D7B0E636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011-E970-477B-A508-EF68DA1B81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5F8F6-901F-47EC-969C-B1F1D6EB69C8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DF1-D476-429C-9F91-ED8CE64B17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7E99A-641F-460D-A5E1-EAAC81F25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F24-9F3B-41F0-850C-482A3FCECC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6303C-DA37-4456-8BA3-579DA28F7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CD7-16EE-4F74-B2C2-5D3BC7D018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A6247-D9B7-48F4-9607-94656EB58F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6F4-10CF-48E3-A2A6-EC3D96CE14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07BD9-91DB-47FC-91B6-3DA2733C223E}" type="datetime5">
              <a:rPr lang="en-US"/>
              <a:t>Jul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694-DD4A-472A-9D62-5D044505FD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CFB5-9007-4152-85B3-B26C08049809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EAA-C45E-4680-B14D-800F527FDC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C428E-44BE-4E16-AA0F-308474525719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93A-CC18-4FFF-A7E7-AE8EFB9DD0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C605F-4B24-4D58-A92D-9E3A213CC86B}" type="datetime5">
              <a:rPr lang="en-US"/>
              <a:t>Jul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9EA-39CF-4C30-A548-FF4AE6E6530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C6529-F212-4197-82A7-CCCF01C8FA1E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42A-C144-4F29-A340-43145993AF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E9FCB-2A5D-414A-B5CE-3A4224899DBE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F44-FA64-45F5-99A7-352238C002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15F35-F0E9-4DFE-924D-0CB70768704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8E9-5FDE-4CE6-B2F9-60C0B16582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E2E4C-661E-49A9-AEDE-04D988B83D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46D-B4A0-496E-9F98-B38DE5BBE0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26442-4C2B-4E08-BBB6-07EE4CE5ADA1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A7D-4908-4328-8E39-AF7F530A32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EFF9A-83D7-4785-B50F-D319129088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9D0-02A3-4F4F-AFCF-1EDAD4A7484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28200-15F2-4E27-9B6A-283283E2FC1D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F15-8DF7-42AA-B2E2-CE9892FACFF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B0BE0-AC01-4673-AC0E-EF14FF9A63B4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52F-7BED-4CF8-AD47-79CA583401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5C04A-1049-45F7-9450-C032E373F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BA9-1419-4E98-97A6-4E136B7F5C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6D972-F3EF-4594-91FD-0F14743ECCF5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D6D-3478-4A2A-815B-754AE0C676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3366-BE7F-4E07-AE4F-68FB674326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9B9-6D8D-455B-8117-CFA5E65F89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F3477-5902-4DE9-BF2F-FE41D12613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663-10A0-4B3F-A74A-B988D32155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54F09-1985-4DB6-96F1-335C372565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B56-23B9-48AB-8281-4C67601CCB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A8EE1-71D6-4547-82CB-BA006FB757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763-A5CF-4C13-8B31-17888EA882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8DEAA-C570-408F-9926-A7ACC2A9A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386-3B6C-4A5A-BBFB-C64A80180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34B31-AB92-491B-91DB-C1667590BC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CDA-9283-477C-92DD-0F0FD579BC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F75B4-835D-49C1-B638-7D587B7462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FE3-7D38-4706-A7A1-B9C081BF34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E6CD2-FECB-475A-A4A9-2F29E20D11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179-BCCD-44F3-AB96-9A7C8D021D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3B526-E3E4-487B-A222-632B6AE38A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