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FB44-B711-44FC-A3E3-25A58CE343B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A531-751F-4DED-91DA-A15CFAE2CE8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39760" y="63324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6FDC-FC0A-4EEF-88D0-C2816879BE5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DA48-0F15-4660-ADB5-F26777D2B84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A91F-BCE4-4F25-9B79-7577C6133F0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24D9-4BD0-42D4-9B3C-67CD626D58A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03BE-AE76-4B0D-8399-6571B581489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2A63-E85C-4AB2-A269-4BC90A5065B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4FAB-6DE0-4CA8-A3D4-E002D3AD0F4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B5C9-7693-4645-863D-342CAA26D17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D85D-E956-4FC8-8D15-A8CB43F424B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7200-C285-41F8-99C7-072D80C7AD8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3DA0-E06D-46A9-9B2D-593EEAACD86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F290-FC79-4054-BD6E-57183C4CDDD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9EA6-99BB-4A34-A551-7C4A95AB98F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69AC-ECE9-4CED-B2B7-2EE0ADE645D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2712-41AA-4252-9FE7-456DA33E830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703D-8760-42C0-8224-87EA024114B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8B9B-BBFD-499C-A276-C08E0196134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A71D-CDCA-4A19-B4E1-AB0BCC48A1F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55AD-29C3-4292-ABBF-D79BACC18F3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C4FF-0B24-4300-A944-33748BFE6E0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37C6-C2E6-4E5A-BA2F-E5D01D6D2DE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734D-E21C-4F47-AC8D-5AFC2873678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008F-096A-4BA0-B9BC-840534A3D25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FB5-165C-45E7-AA03-9664F22B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BF2-30C5-4561-8B3C-9F9E887A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251-9B07-4E0F-9863-0959D7E5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A36-D015-4D76-A322-FE0ABA4D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7F3-519C-45B7-9E71-8743491A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935-D87F-4588-9B32-7D5330E1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578-F28F-4011-AF4A-D8411D82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E4E-9E19-45FA-B46C-8E184D16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329-9153-4ECF-A31F-33A3D6AB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45C-A3ED-4553-BAC5-EC0CA31A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C62-F069-4E54-91A9-0FB210EF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DA3-497B-4C0E-A29C-1876D7D9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955B-2F25-455A-B9D6-CC67FAD8051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uccessive Shortest Path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C42C-8353-466C-8A4B-6896AC26DB4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9144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26668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2666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51814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51814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14479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33526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57913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V="1">
            <a:off x="32004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1447920" y="41529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34290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>
            <a:off x="32004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7913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7339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38862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32004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16002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7524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1814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52578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553080" y="25909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4 on 1-3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6"/>
          <p:cNvSpPr/>
          <p:nvPr/>
        </p:nvSpPr>
        <p:spPr>
          <a:xfrm flipH="1" flipV="1">
            <a:off x="1676520" y="392400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21337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38088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2819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30"/>
          <p:cNvSpPr/>
          <p:nvPr/>
        </p:nvSpPr>
        <p:spPr>
          <a:xfrm flipH="1">
            <a:off x="3352320" y="247644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4495680" y="3695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3"/>
          <p:cNvSpPr/>
          <p:nvPr/>
        </p:nvSpPr>
        <p:spPr>
          <a:xfrm>
            <a:off x="5181480" y="148608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4"/>
          <p:cNvSpPr/>
          <p:nvPr/>
        </p:nvSpPr>
        <p:spPr>
          <a:xfrm>
            <a:off x="304920" y="369576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5"/>
          <p:cNvSpPr/>
          <p:nvPr/>
        </p:nvSpPr>
        <p:spPr>
          <a:xfrm>
            <a:off x="304920" y="4000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Text Box 36"/>
          <p:cNvSpPr/>
          <p:nvPr/>
        </p:nvSpPr>
        <p:spPr>
          <a:xfrm>
            <a:off x="57150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B3DE-298C-4AE5-BBDB-732A7287D36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762120" y="346716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2514600" y="18669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251460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502920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502920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1295280" y="240012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0040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563868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3048120" y="240012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295280" y="422928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327672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3047760" y="2629080"/>
            <a:ext cx="7596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373392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6386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581280" y="3314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373392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30481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1447920" y="4686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600200" y="2552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5146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510552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248520" y="2438280"/>
            <a:ext cx="266688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26"/>
          <p:cNvSpPr/>
          <p:nvPr/>
        </p:nvSpPr>
        <p:spPr>
          <a:xfrm flipH="1" flipV="1">
            <a:off x="1523520" y="400032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981080" y="4000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266688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0"/>
          <p:cNvSpPr/>
          <p:nvPr/>
        </p:nvSpPr>
        <p:spPr>
          <a:xfrm flipH="1">
            <a:off x="3200040" y="25527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4343400" y="3772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30492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556272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6477120" y="380988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should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D979-13D5-4C68-9D32-0BDBAB1714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6" name="Oval 3"/>
          <p:cNvSpPr/>
          <p:nvPr/>
        </p:nvSpPr>
        <p:spPr>
          <a:xfrm>
            <a:off x="762120" y="335268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4"/>
          <p:cNvSpPr/>
          <p:nvPr/>
        </p:nvSpPr>
        <p:spPr>
          <a:xfrm>
            <a:off x="2514600" y="17524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2514600" y="48387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029200" y="483876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7"/>
          <p:cNvSpPr/>
          <p:nvPr/>
        </p:nvSpPr>
        <p:spPr>
          <a:xfrm>
            <a:off x="5029200" y="17524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1295280" y="228564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20040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563868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11"/>
          <p:cNvSpPr/>
          <p:nvPr/>
        </p:nvSpPr>
        <p:spPr>
          <a:xfrm flipV="1">
            <a:off x="3048120" y="228564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3276720" y="51814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 flipH="1">
            <a:off x="3047760" y="251460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3733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638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373392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3048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16002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251460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51055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64008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25"/>
          <p:cNvSpPr/>
          <p:nvPr/>
        </p:nvSpPr>
        <p:spPr>
          <a:xfrm flipH="1" flipV="1">
            <a:off x="1523520" y="388584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9810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6668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 flipH="1">
            <a:off x="320004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43434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3049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556272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32"/>
          <p:cNvSpPr/>
          <p:nvPr/>
        </p:nvSpPr>
        <p:spPr>
          <a:xfrm flipH="1">
            <a:off x="3200400" y="54864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365760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34"/>
          <p:cNvSpPr/>
          <p:nvPr/>
        </p:nvSpPr>
        <p:spPr>
          <a:xfrm>
            <a:off x="228600" y="350532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35"/>
          <p:cNvSpPr/>
          <p:nvPr/>
        </p:nvSpPr>
        <p:spPr>
          <a:xfrm>
            <a:off x="5105520" y="601992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2286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579132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5A2C-B1BE-4795-BBA4-0483BDE6BB2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9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0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41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Text Box 42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6324480" y="23623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6400800" y="42670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values on the nodes are the current node potenti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3B6D-C27D-431D-AA10-4365C9D2445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3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19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Line 27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28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5105520" y="156204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26668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33"/>
          <p:cNvSpPr/>
          <p:nvPr/>
        </p:nvSpPr>
        <p:spPr>
          <a:xfrm>
            <a:off x="51814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34"/>
          <p:cNvSpPr/>
          <p:nvPr/>
        </p:nvSpPr>
        <p:spPr>
          <a:xfrm>
            <a:off x="5181480" y="1104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35"/>
          <p:cNvSpPr/>
          <p:nvPr/>
        </p:nvSpPr>
        <p:spPr>
          <a:xfrm>
            <a:off x="5562720" y="560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36"/>
          <p:cNvSpPr/>
          <p:nvPr/>
        </p:nvSpPr>
        <p:spPr>
          <a:xfrm>
            <a:off x="3048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Line 37"/>
          <p:cNvSpPr/>
          <p:nvPr/>
        </p:nvSpPr>
        <p:spPr>
          <a:xfrm>
            <a:off x="3809880" y="17146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38"/>
          <p:cNvSpPr/>
          <p:nvPr/>
        </p:nvSpPr>
        <p:spPr>
          <a:xfrm>
            <a:off x="3886200" y="1181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Text Box 39"/>
          <p:cNvSpPr/>
          <p:nvPr/>
        </p:nvSpPr>
        <p:spPr>
          <a:xfrm>
            <a:off x="6095880" y="236232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o obtain new node potentials, subtract the shortest path distances from the old potentia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52F3-4B3A-41F3-BECB-18FFD51CD2E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666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6324480" y="2819520"/>
            <a:ext cx="281952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23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6"/>
          <p:cNvSpPr/>
          <p:nvPr/>
        </p:nvSpPr>
        <p:spPr>
          <a:xfrm flipH="1">
            <a:off x="3123720" y="25146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4267080" y="3733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54864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30"/>
          <p:cNvSpPr/>
          <p:nvPr/>
        </p:nvSpPr>
        <p:spPr>
          <a:xfrm flipH="1">
            <a:off x="3124080" y="55627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35812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304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Text Box 35"/>
          <p:cNvSpPr/>
          <p:nvPr/>
        </p:nvSpPr>
        <p:spPr>
          <a:xfrm>
            <a:off x="571500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553080" y="4191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will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B8A7-834F-4E14-ABEC-9360B4C0352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22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3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4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28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5715000" y="5448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32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Text Box 36"/>
          <p:cNvSpPr/>
          <p:nvPr/>
        </p:nvSpPr>
        <p:spPr>
          <a:xfrm>
            <a:off x="30492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152280" y="3314880"/>
            <a:ext cx="60984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5715000" y="56768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6248520" y="29718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66DE-451B-44C3-9F85-A636E70A1F7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5105520" y="1333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5181480" y="5753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1"/>
          <p:cNvSpPr/>
          <p:nvPr/>
        </p:nvSpPr>
        <p:spPr>
          <a:xfrm flipH="1">
            <a:off x="1066320" y="2171880"/>
            <a:ext cx="129564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13716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33"/>
          <p:cNvSpPr/>
          <p:nvPr/>
        </p:nvSpPr>
        <p:spPr>
          <a:xfrm flipH="1">
            <a:off x="312408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34"/>
          <p:cNvSpPr/>
          <p:nvPr/>
        </p:nvSpPr>
        <p:spPr>
          <a:xfrm>
            <a:off x="38098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35"/>
          <p:cNvSpPr/>
          <p:nvPr/>
        </p:nvSpPr>
        <p:spPr>
          <a:xfrm>
            <a:off x="6553080" y="259092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E2C3-CCC1-498F-9D2D-643D14D8588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 flipH="1" flipV="1">
            <a:off x="137160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5181480" y="1333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5181480" y="5905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2666880" y="6095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22"/>
          <p:cNvSpPr/>
          <p:nvPr/>
        </p:nvSpPr>
        <p:spPr>
          <a:xfrm>
            <a:off x="190512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 flipH="1">
            <a:off x="327672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373392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29"/>
          <p:cNvSpPr/>
          <p:nvPr/>
        </p:nvSpPr>
        <p:spPr>
          <a:xfrm flipH="1">
            <a:off x="1143000" y="217188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1"/>
          <p:cNvSpPr/>
          <p:nvPr/>
        </p:nvSpPr>
        <p:spPr>
          <a:xfrm flipH="1">
            <a:off x="320040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3886200" y="2324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2666880" y="5676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4"/>
          <p:cNvSpPr/>
          <p:nvPr/>
        </p:nvSpPr>
        <p:spPr>
          <a:xfrm>
            <a:off x="2590920" y="59054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5181480" y="5600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5105520" y="582948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37"/>
          <p:cNvSpPr/>
          <p:nvPr/>
        </p:nvSpPr>
        <p:spPr>
          <a:xfrm>
            <a:off x="6172200" y="251460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obtain the new node potential, subtract the shortest path distance from the old potenti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0F49-EDB0-4115-AEC0-900E7DCA96B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1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236232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29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0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 Box 31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32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Text Box 36"/>
          <p:cNvSpPr/>
          <p:nvPr/>
        </p:nvSpPr>
        <p:spPr>
          <a:xfrm>
            <a:off x="563868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Text Box 37"/>
          <p:cNvSpPr/>
          <p:nvPr/>
        </p:nvSpPr>
        <p:spPr>
          <a:xfrm>
            <a:off x="6248520" y="2590920"/>
            <a:ext cx="259056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2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38"/>
          <p:cNvSpPr/>
          <p:nvPr/>
        </p:nvSpPr>
        <p:spPr>
          <a:xfrm>
            <a:off x="6400800" y="38862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can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CD9F-4A79-47BD-A8A1-BD1F71F2764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Original Costs and Node Potentials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83808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5909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5909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1055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1055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137160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27672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71500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31240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37160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335268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31240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809880" y="1486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571500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8620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038480" y="4762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200400" y="2857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600200" y="4533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6765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45720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25909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2578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5334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27432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00B8-F6B3-437C-AF8C-BC90E059B09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685800" y="34671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4382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43828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95288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9528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8"/>
          <p:cNvSpPr/>
          <p:nvPr/>
        </p:nvSpPr>
        <p:spPr>
          <a:xfrm flipV="1">
            <a:off x="1219320" y="24001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3124080" y="20192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10"/>
          <p:cNvSpPr/>
          <p:nvPr/>
        </p:nvSpPr>
        <p:spPr>
          <a:xfrm>
            <a:off x="5562720" y="255276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11"/>
          <p:cNvSpPr/>
          <p:nvPr/>
        </p:nvSpPr>
        <p:spPr>
          <a:xfrm flipV="1">
            <a:off x="2971800" y="240012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2"/>
          <p:cNvSpPr/>
          <p:nvPr/>
        </p:nvSpPr>
        <p:spPr>
          <a:xfrm>
            <a:off x="320040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3"/>
          <p:cNvSpPr/>
          <p:nvPr/>
        </p:nvSpPr>
        <p:spPr>
          <a:xfrm flipH="1">
            <a:off x="2971800" y="262908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365760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55627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350532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365760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9718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523880" y="2552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24382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H="1" flipV="1">
            <a:off x="144792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1905120" y="4000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3"/>
          <p:cNvSpPr/>
          <p:nvPr/>
        </p:nvSpPr>
        <p:spPr>
          <a:xfrm>
            <a:off x="259092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24"/>
          <p:cNvSpPr/>
          <p:nvPr/>
        </p:nvSpPr>
        <p:spPr>
          <a:xfrm>
            <a:off x="54864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 flipH="1">
            <a:off x="3124080" y="56008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3581280" y="560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27"/>
          <p:cNvSpPr/>
          <p:nvPr/>
        </p:nvSpPr>
        <p:spPr>
          <a:xfrm>
            <a:off x="304920" y="3543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 flipH="1">
            <a:off x="1371600" y="262908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19810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0"/>
          <p:cNvSpPr/>
          <p:nvPr/>
        </p:nvSpPr>
        <p:spPr>
          <a:xfrm>
            <a:off x="35812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 flipH="1">
            <a:off x="3123720" y="232416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57150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4"/>
          <p:cNvSpPr/>
          <p:nvPr/>
        </p:nvSpPr>
        <p:spPr>
          <a:xfrm>
            <a:off x="2438280" y="156204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5"/>
          <p:cNvSpPr/>
          <p:nvPr/>
        </p:nvSpPr>
        <p:spPr>
          <a:xfrm>
            <a:off x="5715000" y="605808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27432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5791320" y="537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8"/>
          <p:cNvSpPr/>
          <p:nvPr/>
        </p:nvSpPr>
        <p:spPr>
          <a:xfrm flipV="1">
            <a:off x="5181480" y="262872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47242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61722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 units of flow were sent from node 2 to node 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855A-CE29-4293-8306-06B5BF541F0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4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28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0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31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571500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37"/>
          <p:cNvSpPr/>
          <p:nvPr/>
        </p:nvSpPr>
        <p:spPr>
          <a:xfrm flipV="1">
            <a:off x="510552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38"/>
          <p:cNvSpPr/>
          <p:nvPr/>
        </p:nvSpPr>
        <p:spPr>
          <a:xfrm>
            <a:off x="46483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39"/>
          <p:cNvSpPr/>
          <p:nvPr/>
        </p:nvSpPr>
        <p:spPr>
          <a:xfrm>
            <a:off x="6629400" y="2514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3075-A26A-45F4-B976-C7DC234FA8F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9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Line 21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24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Line 25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26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27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28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9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30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31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32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34"/>
          <p:cNvSpPr/>
          <p:nvPr/>
        </p:nvSpPr>
        <p:spPr>
          <a:xfrm>
            <a:off x="5715000" y="55245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35"/>
          <p:cNvSpPr/>
          <p:nvPr/>
        </p:nvSpPr>
        <p:spPr>
          <a:xfrm>
            <a:off x="274320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36"/>
          <p:cNvSpPr/>
          <p:nvPr/>
        </p:nvSpPr>
        <p:spPr>
          <a:xfrm>
            <a:off x="563868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7"/>
          <p:cNvSpPr/>
          <p:nvPr/>
        </p:nvSpPr>
        <p:spPr>
          <a:xfrm flipV="1">
            <a:off x="518148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38"/>
          <p:cNvSpPr/>
          <p:nvPr/>
        </p:nvSpPr>
        <p:spPr>
          <a:xfrm>
            <a:off x="47242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Text Box 39"/>
          <p:cNvSpPr/>
          <p:nvPr/>
        </p:nvSpPr>
        <p:spPr>
          <a:xfrm>
            <a:off x="6248520" y="2362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was sent from node 1 to node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40"/>
          <p:cNvSpPr/>
          <p:nvPr/>
        </p:nvSpPr>
        <p:spPr>
          <a:xfrm>
            <a:off x="228600" y="36957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1"/>
          <p:cNvSpPr/>
          <p:nvPr/>
        </p:nvSpPr>
        <p:spPr>
          <a:xfrm>
            <a:off x="22860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42"/>
          <p:cNvSpPr/>
          <p:nvPr/>
        </p:nvSpPr>
        <p:spPr>
          <a:xfrm>
            <a:off x="6172200" y="3781440"/>
            <a:ext cx="2590920" cy="15570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resulting flow is feasible, and also optim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37C7-911A-45C3-8D6C-5253A6856D0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9" name="Oval 3"/>
          <p:cNvSpPr/>
          <p:nvPr/>
        </p:nvSpPr>
        <p:spPr>
          <a:xfrm>
            <a:off x="533520" y="35434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Oval 4"/>
          <p:cNvSpPr/>
          <p:nvPr/>
        </p:nvSpPr>
        <p:spPr>
          <a:xfrm>
            <a:off x="2286000" y="19432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Oval 5"/>
          <p:cNvSpPr/>
          <p:nvPr/>
        </p:nvSpPr>
        <p:spPr>
          <a:xfrm>
            <a:off x="22860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Oval 6"/>
          <p:cNvSpPr/>
          <p:nvPr/>
        </p:nvSpPr>
        <p:spPr>
          <a:xfrm>
            <a:off x="48006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Oval 7"/>
          <p:cNvSpPr/>
          <p:nvPr/>
        </p:nvSpPr>
        <p:spPr>
          <a:xfrm>
            <a:off x="4800600" y="19432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"/>
          <p:cNvSpPr/>
          <p:nvPr/>
        </p:nvSpPr>
        <p:spPr>
          <a:xfrm flipV="1">
            <a:off x="1066680" y="247608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2971800" y="20955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10"/>
          <p:cNvSpPr/>
          <p:nvPr/>
        </p:nvSpPr>
        <p:spPr>
          <a:xfrm>
            <a:off x="5410080" y="26290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11"/>
          <p:cNvSpPr/>
          <p:nvPr/>
        </p:nvSpPr>
        <p:spPr>
          <a:xfrm flipV="1">
            <a:off x="2819520" y="2476440"/>
            <a:ext cx="213336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12"/>
          <p:cNvSpPr/>
          <p:nvPr/>
        </p:nvSpPr>
        <p:spPr>
          <a:xfrm>
            <a:off x="1066680" y="4305240"/>
            <a:ext cx="12956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13"/>
          <p:cNvSpPr/>
          <p:nvPr/>
        </p:nvSpPr>
        <p:spPr>
          <a:xfrm>
            <a:off x="3048120" y="537228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14"/>
          <p:cNvSpPr/>
          <p:nvPr/>
        </p:nvSpPr>
        <p:spPr>
          <a:xfrm flipH="1">
            <a:off x="2819160" y="27050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15"/>
          <p:cNvSpPr/>
          <p:nvPr/>
        </p:nvSpPr>
        <p:spPr>
          <a:xfrm>
            <a:off x="3505320" y="1638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5410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3352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8"/>
          <p:cNvSpPr/>
          <p:nvPr/>
        </p:nvSpPr>
        <p:spPr>
          <a:xfrm>
            <a:off x="3505320" y="4991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2819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99072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21"/>
          <p:cNvSpPr/>
          <p:nvPr/>
        </p:nvSpPr>
        <p:spPr>
          <a:xfrm>
            <a:off x="990720" y="2629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22"/>
          <p:cNvSpPr/>
          <p:nvPr/>
        </p:nvSpPr>
        <p:spPr>
          <a:xfrm>
            <a:off x="228600" y="3238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23"/>
          <p:cNvSpPr/>
          <p:nvPr/>
        </p:nvSpPr>
        <p:spPr>
          <a:xfrm>
            <a:off x="22860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24"/>
          <p:cNvSpPr/>
          <p:nvPr/>
        </p:nvSpPr>
        <p:spPr>
          <a:xfrm>
            <a:off x="48006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25"/>
          <p:cNvSpPr/>
          <p:nvPr/>
        </p:nvSpPr>
        <p:spPr>
          <a:xfrm>
            <a:off x="243828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6"/>
          <p:cNvSpPr/>
          <p:nvPr/>
        </p:nvSpPr>
        <p:spPr>
          <a:xfrm>
            <a:off x="4876920" y="598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D11E-A083-4D64-AE2F-F8195EA4D3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Oval 3"/>
          <p:cNvSpPr/>
          <p:nvPr/>
        </p:nvSpPr>
        <p:spPr>
          <a:xfrm>
            <a:off x="609480" y="34671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Oval 4"/>
          <p:cNvSpPr/>
          <p:nvPr/>
        </p:nvSpPr>
        <p:spPr>
          <a:xfrm>
            <a:off x="23623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23623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48769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Oval 7"/>
          <p:cNvSpPr/>
          <p:nvPr/>
        </p:nvSpPr>
        <p:spPr>
          <a:xfrm>
            <a:off x="48769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Line 8"/>
          <p:cNvSpPr/>
          <p:nvPr/>
        </p:nvSpPr>
        <p:spPr>
          <a:xfrm flipV="1">
            <a:off x="1143000" y="240012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Line 9"/>
          <p:cNvSpPr/>
          <p:nvPr/>
        </p:nvSpPr>
        <p:spPr>
          <a:xfrm>
            <a:off x="304812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Line 10"/>
          <p:cNvSpPr/>
          <p:nvPr/>
        </p:nvSpPr>
        <p:spPr>
          <a:xfrm>
            <a:off x="548640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Line 11"/>
          <p:cNvSpPr/>
          <p:nvPr/>
        </p:nvSpPr>
        <p:spPr>
          <a:xfrm flipV="1">
            <a:off x="2895480" y="240012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Line 12"/>
          <p:cNvSpPr/>
          <p:nvPr/>
        </p:nvSpPr>
        <p:spPr>
          <a:xfrm>
            <a:off x="1219320" y="4076640"/>
            <a:ext cx="1295280" cy="10670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Line 13"/>
          <p:cNvSpPr/>
          <p:nvPr/>
        </p:nvSpPr>
        <p:spPr>
          <a:xfrm>
            <a:off x="3124080" y="529596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Line 14"/>
          <p:cNvSpPr/>
          <p:nvPr/>
        </p:nvSpPr>
        <p:spPr>
          <a:xfrm flipH="1">
            <a:off x="2895480" y="2629080"/>
            <a:ext cx="7632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 Box 15"/>
          <p:cNvSpPr/>
          <p:nvPr/>
        </p:nvSpPr>
        <p:spPr>
          <a:xfrm>
            <a:off x="5486400" y="354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Text Box 16"/>
          <p:cNvSpPr/>
          <p:nvPr/>
        </p:nvSpPr>
        <p:spPr>
          <a:xfrm>
            <a:off x="228600" y="3619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2362320" y="1409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8"/>
          <p:cNvSpPr/>
          <p:nvPr/>
        </p:nvSpPr>
        <p:spPr>
          <a:xfrm>
            <a:off x="5029200" y="1409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49528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24382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160020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1752480" y="4076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3581280" y="5372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38098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297180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Text Box 26"/>
          <p:cNvSpPr/>
          <p:nvPr/>
        </p:nvSpPr>
        <p:spPr>
          <a:xfrm>
            <a:off x="3809880" y="15620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Text Box 37"/>
          <p:cNvSpPr/>
          <p:nvPr/>
        </p:nvSpPr>
        <p:spPr>
          <a:xfrm>
            <a:off x="457200" y="5257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low is at upper bou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38"/>
          <p:cNvSpPr/>
          <p:nvPr/>
        </p:nvSpPr>
        <p:spPr>
          <a:xfrm flipV="1">
            <a:off x="1295280" y="4647960"/>
            <a:ext cx="457200" cy="533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6553080" y="2743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ow is at lower b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40"/>
          <p:cNvSpPr/>
          <p:nvPr/>
        </p:nvSpPr>
        <p:spPr>
          <a:xfrm flipH="1">
            <a:off x="3047760" y="3124080"/>
            <a:ext cx="3276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41"/>
          <p:cNvSpPr/>
          <p:nvPr/>
        </p:nvSpPr>
        <p:spPr>
          <a:xfrm flipH="1" flipV="1">
            <a:off x="4648320" y="3047760"/>
            <a:ext cx="17524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5AEC-0B55-47DB-AD4C-B55E66E8532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Supplies/Demand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121932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13716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38088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952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0292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528A-1236-4AB2-98C2-74B1D7E5101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685800" y="33526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24382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4382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9528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9528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1219320" y="228564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12408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56272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2971800" y="2285640"/>
            <a:ext cx="2133720" cy="24382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219320" y="4114800"/>
            <a:ext cx="1295280" cy="10666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200400" y="518148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2971800" y="251460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65760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562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7339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86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0481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14479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5238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5909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762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5909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1814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181480" y="129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6477120" y="9907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rtest path di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 flipH="1">
            <a:off x="5486400" y="1295280"/>
            <a:ext cx="838080" cy="152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400800" y="28954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418A-DB99-4D6C-96A5-79C22DA67C3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1295280" y="415296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733920" y="1486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80988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3962520" y="4762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124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523880" y="4533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16002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51814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2578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26668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1523880" y="476244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600200" y="2705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3124080" y="30862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81280" y="17146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3733920" y="33908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3886200" y="4991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1752480" y="4152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FD97-F6AA-49B8-BCFE-699257904B0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(along arcs with reduced costs of 0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685800" y="35053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438280" y="19051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4382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9528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952880" y="19051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 flipV="1">
            <a:off x="1219320" y="24379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124080" y="205740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562720" y="259092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297180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219320" y="4267080"/>
            <a:ext cx="129528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200400" y="53341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2971800" y="266688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65760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3505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6576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9718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1371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15238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380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4382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4952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2590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502920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6400800" y="4267080"/>
            <a:ext cx="18288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7 units from node 1 to node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6400800" y="1371600"/>
            <a:ext cx="2209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numbers are residual capacit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82A7-15AC-484C-99F5-DDDDF1754F7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>
            <a:off x="1219320" y="419112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3808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24382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4952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5029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533520" y="51814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(3,1) has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28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30"/>
          <p:cNvSpPr/>
          <p:nvPr/>
        </p:nvSpPr>
        <p:spPr>
          <a:xfrm>
            <a:off x="304920" y="335268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31"/>
          <p:cNvSpPr/>
          <p:nvPr/>
        </p:nvSpPr>
        <p:spPr>
          <a:xfrm>
            <a:off x="2514600" y="601992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1522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59092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6248520" y="144792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an arc is added to G(x), then it has a reduced cost of 0, and it is r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324480" y="38862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s in the residual network will always have a non-negative reduced c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04E5-EDBB-405E-BDBF-41C0DAB36FD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m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, one would choose a source node, and then find the shortest path from the source node to all other nodes, and then updat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re are still paths of 0 reduced cost in the residual network, and it makes sense to use them.  This heuristic is quite useful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C5A8-9B53-4366-9A52-77D56C771FD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762120" y="33148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2514600" y="17146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5029200" y="48006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5029200" y="17146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8"/>
          <p:cNvSpPr/>
          <p:nvPr/>
        </p:nvSpPr>
        <p:spPr>
          <a:xfrm flipV="1">
            <a:off x="1295280" y="224748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3200400" y="18669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0"/>
          <p:cNvSpPr/>
          <p:nvPr/>
        </p:nvSpPr>
        <p:spPr>
          <a:xfrm>
            <a:off x="5638680" y="24004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 flipV="1">
            <a:off x="3048120" y="2247840"/>
            <a:ext cx="213336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1295280" y="40766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3276720" y="51436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4"/>
          <p:cNvSpPr/>
          <p:nvPr/>
        </p:nvSpPr>
        <p:spPr>
          <a:xfrm flipH="1">
            <a:off x="3047760" y="24764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3733920" y="1409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5638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5812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3733920" y="4762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048120" y="27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1447920" y="4533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1600200" y="2400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5146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0292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5105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6324480" y="4114800"/>
            <a:ext cx="22860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2 units of flow from node 1 to node 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1523520" y="38480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1981080" y="3848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32"/>
          <p:cNvSpPr/>
          <p:nvPr/>
        </p:nvSpPr>
        <p:spPr>
          <a:xfrm>
            <a:off x="22860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2666880" y="567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6248520" y="1676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 that 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46Z</dcterms:modified>
  <cp:revision>28</cp:revision>
  <dc:subject/>
  <dc:title>15.082        Spring 1998</dc:title>
</cp:coreProperties>
</file>