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AE86-0164-491F-89F6-33BBCE800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1B8E-306D-40B0-8611-8CEFC3C1C8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F3F2-41E8-40B8-8A8E-0FA011165A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EE08-2133-4F8B-8CEC-442A0AD9DC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5A7E-2951-493F-AE6D-1DDC14D1FD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1A01-2CF1-4B76-9EFE-073E4E3E34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D40C-7486-4337-9B4D-EE4D48DCD6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51B9-D563-4D44-A01A-6C0930AB10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ED6B-79F2-4351-896D-A89139C2D6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D9E5-8549-49E4-B3E5-66C8ABF105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686F-9058-458C-8F1B-D5FB58D628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8189-AE02-4D70-9B69-32A4224755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0779-47CF-4ED3-8761-B6C45755DD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C6EF-945B-4FBB-A403-261757B203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9F10-F476-4EDA-B188-63465FFB96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24E3-9395-4038-8E97-DCC4E6B7EC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22B8-39E1-4403-A8C2-E6C7EB9E53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F609-49D2-4330-8EAB-9B617C7C0C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B532-564D-45B6-9B3D-135CD82E1E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BF8-E03A-4D70-90D8-CDDFF981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11D-0A6A-4FA1-B793-8A915E23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FA0-C7A7-4FE8-9B6C-B3D9C9E9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3C2-72BA-4ED5-9D87-D70AEC45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96F-A5C4-47C0-9E8A-A6F1CB63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213-8F99-4787-AB05-2856E385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979-5F21-4347-804A-7FFF75AA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B97-9459-417E-8A3B-394012ED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3ED-1B78-4895-982D-FB1CFBB0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6E2-0072-46E8-90C0-8FE1048C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DB5-ABB5-4CDB-973F-87423DCB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27E-3131-47B6-A9F0-28A82E1C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C096-BE83-4C26-8B96-2C3D181CD3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360" y="5719680"/>
            <a:ext cx="48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ease start Visual Paradigm-we’ll use it in class to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o zip file to download-it’s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based on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9840" cy="4773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67360" y="601992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apper” legacy code: almost all allow Web services to be ad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a few Web services needed per legacy app to interface to 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 diagram for application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14720" y="1600200"/>
            <a:ext cx="502416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91160" y="5715000"/>
            <a:ext cx="73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ilar classes for car rental, itinerary check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these methods in C#, similar to those on .aspx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 server and its tools handle db, xhtml, xml input/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5880" y="205740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Straight Arrow Connector 7"/>
          <p:cNvCxnSpPr/>
          <p:nvPr/>
        </p:nvCxnSpPr>
        <p:spPr>
          <a:xfrm flipV="1">
            <a:off x="1904760" y="2285280"/>
            <a:ext cx="1905480" cy="2293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1" name="Straight Arrow Connector 9"/>
          <p:cNvCxnSpPr/>
          <p:nvPr/>
        </p:nvCxnSpPr>
        <p:spPr>
          <a:xfrm>
            <a:off x="1295280" y="2819160"/>
            <a:ext cx="1067760" cy="10674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2" name="Straight Arrow Connector 10"/>
          <p:cNvCxnSpPr/>
          <p:nvPr/>
        </p:nvCxnSpPr>
        <p:spPr>
          <a:xfrm>
            <a:off x="1523880" y="2819520"/>
            <a:ext cx="3734640" cy="8388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" name="TextBox 12"/>
          <p:cNvSpPr/>
          <p:nvPr/>
        </p:nvSpPr>
        <p:spPr>
          <a:xfrm>
            <a:off x="-11520" y="449568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s/func 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UML/req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13"/>
          <p:cNvCxnSpPr/>
          <p:nvPr/>
        </p:nvCxnSpPr>
        <p:spPr>
          <a:xfrm flipV="1">
            <a:off x="1904760" y="2819160"/>
            <a:ext cx="2362680" cy="17532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5" name="Straight Arrow Connector 15"/>
          <p:cNvCxnSpPr/>
          <p:nvPr/>
        </p:nvCxnSpPr>
        <p:spPr>
          <a:xfrm>
            <a:off x="2057040" y="4876560"/>
            <a:ext cx="610200" cy="1530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6" name="Straight Arrow Connector 19"/>
          <p:cNvCxnSpPr/>
          <p:nvPr/>
        </p:nvCxnSpPr>
        <p:spPr>
          <a:xfrm>
            <a:off x="2133360" y="4800600"/>
            <a:ext cx="3429720" cy="766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7" name="Straight Arrow Connector 7"/>
          <p:cNvCxnSpPr/>
          <p:nvPr/>
        </p:nvCxnSpPr>
        <p:spPr>
          <a:xfrm flipH="1">
            <a:off x="5714640" y="1904040"/>
            <a:ext cx="1829520" cy="11437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8" name="TextBox 5"/>
          <p:cNvSpPr/>
          <p:nvPr/>
        </p:nvSpPr>
        <p:spPr>
          <a:xfrm>
            <a:off x="7193880" y="1523880"/>
            <a:ext cx="20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to-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hip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greg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interface architectur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include the hardware and the software that runs on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hitecture components at server e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03848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71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64832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400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37160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048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724280" y="48769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77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7543800" y="5791320"/>
            <a:ext cx="1219320" cy="7617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a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952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4952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4952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133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213372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705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809520" y="2209680"/>
            <a:ext cx="114300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809880" y="2057400"/>
            <a:ext cx="114300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80988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190512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731520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190512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1"/>
          <p:cNvSpPr/>
          <p:nvPr/>
        </p:nvSpPr>
        <p:spPr>
          <a:xfrm>
            <a:off x="38098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54100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731520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190512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7"/>
          <p:cNvSpPr/>
          <p:nvPr/>
        </p:nvSpPr>
        <p:spPr>
          <a:xfrm>
            <a:off x="38098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61"/>
          <p:cNvSpPr/>
          <p:nvPr/>
        </p:nvSpPr>
        <p:spPr>
          <a:xfrm>
            <a:off x="54100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5"/>
          <p:cNvSpPr/>
          <p:nvPr/>
        </p:nvSpPr>
        <p:spPr>
          <a:xfrm>
            <a:off x="7315200" y="53341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 rot="16215000">
            <a:off x="-228240" y="441900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0"/>
          <p:cNvSpPr/>
          <p:nvPr/>
        </p:nvSpPr>
        <p:spPr>
          <a:xfrm rot="16215000">
            <a:off x="7848360" y="434304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71"/>
          <p:cNvSpPr/>
          <p:nvPr/>
        </p:nvSpPr>
        <p:spPr>
          <a:xfrm>
            <a:off x="2971800" y="1066680"/>
            <a:ext cx="289548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2"/>
          <p:cNvSpPr/>
          <p:nvPr/>
        </p:nvSpPr>
        <p:spPr>
          <a:xfrm flipH="1">
            <a:off x="2209680" y="1447920"/>
            <a:ext cx="91440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3"/>
          <p:cNvSpPr/>
          <p:nvPr/>
        </p:nvSpPr>
        <p:spPr>
          <a:xfrm>
            <a:off x="5638680" y="1447920"/>
            <a:ext cx="106704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75"/>
          <p:cNvSpPr/>
          <p:nvPr/>
        </p:nvSpPr>
        <p:spPr>
          <a:xfrm>
            <a:off x="3809880" y="205740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6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3809880" y="33526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78"/>
          <p:cNvSpPr/>
          <p:nvPr/>
        </p:nvSpPr>
        <p:spPr>
          <a:xfrm>
            <a:off x="38098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9"/>
          <p:cNvSpPr/>
          <p:nvPr/>
        </p:nvSpPr>
        <p:spPr>
          <a:xfrm>
            <a:off x="54100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1905120" y="466740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81"/>
          <p:cNvSpPr/>
          <p:nvPr/>
        </p:nvSpPr>
        <p:spPr>
          <a:xfrm>
            <a:off x="1905120" y="5562720"/>
            <a:ext cx="63244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2"/>
          <p:cNvSpPr/>
          <p:nvPr/>
        </p:nvSpPr>
        <p:spPr>
          <a:xfrm>
            <a:off x="8229600" y="55627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137160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304812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4724280" y="57913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6400800" y="5791320"/>
            <a:ext cx="99072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0"/>
          <p:cNvSpPr/>
          <p:nvPr/>
        </p:nvSpPr>
        <p:spPr>
          <a:xfrm>
            <a:off x="7422120" y="6496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0s of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91"/>
          <p:cNvSpPr/>
          <p:nvPr/>
        </p:nvSpPr>
        <p:spPr>
          <a:xfrm>
            <a:off x="6858000" y="55627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ystemArchitecture"/>
          <p:cNvPicPr/>
          <p:nvPr/>
        </p:nvPicPr>
        <p:blipFill>
          <a:blip r:embed="rId1"/>
          <a:stretch/>
        </p:blipFill>
        <p:spPr>
          <a:xfrm>
            <a:off x="1808280" y="1143000"/>
            <a:ext cx="565920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6400800" y="1143000"/>
            <a:ext cx="1066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example of system hardwar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uter, firewall, load bal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 routes IP (TCP/IP and UDP/IP)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table: send packet to local machine or to another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 examines all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s IP address,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ts contents from all Internet protocols if suspici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 sends HTTP packets to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ances based on HTTP header: client IP, cooki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nexpensive servers function as singl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new servers, sites without interruption to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er, app server, database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(HTTP)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HTTP requests and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s and writes XML and XHT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of it as a pre-written main program with many pre-written components for common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Web pages/XML, read/write from db easi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from UML use cases, sequence diagrams: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 entry, receiving, shipping, payment, engineering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istent storage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ing of data across applications and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sitory of business rules, within database and to guide XML document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e tier archite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478240" y="102708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client (browser/ap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78240" y="24750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(HTTP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478240" y="40752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407844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52680" y="175248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TTP GET, POST;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575460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921280" y="17510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XML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407844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14920" y="3324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spx page calls business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575460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689800" y="32878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usiness logic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623720" y="9907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7622280" y="2475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622280" y="40752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473200" y="5675400"/>
            <a:ext cx="472464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407340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711080" y="48769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74992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019920" y="48880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 result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7617600" y="5675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78840" y="6424560"/>
            <a:ext cx="89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In HW7, your aspx pages include the business logic that is usually in the application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7393320" y="434340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.NET, JEE 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277040" y="27874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IS, Glassfis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7190640" y="59878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QL Svr, Orac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Travel indust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ravel Alliance (www.opentravel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+ airlines, hotels, car rental, GDS,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S: global distribution system (Sabre, Apollo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ion to implement industry-wide open e-business spec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nic distribution supply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ed common XML formats, trading partner to trading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are to lower supply chain costs and improve consumer travel costs and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protocols in current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Teletype: 64 character sen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/EDIFACT (EDI): fixed messages, difficult to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systems, messages have been used for 3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travel agency “T” in Midw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s of busin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, hotel reservations for res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ttraction reservations for international vis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us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phone, fax, teletext message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lly developed computer apps: customers, local attracti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changed travel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became GDS partner for international travel in Mid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services offered: air, hotel, rail, car r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international services for US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ed branch offices around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835360" y="6400800"/>
            <a:ext cx="62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Kumar, Narayan, Ng, “Implementing SOA Using Java E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changed its information systems to work with GDS and its consume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oftware, middleware, desktops, serv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unable to penetrate international travel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remedy this, it bought  UK and Asian travel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ree companies had different legacy applications, and networks,  which created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architecture needed for new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evolving customer and GDS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mize legac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n existing Web services, if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new Web services to replace legacy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vity diagram: current syst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12724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035240" y="1371600"/>
            <a:ext cx="480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ices are comple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: carrier, price, time, hops,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tel: chain, room type, rate, location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, sightseeing package sim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 reservation may bundle hotel, car reservations at 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confirmation may be delayed (especially inter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itinerary not acceptable to customer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change their mind partway through the itinerary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vel packages must be flexible, attractively priced, easily bo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have own discounts: AAA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tial process too slow for online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 UML activity diagr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as many steps from previous diagram in parallel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parallel result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results fit together: present the outcome to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wise, re-do required step(s) until a fit is f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tell/ask customer to search a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077840" y="5334120"/>
            <a:ext cx="711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models a set of Web services, providing reservations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ustomers connecting to multiple reservation sys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itinerary gets filed with “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 checks if air res made; if not it uses air Web serv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then checks hotel, car in sam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523880" y="523800"/>
            <a:ext cx="6096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co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rchitecture will generate many (often thousands) of queries in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of the results won’t be us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sorted and assembled by the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best ones are shown to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requires much more (often thousands of times more) bandwidth than older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optic bandwidth is large and can support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 and other business applications are moving to thi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 many carriers, vendors, etc. for availability, pric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23T23:50:29Z</cp:lastPrinted>
  <dcterms:modified xsi:type="dcterms:W3CDTF">2013-11-19T01:49:26Z</dcterms:modified>
  <cp:revision>291</cp:revision>
  <dc:subject/>
  <dc:title>1.264 Lecture 5</dc:title>
</cp:coreProperties>
</file>