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5F2CA1-BE94-467E-92BA-AB57B5E7E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5997CC-5A0F-449D-9975-DC2925CB8CC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A69233-EBE0-4C69-8F15-94C99C1D014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A41A60-D9D1-4FBE-97CE-E007D33103D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58F6DC-3F4E-4A1D-9DAB-A092BCC1C6B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0E5391-9061-49F8-9A87-60093F54785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B1414F-AD37-498E-8F8F-0823005A006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00D44F-7D2E-4261-8E0F-5C8D3484FAE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F847BA-28F2-48CE-AB15-B8F57560809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D06C8A-2A53-41CD-B68F-D6802DE0E89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C3C7F4-BC9E-4BE0-BDCB-ACB183257AB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C17470-FDA8-4971-82BE-98D63749150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E46BB2-210C-4F54-BD2A-4AE9F9E1F2A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707F46-BE51-42DD-8094-9746085961E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8F2F20A-BAF6-41AE-8901-DC4C371FE18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1570303-7717-4F85-AF23-74297862BE3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623AA47-26D4-4AC2-81B4-425AB4C720B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16672A4-7B10-44F0-8B61-BB6F9B2712B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5588415-A200-41EE-9D26-0E447AB0092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9CF7456-9C66-48CA-AC66-83571FEB4CA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4F1F-D8D8-491D-AFD7-EA2E8BC3B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BC2C-FB92-45F8-BC5D-5E2F6CD9D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9A39-B960-4469-911F-46F98C17E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2FD1-B45F-4B32-BD90-6BC30BA1C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A5A1-9C36-4A01-981C-2C10AC29C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3793-3972-488F-A9A0-47FDF7553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E8FB-C24F-44C8-B91D-961A0C5AC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3245-0932-4ACD-87B7-456A155DF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2E93-4D5E-4435-85B4-F1969783A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858E-5733-4755-8D1B-913BFAAC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A646-886A-4511-82C2-62F7308B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6915-0035-44D2-93D2-BF82EE999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CBA18-101A-404D-86CD-6AEDD6D53B8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264 Lecture 22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553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b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292120" y="5562720"/>
            <a:ext cx="4780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No readings.  Exercise due after</a:t>
            </a: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las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se same Web site today that we started in Lecture 21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lso open SQL Server Management Studio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6: More databases and XM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can have XML columns in a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can query, update and index th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e at a time, ru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1.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2.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3.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4.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does each d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is a nice way to store highly variable information where standard columns don’t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5600520" y="6253200"/>
            <a:ext cx="359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XML1-4 code from Kiessig, Ultra-Fast ASP.NE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: Exercise 6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1: Creates XML schema and Products 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d by Products table to validate XML colum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2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all columns from all row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id, name, props where width exi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id, name, width where color of top part is bla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id, name, first color where color of legs is chro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3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ange leg color to sil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arm with color whi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move first color (ar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4: creates index on XML column, path, properties and val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e indexes on Products table in SSMS explor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idpoint summa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document: snippet of database being sent from one Web server to ano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ains tags defined by business, hyperlink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rew from HTML but defines content, not appear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TD and/or XSD: contains business rules (1-1, 1-many, null/not null, etc) to validate XML docu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SLT: transforms and styles and XML docu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ke change to sent or received XML to meet business nee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Path: query language used for XML docu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me role as 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imple Object Access Protocol: SOAP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AP is XML and HTT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nt is to use no extra technology for distributed compu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AP adds some headers to HTT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AP adds new MIME type: text/x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s agreed definitions of data types, mandatory value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TTP POST and XML replace complex pro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AP is text rather than binary, so it’s much easier to interoperate across machines and debug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inary transmissions are not human-read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AP can send binary objects like pictures (that are human readab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AP is sufficiently efficient for most machine-machine commun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AP is the key component in Web services, or Service Oriented Architectures (SO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eb Services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ervice provides information in an XML format to be used by a cl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does not display the data in a user interf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is not tied to a specific Web page or docu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ervices in .NET are on pages with a .asmx extension (not .aspx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SW and .NET make writing simple Web services eas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 is generally used to generate the XML paylo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b services accept parameters, such as customer number or order number, to return only data requi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rameters are used in the WHERE clause in SQ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ervices Description Language (WSDL) describes a Web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matically created by VS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7: Web Services in VSW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 will create a Web service in a regular Web 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rmally we create a separate project/site for Web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VSW, open previous Web site, or create new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le -&gt; New File -&gt; Web Service: TemperatureService.asm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U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ck ‘place code in separate file’. No master pa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ype the following cod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[WebMethod]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public double toCelsius(double tf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return (5.0 / 9.0) * (tf - 32.0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ve and view in browser: a WSDL page is show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eb service example: reques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POST /TemperatureService.asmx HTTP/1.1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Host: localhos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Content-Type: text/xml; charset=utf-8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Content-Length: 300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SOAPAction: "http://tempuri.org/ToCelsius" &lt;?xml version="1.0" encoding="utf-8"?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soap:Envelope xmlns:xsi="http://www.w3.org/2001/XMLSchema-instance" xmlns:xsd="http://www.w3.org/2001/XMLSchema" xmlns:soap="http://schemas.xmlsoap.org/soap/envelope/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soap:Body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ToCelsius xmlns="http://tempuri.org/"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TF&gt; 32.0&lt;/TF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ToCelsius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soap:Body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soap:Envelope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eb service example: respons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HTTP/1.1 200 OK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Content-Type: text/xml; charset=utf-8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Content-Length: 250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&lt;?xml version="1.0" encoding="utf-8"?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&lt;soap:Envelope xmlns:xsi="http://www.w3.org/2001/XMLSchema-instance" xmlns:xsd="http://www.w3.org/2001/XMLSchema" xmlns:soap="http://schemas.xmlsoap.org/soap/envelope/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&lt;soap:Body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&lt;ToCelsiusResponse xmlns="http://tempuri.org/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&lt;ToCelsiusResult&gt; 0.0&lt;/ToCelsiusResul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&lt;/ToCelsiusResponse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&lt;/soap:Body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&lt;/soap:Envelope&gt;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eb service example 2: database que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 wish to query the Parts table for all parts of a given vend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vendor will be a parameter to the Web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Web service will use a database connection to execute the SQL que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will return an XML document as its resul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code is in your Lecture 22 download as ProductService.asm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eb service example 2: reques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POST /mit1264lecture22/ProductsService.asmx HTTP/1.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Host: localho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Content-Type: text/xml; charset=utf-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Content-Length: leng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SOAPAction: "http://tempuri.org/GetProducts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?xml version="1.0" encoding="utf-8"?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soap:Envelope xmlns:xsi="http://www.w3.org/2001/XMLSchema-instance" xmlns:xsd="http://www.w3.org/2001/XMLSchema" xmlns:soap="http://schemas.xmlsoap.org/soap/envelope/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soap:Body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GetProducts xmlns="http://tempuri.org/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Vendor&gt;</a:t>
            </a:r>
            <a:r>
              <a:rPr b="1" lang="en-US" sz="1600" spc="-1" strike="noStrike">
                <a:solidFill>
                  <a:srgbClr val="ffff00"/>
                </a:solidFill>
                <a:latin typeface="Lucida Console"/>
              </a:rPr>
              <a:t>string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Vendo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GetProducts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soap:Body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soap:Envelop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cap of XML Basic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documents hold self-describing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ierarchies, objects, database tables can be s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tensible, flexible, decided by industry groups, partn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SLT documents can transform or style XML docu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SS isn’t enough because we want to display tags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TD files can validate XML docu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RL has the DTD that server or client can u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TDs are limited: can’t define data type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Schema (XSD) files preferred to validate XML docu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structured, more extensible than DT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bases can read and write X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b servers can send and receive XML as payload in HTTP, much like HTML p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crosoft has made XML the markup language in Off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utting a disruptive technology in place to automate commerc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oductService.asmx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60948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%@ WebService Language="C#" Class="ProductService" %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using System;  </a:t>
            </a:r>
            <a:r>
              <a:rPr b="1" lang="en-US" sz="1600" spc="-1" strike="noStrike">
                <a:solidFill>
                  <a:srgbClr val="00ffff"/>
                </a:solidFill>
                <a:latin typeface="Lucida Console"/>
              </a:rPr>
              <a:t>// and other ‘using’ directiv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[WebService(Namespace = "http://tempuri.org/")]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[WebServiceBinding(ConformsTo = WsiProfiles.BasicProfile1_1)]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public class ProductService  : System.Web.Services.WebServic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[WebMethod]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public DataSet GetProducts(string Vendor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SqlConnection con1264= new SqlConnection(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Lucida Console"/>
              </a:rPr>
              <a:t>// Connect to d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"Data Source=.\\SQLEXPRESS; Password=xxx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User ID=yyy;Initial Catalog=MIT1264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SqlDataAdapter dad1264= new SqlDataAdapter("SELECT * FROM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Parts WHERE Vendor= @Vendor", con1264);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Lucida Console"/>
              </a:rPr>
              <a:t>// Create qu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dad1264.SelectCommand.Parameters.Add(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Lucida Console"/>
              </a:rPr>
              <a:t>// Add parame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new SqlParameter("@Vendor", Vendor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DataSet dstProducts= new DataSet();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Lucida Console"/>
              </a:rPr>
              <a:t>// Create output obje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dad1264.Fill(dstProducts, "Products");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Lucida Console"/>
              </a:rPr>
              <a:t>// Run qu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return dstProducts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eb service example 2: respons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4" name="Picture 3" descr="WebSvcOutput"/>
          <p:cNvPicPr/>
          <p:nvPr/>
        </p:nvPicPr>
        <p:blipFill>
          <a:blip r:embed="rId1"/>
          <a:stretch/>
        </p:blipFill>
        <p:spPr>
          <a:xfrm>
            <a:off x="228600" y="914400"/>
            <a:ext cx="8785080" cy="55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8: Web servic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nge the connection string in ProductService as neede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Data Source=.\\SQLEXPRESS; Password=xxx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User ID=yyy;Initial Catalog=MIT126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dify the Web service to return parts and vendors only if the part ID is 1000 or gre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ify the connection string to log into your datab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"SELECT * FROM Parts WHERE Vendor= @Vendor AND partID &gt; 1000"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1: XmlDataSource: BookMIT.aspx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9907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le-&gt; New File -&gt; Web Form: BookMIT.asp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rag XmlDataSource control on page, configu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rowse for Books.x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Path: //booklist/book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[Forward slashes, not backward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rag DataList onto XmlDataSou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oose XmlDataSour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51"/>
              </a:spcBef>
              <a:buClr>
                <a:srgbClr val="00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(View in browser—MS tools only show attributes, not element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o to source view, delete all text in &lt;ItemTemplate&gt; and replace wi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p&gt; &lt;%# XPath("author/first-name")%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%# XPath("author/last-name")%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%# XPath("title") %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%# XPath("price") %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%# XPath("@topic") %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%# XPath("@publicationdate") %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%# XPath("@ISBN") %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p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ve and test (BookMIT2.aspx has nicer format—see downloa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SLT: XML Stylesheet Language/Transforma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SLT is a language to transform and style XML documents from one form to ano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for display, especially to show tags, which CSS does not 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to convert an XML document from one format to another, in passing it from one organization to anoth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on next page transforms Books.xml into Authors.xml by selecting just the author ta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SLT has loops, if statements and is a mini-programming language to select and transform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don’t need to understand the details of XSL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ookAuthorXSLT.aspx applies Books.xslt to Books.x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e download and example run in cl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2: XSLT: Books.xsl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44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?xml version="1.0" encoding="utf-8" ?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xsl:stylesheet xmlns:xsl="http://www.w3.org/1999/XSL/Transform" version="1.0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xsl:template match="/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xsl:element name="Authors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xsl:apply-templates select="//book"/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xsl:elemen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xsl:templat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xsl:template match="book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xsl:element name="Author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xsl:value-of select="author/first-name"/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xsl:text&gt; &lt;/xsl:tex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xsl:value-of select="author/last-name"/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xsl:elemen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xsl:templat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xsl:styleshee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228600" y="6443640"/>
            <a:ext cx="87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un BookAuthorXSLT.aspx to apply Books.xslt to Books.xm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3: Simple XSL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le-&gt; New File -&gt; Web Form: BookMIT3.asp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rag Xml control on page from the Standard to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Not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an XMLDataSource contr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gure it by typing two properties in Source view, or by using the Properties window to select the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cumentSource="Books.xml"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nsformSource="Books.xslt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XML control will display the authors from the XML fi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s is a simple illustration of transfor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ll of these exercises are illustrative. XML still requires some programming, often simple, which is beyond the scope of this clas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4: Blogs are XML: Blog.aspx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6094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%@ Page Language="C#“ (details omitted) %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DOCTYPE html … (details omitted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html xmlns="http://www.w3.org/1999/xhtml" 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head id="Head1" runat="server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title&gt;XmlDataSource Blog&lt;/titl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head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body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form id="form1" runat="server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asp:DataList ID="D1" Runat="server“ DataSourceID="XmlData1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ItemTemplat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%# XPath("title") %&gt;&lt;br /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%# XPath("pubDate") %&gt;&lt;br /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%# XPath("description") %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ItemTemplat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asp:DataLis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asp:XmlDataSource ID="XmlData1" Runat="server"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DataFile="http://www.hanselman.com/blog/feed"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XPath="rss/channel/item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asp:XmlDataSourc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form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body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html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Box 3"/>
          <p:cNvSpPr/>
          <p:nvPr/>
        </p:nvSpPr>
        <p:spPr>
          <a:xfrm>
            <a:off x="671400" y="6519960"/>
            <a:ext cx="87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xecute Blog.aspx. Compare with www.hanselman.com in browser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5: Databases and XM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en SQL Server Mgt Studio, use MIT1264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yp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* FROM Customers FOR XML AU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enerates XML with data as attribu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* FROM Customers FOR XML AUTO,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enerates XML with data as ele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ce a root tag (e.g., &lt;Customerlist&gt;) and end tag around the SQL result set, and we have a valid XML docu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n generate the root and end tags with SQL, C#, Java, …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 also INSERT, UPDATE, DELETE with X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ML database insert exampl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CREATE PROCEDURE xmlOrderInsert @order ntext 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DECLARE @docHandle int, @OID i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EXEC sp_xml_preparedocument @docHandle OUTPUT, @ord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BEGIN TRANSA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INSERT INTO Orders( CustomerID, EmployeeID, OrderDate, RequiredDate 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SELECT CustomerID, EmployeeID, OrderDate, RequiredDat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FROM Openxml( @docHandle, '/Order', 3) WITH ( CustomerID nchar(5)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EmployeeID int,   OrderDate datetime, RequiredDate datetime   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IF @@ERROR&lt;&gt;0 BEGIN ROLLBACK TRANSACTION RETURN -100 EN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SET @OID = SCOPE_IDENTITY(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INSERT INTO [Order Details] ( OrderID, ProductID, UnitPrice, Quantity, Discount 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SELECT @OID AS [PO ID], ProductID, UnitPrice, Quantity, Discount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FROM OpenXml( @docHandle, '/Order/OrderDetails', 1)   WITH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( ProductID int, UnitPrice money, Quantity smallint, Discount real   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IF @@ERROR&lt;&gt;0 BEGIN ROLLBACK TRANSACTION RETURN -101 EN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COMMIT TRANSA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EXEC sp_xml_removedocument @docHandle SELECT @OID AS [Order ID]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G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Box 3"/>
          <p:cNvSpPr/>
          <p:nvPr/>
        </p:nvSpPr>
        <p:spPr>
          <a:xfrm>
            <a:off x="7094880" y="6431040"/>
            <a:ext cx="182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rom codeproject.co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2011-09-22T22:04:20Z</cp:lastPrinted>
  <dcterms:modified xsi:type="dcterms:W3CDTF">2013-10-31T14:02:11Z</dcterms:modified>
  <cp:revision>277</cp:revision>
  <dc:subject/>
  <dc:title>1.264 Lecture 5</dc:title>
</cp:coreProperties>
</file>