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png" ContentType="image/png"/>
  <Override PartName="/ppt/media/image6.wmf" ContentType="image/x-wmf"/>
  <Override PartName="/ppt/media/image7.jpeg" ContentType="image/jpeg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5040" rIns="9504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859B3A-73AD-4CA8-87E6-A294FB18D9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D74D0E-1076-4B0A-A964-CF91327E730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2BA9D5-D1A1-4A95-9CAA-15A2C71F785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737D85-CDC3-4ACD-8C53-BCE7643B518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E75FBF-E4FE-4B20-8312-A026393D8C1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6570B9-A8EA-4C0E-87B7-84809AEACB1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C59422-24CD-4818-814A-D57FF5AC15E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AD36D6-6B8D-4800-912E-81F30F99931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CE6216-C67D-45DC-8289-E7E4AA9CEDF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277A6C-A63B-406A-BCA9-92A48E44544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5D40CB-203A-443B-A4E7-68C58F35134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937DE6-1973-4926-A7A7-63C10B9323E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8315BA-4035-4B54-B550-E4CCF8779EA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D75251-5D46-40DE-BE91-DBB9F02E57A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1660FA-1AF3-4D7D-BC40-473F092511F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2F8F91-403D-44D6-942E-91B6F162485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9C758C-3795-4694-9B55-D32C1263F49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209900-D2AD-46C3-A1EB-056828DE432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F57601-C6D5-482C-8180-14313E144C0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BA2C-B8AE-4572-A6C9-04CF3CA3E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6084-B2A2-4E5C-B4B3-801BC1A3C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8748-6768-42E5-B38A-78339C00E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489C-FE84-496B-816B-7159EB6CB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5A85-58D6-4B28-83CA-48F1025E3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9B96-03BB-4636-9D92-FBE4179FF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009F-366C-40AD-B541-8C09A87B7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2AC9-A177-4522-937D-20255122B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4B93-F05E-4EF8-AF03-19C3F8B9C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F42F-21C9-4036-8D7B-4A4392FCB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9FF9-1834-4419-9283-432BFA42A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4E1F-F787-44EA-A0AB-810526BDB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C0416-44EE-418F-A9F3-42B96162FC74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.264 Lecture 36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lecom: Wireless network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2898000" y="5719680"/>
            <a:ext cx="31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lease do subject evaluation online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ireless LAN service set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85440" y="12952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room or area is a typical BSS (basic service set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 ESS is a set of rooms and areas in the LA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ations capabilities may b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ationary on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n move within a single BSS (ad hoc or infrastructur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n move between BSS, but communication may not be continuous during the mo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5048280" cy="2532240"/>
          </a:xfrm>
          <a:prstGeom prst="rect">
            <a:avLst/>
          </a:prstGeom>
          <a:ln w="0">
            <a:noFill/>
          </a:ln>
        </p:spPr>
      </p:pic>
      <p:sp>
        <p:nvSpPr>
          <p:cNvPr id="84" name="TextBox 6"/>
          <p:cNvSpPr/>
          <p:nvPr/>
        </p:nvSpPr>
        <p:spPr>
          <a:xfrm>
            <a:off x="7662240" y="6473880"/>
            <a:ext cx="147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rom Forouzan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ireless LAN issu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Fi (802.11b, 802.11g, 802.11n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pensive, pervasive, reliable, easy to manag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t spots common, but unscalable for metro area us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ange ~100 meters: ok within buildings, campus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ndwidth: 11 Mbps (b), 54 Mbps (g), 100 Mbps (n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ctual bandwidth often half of nominal due to interference, fading, et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alf of traffic at many companies is non-work (music or video streaming, Web access, personal email, …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urity is difficult, because signals propagate beyond the building or sit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EP easy to break; use WPA and WPA2 instea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on’t use WPS (WiFi protected setup); it has a security flaw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nicipal network plans problematic (30+ points/sq m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a warehouse, what type of LAN would you set up (ad hoc, BSS, ESS), and why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ssume there are forklifts and other vehicles operat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ssume there are pick/pack stations, conveyors, et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ould you try to lay out the network to minimize handoffs, or is that not important? Why or why not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802.11b, how would you stream video from 25 forklifts/vehicles in the warehous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ssume your video is 1.5 Mbp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t up an ESS, to allow handoffs and to connect all devices/stations to the WAN if need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y out the network to cover aisles/areas that minimize handoff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munications is not continuous in wireless LAN handoff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ideo: 802.11b is 11 Mbps, or 5.5 Mbps practical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need 25 * 1.5 Mbps, or 37.5 Mbps, or at least 8 BSS, which is one AP for every 3 vehicles in an are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ecause of interference, fading, etc. you may need m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 you use 802.11n, at 100 Mbps nominal or 50 Mbps actual, you may find 2 APs sufficient (1 for redundancy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obile telephon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bile telephony is dominant. Alternatives ar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pecialized mobile radio (SMR), used primarily for local dispat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82800" indent="-1965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bout 3,000 licensed SMR providers in US (taxi, trucking..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82800" indent="-1965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xtel bought many SMR providers and created national network: radio, cell phone, data, messaging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82800" indent="-1965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xtel uses variation on GSM cellular technolog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ivate mobile radio service (police, fire, railroads…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82800" indent="-1965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hared frequencies among all user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82800" indent="-1965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ase stations, repeaters; squelch or tone contro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82800" indent="-1965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unking radio (multiple channels) used by larger organiza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5920" indent="-19656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ne control channel to which all units listen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375920" indent="-19656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alk channel then designated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se options use spectrum less well than cell phon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82800" indent="-1965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eing pushed to narrowband; other measur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obile (cellular) telephon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cell phone is a radi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fore cell phones, there was mobile radio, with one tower per metro area and about 25 chann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r phones had to be high powered but for little usag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llular telephony divides a metro area into cells for much, much more capacit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32 channels in standard US cellular radio spectrum band; European GSM varies but simil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p to 5 more bands have been allocated via auction in U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one can operate on any of these 1,000+ chann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llular switches are called Mobile Telephone Switching Offices, or MTSO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unctions same as standard telco voice switch, plus handoff across cells, for voice cal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andles TCP/IP data for data and video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GSM (2G)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85800" y="838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SM is European standard, adopted worldwide and increasingly in U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t’s a 2G (second generation) standard, being superseded by 3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t switches voice calls, like landlines, and is being replaced by voice over IP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voice band is 13 kbps (versus 64 kbps fiber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andard GSM has 124 chann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channel is 270.8 kbps carried in 200 kHz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8 users per chann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SM can (re)use 1/3 of channels in each cell, due to good error correc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pacity =~ 124 channels * 8 users/channel * 1/3 reuse= 329 calls (users) per cel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SM data is carried over GPRS (General Packet Radio Services), often considered 2.5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3G wirel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orldwide standard, though frequency bands vary by reg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aming phones must use different frequency ban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re are a few common frequency bands worldwi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signed for many service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al-time gam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oi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le download and uplo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deo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eb and emai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G data protocols are WCDMA, HSP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 broad use, continue to evolve new feat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ll be supported for many years until full 4G usag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ata rates of 500 kbps to 1 Mbps typ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4G wirel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G is also called LTE (long term evolution) and release 8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andard is 3GPP (in GSM lineag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 backward compatible with 3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irely IP based; no voice switched traffic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upports spectrum flexibility for worldwide op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andoffs at 350 km/hr to support high speed rai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Any individual phone supports limited spectrum, since RF and filter design are expensive/inflexi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ata rates of up to 20 Mbps typ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arcity of bandwidth resulting in throttling of us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MA (50% of US) 1x-EV-DO Rev C is very similar to LTE, and is converging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andard is 3GPP2 (in CDMA lineag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requency reuse in cellular telephon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2" name="Picture 3" descr=""/>
          <p:cNvPicPr/>
          <p:nvPr/>
        </p:nvPicPr>
        <p:blipFill>
          <a:blip r:embed="rId1"/>
          <a:stretch/>
        </p:blipFill>
        <p:spPr>
          <a:xfrm>
            <a:off x="938160" y="1460520"/>
            <a:ext cx="7139160" cy="4559400"/>
          </a:xfrm>
          <a:prstGeom prst="rect">
            <a:avLst/>
          </a:prstGeom>
          <a:ln w="0">
            <a:noFill/>
          </a:ln>
        </p:spPr>
      </p:pic>
      <p:sp>
        <p:nvSpPr>
          <p:cNvPr id="103" name="TextBox 1"/>
          <p:cNvSpPr/>
          <p:nvPr/>
        </p:nvSpPr>
        <p:spPr>
          <a:xfrm>
            <a:off x="1094040" y="6019920"/>
            <a:ext cx="682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s is a 7-cell pattern; 9-cell is also common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sign a system for an intercity rail passenger train to provide Internet access to its passengers and operating crew. Address each challenge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etro areas: frequent physical obstructions, such as underpasses, tall building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unnel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ural areas: gaps in cellular coverage, trees, hills obstruct line of sigh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ultiple applications: what to do when a user wants to download a 200MB fil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twork changes: train goes through many networks of varying quality at varying speed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eption in passenger cars: metal car bodies affect signa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ellular serving pla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5" name="Picture 4" descr="Lec21e"/>
          <p:cNvPicPr/>
          <p:nvPr/>
        </p:nvPicPr>
        <p:blipFill>
          <a:blip r:embed="rId1"/>
          <a:stretch/>
        </p:blipFill>
        <p:spPr>
          <a:xfrm>
            <a:off x="1836720" y="990720"/>
            <a:ext cx="5630760" cy="54864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7"/>
          <p:cNvSpPr/>
          <p:nvPr/>
        </p:nvSpPr>
        <p:spPr>
          <a:xfrm>
            <a:off x="1006200" y="6521400"/>
            <a:ext cx="758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imple honeycomb pattern rarely holds. Actual cell coverage highly variable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85800" y="15238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sume LTE can provide 20 Mbps to areas with industry/warehousing t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ea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location serv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ssume 100 locations in the cel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ssume each has 10 Web users (1 Mbps), 1 Web/data server (5 Mbps), limited videoconference/video (4 Mbp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otal bandwidth for each location is 10 Mbps (1+5+4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pare LTE to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SL (1.5-13 Mbps, asymmetric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TV (30-300 Mbps, asymmetric but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shared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over all 100 use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1 over copper (1.5 Mbps, symmetric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igabit Ethernet MAN (1 Gbps, symmetric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n LTE solve the ‘last mile’ problem sometime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 average user needs 10 Mbp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SL (1.5-13 Mbps) may meet it in some cases, but usually not. DSL usually 3-6 Mbp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TV has 30-300 Mbps, but 100 users *10 Mbps= 1 Gbps. CATV would need many segments; not effectiv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1 over copper (1.5 Mbps) is not enoug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igabit Ethernet MAN is plenty, of cours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TE (20 Mbps) is sufficient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i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bandwidth is available. In lower and medium density areas, it should be ok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cell can handle 100+ channels at 20 Mbp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TE appears to solve the ‘last mile’ problem for residences (low/medium density) and low/medium density small business, but not major bandwidth use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Long-range wireless: satellite communication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12" name="Picture 3" descr=""/>
          <p:cNvPicPr/>
          <p:nvPr/>
        </p:nvPicPr>
        <p:blipFill>
          <a:blip r:embed="rId1"/>
          <a:stretch/>
        </p:blipFill>
        <p:spPr>
          <a:xfrm>
            <a:off x="609480" y="990720"/>
            <a:ext cx="8016840" cy="56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atellites (wireless WAN)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-2332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EO satellites are on the equator and orbit every 24 hours, appearing station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05080" indent="-194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 satellites 120 degrees apart can cover the Ear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EO orbits are between the two Van Allen belts of charged particles that would destroy a satelli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05080" indent="-194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O satellites orbit every 6 to 8 hou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5080" indent="-194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PS is a set of 24 MEO satellites in 6 orbits, designed so 4 satellites are always visible from any point on Ear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5080" indent="-194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PS triangulates among the 4 satellites to determine position in 3D; it computes intersection of sphe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O satellites are in polar orbi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05080" indent="-194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y orbit every 90 to 120 minut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5080" indent="-194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y are managed like a set of cells on Ear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5080" indent="-194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ttle” LEOs: text messaging (e.g. trucking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5080" indent="-194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” LEOs: Iridium, Globalstar (e.g. sat phone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5080" indent="-194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roadband LEOs: network video, other broadba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GEO satellite application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marsat for marine and remote applica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00,000 ships, vehicles, aircraf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32 kbps Internet access data rate, 11 satellit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se service ended in 2005 for commercial vess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ery small aperture terminal (VSAT): 56 kbps- 4 Mbps for remote areas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areas can get 18 Mbps down, 4 Mbps up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st data rates 512 kbps or less down, 128 kbps up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atellite Internet providers’ for rural consume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SAT operators for Africa, other areas without fib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V programming distribu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rect broadcast TV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EO, LEO satellite application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1760" y="12952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roadband LEO: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ldesic, similar to fiber, fail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ig LEO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ridium not successful but still operat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82800" indent="-1965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oo expensive to compete with terrestrial cell servi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82800" indent="-1965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66 satellites, each with 48 spot beams: ~2000 cell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82800" indent="-1965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oice, fax, paging at 2.4 to 4.8 kbp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lobalstar has 48 satellites, similar service as Iridiu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ttle LEO: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ucking and rail information systems, pag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EO: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lobal positioning system (GP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atellite link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20" name="Picture 4" descr="Lec21d"/>
          <p:cNvPicPr/>
          <p:nvPr/>
        </p:nvPicPr>
        <p:blipFill>
          <a:blip r:embed="rId1"/>
          <a:stretch/>
        </p:blipFill>
        <p:spPr>
          <a:xfrm>
            <a:off x="1254240" y="1981080"/>
            <a:ext cx="66340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atellite dat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lay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50 milliseconds (1/4 second) delay between two Earth stations communicating via geosynchronous (GEO) satellit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lay noticeable for voice communica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lay requires special treatment of data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82800" indent="-19656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CP/IP will assume network congestion or dropped packets with these delays; must use special parameters or equipment to spoof acknowledgement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ain absorp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un transit outage at equinox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wer is limited on satellit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mited signal to noise ratio, limits bandwidth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rect Broadcast Satellite (DBS) satellites are overpowered to allow small consumer antennas; overall system costs are high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Little room left for satellites in equatorial (GEO) orbit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 operate a diamond mine in northern Canada and need 20 Mbps to remotely monitor and diagnose mining equipment, provide Internet and some video for employees, handle email and files, etc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are GEO, big LEO, little LEO, broadband LEO, MEO to meet your nee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re would the other end of the satellite link connect? Does it matter? Options are your corporate HQ, a large peering point, et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Line 4"/>
          <p:cNvSpPr/>
          <p:nvPr/>
        </p:nvSpPr>
        <p:spPr>
          <a:xfrm flipV="1">
            <a:off x="990720" y="3962160"/>
            <a:ext cx="7772400" cy="685800"/>
          </a:xfrm>
          <a:prstGeom prst="line">
            <a:avLst/>
          </a:prstGeom>
          <a:ln w="57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3886200" y="510552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ail 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914400" y="3809880"/>
            <a:ext cx="114300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6019920" y="3886200"/>
            <a:ext cx="99036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unn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8"/>
          <p:cNvSpPr/>
          <p:nvPr/>
        </p:nvSpPr>
        <p:spPr>
          <a:xfrm>
            <a:off x="2362320" y="3124080"/>
            <a:ext cx="304560" cy="129564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Rectangle 9"/>
          <p:cNvSpPr/>
          <p:nvPr/>
        </p:nvSpPr>
        <p:spPr>
          <a:xfrm>
            <a:off x="2819520" y="4191120"/>
            <a:ext cx="304560" cy="11430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 Box 10"/>
          <p:cNvSpPr/>
          <p:nvPr/>
        </p:nvSpPr>
        <p:spPr>
          <a:xfrm>
            <a:off x="2956320" y="316404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ilding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Rectangle 11"/>
          <p:cNvSpPr/>
          <p:nvPr/>
        </p:nvSpPr>
        <p:spPr>
          <a:xfrm>
            <a:off x="4191120" y="4267080"/>
            <a:ext cx="990360" cy="15264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3889440" y="3809880"/>
            <a:ext cx="175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derpas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Line 14"/>
          <p:cNvSpPr/>
          <p:nvPr/>
        </p:nvSpPr>
        <p:spPr>
          <a:xfrm flipH="1" flipV="1">
            <a:off x="3886200" y="4495320"/>
            <a:ext cx="45720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15"/>
          <p:cNvSpPr/>
          <p:nvPr/>
        </p:nvSpPr>
        <p:spPr>
          <a:xfrm>
            <a:off x="7529400" y="2782800"/>
            <a:ext cx="104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ral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re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 Box 16"/>
          <p:cNvSpPr/>
          <p:nvPr/>
        </p:nvSpPr>
        <p:spPr>
          <a:xfrm>
            <a:off x="7315560" y="4307040"/>
            <a:ext cx="172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lls, tre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you need 20 Mbps up and down in northern Canada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EO offers max 18 Mbps down and 4 Mbps up, and not in all areas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lar areas are strange: beams are turned off from lack of demand but could possibly be turned 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might need 5 connections, which would be expensive…but a diamond mine can probably pay i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 LEO and Little LEO are low bandwid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O does not offer data servic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roadband LEO (Teledesic) fail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y connect near corporate HQ to use MAN from ground station to HQ for cost, bandwidth, security reas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Glossar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685800" y="838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SS: Basic service set (WiFi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SS: Extended service set (WiFi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P: Wired Equivalent Privacy (WiFi security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PA: WiFi Protected Access (WiFi security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MR: Specialized Mobile Radi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MA: Code Division Multiple Access (US wireles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SM: Global System for Mobile Communications (wireless voice standard, worldwide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PRS: General Packet Radio Service, over GS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CDMA: Wideband Code Division Multiple Access (3G data standard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SPA: High Speed Packet Access (3G data std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GPP: 3G Partnership Project (sets 3G/4G std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x EV-DO: Evolution-Data Optimized (3G CDMA std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ro area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ultiple cellular data carrier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rver on train chooses best signal, maintains continuit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se WiFi (wireless LAN) at sta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unnels (short ones)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rver on train caches Web content, handles email via store and forwar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ng tunnels require leaky fiber and/or base sta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ural areas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ultiple cellular data  carriers, and satellite servic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in train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tennas mounted on multiple cars, wireless LAN between cars so any antenna can serve all car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rver, applications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n train server manages traffic, ensures ‘fairness’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rver handles authentication and billing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(How do long distance trucking, buses do this?)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 exampl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69" name="Picture 4" descr="RailWirelessLec22"/>
          <p:cNvPicPr/>
          <p:nvPr/>
        </p:nvPicPr>
        <p:blipFill>
          <a:blip r:embed="rId1"/>
          <a:stretch/>
        </p:blipFill>
        <p:spPr>
          <a:xfrm>
            <a:off x="380880" y="1066680"/>
            <a:ext cx="8382240" cy="55404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6"/>
          <p:cNvSpPr/>
          <p:nvPr/>
        </p:nvSpPr>
        <p:spPr>
          <a:xfrm>
            <a:off x="6603120" y="6581880"/>
            <a:ext cx="22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pointshotwireless.com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 example: Amtrak wireless coverag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1905120" y="990720"/>
            <a:ext cx="5072040" cy="5581440"/>
          </a:xfrm>
          <a:prstGeom prst="rect">
            <a:avLst/>
          </a:prstGeom>
          <a:ln w="0">
            <a:noFill/>
          </a:ln>
        </p:spPr>
      </p:pic>
      <p:sp>
        <p:nvSpPr>
          <p:cNvPr id="73" name="TextBox 1"/>
          <p:cNvSpPr/>
          <p:nvPr/>
        </p:nvSpPr>
        <p:spPr>
          <a:xfrm>
            <a:off x="7294320" y="6400800"/>
            <a:ext cx="168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ource: Amtrak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adio propaga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sse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ree space los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mospheric attenuation: rain, water, du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ath loss: water body or fog causes reflections, and signals arrive out of phase at destin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ffraction: hills, buildings, obstruc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tenna proble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now, icing (use heaters, radome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Zoning restrictions (hide antennas in building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icrowave frequencies are line of sigh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ehave like light, can be focused and refl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se issues hold for mobile phones, wireless data, satellites als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adio lo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7" name="Picture 4" descr="Lec21b"/>
          <p:cNvPicPr/>
          <p:nvPr/>
        </p:nvPicPr>
        <p:blipFill>
          <a:blip r:embed="rId1"/>
          <a:stretch/>
        </p:blipFill>
        <p:spPr>
          <a:xfrm>
            <a:off x="2286000" y="990720"/>
            <a:ext cx="4479840" cy="2178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" descr="Lec21c"/>
          <p:cNvPicPr/>
          <p:nvPr/>
        </p:nvPicPr>
        <p:blipFill>
          <a:blip r:embed="rId2"/>
          <a:stretch/>
        </p:blipFill>
        <p:spPr>
          <a:xfrm>
            <a:off x="1905120" y="3352680"/>
            <a:ext cx="5329080" cy="33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ireless LA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reless LAN (WiFi) standard is IEEE 802.11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types of wireless LA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Ad ho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where stations (computers) directly connec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Infrastructur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with an access point (AP) that connects to a wired LAN and usually a MAN/WA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stributed coordination required between stations due to collis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rrier sense multiple access/collision avoidance (CSMA/CA) protocol is used, as discussed earli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reless environment is very nois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rames are fragmented into small frames so retransmission, which is frequent, is more efficie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9T18:28:28Z</dcterms:created>
  <dc:creator>George Kocur</dc:creator>
  <dc:description/>
  <dc:language>en-US</dc:language>
  <cp:lastModifiedBy>gkocur</cp:lastModifiedBy>
  <cp:lastPrinted>2013-12-06T00:37:43Z</cp:lastPrinted>
  <dcterms:modified xsi:type="dcterms:W3CDTF">2013-12-07T14:39:08Z</dcterms:modified>
  <cp:revision>257</cp:revision>
  <dc:subject/>
  <dc:title>1.264 Lecture 5</dc:title>
</cp:coreProperties>
</file>