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2E2D-AF06-4C45-957F-9DA771154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1497-FDB9-470B-B647-18831E982B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4CEB-B8D5-4F0C-BBE2-C147D97504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6DA3-B206-48FB-B118-2134B0600B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DB4E-F23C-4A19-ADAA-9E9A28AD03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0684-D870-4EA4-B8F4-F1B99F8D50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19AE-3C59-4928-B720-C3C9FE2644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1E32-827F-4458-A183-B94161AE9E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B836-E706-482F-9A23-C8A451E264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BB58-977B-47CA-BF4A-27A208DD36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D099-867F-479C-B471-8A8C1C55F2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9AD-BF6C-41C9-90F3-BCCDF0A5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EC3-2807-4A52-86BB-EAD00414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492-13D3-49CF-8EB8-CB8A89CE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0A2-CE9F-4C18-861A-FC02B28E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805-1BD3-435D-B020-550C2E7D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772-F3D6-4547-B665-41382200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9B6-CDCC-479A-ACC9-FFE8984F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E6D-139D-4709-AB9D-5C8C7011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1D0-4384-4C90-B78A-89337C77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9EC-D827-42D9-A698-8DC7A55B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BC0-0957-4A76-8A84-A7A97160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68A-0AAA-47EB-85F7-7CEF90BA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7E1A-508B-4BAA-8C40-D068CBA7A4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15800" y="5719680"/>
            <a:ext cx="53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s 20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eading doesn’t cover same topics as lectu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signatures are implemented using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ertific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MIT certificates we all have on ou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with digital sign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cut and paste encrypted signature from old message to new faked me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solution is for receiver to send ‘challenge phrase’ to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then encrypts with sender private key and sends to receiver, who can check if it’s what she sent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alter parts of th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ution is message digest functions to provide integrity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 digest is function run on entire message that produces short digest, often 128 bits (note that 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28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 a very big number of combination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 digest and message.  Receiver runs digest algorithm on message and checks if same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: Rivest-Shamir-Adleman: asymmtric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: American Encryption Standard: symmetric encryption algorith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Dx, sha-x: hash or message digest functions to ensure messag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L: Secure Sockets Layer, protocol for entire trans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LS: Transport Layer Security, successor to S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or “public key” encryp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pairs: public key for encryption, private key for de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: 1024-2048 bit, in common use for Web and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ent expired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with public key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ed: RSA is 1000 times slower than symmetric algorit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 avoided by using RSA to exchange a symmetric session key and then using symmetric encryption method for the rest of the sess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a different symmetric key each session to limit damage if key is bro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7339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9343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6765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8769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8219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50223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key (RSA) concep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key P is pair of integers (N,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ret or private key S is pair of integers (N,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large random prime numbers (Fermat’s Little Th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st is s.  Call the other two x and 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= 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= smallest integer such that (ps) mod (x-1)(y-1)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message into a series of chunks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 message chunk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ypt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laintext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is hard to compute from N and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knowledge of x and y, which requires factoring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ng is exponential time algorithm, so if the number to be factored is big enough, it takes a very long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again, very simplifie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__, x= __, y= __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2021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9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y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37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564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64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secure are AES and RS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rrec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, though if we learn to factor large numbers, RSA is d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ded correctly, including chaining, digests, padding of short blocks, etc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: 2010 ASP.NET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key management correct and secure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; keys protected by weak passwords, revocation lists not check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 message be cracked by brute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if key is too short: 128-256 bits for symmetric is ok, 1024-2048 for RSA is 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keys for high value assets (defense, nuclear, etc.) merit the effort to crack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message is longer than the key (the usual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xclusive-or (add bits without carrying) each block of plaintext with the previous block of ciphertext before encryptin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isguises any patterns in plai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ed plaintext is coded differently each time it app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90512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3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29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36232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1676520" y="481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01160" y="45244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3480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36232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3516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36232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58128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581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4984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52232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708660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908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734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506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473400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595296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595296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101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6873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86600" y="6248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5"/>
          <p:cNvGrpSpPr/>
          <p:nvPr/>
        </p:nvGrpSpPr>
        <p:grpSpPr>
          <a:xfrm>
            <a:off x="2314440" y="4775040"/>
            <a:ext cx="92160" cy="91800"/>
            <a:chOff x="2314440" y="4775040"/>
            <a:chExt cx="92160" cy="91800"/>
          </a:xfrm>
        </p:grpSpPr>
        <p:grpSp>
          <p:nvGrpSpPr>
            <p:cNvPr id="95" name="Group 34"/>
            <p:cNvGrpSpPr/>
            <p:nvPr/>
          </p:nvGrpSpPr>
          <p:grpSpPr>
            <a:xfrm>
              <a:off x="2314440" y="4775040"/>
              <a:ext cx="92160" cy="91800"/>
              <a:chOff x="2314440" y="4775040"/>
              <a:chExt cx="92160" cy="91800"/>
            </a:xfrm>
          </p:grpSpPr>
          <p:sp>
            <p:nvSpPr>
              <p:cNvPr id="96" name="Oval 28"/>
              <p:cNvSpPr/>
              <p:nvPr/>
            </p:nvSpPr>
            <p:spPr>
              <a:xfrm>
                <a:off x="2314440" y="477504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>
                <a:off x="2314440" y="482256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Line 30"/>
            <p:cNvSpPr/>
            <p:nvPr/>
          </p:nvSpPr>
          <p:spPr>
            <a:xfrm>
              <a:off x="2358720" y="47750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699080" y="4753080"/>
            <a:ext cx="92160" cy="91800"/>
            <a:chOff x="4699080" y="4753080"/>
            <a:chExt cx="92160" cy="91800"/>
          </a:xfrm>
        </p:grpSpPr>
        <p:grpSp>
          <p:nvGrpSpPr>
            <p:cNvPr id="100" name="Group 37"/>
            <p:cNvGrpSpPr/>
            <p:nvPr/>
          </p:nvGrpSpPr>
          <p:grpSpPr>
            <a:xfrm>
              <a:off x="4699080" y="4753080"/>
              <a:ext cx="92160" cy="91800"/>
              <a:chOff x="4699080" y="4753080"/>
              <a:chExt cx="92160" cy="91800"/>
            </a:xfrm>
          </p:grpSpPr>
          <p:sp>
            <p:nvSpPr>
              <p:cNvPr id="101" name="Oval 38"/>
              <p:cNvSpPr/>
              <p:nvPr/>
            </p:nvSpPr>
            <p:spPr>
              <a:xfrm>
                <a:off x="4699080" y="475308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39"/>
              <p:cNvSpPr/>
              <p:nvPr/>
            </p:nvSpPr>
            <p:spPr>
              <a:xfrm>
                <a:off x="4699080" y="48006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Line 40"/>
            <p:cNvSpPr/>
            <p:nvPr/>
          </p:nvSpPr>
          <p:spPr>
            <a:xfrm>
              <a:off x="474336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7039080" y="4753080"/>
            <a:ext cx="91800" cy="91800"/>
            <a:chOff x="7039080" y="4753080"/>
            <a:chExt cx="91800" cy="91800"/>
          </a:xfrm>
        </p:grpSpPr>
        <p:grpSp>
          <p:nvGrpSpPr>
            <p:cNvPr id="105" name="Group 42"/>
            <p:cNvGrpSpPr/>
            <p:nvPr/>
          </p:nvGrpSpPr>
          <p:grpSpPr>
            <a:xfrm>
              <a:off x="7039080" y="4753080"/>
              <a:ext cx="91800" cy="91800"/>
              <a:chOff x="7039080" y="4753080"/>
              <a:chExt cx="91800" cy="91800"/>
            </a:xfrm>
          </p:grpSpPr>
          <p:sp>
            <p:nvSpPr>
              <p:cNvPr id="106" name="Oval 43"/>
              <p:cNvSpPr/>
              <p:nvPr/>
            </p:nvSpPr>
            <p:spPr>
              <a:xfrm>
                <a:off x="7039080" y="4753080"/>
                <a:ext cx="9180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44"/>
              <p:cNvSpPr/>
              <p:nvPr/>
            </p:nvSpPr>
            <p:spPr>
              <a:xfrm>
                <a:off x="7039080" y="480060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Line 45"/>
            <p:cNvSpPr/>
            <p:nvPr/>
          </p:nvSpPr>
          <p:spPr>
            <a:xfrm>
              <a:off x="708300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ssage dige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ic hashes are a one-way function that creates a short number (128 to 160 bits, often) that is very unlikely to be generated by any other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shes are the last (chained) block cipher of a message, so it depends on the entir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used to verify that the message has not been alt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ssage dig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4: 3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5: 4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1: 5 rounds, 160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256: 64 rounds, 256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512: 80 rounds, 512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ublic/private key in opposite fashion from message encryption to provide sender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signs document with her privat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he decryption is correct, message must have been sent by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encrypts message with receiver public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receiver’s private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sender to send secure messages to any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Sockets Layer(SSL) distributes public keys– covered 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signs message with own private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receiver to verify the sender of any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685800" y="1142640"/>
            <a:ext cx="7162920" cy="1219320"/>
            <a:chOff x="685800" y="1142640"/>
            <a:chExt cx="7162920" cy="1219320"/>
          </a:xfrm>
        </p:grpSpPr>
        <p:sp>
          <p:nvSpPr>
            <p:cNvPr id="114" name="Rectangle 5"/>
            <p:cNvSpPr/>
            <p:nvPr/>
          </p:nvSpPr>
          <p:spPr>
            <a:xfrm>
              <a:off x="68580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7339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gital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67057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828800" y="1904760"/>
              <a:ext cx="1905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4876920" y="190476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22096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1"/>
            <p:cNvSpPr/>
            <p:nvPr/>
          </p:nvSpPr>
          <p:spPr>
            <a:xfrm>
              <a:off x="54100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855720" y="114264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6688080" y="11426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ip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2-12-30T00:03:03Z</cp:lastPrinted>
  <dcterms:modified xsi:type="dcterms:W3CDTF">2013-11-17T22:07:09Z</dcterms:modified>
  <cp:revision>161</cp:revision>
  <dc:subject/>
  <dc:title>1.264 Lecture 5</dc:title>
</cp:coreProperties>
</file>