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DED50D-C7BD-4AE3-9DB8-3B7EF0AB400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4DCE2B-24EA-439E-A8BA-0DA4D8B8361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762577-9C98-4589-9A86-12B59BC2C59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5A6E37-39F1-4D57-A1D4-C9D795D69CE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1C58C9-CEF8-4D31-868B-BD23BA71D8E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35F455-86FF-4BA6-BD63-7A58EAB1963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07FCA8-EBA0-4922-A838-AF164D52D91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57C91A-414B-4FBA-91CA-302EBECA0DF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A784FB-691F-41B7-8E35-093F4355634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4ED32B-E2BC-425F-80CB-1AC794715D5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BD9B44-406A-4202-A165-2231942DFEA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68F0C2-A8D2-4846-BFD9-8D9A46F0EDD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0B1ECA-FB1E-47C0-BD17-E25A711BD07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2475A9-3E5E-494A-AB32-E114D60EEF3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28067B-B9B9-437B-85A4-BD46E1166A2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31F-39C7-4BE0-A1F8-55A14DA1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371-074B-4C4D-ACB2-EC614816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7459-7525-416D-85A8-D542161C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48E9-7CF2-4EC7-B80E-6078597E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908F-9BD9-48DE-AC4E-23B6A2B7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6ED-5C73-4BF4-B282-73609AE1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FBD-28D0-4A3D-B985-B8D3A09D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E38-50F3-4DAD-8ED1-318582BB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5757-0D95-461A-8D17-15A1C960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22D3-37F9-4852-8DF1-108115AB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126-CA68-42D3-8EA6-0DFE2D11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504-F88B-49D3-8F08-D09A4AF3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EBDB-7AC4-4DC7-A799-ABA7C0E877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3560" y="5719680"/>
            <a:ext cx="649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iz 1 review 7pm on either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Wednesda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next week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wnload and unzip Lecture21Download. Put in Lecture21 Web sit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 chapter 10, pages  337-348: Web services only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cument Type Declaration (DT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TYPE: class (type) of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ced in XML file, refers to DTD file to be used to vali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MENT: object in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ther all valid values are given in a list in (),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element is defined later in the DTD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bols: +: 1 or more, *: 0 or more, ?:0 or 1, none: exactl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LIST: valid attribute list for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CDATA: charac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PCDATA: parsed character data (can’t have &lt; &gt; &amp;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REQUIRED: element must be pres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IMPLIED: element optional, no default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FIXED: attribute value 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TY: a constant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| means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2: DTD fi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list (book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 (title, author+, pric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bo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topic (software|UML|database) "U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ationdate CDATA #IMPLI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ISBN CDATA #IMPLI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titl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author (first-name, last-nam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fir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la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pric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NTITY currentyear "2013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7796880" y="645804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dt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e a DTD file that states these business ru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1.264 class has one to many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roup has a name, a number, and has one to two (many) stu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TD file specifies the elements and attributes present in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exercise 1 XML file as the basis for your DT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no DTD file type in VSW any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n html file, rename it to Classlist.dtd or similar, go to Source view and delete all the html so you have just a blank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6957720" y="647712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ow Exercise 1 solu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-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classlist (group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class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lass (1264|ESD264) “1264“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 (groupname, grouplist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umber1 CDATA #REQUIR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list (name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5905440" y="6418440"/>
            <a:ext cx="30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of statements may va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can b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d by anyone: tags and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 and received by databases using SQL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ed by DTD or XSD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ed and styled by XSLT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d on a server for clients to attach to, such as blo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files are little pieces of a database that can be shared. Typically they repres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a single table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two tables in a many-to-one relation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arbitrary set of tables/relationship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3C: World Wide Web Consortium (standar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: Document Type Declaration ( XML valid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Schema or XSD: XML 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XML Stylesheet Language/Tra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ies or queries X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Query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XML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nsible Markup Language (XML)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World Wide Web Consortium (W3C) standar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ile format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and cheaply distribute electronic documents on the World Wide 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not frozen like 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rich structure, like objects or hierarchies or relation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validation and well-formed prope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oiding applets, scripts, plug-in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arating form (how it looks) from content (what it 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Concep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is self-describing and can be validat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 contains the business rules to which its data must con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les can be reused in other documents: documents can be more specialized types (inheritance) of a base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interchange format between compu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ing Web server as data channel between 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ed processing of documents ex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on format for Web, electronic, paper documents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as a general markup 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used for manuals, CDs, help and other text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ndled by standard browsers (IE, Firefox, Chrome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te procedure call/invocation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utes Web services or processes on othe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Document Struc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predefined in HTML (or XHTML)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how the page should be displa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declaration (defines vers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 type declaration (defines tags): DTD  or X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data elements, not how to display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defined in DTD or XSchema document, which anyone can 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1: XML fil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?xml version='1.0'?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!-- The 1.264 reading list --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software" publicationdate="1996" ISBN="1-55615-900-5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Rapid Development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Steve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McConnell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Brya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Syverson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48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UML" publicationdate="2004" ISBN="0-321-19368-7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UML Distilled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Marti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Fowler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34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482960" y="62485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s.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new Web site in VS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 New Web Site -&gt; Lecture21 (or other na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the lecture 21 files from Stel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e/copy them to the Web site you just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is Web site, write an XML file that describes the 1.264 class, two groups in the class, and the students in the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XML File in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ppropriate elements and/or attributes for the class, groups and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display it in your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-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classlist class=“1264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1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Rapid Development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Bell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McDuff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2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UML Forever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Smith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Brown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class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Languag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ways to express business rules/valid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T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Document type declaration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XML itself (oddly), being replaced by XML 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should understand how to write DTDs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ML Schema or XS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SD is XML subset, verbose but power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don’t need to understand the details of XSD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user-friendly tools to manage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would be one more download for you; we will just look at them ma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to format and transform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SL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extensible stylesheet language/trans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Pa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or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sublanguage for que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many others for specialized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Link, XPointer, RDF, XForms, …  see www.w3c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1: XSchema Definition (XS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chema  (details omitted) 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booklist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maxOccurs="unbounded" name="book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titl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author“ maxOccurs=“unbounded”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fir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la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price" type="xs:decimal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topic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publicationdate" type="xs:unsignedShort" use="required"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ISBN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chema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775640" y="64612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xs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0-25T13:16:14Z</cp:lastPrinted>
  <dcterms:modified xsi:type="dcterms:W3CDTF">2013-10-27T21:21:56Z</dcterms:modified>
  <cp:revision>468</cp:revision>
  <dc:subject/>
  <dc:title>1.264 Lecture 5</dc:title>
</cp:coreProperties>
</file>