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FA3E-2EFC-4D1F-BB13-57D6D2B8D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9D4D-FC99-426D-9C27-0D57846C65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EFB1-84D0-4A75-81C1-2A9C331ECB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DCEA-678A-480B-B2DA-037C5EE7D1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00C8-1A67-4983-BC06-3514BAC90A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B1DF-52D1-4341-8E04-39A7FF0A7E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E834-93AD-4D68-80F1-4E718DBCFE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0786-C93C-423C-A17F-5DD476A893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A24A-8809-40C8-92C2-3B69D0A28E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6138-1F3C-49B8-B141-6065899ACE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2BA3-2837-4CAF-9DEC-BCD363930E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5B9-4D62-4468-846E-A05342BF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EF9-27F9-46DE-825E-7A8B9098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8A4-2493-4BE7-A7DB-8F0AB86A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A054-8145-4BA4-8194-2187CBEE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5826-773B-4FE6-AE95-D4BE264F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513-FD7A-4709-895D-8A6AFE00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1ED-BD50-4685-8025-4C7A4ACA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F06-67D2-4037-B36C-D083B4B4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172-381F-4242-B476-147CFAD7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C77-44E9-47A6-8C16-87E832E3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64C-A90B-4E69-8375-0036DDBE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243-2B57-480A-85E9-F0DD392F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1DB9-A28B-46EB-8918-E79CB9C6B3E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5800" y="5719680"/>
            <a:ext cx="51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 class: Anderson chapter 4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er places bar code or RFID tag on each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bar code or RFID tag to verify authenticity with manufacturer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think like a crimi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bar code or RFID tag on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to verif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bar code or RFID tag and place on counterfeit item, sell it before the real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fake Web site and 800 number that will verify anything.  Alter instructions to stores or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tore can be compromised, even more attacks are possible.  Store can fail to check, falsify record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pply chain and transportation increasingly involved in anti-counterfeiting and other securit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versions of replay, man in the midd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he process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ing information (referred to a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in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gorith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often called a ciph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it unreadable to anyon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t those possessing special knowledge, usually referred to 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e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sult of the process is encrypted information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hertex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verse process, i.e. to make the encrypted information readable again, is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(i.e. to make it unencrypt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cesses are called protocols. They addres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and authentication of 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s and authorization of ro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for resources used by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ing 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 and invalid actions taken by principals, including attackers, e.g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in the middle attac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y attacks, and other issues with freshness/stal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mpering with network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sonation, extortion, physical theft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r organization has significant assets, you must protect against sophisticated/tailored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 nota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-&gt; G : T, {T, N}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ken T used to enter garage G  (T and G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incipa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(e.g. like EZ Pass) transmits its serial number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transmits its serial number T and a number used only once (nonce) N, encrypted with its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ce assures that message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s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ot a rep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ce can be sequential, random, or third party challe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e nonce is sequential in this protoc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nown by both T and 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serve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s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s up the corresponding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its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phers {T, N}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the message includes T, 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N has not been seen before or has 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(obtain)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like a criminal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Have a rogue reader before garage entrance that reads all EZ Pass units seen.  Copy the tag’s message to the reader onto another unit. Use that one to enter gara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Break the reader, cut its power, etc. Gate will be left 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Since each message has no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Z can go into garage with rogue reader and interrogate an EZ Pass unit repeatedly. Z knows part of the message is the sequential number and part is the fixed key. Z can infer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enough (N, 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 (Easiest one!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can break into car and steal EZ Pass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challenge and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anti-theft system as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hicle key inserted into steering 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has serial number, which is its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sends random number challenge to car key using short range rad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computes response by encrypting the random number challenge and also sends car key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decrypts, reads response and verifies it matches the challenge, and car key serial nbr corr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ise: write out the protocol using the notation conventions from the last sli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_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 key) -&gt;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 C (car key):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-&gt; E : {C, N}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car key must send its identif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must verify that C is valid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can often be predicted somewhat because the engine controller is simple (e.g., black hat intercepts N and knows next N is based on 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ing black hat to find C makes break-in significantly ha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and engine management unit must be matched at time of manufacture; engine management unit must know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protocol is between a key and the engine. Since the user has the key, the key and engine are only in proximity when the user is too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key must be in the ignition for the protocol to start. This also makes the protocol better: contact rather than contactles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make man in the middle attacks harder, but not impossi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very common approach but has been broken repeated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numbers often not very random and can be grabbed or guessed by thie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lso vulnerable to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lt;-&gt; B &lt;-&gt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can masquerade as C, passing A’s requests to C and sending C’s responses to A.  After (fraudulent) authentication, B gains ac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examp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ack hat has reader, masquerades as garage reader, interrogates card, gets its serial number T, (N,T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lays it to real reader, gets response back, enters ga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 attack: jam radio frequency so car owner can’t lock car when lea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14T15:16:28Z</cp:lastPrinted>
  <dcterms:modified xsi:type="dcterms:W3CDTF">2013-11-07T23:22:11Z</dcterms:modified>
  <cp:revision>191</cp:revision>
  <dc:subject/>
  <dc:title>1.264 Lecture 5</dc:title>
</cp:coreProperties>
</file>